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9114-D2BD-4194-B1A2-60B16B9E493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3DEC-CA29-4CAB-B9DE-3E8B813AD98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0274-FFC2-49AF-9FE3-36C22D96B53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7653-FD58-4044-A006-30B3DA90A52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533D-D245-40B2-BF5D-C4A23710744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CCA3-0FA4-4783-AD58-F07A520013E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3AD5-53CC-4D86-8FBC-7A6770CDF61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0FD4-33D2-4C23-930A-09A68A98B05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1CEF-2512-43DA-83E0-77407B1D502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FD97-7684-41C1-BA3B-D3F1904A0D5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1A11-9FB5-4067-8206-1DFF2A938A1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AB40-4BDD-4021-8F83-E32D74F2F6B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4B0B-D5A8-4969-A78A-2FC4F088418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4D46-ADF9-4A98-8EF0-FD50F1DB0C4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4E57-2254-4221-A4F7-6A4D871283A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0354-5709-44E4-B33A-7238C592D14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330D-D0D6-4018-8764-3C538E5ACF7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7438-ADB9-4236-B2FF-2A44D41C904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EAE7-F4E6-454E-A19B-75CE840232F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C6C1-3BCC-4F16-943E-DC133C44F35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A044-C189-4173-9072-AC57A223483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8BCC-6665-45DC-BE39-11E1C7FDA07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684B-9659-474F-8053-75ACB9A5E91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23F8-4DD0-4D9B-B73B-406B9E99D68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F6E6-C560-46FA-BA25-E89D831CBE5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A4F6-E1C0-4A3D-B06C-7E86F8E37E3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80F7-A72E-4163-88D6-C38110EB55A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992-C533-4034-9043-A5F96DF4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A59-5009-4C9B-A8F0-73DC8578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A93-F5AE-4AA2-A3D7-742A4A79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E9A-9B72-4E39-A322-89C69357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C7C-9EEF-4B1B-9E0F-970E0B54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BB29-685B-474A-9903-929183D4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075-3904-45DC-8792-5E7E1072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3BFC-441F-4806-BC90-03C2B736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8E75-1EC1-424D-B212-7F5378FF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6DA-CF36-4E80-ADDB-4FF8EDA2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D8EC-FDC9-42C2-AE52-8243CBDB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551-2146-4419-A1D8-F6C13554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BEF7-9EFF-46F1-9AC6-984DB1DE56A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cc"/>
                </a:solidFill>
                <a:latin typeface="Arial"/>
              </a:rPr>
              <a:t>TRASFORMAT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Text Box 2"/>
          <p:cNvSpPr/>
          <p:nvPr/>
        </p:nvSpPr>
        <p:spPr>
          <a:xfrm>
            <a:off x="685800" y="10666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3"/>
          <p:cNvSpPr/>
          <p:nvPr/>
        </p:nvSpPr>
        <p:spPr>
          <a:xfrm>
            <a:off x="2133720" y="4572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4"/>
          <p:cNvSpPr/>
          <p:nvPr/>
        </p:nvSpPr>
        <p:spPr>
          <a:xfrm>
            <a:off x="1219320" y="304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IRCUITO ELETTRICO EQUI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5"/>
          <p:cNvSpPr/>
          <p:nvPr/>
        </p:nvSpPr>
        <p:spPr>
          <a:xfrm>
            <a:off x="4700520" y="1019160"/>
            <a:ext cx="27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Trasformatore ide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19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225"/>
              <p:cNvSpPr txBox="1"/>
              <p:nvPr/>
            </p:nvSpPr>
            <p:spPr>
              <a:xfrm>
                <a:off x="4906800" y="1538280"/>
                <a:ext cx="2025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0" name="Rectangle 227"/>
          <p:cNvSpPr/>
          <p:nvPr/>
        </p:nvSpPr>
        <p:spPr>
          <a:xfrm>
            <a:off x="438120" y="3276360"/>
            <a:ext cx="839484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otenza assorbita a primario dal trasformatore ideale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risulta in ogni istante uguale a quella erogata al secondario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riferimento al regime sinusoidale di frequenza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la potenza complessa assorbita a primario dal trasformatore ideal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* risulta uguale a quella erogata al secondari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*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228"/>
          <p:cNvSpPr/>
          <p:nvPr/>
        </p:nvSpPr>
        <p:spPr>
          <a:xfrm>
            <a:off x="399960" y="5463720"/>
            <a:ext cx="839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Il trasformatore ideale non assorbe né potenza attiva né potenza reattiva, risultano però mutati i parametri (tensione e corrente) con cui la energia elettrica viene assorbita a primario ed erogata a second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231"/>
          <p:cNvGrpSpPr/>
          <p:nvPr/>
        </p:nvGrpSpPr>
        <p:grpSpPr>
          <a:xfrm>
            <a:off x="1530360" y="1015920"/>
            <a:ext cx="2295360" cy="2178000"/>
            <a:chOff x="1530360" y="1015920"/>
            <a:chExt cx="2295360" cy="2178000"/>
          </a:xfrm>
        </p:grpSpPr>
        <p:sp>
          <p:nvSpPr>
            <p:cNvPr id="943" name="Freeform 199"/>
            <p:cNvSpPr/>
            <p:nvPr/>
          </p:nvSpPr>
          <p:spPr>
            <a:xfrm>
              <a:off x="1827360" y="1295280"/>
              <a:ext cx="582480" cy="48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75" y="0"/>
                  </a:lnTo>
                  <a:lnTo>
                    <a:pt x="19975" y="199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200"/>
            <p:cNvSpPr/>
            <p:nvPr/>
          </p:nvSpPr>
          <p:spPr>
            <a:xfrm>
              <a:off x="1870200" y="2395440"/>
              <a:ext cx="539640" cy="519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3"/>
                  </a:moveTo>
                  <a:lnTo>
                    <a:pt x="19783" y="19973"/>
                  </a:lnTo>
                  <a:lnTo>
                    <a:pt x="19783" y="373"/>
                  </a:lnTo>
                  <a:lnTo>
                    <a:pt x="1997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01"/>
            <p:cNvSpPr/>
            <p:nvPr/>
          </p:nvSpPr>
          <p:spPr>
            <a:xfrm>
              <a:off x="2814480" y="1295280"/>
              <a:ext cx="658800" cy="48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2"/>
                  </a:moveTo>
                  <a:lnTo>
                    <a:pt x="0" y="0"/>
                  </a:lnTo>
                  <a:lnTo>
                    <a:pt x="199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02"/>
            <p:cNvSpPr/>
            <p:nvPr/>
          </p:nvSpPr>
          <p:spPr>
            <a:xfrm>
              <a:off x="2814480" y="2395440"/>
              <a:ext cx="671760" cy="507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73"/>
                  </a:lnTo>
                  <a:lnTo>
                    <a:pt x="19978" y="1997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203"/>
            <p:cNvSpPr/>
            <p:nvPr/>
          </p:nvSpPr>
          <p:spPr>
            <a:xfrm>
              <a:off x="2408400" y="1036800"/>
              <a:ext cx="46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: 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204"/>
            <p:cNvSpPr/>
            <p:nvPr/>
          </p:nvSpPr>
          <p:spPr>
            <a:xfrm>
              <a:off x="2441520" y="1420920"/>
              <a:ext cx="44640" cy="41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205"/>
            <p:cNvSpPr/>
            <p:nvPr/>
          </p:nvSpPr>
          <p:spPr>
            <a:xfrm>
              <a:off x="2738520" y="1420920"/>
              <a:ext cx="44280" cy="41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206"/>
            <p:cNvSpPr/>
            <p:nvPr/>
          </p:nvSpPr>
          <p:spPr>
            <a:xfrm>
              <a:off x="3209760" y="129528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207"/>
            <p:cNvSpPr/>
            <p:nvPr/>
          </p:nvSpPr>
          <p:spPr>
            <a:xfrm>
              <a:off x="1959120" y="1368360"/>
              <a:ext cx="24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208"/>
            <p:cNvSpPr/>
            <p:nvPr/>
          </p:nvSpPr>
          <p:spPr>
            <a:xfrm>
              <a:off x="1585800" y="2995560"/>
              <a:ext cx="24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209"/>
            <p:cNvSpPr/>
            <p:nvPr/>
          </p:nvSpPr>
          <p:spPr>
            <a:xfrm>
              <a:off x="1530360" y="1015920"/>
              <a:ext cx="24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210"/>
            <p:cNvSpPr/>
            <p:nvPr/>
          </p:nvSpPr>
          <p:spPr>
            <a:xfrm>
              <a:off x="1793880" y="1274760"/>
              <a:ext cx="44280" cy="42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211"/>
            <p:cNvSpPr/>
            <p:nvPr/>
          </p:nvSpPr>
          <p:spPr>
            <a:xfrm>
              <a:off x="1849320" y="2903400"/>
              <a:ext cx="44640" cy="41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212"/>
            <p:cNvSpPr/>
            <p:nvPr/>
          </p:nvSpPr>
          <p:spPr>
            <a:xfrm>
              <a:off x="3451320" y="1274760"/>
              <a:ext cx="46080" cy="42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213"/>
            <p:cNvSpPr/>
            <p:nvPr/>
          </p:nvSpPr>
          <p:spPr>
            <a:xfrm>
              <a:off x="3451320" y="2882880"/>
              <a:ext cx="46080" cy="41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214"/>
            <p:cNvSpPr/>
            <p:nvPr/>
          </p:nvSpPr>
          <p:spPr>
            <a:xfrm>
              <a:off x="3144960" y="1359000"/>
              <a:ext cx="2412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215"/>
            <p:cNvSpPr/>
            <p:nvPr/>
          </p:nvSpPr>
          <p:spPr>
            <a:xfrm>
              <a:off x="3495600" y="1336680"/>
              <a:ext cx="16524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216"/>
            <p:cNvSpPr/>
            <p:nvPr/>
          </p:nvSpPr>
          <p:spPr>
            <a:xfrm>
              <a:off x="3506760" y="1027080"/>
              <a:ext cx="2430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217"/>
            <p:cNvSpPr/>
            <p:nvPr/>
          </p:nvSpPr>
          <p:spPr>
            <a:xfrm>
              <a:off x="3540240" y="2975040"/>
              <a:ext cx="24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Line 218"/>
            <p:cNvSpPr/>
            <p:nvPr/>
          </p:nvSpPr>
          <p:spPr>
            <a:xfrm>
              <a:off x="1969920" y="1295280"/>
              <a:ext cx="87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219"/>
            <p:cNvSpPr/>
            <p:nvPr/>
          </p:nvSpPr>
          <p:spPr>
            <a:xfrm>
              <a:off x="1530360" y="1959120"/>
              <a:ext cx="24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220"/>
            <p:cNvSpPr/>
            <p:nvPr/>
          </p:nvSpPr>
          <p:spPr>
            <a:xfrm>
              <a:off x="3583080" y="2022480"/>
              <a:ext cx="2426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221"/>
            <p:cNvSpPr/>
            <p:nvPr/>
          </p:nvSpPr>
          <p:spPr>
            <a:xfrm>
              <a:off x="1606680" y="1306440"/>
              <a:ext cx="1666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6" name="Group 222"/>
            <p:cNvGrpSpPr/>
            <p:nvPr/>
          </p:nvGrpSpPr>
          <p:grpSpPr>
            <a:xfrm>
              <a:off x="2396160" y="1769040"/>
              <a:ext cx="421200" cy="628920"/>
              <a:chOff x="2396160" y="1769040"/>
              <a:chExt cx="421200" cy="628920"/>
            </a:xfrm>
          </p:grpSpPr>
          <p:sp>
            <p:nvSpPr>
              <p:cNvPr id="967" name="Arc 223"/>
              <p:cNvSpPr/>
              <p:nvPr/>
            </p:nvSpPr>
            <p:spPr>
              <a:xfrm rot="21496800">
                <a:off x="2405160" y="1773000"/>
                <a:ext cx="281880" cy="610200"/>
              </a:xfrm>
              <a:custGeom>
                <a:avLst/>
                <a:gdLst/>
                <a:ahLst/>
                <a:rect l="l" t="t" r="r" b="b"/>
                <a:pathLst>
                  <a:path fill="none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</a:path>
                  <a:path stroke="0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  <a:lnTo>
                      <a:pt x="772" y="21600"/>
                    </a:lnTo>
                    <a:lnTo>
                      <a:pt x="77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Arc 224"/>
              <p:cNvSpPr/>
              <p:nvPr/>
            </p:nvSpPr>
            <p:spPr>
              <a:xfrm flipH="1" rot="103200">
                <a:off x="2525400" y="1783080"/>
                <a:ext cx="281880" cy="610560"/>
              </a:xfrm>
              <a:custGeom>
                <a:avLst/>
                <a:gdLst/>
                <a:ahLst/>
                <a:rect l="l" t="t" r="r" b="b"/>
                <a:pathLst>
                  <a:path fill="none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</a:path>
                  <a:path stroke="0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  <a:lnTo>
                      <a:pt x="772" y="21600"/>
                    </a:lnTo>
                    <a:lnTo>
                      <a:pt x="77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9" name="Rectangle 229"/>
            <p:cNvSpPr/>
            <p:nvPr/>
          </p:nvSpPr>
          <p:spPr>
            <a:xfrm>
              <a:off x="1606680" y="2678040"/>
              <a:ext cx="1666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230"/>
            <p:cNvSpPr/>
            <p:nvPr/>
          </p:nvSpPr>
          <p:spPr>
            <a:xfrm>
              <a:off x="3473280" y="2652840"/>
              <a:ext cx="1666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1" name="Object 232"/>
              <p:cNvSpPr txBox="1"/>
              <p:nvPr/>
            </p:nvSpPr>
            <p:spPr>
              <a:xfrm>
                <a:off x="4870440" y="2401920"/>
                <a:ext cx="21002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I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I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 Box 2"/>
          <p:cNvSpPr/>
          <p:nvPr/>
        </p:nvSpPr>
        <p:spPr>
          <a:xfrm>
            <a:off x="685800" y="10666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4"/>
          <p:cNvSpPr/>
          <p:nvPr/>
        </p:nvSpPr>
        <p:spPr>
          <a:xfrm>
            <a:off x="1219320" y="1778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IRCUITO ELETTRICO EQUI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reeform 38"/>
          <p:cNvSpPr/>
          <p:nvPr/>
        </p:nvSpPr>
        <p:spPr>
          <a:xfrm>
            <a:off x="3360600" y="1630440"/>
            <a:ext cx="250920" cy="6462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9252" y="0"/>
                </a:moveTo>
                <a:lnTo>
                  <a:pt x="9252" y="5137"/>
                </a:lnTo>
                <a:lnTo>
                  <a:pt x="19945" y="6490"/>
                </a:lnTo>
                <a:lnTo>
                  <a:pt x="0" y="8097"/>
                </a:lnTo>
                <a:lnTo>
                  <a:pt x="19224" y="9450"/>
                </a:lnTo>
                <a:lnTo>
                  <a:pt x="0" y="11332"/>
                </a:lnTo>
                <a:lnTo>
                  <a:pt x="19945" y="12685"/>
                </a:lnTo>
                <a:lnTo>
                  <a:pt x="0" y="14841"/>
                </a:lnTo>
                <a:lnTo>
                  <a:pt x="9252" y="15941"/>
                </a:lnTo>
                <a:lnTo>
                  <a:pt x="9252" y="1997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Group 39"/>
          <p:cNvGrpSpPr/>
          <p:nvPr/>
        </p:nvGrpSpPr>
        <p:grpSpPr>
          <a:xfrm>
            <a:off x="3772080" y="1625400"/>
            <a:ext cx="261720" cy="644400"/>
            <a:chOff x="3772080" y="1625400"/>
            <a:chExt cx="261720" cy="644400"/>
          </a:xfrm>
        </p:grpSpPr>
        <p:sp>
          <p:nvSpPr>
            <p:cNvPr id="976" name="Arc 40"/>
            <p:cNvSpPr/>
            <p:nvPr/>
          </p:nvSpPr>
          <p:spPr>
            <a:xfrm>
              <a:off x="3942720" y="1721160"/>
              <a:ext cx="91080" cy="63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7" name="Group 41"/>
            <p:cNvGrpSpPr/>
            <p:nvPr/>
          </p:nvGrpSpPr>
          <p:grpSpPr>
            <a:xfrm>
              <a:off x="3777480" y="1762560"/>
              <a:ext cx="256320" cy="126720"/>
              <a:chOff x="3777480" y="1762560"/>
              <a:chExt cx="256320" cy="126720"/>
            </a:xfrm>
          </p:grpSpPr>
          <p:sp>
            <p:nvSpPr>
              <p:cNvPr id="978" name="Arc 42"/>
              <p:cNvSpPr/>
              <p:nvPr/>
            </p:nvSpPr>
            <p:spPr>
              <a:xfrm flipV="1">
                <a:off x="3933720" y="1789560"/>
                <a:ext cx="100080" cy="48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Arc 43"/>
              <p:cNvSpPr/>
              <p:nvPr/>
            </p:nvSpPr>
            <p:spPr>
              <a:xfrm flipH="1" flipV="1">
                <a:off x="3784320" y="1799280"/>
                <a:ext cx="133200" cy="36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Arc 44"/>
              <p:cNvSpPr/>
              <p:nvPr/>
            </p:nvSpPr>
            <p:spPr>
              <a:xfrm flipH="1">
                <a:off x="3777480" y="1762560"/>
                <a:ext cx="87840" cy="421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Arc 45"/>
              <p:cNvSpPr/>
              <p:nvPr/>
            </p:nvSpPr>
            <p:spPr>
              <a:xfrm>
                <a:off x="3865320" y="1762560"/>
                <a:ext cx="168480" cy="126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Group 46"/>
            <p:cNvGrpSpPr/>
            <p:nvPr/>
          </p:nvGrpSpPr>
          <p:grpSpPr>
            <a:xfrm>
              <a:off x="3775320" y="1873800"/>
              <a:ext cx="254880" cy="126720"/>
              <a:chOff x="3775320" y="1873800"/>
              <a:chExt cx="254880" cy="126720"/>
            </a:xfrm>
          </p:grpSpPr>
          <p:sp>
            <p:nvSpPr>
              <p:cNvPr id="983" name="Arc 47"/>
              <p:cNvSpPr/>
              <p:nvPr/>
            </p:nvSpPr>
            <p:spPr>
              <a:xfrm flipV="1">
                <a:off x="3930120" y="1899720"/>
                <a:ext cx="100080" cy="48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Arc 48"/>
              <p:cNvSpPr/>
              <p:nvPr/>
            </p:nvSpPr>
            <p:spPr>
              <a:xfrm flipH="1" flipV="1">
                <a:off x="3781440" y="1911240"/>
                <a:ext cx="133200" cy="36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Arc 49"/>
              <p:cNvSpPr/>
              <p:nvPr/>
            </p:nvSpPr>
            <p:spPr>
              <a:xfrm flipH="1">
                <a:off x="3775320" y="1873800"/>
                <a:ext cx="87840" cy="421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Arc 50"/>
              <p:cNvSpPr/>
              <p:nvPr/>
            </p:nvSpPr>
            <p:spPr>
              <a:xfrm>
                <a:off x="3861720" y="1873800"/>
                <a:ext cx="168480" cy="126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51"/>
            <p:cNvGrpSpPr/>
            <p:nvPr/>
          </p:nvGrpSpPr>
          <p:grpSpPr>
            <a:xfrm>
              <a:off x="3772080" y="1989360"/>
              <a:ext cx="255600" cy="126720"/>
              <a:chOff x="3772080" y="1989360"/>
              <a:chExt cx="255600" cy="126720"/>
            </a:xfrm>
          </p:grpSpPr>
          <p:sp>
            <p:nvSpPr>
              <p:cNvPr id="988" name="Arc 52"/>
              <p:cNvSpPr/>
              <p:nvPr/>
            </p:nvSpPr>
            <p:spPr>
              <a:xfrm flipV="1">
                <a:off x="3927600" y="2015640"/>
                <a:ext cx="100080" cy="48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Arc 53"/>
              <p:cNvSpPr/>
              <p:nvPr/>
            </p:nvSpPr>
            <p:spPr>
              <a:xfrm flipH="1" flipV="1">
                <a:off x="3778200" y="2027520"/>
                <a:ext cx="133200" cy="36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Arc 54"/>
              <p:cNvSpPr/>
              <p:nvPr/>
            </p:nvSpPr>
            <p:spPr>
              <a:xfrm flipH="1">
                <a:off x="3772080" y="1989360"/>
                <a:ext cx="87840" cy="421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Arc 55"/>
              <p:cNvSpPr/>
              <p:nvPr/>
            </p:nvSpPr>
            <p:spPr>
              <a:xfrm>
                <a:off x="3859200" y="1989360"/>
                <a:ext cx="168480" cy="126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2" name="Arc 56"/>
            <p:cNvSpPr/>
            <p:nvPr/>
          </p:nvSpPr>
          <p:spPr>
            <a:xfrm flipV="1">
              <a:off x="3946680" y="2112120"/>
              <a:ext cx="80640" cy="57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57"/>
            <p:cNvSpPr/>
            <p:nvPr/>
          </p:nvSpPr>
          <p:spPr>
            <a:xfrm flipV="1">
              <a:off x="3942720" y="1625400"/>
              <a:ext cx="36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58"/>
            <p:cNvSpPr/>
            <p:nvPr/>
          </p:nvSpPr>
          <p:spPr>
            <a:xfrm flipV="1">
              <a:off x="3942720" y="2179440"/>
              <a:ext cx="36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59"/>
          <p:cNvGrpSpPr/>
          <p:nvPr/>
        </p:nvGrpSpPr>
        <p:grpSpPr>
          <a:xfrm>
            <a:off x="2120760" y="939960"/>
            <a:ext cx="1300320" cy="296640"/>
            <a:chOff x="2120760" y="939960"/>
            <a:chExt cx="1300320" cy="296640"/>
          </a:xfrm>
        </p:grpSpPr>
        <p:sp>
          <p:nvSpPr>
            <p:cNvPr id="996" name="Freeform 60"/>
            <p:cNvSpPr/>
            <p:nvPr/>
          </p:nvSpPr>
          <p:spPr>
            <a:xfrm>
              <a:off x="2120760" y="939960"/>
              <a:ext cx="6555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0693"/>
                  </a:moveTo>
                  <a:lnTo>
                    <a:pt x="5137" y="10693"/>
                  </a:lnTo>
                  <a:lnTo>
                    <a:pt x="6490" y="0"/>
                  </a:lnTo>
                  <a:lnTo>
                    <a:pt x="8097" y="19945"/>
                  </a:lnTo>
                  <a:lnTo>
                    <a:pt x="9450" y="720"/>
                  </a:lnTo>
                  <a:lnTo>
                    <a:pt x="11332" y="19945"/>
                  </a:lnTo>
                  <a:lnTo>
                    <a:pt x="12685" y="0"/>
                  </a:lnTo>
                  <a:lnTo>
                    <a:pt x="14841" y="19945"/>
                  </a:lnTo>
                  <a:lnTo>
                    <a:pt x="15941" y="10693"/>
                  </a:lnTo>
                  <a:lnTo>
                    <a:pt x="19979" y="106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7" name="Group 61"/>
            <p:cNvGrpSpPr/>
            <p:nvPr/>
          </p:nvGrpSpPr>
          <p:grpSpPr>
            <a:xfrm>
              <a:off x="2765520" y="980640"/>
              <a:ext cx="655560" cy="255960"/>
              <a:chOff x="2765520" y="980640"/>
              <a:chExt cx="655560" cy="255960"/>
            </a:xfrm>
          </p:grpSpPr>
          <p:sp>
            <p:nvSpPr>
              <p:cNvPr id="998" name="Arc 62"/>
              <p:cNvSpPr/>
              <p:nvPr/>
            </p:nvSpPr>
            <p:spPr>
              <a:xfrm flipH="1">
                <a:off x="2861640" y="980640"/>
                <a:ext cx="64440" cy="89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9" name="Group 63"/>
              <p:cNvGrpSpPr/>
              <p:nvPr/>
            </p:nvGrpSpPr>
            <p:grpSpPr>
              <a:xfrm>
                <a:off x="2904480" y="980640"/>
                <a:ext cx="129240" cy="250560"/>
                <a:chOff x="2904480" y="980640"/>
                <a:chExt cx="129240" cy="250560"/>
              </a:xfrm>
            </p:grpSpPr>
            <p:sp>
              <p:nvSpPr>
                <p:cNvPr id="1000" name="Arc 64"/>
                <p:cNvSpPr/>
                <p:nvPr/>
              </p:nvSpPr>
              <p:spPr>
                <a:xfrm>
                  <a:off x="2932560" y="980640"/>
                  <a:ext cx="49680" cy="97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Arc 65"/>
                <p:cNvSpPr/>
                <p:nvPr/>
              </p:nvSpPr>
              <p:spPr>
                <a:xfrm flipV="1">
                  <a:off x="2942280" y="1093680"/>
                  <a:ext cx="37440" cy="129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Arc 66"/>
                <p:cNvSpPr/>
                <p:nvPr/>
              </p:nvSpPr>
              <p:spPr>
                <a:xfrm flipH="1" flipV="1">
                  <a:off x="2904120" y="1145520"/>
                  <a:ext cx="42840" cy="85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Arc 67"/>
                <p:cNvSpPr/>
                <p:nvPr/>
              </p:nvSpPr>
              <p:spPr>
                <a:xfrm flipH="1">
                  <a:off x="2904840" y="980640"/>
                  <a:ext cx="128880" cy="164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4" name="Group 68"/>
              <p:cNvGrpSpPr/>
              <p:nvPr/>
            </p:nvGrpSpPr>
            <p:grpSpPr>
              <a:xfrm>
                <a:off x="3017520" y="983880"/>
                <a:ext cx="129240" cy="249480"/>
                <a:chOff x="3017520" y="983880"/>
                <a:chExt cx="129240" cy="249480"/>
              </a:xfrm>
            </p:grpSpPr>
            <p:sp>
              <p:nvSpPr>
                <p:cNvPr id="1005" name="Arc 69"/>
                <p:cNvSpPr/>
                <p:nvPr/>
              </p:nvSpPr>
              <p:spPr>
                <a:xfrm>
                  <a:off x="3044160" y="983880"/>
                  <a:ext cx="50040" cy="98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Arc 70"/>
                <p:cNvSpPr/>
                <p:nvPr/>
              </p:nvSpPr>
              <p:spPr>
                <a:xfrm flipV="1">
                  <a:off x="3056040" y="1096920"/>
                  <a:ext cx="37440" cy="130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Arc 71"/>
                <p:cNvSpPr/>
                <p:nvPr/>
              </p:nvSpPr>
              <p:spPr>
                <a:xfrm flipH="1" flipV="1">
                  <a:off x="3017160" y="1147680"/>
                  <a:ext cx="42840" cy="85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Arc 72"/>
                <p:cNvSpPr/>
                <p:nvPr/>
              </p:nvSpPr>
              <p:spPr>
                <a:xfrm flipH="1">
                  <a:off x="3017880" y="983880"/>
                  <a:ext cx="128880" cy="164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Group 73"/>
              <p:cNvGrpSpPr/>
              <p:nvPr/>
            </p:nvGrpSpPr>
            <p:grpSpPr>
              <a:xfrm>
                <a:off x="3135240" y="986760"/>
                <a:ext cx="129240" cy="249840"/>
                <a:chOff x="3135240" y="986760"/>
                <a:chExt cx="129240" cy="249840"/>
              </a:xfrm>
            </p:grpSpPr>
            <p:sp>
              <p:nvSpPr>
                <p:cNvPr id="1010" name="Arc 74"/>
                <p:cNvSpPr/>
                <p:nvPr/>
              </p:nvSpPr>
              <p:spPr>
                <a:xfrm>
                  <a:off x="3162600" y="986760"/>
                  <a:ext cx="49680" cy="97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Arc 75"/>
                <p:cNvSpPr/>
                <p:nvPr/>
              </p:nvSpPr>
              <p:spPr>
                <a:xfrm flipV="1">
                  <a:off x="3174480" y="1099800"/>
                  <a:ext cx="37440" cy="129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Arc 76"/>
                <p:cNvSpPr/>
                <p:nvPr/>
              </p:nvSpPr>
              <p:spPr>
                <a:xfrm flipH="1" flipV="1">
                  <a:off x="3134880" y="1150920"/>
                  <a:ext cx="42840" cy="85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Arc 77"/>
                <p:cNvSpPr/>
                <p:nvPr/>
              </p:nvSpPr>
              <p:spPr>
                <a:xfrm flipH="1">
                  <a:off x="3135600" y="986760"/>
                  <a:ext cx="128880" cy="164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4" name="Arc 78"/>
              <p:cNvSpPr/>
              <p:nvPr/>
            </p:nvSpPr>
            <p:spPr>
              <a:xfrm>
                <a:off x="3260520" y="986760"/>
                <a:ext cx="58680" cy="78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Line 79"/>
              <p:cNvSpPr/>
              <p:nvPr/>
            </p:nvSpPr>
            <p:spPr>
              <a:xfrm flipH="1">
                <a:off x="2765520" y="1069200"/>
                <a:ext cx="921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Line 80"/>
              <p:cNvSpPr/>
              <p:nvPr/>
            </p:nvSpPr>
            <p:spPr>
              <a:xfrm flipH="1">
                <a:off x="3328920" y="1069200"/>
                <a:ext cx="921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7" name="Rectangle 81"/>
          <p:cNvSpPr/>
          <p:nvPr/>
        </p:nvSpPr>
        <p:spPr>
          <a:xfrm>
            <a:off x="2347920" y="654120"/>
            <a:ext cx="2286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82"/>
          <p:cNvSpPr/>
          <p:nvPr/>
        </p:nvSpPr>
        <p:spPr>
          <a:xfrm>
            <a:off x="2971800" y="665280"/>
            <a:ext cx="2620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Group 83"/>
          <p:cNvGrpSpPr/>
          <p:nvPr/>
        </p:nvGrpSpPr>
        <p:grpSpPr>
          <a:xfrm>
            <a:off x="5560920" y="939960"/>
            <a:ext cx="1300320" cy="296640"/>
            <a:chOff x="5560920" y="939960"/>
            <a:chExt cx="1300320" cy="296640"/>
          </a:xfrm>
        </p:grpSpPr>
        <p:sp>
          <p:nvSpPr>
            <p:cNvPr id="1020" name="Freeform 84"/>
            <p:cNvSpPr/>
            <p:nvPr/>
          </p:nvSpPr>
          <p:spPr>
            <a:xfrm>
              <a:off x="5560920" y="939960"/>
              <a:ext cx="6555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0693"/>
                  </a:moveTo>
                  <a:lnTo>
                    <a:pt x="5137" y="10693"/>
                  </a:lnTo>
                  <a:lnTo>
                    <a:pt x="6490" y="0"/>
                  </a:lnTo>
                  <a:lnTo>
                    <a:pt x="8097" y="19945"/>
                  </a:lnTo>
                  <a:lnTo>
                    <a:pt x="9450" y="720"/>
                  </a:lnTo>
                  <a:lnTo>
                    <a:pt x="11332" y="19945"/>
                  </a:lnTo>
                  <a:lnTo>
                    <a:pt x="12685" y="0"/>
                  </a:lnTo>
                  <a:lnTo>
                    <a:pt x="14841" y="19945"/>
                  </a:lnTo>
                  <a:lnTo>
                    <a:pt x="15941" y="10693"/>
                  </a:lnTo>
                  <a:lnTo>
                    <a:pt x="19979" y="106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Group 85"/>
            <p:cNvGrpSpPr/>
            <p:nvPr/>
          </p:nvGrpSpPr>
          <p:grpSpPr>
            <a:xfrm>
              <a:off x="6205680" y="980640"/>
              <a:ext cx="655560" cy="255960"/>
              <a:chOff x="6205680" y="980640"/>
              <a:chExt cx="655560" cy="255960"/>
            </a:xfrm>
          </p:grpSpPr>
          <p:sp>
            <p:nvSpPr>
              <p:cNvPr id="1022" name="Arc 86"/>
              <p:cNvSpPr/>
              <p:nvPr/>
            </p:nvSpPr>
            <p:spPr>
              <a:xfrm flipH="1">
                <a:off x="6301800" y="980640"/>
                <a:ext cx="64440" cy="89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Group 87"/>
              <p:cNvGrpSpPr/>
              <p:nvPr/>
            </p:nvGrpSpPr>
            <p:grpSpPr>
              <a:xfrm>
                <a:off x="6344640" y="980640"/>
                <a:ext cx="129240" cy="250560"/>
                <a:chOff x="6344640" y="980640"/>
                <a:chExt cx="129240" cy="250560"/>
              </a:xfrm>
            </p:grpSpPr>
            <p:sp>
              <p:nvSpPr>
                <p:cNvPr id="1024" name="Arc 88"/>
                <p:cNvSpPr/>
                <p:nvPr/>
              </p:nvSpPr>
              <p:spPr>
                <a:xfrm>
                  <a:off x="6372720" y="980640"/>
                  <a:ext cx="49680" cy="97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Arc 89"/>
                <p:cNvSpPr/>
                <p:nvPr/>
              </p:nvSpPr>
              <p:spPr>
                <a:xfrm flipV="1">
                  <a:off x="6382440" y="1093680"/>
                  <a:ext cx="37440" cy="129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Arc 90"/>
                <p:cNvSpPr/>
                <p:nvPr/>
              </p:nvSpPr>
              <p:spPr>
                <a:xfrm flipH="1" flipV="1">
                  <a:off x="6344280" y="1145520"/>
                  <a:ext cx="42840" cy="85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Arc 91"/>
                <p:cNvSpPr/>
                <p:nvPr/>
              </p:nvSpPr>
              <p:spPr>
                <a:xfrm flipH="1">
                  <a:off x="6345000" y="980640"/>
                  <a:ext cx="128880" cy="164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8" name="Group 92"/>
              <p:cNvGrpSpPr/>
              <p:nvPr/>
            </p:nvGrpSpPr>
            <p:grpSpPr>
              <a:xfrm>
                <a:off x="6457680" y="983880"/>
                <a:ext cx="129240" cy="249480"/>
                <a:chOff x="6457680" y="983880"/>
                <a:chExt cx="129240" cy="249480"/>
              </a:xfrm>
            </p:grpSpPr>
            <p:sp>
              <p:nvSpPr>
                <p:cNvPr id="1029" name="Arc 93"/>
                <p:cNvSpPr/>
                <p:nvPr/>
              </p:nvSpPr>
              <p:spPr>
                <a:xfrm>
                  <a:off x="6484320" y="983880"/>
                  <a:ext cx="50040" cy="98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Arc 94"/>
                <p:cNvSpPr/>
                <p:nvPr/>
              </p:nvSpPr>
              <p:spPr>
                <a:xfrm flipV="1">
                  <a:off x="6496200" y="1096920"/>
                  <a:ext cx="37440" cy="130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Arc 95"/>
                <p:cNvSpPr/>
                <p:nvPr/>
              </p:nvSpPr>
              <p:spPr>
                <a:xfrm flipH="1" flipV="1">
                  <a:off x="6457320" y="1147680"/>
                  <a:ext cx="42840" cy="85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Arc 96"/>
                <p:cNvSpPr/>
                <p:nvPr/>
              </p:nvSpPr>
              <p:spPr>
                <a:xfrm flipH="1">
                  <a:off x="6458040" y="983880"/>
                  <a:ext cx="128880" cy="164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Group 97"/>
              <p:cNvGrpSpPr/>
              <p:nvPr/>
            </p:nvGrpSpPr>
            <p:grpSpPr>
              <a:xfrm>
                <a:off x="6575400" y="986760"/>
                <a:ext cx="129240" cy="249840"/>
                <a:chOff x="6575400" y="986760"/>
                <a:chExt cx="129240" cy="249840"/>
              </a:xfrm>
            </p:grpSpPr>
            <p:sp>
              <p:nvSpPr>
                <p:cNvPr id="1034" name="Arc 98"/>
                <p:cNvSpPr/>
                <p:nvPr/>
              </p:nvSpPr>
              <p:spPr>
                <a:xfrm>
                  <a:off x="6602760" y="986760"/>
                  <a:ext cx="49680" cy="97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Arc 99"/>
                <p:cNvSpPr/>
                <p:nvPr/>
              </p:nvSpPr>
              <p:spPr>
                <a:xfrm flipV="1">
                  <a:off x="6614640" y="1099800"/>
                  <a:ext cx="37440" cy="129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Arc 100"/>
                <p:cNvSpPr/>
                <p:nvPr/>
              </p:nvSpPr>
              <p:spPr>
                <a:xfrm flipH="1" flipV="1">
                  <a:off x="6575040" y="1150920"/>
                  <a:ext cx="42840" cy="85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Arc 101"/>
                <p:cNvSpPr/>
                <p:nvPr/>
              </p:nvSpPr>
              <p:spPr>
                <a:xfrm flipH="1">
                  <a:off x="6575760" y="986760"/>
                  <a:ext cx="128880" cy="164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8" name="Arc 102"/>
              <p:cNvSpPr/>
              <p:nvPr/>
            </p:nvSpPr>
            <p:spPr>
              <a:xfrm>
                <a:off x="6700680" y="986760"/>
                <a:ext cx="58680" cy="78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103"/>
              <p:cNvSpPr/>
              <p:nvPr/>
            </p:nvSpPr>
            <p:spPr>
              <a:xfrm flipH="1">
                <a:off x="6205680" y="1069200"/>
                <a:ext cx="921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Line 104"/>
              <p:cNvSpPr/>
              <p:nvPr/>
            </p:nvSpPr>
            <p:spPr>
              <a:xfrm flipH="1">
                <a:off x="6769080" y="1069200"/>
                <a:ext cx="921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1" name="Rectangle 105"/>
          <p:cNvSpPr/>
          <p:nvPr/>
        </p:nvSpPr>
        <p:spPr>
          <a:xfrm>
            <a:off x="5769000" y="665280"/>
            <a:ext cx="2300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106"/>
          <p:cNvSpPr/>
          <p:nvPr/>
        </p:nvSpPr>
        <p:spPr>
          <a:xfrm>
            <a:off x="6392880" y="674640"/>
            <a:ext cx="2397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107"/>
          <p:cNvSpPr/>
          <p:nvPr/>
        </p:nvSpPr>
        <p:spPr>
          <a:xfrm>
            <a:off x="3481560" y="1409760"/>
            <a:ext cx="458640" cy="226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033"/>
                </a:moveTo>
                <a:lnTo>
                  <a:pt x="0" y="0"/>
                </a:lnTo>
                <a:lnTo>
                  <a:pt x="19970" y="0"/>
                </a:lnTo>
                <a:lnTo>
                  <a:pt x="19970" y="199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108"/>
          <p:cNvSpPr/>
          <p:nvPr/>
        </p:nvSpPr>
        <p:spPr>
          <a:xfrm>
            <a:off x="3481560" y="2270160"/>
            <a:ext cx="458640" cy="225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06"/>
                </a:moveTo>
                <a:lnTo>
                  <a:pt x="0" y="19940"/>
                </a:lnTo>
                <a:lnTo>
                  <a:pt x="19970" y="19940"/>
                </a:lnTo>
                <a:lnTo>
                  <a:pt x="1997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109"/>
          <p:cNvSpPr/>
          <p:nvPr/>
        </p:nvSpPr>
        <p:spPr>
          <a:xfrm flipV="1">
            <a:off x="3711600" y="108432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110"/>
          <p:cNvSpPr/>
          <p:nvPr/>
        </p:nvSpPr>
        <p:spPr>
          <a:xfrm flipV="1">
            <a:off x="3689280" y="2484000"/>
            <a:ext cx="0" cy="32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11"/>
          <p:cNvSpPr/>
          <p:nvPr/>
        </p:nvSpPr>
        <p:spPr>
          <a:xfrm>
            <a:off x="3117960" y="1839960"/>
            <a:ext cx="183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12"/>
          <p:cNvSpPr/>
          <p:nvPr/>
        </p:nvSpPr>
        <p:spPr>
          <a:xfrm>
            <a:off x="4075200" y="1871640"/>
            <a:ext cx="2048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113"/>
          <p:cNvSpPr/>
          <p:nvPr/>
        </p:nvSpPr>
        <p:spPr>
          <a:xfrm>
            <a:off x="3419640" y="1073160"/>
            <a:ext cx="842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114"/>
          <p:cNvSpPr/>
          <p:nvPr/>
        </p:nvSpPr>
        <p:spPr>
          <a:xfrm>
            <a:off x="4241880" y="1073160"/>
            <a:ext cx="550800" cy="5731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19975" y="0"/>
                </a:lnTo>
                <a:lnTo>
                  <a:pt x="19975" y="1997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115"/>
          <p:cNvSpPr/>
          <p:nvPr/>
        </p:nvSpPr>
        <p:spPr>
          <a:xfrm>
            <a:off x="3689280" y="2249640"/>
            <a:ext cx="1114560" cy="572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76"/>
                </a:moveTo>
                <a:lnTo>
                  <a:pt x="19801" y="19976"/>
                </a:lnTo>
                <a:lnTo>
                  <a:pt x="19801" y="357"/>
                </a:lnTo>
                <a:lnTo>
                  <a:pt x="1998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16"/>
          <p:cNvSpPr/>
          <p:nvPr/>
        </p:nvSpPr>
        <p:spPr>
          <a:xfrm>
            <a:off x="5175360" y="1073160"/>
            <a:ext cx="387360" cy="5526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75"/>
                </a:moveTo>
                <a:lnTo>
                  <a:pt x="0" y="0"/>
                </a:lnTo>
                <a:lnTo>
                  <a:pt x="1996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117"/>
          <p:cNvSpPr/>
          <p:nvPr/>
        </p:nvSpPr>
        <p:spPr>
          <a:xfrm>
            <a:off x="6851520" y="1073160"/>
            <a:ext cx="311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118"/>
          <p:cNvSpPr/>
          <p:nvPr/>
        </p:nvSpPr>
        <p:spPr>
          <a:xfrm>
            <a:off x="5175360" y="2259000"/>
            <a:ext cx="1987560" cy="563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76"/>
                </a:lnTo>
                <a:lnTo>
                  <a:pt x="19993" y="1997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119"/>
          <p:cNvSpPr/>
          <p:nvPr/>
        </p:nvSpPr>
        <p:spPr>
          <a:xfrm flipH="1">
            <a:off x="2120400" y="2820960"/>
            <a:ext cx="1568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120"/>
          <p:cNvSpPr/>
          <p:nvPr/>
        </p:nvSpPr>
        <p:spPr>
          <a:xfrm>
            <a:off x="4740120" y="826920"/>
            <a:ext cx="5191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: n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121"/>
          <p:cNvSpPr/>
          <p:nvPr/>
        </p:nvSpPr>
        <p:spPr>
          <a:xfrm>
            <a:off x="4832280" y="1197000"/>
            <a:ext cx="4284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122"/>
          <p:cNvSpPr/>
          <p:nvPr/>
        </p:nvSpPr>
        <p:spPr>
          <a:xfrm>
            <a:off x="5083200" y="1197000"/>
            <a:ext cx="4140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23"/>
          <p:cNvSpPr/>
          <p:nvPr/>
        </p:nvSpPr>
        <p:spPr>
          <a:xfrm>
            <a:off x="6954840" y="1073160"/>
            <a:ext cx="8244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124"/>
          <p:cNvSpPr/>
          <p:nvPr/>
        </p:nvSpPr>
        <p:spPr>
          <a:xfrm flipH="1">
            <a:off x="1961640" y="1073160"/>
            <a:ext cx="14796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125"/>
          <p:cNvSpPr/>
          <p:nvPr/>
        </p:nvSpPr>
        <p:spPr>
          <a:xfrm flipH="1">
            <a:off x="1961640" y="2820960"/>
            <a:ext cx="147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126"/>
          <p:cNvSpPr/>
          <p:nvPr/>
        </p:nvSpPr>
        <p:spPr>
          <a:xfrm>
            <a:off x="2046240" y="1135080"/>
            <a:ext cx="2304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27"/>
          <p:cNvSpPr/>
          <p:nvPr/>
        </p:nvSpPr>
        <p:spPr>
          <a:xfrm>
            <a:off x="1682640" y="2862360"/>
            <a:ext cx="228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28"/>
          <p:cNvSpPr/>
          <p:nvPr/>
        </p:nvSpPr>
        <p:spPr>
          <a:xfrm>
            <a:off x="1724040" y="858960"/>
            <a:ext cx="2300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Oval 129"/>
          <p:cNvSpPr/>
          <p:nvPr/>
        </p:nvSpPr>
        <p:spPr>
          <a:xfrm>
            <a:off x="1933560" y="1052640"/>
            <a:ext cx="4140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Oval 130"/>
          <p:cNvSpPr/>
          <p:nvPr/>
        </p:nvSpPr>
        <p:spPr>
          <a:xfrm>
            <a:off x="1933560" y="2801880"/>
            <a:ext cx="41400" cy="41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Oval 131"/>
          <p:cNvSpPr/>
          <p:nvPr/>
        </p:nvSpPr>
        <p:spPr>
          <a:xfrm>
            <a:off x="7142040" y="1042920"/>
            <a:ext cx="41400" cy="41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Oval 132"/>
          <p:cNvSpPr/>
          <p:nvPr/>
        </p:nvSpPr>
        <p:spPr>
          <a:xfrm>
            <a:off x="7142040" y="2790720"/>
            <a:ext cx="41400" cy="41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33"/>
          <p:cNvSpPr/>
          <p:nvPr/>
        </p:nvSpPr>
        <p:spPr>
          <a:xfrm>
            <a:off x="1797120" y="1135080"/>
            <a:ext cx="1429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134"/>
          <p:cNvSpPr/>
          <p:nvPr/>
        </p:nvSpPr>
        <p:spPr>
          <a:xfrm>
            <a:off x="6808680" y="1165320"/>
            <a:ext cx="228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35"/>
          <p:cNvSpPr/>
          <p:nvPr/>
        </p:nvSpPr>
        <p:spPr>
          <a:xfrm>
            <a:off x="7151760" y="1112760"/>
            <a:ext cx="171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36"/>
          <p:cNvSpPr/>
          <p:nvPr/>
        </p:nvSpPr>
        <p:spPr>
          <a:xfrm>
            <a:off x="7172280" y="806400"/>
            <a:ext cx="2304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37"/>
          <p:cNvSpPr/>
          <p:nvPr/>
        </p:nvSpPr>
        <p:spPr>
          <a:xfrm>
            <a:off x="7194600" y="2862360"/>
            <a:ext cx="228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138"/>
          <p:cNvSpPr/>
          <p:nvPr/>
        </p:nvSpPr>
        <p:spPr>
          <a:xfrm>
            <a:off x="4260960" y="1073160"/>
            <a:ext cx="838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39"/>
          <p:cNvSpPr/>
          <p:nvPr/>
        </p:nvSpPr>
        <p:spPr>
          <a:xfrm>
            <a:off x="4084560" y="1135080"/>
            <a:ext cx="2304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40"/>
          <p:cNvSpPr/>
          <p:nvPr/>
        </p:nvSpPr>
        <p:spPr>
          <a:xfrm>
            <a:off x="1682640" y="1860480"/>
            <a:ext cx="2286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141"/>
          <p:cNvSpPr/>
          <p:nvPr/>
        </p:nvSpPr>
        <p:spPr>
          <a:xfrm>
            <a:off x="7194600" y="1860480"/>
            <a:ext cx="2286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142"/>
          <p:cNvSpPr/>
          <p:nvPr/>
        </p:nvSpPr>
        <p:spPr>
          <a:xfrm>
            <a:off x="4417920" y="1494000"/>
            <a:ext cx="1555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143"/>
          <p:cNvSpPr/>
          <p:nvPr/>
        </p:nvSpPr>
        <p:spPr>
          <a:xfrm>
            <a:off x="5373720" y="1503360"/>
            <a:ext cx="1569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144"/>
          <p:cNvSpPr/>
          <p:nvPr/>
        </p:nvSpPr>
        <p:spPr>
          <a:xfrm>
            <a:off x="4386240" y="1808280"/>
            <a:ext cx="20808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145"/>
          <p:cNvSpPr/>
          <p:nvPr/>
        </p:nvSpPr>
        <p:spPr>
          <a:xfrm>
            <a:off x="5425920" y="1839960"/>
            <a:ext cx="2304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46"/>
          <p:cNvSpPr/>
          <p:nvPr/>
        </p:nvSpPr>
        <p:spPr>
          <a:xfrm>
            <a:off x="3481560" y="2300400"/>
            <a:ext cx="0" cy="8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47"/>
          <p:cNvSpPr/>
          <p:nvPr/>
        </p:nvSpPr>
        <p:spPr>
          <a:xfrm>
            <a:off x="3938760" y="230040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148"/>
          <p:cNvSpPr/>
          <p:nvPr/>
        </p:nvSpPr>
        <p:spPr>
          <a:xfrm>
            <a:off x="3159000" y="2270160"/>
            <a:ext cx="2304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149"/>
          <p:cNvSpPr/>
          <p:nvPr/>
        </p:nvSpPr>
        <p:spPr>
          <a:xfrm>
            <a:off x="4011480" y="2270160"/>
            <a:ext cx="2304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Group 150"/>
          <p:cNvGrpSpPr/>
          <p:nvPr/>
        </p:nvGrpSpPr>
        <p:grpSpPr>
          <a:xfrm>
            <a:off x="4776480" y="1600920"/>
            <a:ext cx="398520" cy="661680"/>
            <a:chOff x="4776480" y="1600920"/>
            <a:chExt cx="398520" cy="661680"/>
          </a:xfrm>
        </p:grpSpPr>
        <p:sp>
          <p:nvSpPr>
            <p:cNvPr id="1087" name="Arc 151"/>
            <p:cNvSpPr/>
            <p:nvPr/>
          </p:nvSpPr>
          <p:spPr>
            <a:xfrm rot="21496800">
              <a:off x="4785840" y="1604520"/>
              <a:ext cx="265320" cy="643320"/>
            </a:xfrm>
            <a:custGeom>
              <a:avLst/>
              <a:gdLst/>
              <a:ahLst/>
              <a:rect l="l" t="t" r="r" b="b"/>
              <a:pathLst>
                <a:path fill="none" w="22372" h="43200">
                  <a:moveTo>
                    <a:pt x="771" y="0"/>
                  </a:moveTo>
                  <a:cubicBezTo>
                    <a:pt x="12701" y="0"/>
                    <a:pt x="22372" y="9670"/>
                    <a:pt x="22372" y="21600"/>
                  </a:cubicBezTo>
                  <a:cubicBezTo>
                    <a:pt x="22372" y="33529"/>
                    <a:pt x="12701" y="43200"/>
                    <a:pt x="772" y="43200"/>
                  </a:cubicBezTo>
                  <a:cubicBezTo>
                    <a:pt x="514" y="43200"/>
                    <a:pt x="257" y="43195"/>
                    <a:pt x="-1" y="43186"/>
                  </a:cubicBezTo>
                </a:path>
                <a:path stroke="0" w="22372" h="43200">
                  <a:moveTo>
                    <a:pt x="771" y="0"/>
                  </a:moveTo>
                  <a:cubicBezTo>
                    <a:pt x="12701" y="0"/>
                    <a:pt x="22372" y="9670"/>
                    <a:pt x="22372" y="21600"/>
                  </a:cubicBezTo>
                  <a:cubicBezTo>
                    <a:pt x="22372" y="33529"/>
                    <a:pt x="12701" y="43200"/>
                    <a:pt x="772" y="43200"/>
                  </a:cubicBezTo>
                  <a:cubicBezTo>
                    <a:pt x="514" y="43200"/>
                    <a:pt x="257" y="43195"/>
                    <a:pt x="-1" y="43186"/>
                  </a:cubicBezTo>
                  <a:lnTo>
                    <a:pt x="772" y="21600"/>
                  </a:lnTo>
                  <a:lnTo>
                    <a:pt x="77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Arc 152"/>
            <p:cNvSpPr/>
            <p:nvPr/>
          </p:nvSpPr>
          <p:spPr>
            <a:xfrm flipH="1" rot="103200">
              <a:off x="4899960" y="1615320"/>
              <a:ext cx="265320" cy="643320"/>
            </a:xfrm>
            <a:custGeom>
              <a:avLst/>
              <a:gdLst/>
              <a:ahLst/>
              <a:rect l="l" t="t" r="r" b="b"/>
              <a:pathLst>
                <a:path fill="none" w="22372" h="43200">
                  <a:moveTo>
                    <a:pt x="771" y="0"/>
                  </a:moveTo>
                  <a:cubicBezTo>
                    <a:pt x="12701" y="0"/>
                    <a:pt x="22372" y="9670"/>
                    <a:pt x="22372" y="21600"/>
                  </a:cubicBezTo>
                  <a:cubicBezTo>
                    <a:pt x="22372" y="33529"/>
                    <a:pt x="12701" y="43200"/>
                    <a:pt x="772" y="43200"/>
                  </a:cubicBezTo>
                  <a:cubicBezTo>
                    <a:pt x="514" y="43200"/>
                    <a:pt x="257" y="43195"/>
                    <a:pt x="-1" y="43186"/>
                  </a:cubicBezTo>
                </a:path>
                <a:path stroke="0" w="22372" h="43200">
                  <a:moveTo>
                    <a:pt x="771" y="0"/>
                  </a:moveTo>
                  <a:cubicBezTo>
                    <a:pt x="12701" y="0"/>
                    <a:pt x="22372" y="9670"/>
                    <a:pt x="22372" y="21600"/>
                  </a:cubicBezTo>
                  <a:cubicBezTo>
                    <a:pt x="22372" y="33529"/>
                    <a:pt x="12701" y="43200"/>
                    <a:pt x="772" y="43200"/>
                  </a:cubicBezTo>
                  <a:cubicBezTo>
                    <a:pt x="514" y="43200"/>
                    <a:pt x="257" y="43195"/>
                    <a:pt x="-1" y="43186"/>
                  </a:cubicBezTo>
                  <a:lnTo>
                    <a:pt x="772" y="21600"/>
                  </a:lnTo>
                  <a:lnTo>
                    <a:pt x="77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Rectangle 155"/>
          <p:cNvSpPr/>
          <p:nvPr/>
        </p:nvSpPr>
        <p:spPr>
          <a:xfrm>
            <a:off x="1824120" y="2535120"/>
            <a:ext cx="144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156"/>
          <p:cNvSpPr/>
          <p:nvPr/>
        </p:nvSpPr>
        <p:spPr>
          <a:xfrm>
            <a:off x="7145280" y="2535120"/>
            <a:ext cx="1429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158"/>
          <p:cNvSpPr/>
          <p:nvPr/>
        </p:nvSpPr>
        <p:spPr>
          <a:xfrm>
            <a:off x="584280" y="3400560"/>
            <a:ext cx="337824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tenere conto della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potenza dissipata nel materiale ferromagnetico per isteresi e per correnti parassi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i introduce nel circuito elettrico equivalente del trasformatore reale (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valido solo alle basse frequenz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la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resistenza attiva </a:t>
            </a: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i="1" lang="it-IT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corsa dalla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orrente attiva </a:t>
            </a: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i="1" lang="it-IT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2" name="Object 159"/>
              <p:cNvSpPr txBox="1"/>
              <p:nvPr/>
            </p:nvSpPr>
            <p:spPr>
              <a:xfrm>
                <a:off x="4770360" y="5497560"/>
                <a:ext cx="19065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Ι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Object 160"/>
              <p:cNvSpPr txBox="1"/>
              <p:nvPr/>
            </p:nvSpPr>
            <p:spPr>
              <a:xfrm>
                <a:off x="4781520" y="3575160"/>
                <a:ext cx="30481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μ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Object 161"/>
              <p:cNvSpPr txBox="1"/>
              <p:nvPr/>
            </p:nvSpPr>
            <p:spPr>
              <a:xfrm>
                <a:off x="4795920" y="4154400"/>
                <a:ext cx="31939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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μ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Object 162"/>
              <p:cNvSpPr txBox="1"/>
              <p:nvPr/>
            </p:nvSpPr>
            <p:spPr>
              <a:xfrm>
                <a:off x="4756320" y="4925880"/>
                <a:ext cx="18349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Text Box 2"/>
          <p:cNvSpPr/>
          <p:nvPr/>
        </p:nvSpPr>
        <p:spPr>
          <a:xfrm>
            <a:off x="685800" y="10666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3"/>
          <p:cNvSpPr/>
          <p:nvPr/>
        </p:nvSpPr>
        <p:spPr>
          <a:xfrm>
            <a:off x="1219320" y="1778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IRCUITO ELETTRICO EQUI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122"/>
          <p:cNvSpPr/>
          <p:nvPr/>
        </p:nvSpPr>
        <p:spPr>
          <a:xfrm>
            <a:off x="6134040" y="1560240"/>
            <a:ext cx="28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trasformatore “reale” assorbe sia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potenza attiv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he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potenza reattiv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123"/>
          <p:cNvSpPr/>
          <p:nvPr/>
        </p:nvSpPr>
        <p:spPr>
          <a:xfrm>
            <a:off x="291960" y="3753360"/>
            <a:ext cx="84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otenza attiva viene dissipata (trasformata in calore) in parte negli avvolgimenti (per effetto Joule) ed in parte nel nucleo ferromagnetico (per effetto Joule e per istere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otenza reattiva assorbita serve per sostenere i flussi dispersi ed il flusso princip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resenza di flussi dispersi introduce uno sfasamento tra la tensione primaria e la tensione second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iluttanza finita del nucleo comporta l’assorbimento a primario, anche nel funzionamento a vuoto di una corrente magnetizzante che risulta in quadratura col flusso princip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Group 126"/>
          <p:cNvGrpSpPr/>
          <p:nvPr/>
        </p:nvGrpSpPr>
        <p:grpSpPr>
          <a:xfrm>
            <a:off x="743040" y="933480"/>
            <a:ext cx="5207040" cy="2441160"/>
            <a:chOff x="743040" y="933480"/>
            <a:chExt cx="5207040" cy="2441160"/>
          </a:xfrm>
        </p:grpSpPr>
        <p:sp>
          <p:nvSpPr>
            <p:cNvPr id="1101" name="Freeform 6"/>
            <p:cNvSpPr/>
            <p:nvPr/>
          </p:nvSpPr>
          <p:spPr>
            <a:xfrm>
              <a:off x="2265480" y="1925640"/>
              <a:ext cx="226800" cy="655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9252" y="0"/>
                  </a:moveTo>
                  <a:lnTo>
                    <a:pt x="9252" y="5137"/>
                  </a:lnTo>
                  <a:lnTo>
                    <a:pt x="19945" y="6490"/>
                  </a:lnTo>
                  <a:lnTo>
                    <a:pt x="0" y="8097"/>
                  </a:lnTo>
                  <a:lnTo>
                    <a:pt x="19224" y="9450"/>
                  </a:lnTo>
                  <a:lnTo>
                    <a:pt x="0" y="11332"/>
                  </a:lnTo>
                  <a:lnTo>
                    <a:pt x="19945" y="12685"/>
                  </a:lnTo>
                  <a:lnTo>
                    <a:pt x="0" y="14841"/>
                  </a:lnTo>
                  <a:lnTo>
                    <a:pt x="9252" y="15941"/>
                  </a:lnTo>
                  <a:lnTo>
                    <a:pt x="9252" y="1997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2" name="Group 7"/>
            <p:cNvGrpSpPr/>
            <p:nvPr/>
          </p:nvGrpSpPr>
          <p:grpSpPr>
            <a:xfrm>
              <a:off x="2638440" y="1920240"/>
              <a:ext cx="236520" cy="653760"/>
              <a:chOff x="2638440" y="1920240"/>
              <a:chExt cx="236520" cy="653760"/>
            </a:xfrm>
          </p:grpSpPr>
          <p:sp>
            <p:nvSpPr>
              <p:cNvPr id="1103" name="Arc 8"/>
              <p:cNvSpPr/>
              <p:nvPr/>
            </p:nvSpPr>
            <p:spPr>
              <a:xfrm>
                <a:off x="2792520" y="2017080"/>
                <a:ext cx="82440" cy="64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Group 9"/>
              <p:cNvGrpSpPr/>
              <p:nvPr/>
            </p:nvGrpSpPr>
            <p:grpSpPr>
              <a:xfrm>
                <a:off x="2643480" y="2059560"/>
                <a:ext cx="231480" cy="128520"/>
                <a:chOff x="2643480" y="2059560"/>
                <a:chExt cx="231480" cy="128520"/>
              </a:xfrm>
            </p:grpSpPr>
            <p:sp>
              <p:nvSpPr>
                <p:cNvPr id="1105" name="Arc 10"/>
                <p:cNvSpPr/>
                <p:nvPr/>
              </p:nvSpPr>
              <p:spPr>
                <a:xfrm flipV="1">
                  <a:off x="2784600" y="2086920"/>
                  <a:ext cx="90360" cy="49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Arc 11"/>
                <p:cNvSpPr/>
                <p:nvPr/>
              </p:nvSpPr>
              <p:spPr>
                <a:xfrm flipH="1" flipV="1">
                  <a:off x="2649600" y="2095920"/>
                  <a:ext cx="120240" cy="37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Arc 12"/>
                <p:cNvSpPr/>
                <p:nvPr/>
              </p:nvSpPr>
              <p:spPr>
                <a:xfrm flipH="1">
                  <a:off x="2643480" y="2059560"/>
                  <a:ext cx="79200" cy="42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Arc 13"/>
                <p:cNvSpPr/>
                <p:nvPr/>
              </p:nvSpPr>
              <p:spPr>
                <a:xfrm>
                  <a:off x="2722680" y="2059560"/>
                  <a:ext cx="152280" cy="1285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9" name="Group 14"/>
              <p:cNvGrpSpPr/>
              <p:nvPr/>
            </p:nvGrpSpPr>
            <p:grpSpPr>
              <a:xfrm>
                <a:off x="2641320" y="2172240"/>
                <a:ext cx="230400" cy="128520"/>
                <a:chOff x="2641320" y="2172240"/>
                <a:chExt cx="230400" cy="128520"/>
              </a:xfrm>
            </p:grpSpPr>
            <p:sp>
              <p:nvSpPr>
                <p:cNvPr id="1110" name="Arc 15"/>
                <p:cNvSpPr/>
                <p:nvPr/>
              </p:nvSpPr>
              <p:spPr>
                <a:xfrm flipV="1">
                  <a:off x="2781000" y="2198520"/>
                  <a:ext cx="90720" cy="49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Arc 16"/>
                <p:cNvSpPr/>
                <p:nvPr/>
              </p:nvSpPr>
              <p:spPr>
                <a:xfrm flipH="1" flipV="1">
                  <a:off x="2646720" y="2209320"/>
                  <a:ext cx="120240" cy="37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Arc 17"/>
                <p:cNvSpPr/>
                <p:nvPr/>
              </p:nvSpPr>
              <p:spPr>
                <a:xfrm flipH="1">
                  <a:off x="2641320" y="2172240"/>
                  <a:ext cx="79200" cy="42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Arc 18"/>
                <p:cNvSpPr/>
                <p:nvPr/>
              </p:nvSpPr>
              <p:spPr>
                <a:xfrm>
                  <a:off x="2719440" y="2172240"/>
                  <a:ext cx="152280" cy="1285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Group 19"/>
              <p:cNvGrpSpPr/>
              <p:nvPr/>
            </p:nvGrpSpPr>
            <p:grpSpPr>
              <a:xfrm>
                <a:off x="2638440" y="2289600"/>
                <a:ext cx="231120" cy="128520"/>
                <a:chOff x="2638440" y="2289600"/>
                <a:chExt cx="231120" cy="128520"/>
              </a:xfrm>
            </p:grpSpPr>
            <p:sp>
              <p:nvSpPr>
                <p:cNvPr id="1115" name="Arc 20"/>
                <p:cNvSpPr/>
                <p:nvPr/>
              </p:nvSpPr>
              <p:spPr>
                <a:xfrm flipV="1">
                  <a:off x="2778840" y="2316600"/>
                  <a:ext cx="90720" cy="49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Arc 21"/>
                <p:cNvSpPr/>
                <p:nvPr/>
              </p:nvSpPr>
              <p:spPr>
                <a:xfrm flipH="1" flipV="1">
                  <a:off x="2643840" y="2327400"/>
                  <a:ext cx="120240" cy="37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Arc 22"/>
                <p:cNvSpPr/>
                <p:nvPr/>
              </p:nvSpPr>
              <p:spPr>
                <a:xfrm flipH="1">
                  <a:off x="2638440" y="2289600"/>
                  <a:ext cx="79200" cy="42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Arc 23"/>
                <p:cNvSpPr/>
                <p:nvPr/>
              </p:nvSpPr>
              <p:spPr>
                <a:xfrm>
                  <a:off x="2717280" y="2289600"/>
                  <a:ext cx="152280" cy="1285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Arc 24"/>
              <p:cNvSpPr/>
              <p:nvPr/>
            </p:nvSpPr>
            <p:spPr>
              <a:xfrm flipV="1">
                <a:off x="2796480" y="2413440"/>
                <a:ext cx="73080" cy="58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Line 25"/>
              <p:cNvSpPr/>
              <p:nvPr/>
            </p:nvSpPr>
            <p:spPr>
              <a:xfrm flipV="1">
                <a:off x="2792520" y="1920240"/>
                <a:ext cx="36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26"/>
              <p:cNvSpPr/>
              <p:nvPr/>
            </p:nvSpPr>
            <p:spPr>
              <a:xfrm flipV="1">
                <a:off x="2792520" y="2482200"/>
                <a:ext cx="36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27"/>
            <p:cNvGrpSpPr/>
            <p:nvPr/>
          </p:nvGrpSpPr>
          <p:grpSpPr>
            <a:xfrm>
              <a:off x="1139760" y="1223640"/>
              <a:ext cx="1179360" cy="301320"/>
              <a:chOff x="1139760" y="1223640"/>
              <a:chExt cx="1179360" cy="301320"/>
            </a:xfrm>
          </p:grpSpPr>
          <p:sp>
            <p:nvSpPr>
              <p:cNvPr id="1123" name="Freeform 28"/>
              <p:cNvSpPr/>
              <p:nvPr/>
            </p:nvSpPr>
            <p:spPr>
              <a:xfrm>
                <a:off x="1139760" y="1223640"/>
                <a:ext cx="594720" cy="24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0693"/>
                    </a:moveTo>
                    <a:lnTo>
                      <a:pt x="5137" y="10693"/>
                    </a:lnTo>
                    <a:lnTo>
                      <a:pt x="6490" y="0"/>
                    </a:lnTo>
                    <a:lnTo>
                      <a:pt x="8097" y="19945"/>
                    </a:lnTo>
                    <a:lnTo>
                      <a:pt x="9450" y="720"/>
                    </a:lnTo>
                    <a:lnTo>
                      <a:pt x="11332" y="19945"/>
                    </a:lnTo>
                    <a:lnTo>
                      <a:pt x="12685" y="0"/>
                    </a:lnTo>
                    <a:lnTo>
                      <a:pt x="14841" y="19945"/>
                    </a:lnTo>
                    <a:lnTo>
                      <a:pt x="15941" y="10693"/>
                    </a:lnTo>
                    <a:lnTo>
                      <a:pt x="19979" y="106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4" name="Group 29"/>
              <p:cNvGrpSpPr/>
              <p:nvPr/>
            </p:nvGrpSpPr>
            <p:grpSpPr>
              <a:xfrm>
                <a:off x="1724400" y="1265040"/>
                <a:ext cx="594720" cy="259920"/>
                <a:chOff x="1724400" y="1265040"/>
                <a:chExt cx="594720" cy="259920"/>
              </a:xfrm>
            </p:grpSpPr>
            <p:sp>
              <p:nvSpPr>
                <p:cNvPr id="1125" name="Arc 30"/>
                <p:cNvSpPr/>
                <p:nvPr/>
              </p:nvSpPr>
              <p:spPr>
                <a:xfrm flipH="1">
                  <a:off x="1812240" y="1265040"/>
                  <a:ext cx="5832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6" name="Group 31"/>
                <p:cNvGrpSpPr/>
                <p:nvPr/>
              </p:nvGrpSpPr>
              <p:grpSpPr>
                <a:xfrm>
                  <a:off x="1850760" y="1265040"/>
                  <a:ext cx="116640" cy="254520"/>
                  <a:chOff x="1850760" y="1265040"/>
                  <a:chExt cx="116640" cy="254520"/>
                </a:xfrm>
              </p:grpSpPr>
              <p:sp>
                <p:nvSpPr>
                  <p:cNvPr id="1127" name="Arc 32"/>
                  <p:cNvSpPr/>
                  <p:nvPr/>
                </p:nvSpPr>
                <p:spPr>
                  <a:xfrm>
                    <a:off x="1875960" y="1265040"/>
                    <a:ext cx="450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Arc 33"/>
                  <p:cNvSpPr/>
                  <p:nvPr/>
                </p:nvSpPr>
                <p:spPr>
                  <a:xfrm flipV="1">
                    <a:off x="1884600" y="1379880"/>
                    <a:ext cx="338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Arc 34"/>
                  <p:cNvSpPr/>
                  <p:nvPr/>
                </p:nvSpPr>
                <p:spPr>
                  <a:xfrm flipH="1" flipV="1">
                    <a:off x="1850760" y="1432440"/>
                    <a:ext cx="388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Arc 35"/>
                  <p:cNvSpPr/>
                  <p:nvPr/>
                </p:nvSpPr>
                <p:spPr>
                  <a:xfrm flipH="1">
                    <a:off x="1850760" y="1265040"/>
                    <a:ext cx="11664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1" name="Group 36"/>
                <p:cNvGrpSpPr/>
                <p:nvPr/>
              </p:nvGrpSpPr>
              <p:grpSpPr>
                <a:xfrm>
                  <a:off x="1953000" y="1268280"/>
                  <a:ext cx="117000" cy="253080"/>
                  <a:chOff x="1953000" y="1268280"/>
                  <a:chExt cx="117000" cy="253080"/>
                </a:xfrm>
              </p:grpSpPr>
              <p:sp>
                <p:nvSpPr>
                  <p:cNvPr id="1132" name="Arc 37"/>
                  <p:cNvSpPr/>
                  <p:nvPr/>
                </p:nvSpPr>
                <p:spPr>
                  <a:xfrm>
                    <a:off x="1977120" y="1268280"/>
                    <a:ext cx="453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Arc 38"/>
                  <p:cNvSpPr/>
                  <p:nvPr/>
                </p:nvSpPr>
                <p:spPr>
                  <a:xfrm flipV="1">
                    <a:off x="1987920" y="1382400"/>
                    <a:ext cx="338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Arc 39"/>
                  <p:cNvSpPr/>
                  <p:nvPr/>
                </p:nvSpPr>
                <p:spPr>
                  <a:xfrm flipH="1" flipV="1">
                    <a:off x="1953360" y="1434240"/>
                    <a:ext cx="388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Arc 40"/>
                  <p:cNvSpPr/>
                  <p:nvPr/>
                </p:nvSpPr>
                <p:spPr>
                  <a:xfrm flipH="1">
                    <a:off x="1952640" y="1268280"/>
                    <a:ext cx="117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6" name="Group 41"/>
                <p:cNvGrpSpPr/>
                <p:nvPr/>
              </p:nvGrpSpPr>
              <p:grpSpPr>
                <a:xfrm>
                  <a:off x="2060280" y="1271160"/>
                  <a:ext cx="116640" cy="253800"/>
                  <a:chOff x="2060280" y="1271160"/>
                  <a:chExt cx="116640" cy="253800"/>
                </a:xfrm>
              </p:grpSpPr>
              <p:sp>
                <p:nvSpPr>
                  <p:cNvPr id="1137" name="Arc 42"/>
                  <p:cNvSpPr/>
                  <p:nvPr/>
                </p:nvSpPr>
                <p:spPr>
                  <a:xfrm>
                    <a:off x="2084760" y="1271160"/>
                    <a:ext cx="450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Arc 43"/>
                  <p:cNvSpPr/>
                  <p:nvPr/>
                </p:nvSpPr>
                <p:spPr>
                  <a:xfrm flipV="1">
                    <a:off x="2095200" y="1386000"/>
                    <a:ext cx="338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Arc 44"/>
                  <p:cNvSpPr/>
                  <p:nvPr/>
                </p:nvSpPr>
                <p:spPr>
                  <a:xfrm flipH="1" flipV="1">
                    <a:off x="2060280" y="1437840"/>
                    <a:ext cx="388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Arc 45"/>
                  <p:cNvSpPr/>
                  <p:nvPr/>
                </p:nvSpPr>
                <p:spPr>
                  <a:xfrm flipH="1">
                    <a:off x="2060280" y="1271160"/>
                    <a:ext cx="11664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1" name="Arc 46"/>
                <p:cNvSpPr/>
                <p:nvPr/>
              </p:nvSpPr>
              <p:spPr>
                <a:xfrm>
                  <a:off x="2173320" y="1271160"/>
                  <a:ext cx="53280" cy="80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47"/>
                <p:cNvSpPr/>
                <p:nvPr/>
              </p:nvSpPr>
              <p:spPr>
                <a:xfrm flipH="1">
                  <a:off x="1724400" y="1355040"/>
                  <a:ext cx="835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48"/>
                <p:cNvSpPr/>
                <p:nvPr/>
              </p:nvSpPr>
              <p:spPr>
                <a:xfrm flipH="1">
                  <a:off x="2235600" y="1355040"/>
                  <a:ext cx="835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4" name="Rectangle 49"/>
            <p:cNvSpPr/>
            <p:nvPr/>
          </p:nvSpPr>
          <p:spPr>
            <a:xfrm>
              <a:off x="1346400" y="933480"/>
              <a:ext cx="2077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50"/>
            <p:cNvSpPr/>
            <p:nvPr/>
          </p:nvSpPr>
          <p:spPr>
            <a:xfrm>
              <a:off x="1913040" y="944280"/>
              <a:ext cx="2365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6" name="Group 51"/>
            <p:cNvGrpSpPr/>
            <p:nvPr/>
          </p:nvGrpSpPr>
          <p:grpSpPr>
            <a:xfrm>
              <a:off x="4260960" y="1223640"/>
              <a:ext cx="1179360" cy="301320"/>
              <a:chOff x="4260960" y="1223640"/>
              <a:chExt cx="1179360" cy="301320"/>
            </a:xfrm>
          </p:grpSpPr>
          <p:sp>
            <p:nvSpPr>
              <p:cNvPr id="1147" name="Freeform 52"/>
              <p:cNvSpPr/>
              <p:nvPr/>
            </p:nvSpPr>
            <p:spPr>
              <a:xfrm>
                <a:off x="4260960" y="1223640"/>
                <a:ext cx="594720" cy="24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0693"/>
                    </a:moveTo>
                    <a:lnTo>
                      <a:pt x="5137" y="10693"/>
                    </a:lnTo>
                    <a:lnTo>
                      <a:pt x="6490" y="0"/>
                    </a:lnTo>
                    <a:lnTo>
                      <a:pt x="8097" y="19945"/>
                    </a:lnTo>
                    <a:lnTo>
                      <a:pt x="9450" y="720"/>
                    </a:lnTo>
                    <a:lnTo>
                      <a:pt x="11332" y="19945"/>
                    </a:lnTo>
                    <a:lnTo>
                      <a:pt x="12685" y="0"/>
                    </a:lnTo>
                    <a:lnTo>
                      <a:pt x="14841" y="19945"/>
                    </a:lnTo>
                    <a:lnTo>
                      <a:pt x="15941" y="10693"/>
                    </a:lnTo>
                    <a:lnTo>
                      <a:pt x="19979" y="106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8" name="Group 53"/>
              <p:cNvGrpSpPr/>
              <p:nvPr/>
            </p:nvGrpSpPr>
            <p:grpSpPr>
              <a:xfrm>
                <a:off x="4845600" y="1265040"/>
                <a:ext cx="594720" cy="259920"/>
                <a:chOff x="4845600" y="1265040"/>
                <a:chExt cx="594720" cy="259920"/>
              </a:xfrm>
            </p:grpSpPr>
            <p:sp>
              <p:nvSpPr>
                <p:cNvPr id="1149" name="Arc 54"/>
                <p:cNvSpPr/>
                <p:nvPr/>
              </p:nvSpPr>
              <p:spPr>
                <a:xfrm flipH="1">
                  <a:off x="4933440" y="1265040"/>
                  <a:ext cx="5832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0" name="Group 55"/>
                <p:cNvGrpSpPr/>
                <p:nvPr/>
              </p:nvGrpSpPr>
              <p:grpSpPr>
                <a:xfrm>
                  <a:off x="4971960" y="1265040"/>
                  <a:ext cx="116640" cy="254520"/>
                  <a:chOff x="4971960" y="1265040"/>
                  <a:chExt cx="116640" cy="254520"/>
                </a:xfrm>
              </p:grpSpPr>
              <p:sp>
                <p:nvSpPr>
                  <p:cNvPr id="1151" name="Arc 56"/>
                  <p:cNvSpPr/>
                  <p:nvPr/>
                </p:nvSpPr>
                <p:spPr>
                  <a:xfrm>
                    <a:off x="4997160" y="1265040"/>
                    <a:ext cx="450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Arc 57"/>
                  <p:cNvSpPr/>
                  <p:nvPr/>
                </p:nvSpPr>
                <p:spPr>
                  <a:xfrm flipV="1">
                    <a:off x="5005800" y="1379880"/>
                    <a:ext cx="338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Arc 58"/>
                  <p:cNvSpPr/>
                  <p:nvPr/>
                </p:nvSpPr>
                <p:spPr>
                  <a:xfrm flipH="1" flipV="1">
                    <a:off x="4971960" y="1432440"/>
                    <a:ext cx="388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Arc 59"/>
                  <p:cNvSpPr/>
                  <p:nvPr/>
                </p:nvSpPr>
                <p:spPr>
                  <a:xfrm flipH="1">
                    <a:off x="4971960" y="1265040"/>
                    <a:ext cx="11664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5" name="Group 60"/>
                <p:cNvGrpSpPr/>
                <p:nvPr/>
              </p:nvGrpSpPr>
              <p:grpSpPr>
                <a:xfrm>
                  <a:off x="5074200" y="1268280"/>
                  <a:ext cx="117000" cy="253080"/>
                  <a:chOff x="5074200" y="1268280"/>
                  <a:chExt cx="117000" cy="253080"/>
                </a:xfrm>
              </p:grpSpPr>
              <p:sp>
                <p:nvSpPr>
                  <p:cNvPr id="1156" name="Arc 61"/>
                  <p:cNvSpPr/>
                  <p:nvPr/>
                </p:nvSpPr>
                <p:spPr>
                  <a:xfrm>
                    <a:off x="5098320" y="1268280"/>
                    <a:ext cx="453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Arc 62"/>
                  <p:cNvSpPr/>
                  <p:nvPr/>
                </p:nvSpPr>
                <p:spPr>
                  <a:xfrm flipV="1">
                    <a:off x="5109120" y="1382400"/>
                    <a:ext cx="338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Arc 63"/>
                  <p:cNvSpPr/>
                  <p:nvPr/>
                </p:nvSpPr>
                <p:spPr>
                  <a:xfrm flipH="1" flipV="1">
                    <a:off x="5074560" y="1434240"/>
                    <a:ext cx="388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Arc 64"/>
                  <p:cNvSpPr/>
                  <p:nvPr/>
                </p:nvSpPr>
                <p:spPr>
                  <a:xfrm flipH="1">
                    <a:off x="5073840" y="1268280"/>
                    <a:ext cx="117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0" name="Group 65"/>
                <p:cNvGrpSpPr/>
                <p:nvPr/>
              </p:nvGrpSpPr>
              <p:grpSpPr>
                <a:xfrm>
                  <a:off x="5181480" y="1271160"/>
                  <a:ext cx="116640" cy="253800"/>
                  <a:chOff x="5181480" y="1271160"/>
                  <a:chExt cx="116640" cy="253800"/>
                </a:xfrm>
              </p:grpSpPr>
              <p:sp>
                <p:nvSpPr>
                  <p:cNvPr id="1161" name="Arc 66"/>
                  <p:cNvSpPr/>
                  <p:nvPr/>
                </p:nvSpPr>
                <p:spPr>
                  <a:xfrm>
                    <a:off x="5205960" y="1271160"/>
                    <a:ext cx="450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Arc 67"/>
                  <p:cNvSpPr/>
                  <p:nvPr/>
                </p:nvSpPr>
                <p:spPr>
                  <a:xfrm flipV="1">
                    <a:off x="5216400" y="1386000"/>
                    <a:ext cx="338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Arc 68"/>
                  <p:cNvSpPr/>
                  <p:nvPr/>
                </p:nvSpPr>
                <p:spPr>
                  <a:xfrm flipH="1" flipV="1">
                    <a:off x="5181480" y="1437840"/>
                    <a:ext cx="388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Arc 69"/>
                  <p:cNvSpPr/>
                  <p:nvPr/>
                </p:nvSpPr>
                <p:spPr>
                  <a:xfrm flipH="1">
                    <a:off x="5181480" y="1271160"/>
                    <a:ext cx="11664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5" name="Arc 70"/>
                <p:cNvSpPr/>
                <p:nvPr/>
              </p:nvSpPr>
              <p:spPr>
                <a:xfrm>
                  <a:off x="5294520" y="1271160"/>
                  <a:ext cx="53280" cy="80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71"/>
                <p:cNvSpPr/>
                <p:nvPr/>
              </p:nvSpPr>
              <p:spPr>
                <a:xfrm flipH="1">
                  <a:off x="4845600" y="1355040"/>
                  <a:ext cx="835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72"/>
                <p:cNvSpPr/>
                <p:nvPr/>
              </p:nvSpPr>
              <p:spPr>
                <a:xfrm flipH="1">
                  <a:off x="5356800" y="1355040"/>
                  <a:ext cx="835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8" name="Rectangle 73"/>
            <p:cNvSpPr/>
            <p:nvPr/>
          </p:nvSpPr>
          <p:spPr>
            <a:xfrm>
              <a:off x="4449960" y="944280"/>
              <a:ext cx="2077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74"/>
            <p:cNvSpPr/>
            <p:nvPr/>
          </p:nvSpPr>
          <p:spPr>
            <a:xfrm>
              <a:off x="5014800" y="954000"/>
              <a:ext cx="217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75"/>
            <p:cNvSpPr/>
            <p:nvPr/>
          </p:nvSpPr>
          <p:spPr>
            <a:xfrm>
              <a:off x="2374920" y="1701720"/>
              <a:ext cx="415800" cy="22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033"/>
                  </a:moveTo>
                  <a:lnTo>
                    <a:pt x="0" y="0"/>
                  </a:lnTo>
                  <a:lnTo>
                    <a:pt x="19970" y="0"/>
                  </a:lnTo>
                  <a:lnTo>
                    <a:pt x="19970" y="199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76"/>
            <p:cNvSpPr/>
            <p:nvPr/>
          </p:nvSpPr>
          <p:spPr>
            <a:xfrm>
              <a:off x="2374920" y="2574720"/>
              <a:ext cx="415800" cy="22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906"/>
                  </a:moveTo>
                  <a:lnTo>
                    <a:pt x="0" y="19940"/>
                  </a:lnTo>
                  <a:lnTo>
                    <a:pt x="19970" y="19940"/>
                  </a:lnTo>
                  <a:lnTo>
                    <a:pt x="1997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77"/>
            <p:cNvSpPr/>
            <p:nvPr/>
          </p:nvSpPr>
          <p:spPr>
            <a:xfrm flipV="1">
              <a:off x="2583000" y="1369440"/>
              <a:ext cx="0" cy="33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78"/>
            <p:cNvSpPr/>
            <p:nvPr/>
          </p:nvSpPr>
          <p:spPr>
            <a:xfrm flipV="1">
              <a:off x="2563920" y="2791800"/>
              <a:ext cx="0" cy="33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79"/>
            <p:cNvSpPr/>
            <p:nvPr/>
          </p:nvSpPr>
          <p:spPr>
            <a:xfrm>
              <a:off x="2044800" y="2138040"/>
              <a:ext cx="1666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80"/>
            <p:cNvSpPr/>
            <p:nvPr/>
          </p:nvSpPr>
          <p:spPr>
            <a:xfrm>
              <a:off x="2913120" y="2170080"/>
              <a:ext cx="185760" cy="1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Line 81"/>
            <p:cNvSpPr/>
            <p:nvPr/>
          </p:nvSpPr>
          <p:spPr>
            <a:xfrm>
              <a:off x="2317680" y="1358640"/>
              <a:ext cx="765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82"/>
            <p:cNvSpPr/>
            <p:nvPr/>
          </p:nvSpPr>
          <p:spPr>
            <a:xfrm>
              <a:off x="3063960" y="1358640"/>
              <a:ext cx="500040" cy="582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75" y="0"/>
                  </a:lnTo>
                  <a:lnTo>
                    <a:pt x="19975" y="1997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83"/>
            <p:cNvSpPr/>
            <p:nvPr/>
          </p:nvSpPr>
          <p:spPr>
            <a:xfrm>
              <a:off x="2563920" y="2554200"/>
              <a:ext cx="1009440" cy="582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6"/>
                  </a:moveTo>
                  <a:lnTo>
                    <a:pt x="19801" y="19976"/>
                  </a:lnTo>
                  <a:lnTo>
                    <a:pt x="19801" y="357"/>
                  </a:lnTo>
                  <a:lnTo>
                    <a:pt x="199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84"/>
            <p:cNvSpPr/>
            <p:nvPr/>
          </p:nvSpPr>
          <p:spPr>
            <a:xfrm>
              <a:off x="3911760" y="1358640"/>
              <a:ext cx="350640" cy="561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5"/>
                  </a:moveTo>
                  <a:lnTo>
                    <a:pt x="0" y="0"/>
                  </a:lnTo>
                  <a:lnTo>
                    <a:pt x="1996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85"/>
            <p:cNvSpPr/>
            <p:nvPr/>
          </p:nvSpPr>
          <p:spPr>
            <a:xfrm>
              <a:off x="5430960" y="1358640"/>
              <a:ext cx="28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86"/>
            <p:cNvSpPr/>
            <p:nvPr/>
          </p:nvSpPr>
          <p:spPr>
            <a:xfrm>
              <a:off x="3911760" y="2563560"/>
              <a:ext cx="1801800" cy="572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76"/>
                  </a:lnTo>
                  <a:lnTo>
                    <a:pt x="19993" y="1997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Line 87"/>
            <p:cNvSpPr/>
            <p:nvPr/>
          </p:nvSpPr>
          <p:spPr>
            <a:xfrm flipH="1">
              <a:off x="1139760" y="3135240"/>
              <a:ext cx="1424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88"/>
            <p:cNvSpPr/>
            <p:nvPr/>
          </p:nvSpPr>
          <p:spPr>
            <a:xfrm>
              <a:off x="3516480" y="1109520"/>
              <a:ext cx="47124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: 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Oval 89"/>
            <p:cNvSpPr/>
            <p:nvPr/>
          </p:nvSpPr>
          <p:spPr>
            <a:xfrm>
              <a:off x="3600360" y="1484280"/>
              <a:ext cx="38160" cy="40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Oval 90"/>
            <p:cNvSpPr/>
            <p:nvPr/>
          </p:nvSpPr>
          <p:spPr>
            <a:xfrm>
              <a:off x="3827520" y="1484280"/>
              <a:ext cx="38160" cy="40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91"/>
            <p:cNvSpPr/>
            <p:nvPr/>
          </p:nvSpPr>
          <p:spPr>
            <a:xfrm>
              <a:off x="5524560" y="1358640"/>
              <a:ext cx="76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92"/>
            <p:cNvSpPr/>
            <p:nvPr/>
          </p:nvSpPr>
          <p:spPr>
            <a:xfrm flipH="1">
              <a:off x="996480" y="1358640"/>
              <a:ext cx="133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93"/>
            <p:cNvSpPr/>
            <p:nvPr/>
          </p:nvSpPr>
          <p:spPr>
            <a:xfrm flipH="1">
              <a:off x="996480" y="3135240"/>
              <a:ext cx="133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94"/>
            <p:cNvSpPr/>
            <p:nvPr/>
          </p:nvSpPr>
          <p:spPr>
            <a:xfrm>
              <a:off x="1073160" y="1422360"/>
              <a:ext cx="208080" cy="1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95"/>
            <p:cNvSpPr/>
            <p:nvPr/>
          </p:nvSpPr>
          <p:spPr>
            <a:xfrm>
              <a:off x="743040" y="3176280"/>
              <a:ext cx="20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96"/>
            <p:cNvSpPr/>
            <p:nvPr/>
          </p:nvSpPr>
          <p:spPr>
            <a:xfrm>
              <a:off x="781200" y="1141200"/>
              <a:ext cx="20772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Oval 97"/>
            <p:cNvSpPr/>
            <p:nvPr/>
          </p:nvSpPr>
          <p:spPr>
            <a:xfrm>
              <a:off x="969840" y="1338120"/>
              <a:ext cx="38160" cy="42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Oval 98"/>
            <p:cNvSpPr/>
            <p:nvPr/>
          </p:nvSpPr>
          <p:spPr>
            <a:xfrm>
              <a:off x="969840" y="3114360"/>
              <a:ext cx="38160" cy="42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Oval 99"/>
            <p:cNvSpPr/>
            <p:nvPr/>
          </p:nvSpPr>
          <p:spPr>
            <a:xfrm>
              <a:off x="5694480" y="1328400"/>
              <a:ext cx="38160" cy="41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Oval 100"/>
            <p:cNvSpPr/>
            <p:nvPr/>
          </p:nvSpPr>
          <p:spPr>
            <a:xfrm>
              <a:off x="5694480" y="3103560"/>
              <a:ext cx="38160" cy="42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101"/>
            <p:cNvSpPr/>
            <p:nvPr/>
          </p:nvSpPr>
          <p:spPr>
            <a:xfrm>
              <a:off x="846000" y="1422360"/>
              <a:ext cx="13032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102"/>
            <p:cNvSpPr/>
            <p:nvPr/>
          </p:nvSpPr>
          <p:spPr>
            <a:xfrm>
              <a:off x="5392800" y="1452240"/>
              <a:ext cx="208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103"/>
            <p:cNvSpPr/>
            <p:nvPr/>
          </p:nvSpPr>
          <p:spPr>
            <a:xfrm>
              <a:off x="5703840" y="1400040"/>
              <a:ext cx="15552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104"/>
            <p:cNvSpPr/>
            <p:nvPr/>
          </p:nvSpPr>
          <p:spPr>
            <a:xfrm>
              <a:off x="5722920" y="1089000"/>
              <a:ext cx="20808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105"/>
            <p:cNvSpPr/>
            <p:nvPr/>
          </p:nvSpPr>
          <p:spPr>
            <a:xfrm>
              <a:off x="5742000" y="3176280"/>
              <a:ext cx="208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106"/>
            <p:cNvSpPr/>
            <p:nvPr/>
          </p:nvSpPr>
          <p:spPr>
            <a:xfrm>
              <a:off x="3081240" y="1358640"/>
              <a:ext cx="76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07"/>
            <p:cNvSpPr/>
            <p:nvPr/>
          </p:nvSpPr>
          <p:spPr>
            <a:xfrm>
              <a:off x="2921040" y="1422360"/>
              <a:ext cx="209520" cy="1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08"/>
            <p:cNvSpPr/>
            <p:nvPr/>
          </p:nvSpPr>
          <p:spPr>
            <a:xfrm>
              <a:off x="743040" y="2158920"/>
              <a:ext cx="20772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09"/>
            <p:cNvSpPr/>
            <p:nvPr/>
          </p:nvSpPr>
          <p:spPr>
            <a:xfrm>
              <a:off x="5742000" y="2158920"/>
              <a:ext cx="20808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110"/>
            <p:cNvSpPr/>
            <p:nvPr/>
          </p:nvSpPr>
          <p:spPr>
            <a:xfrm>
              <a:off x="3224160" y="178560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111"/>
            <p:cNvSpPr/>
            <p:nvPr/>
          </p:nvSpPr>
          <p:spPr>
            <a:xfrm>
              <a:off x="4091040" y="1795320"/>
              <a:ext cx="14292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112"/>
            <p:cNvSpPr/>
            <p:nvPr/>
          </p:nvSpPr>
          <p:spPr>
            <a:xfrm>
              <a:off x="3195720" y="2106360"/>
              <a:ext cx="18900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113"/>
            <p:cNvSpPr/>
            <p:nvPr/>
          </p:nvSpPr>
          <p:spPr>
            <a:xfrm>
              <a:off x="4138560" y="2138040"/>
              <a:ext cx="208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114"/>
            <p:cNvSpPr/>
            <p:nvPr/>
          </p:nvSpPr>
          <p:spPr>
            <a:xfrm>
              <a:off x="2374920" y="2604960"/>
              <a:ext cx="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Line 115"/>
            <p:cNvSpPr/>
            <p:nvPr/>
          </p:nvSpPr>
          <p:spPr>
            <a:xfrm>
              <a:off x="2789280" y="2604960"/>
              <a:ext cx="144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116"/>
            <p:cNvSpPr/>
            <p:nvPr/>
          </p:nvSpPr>
          <p:spPr>
            <a:xfrm>
              <a:off x="2082960" y="2574720"/>
              <a:ext cx="20772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117"/>
            <p:cNvSpPr/>
            <p:nvPr/>
          </p:nvSpPr>
          <p:spPr>
            <a:xfrm>
              <a:off x="2855880" y="2574720"/>
              <a:ext cx="20808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3" name="Group 118"/>
            <p:cNvGrpSpPr/>
            <p:nvPr/>
          </p:nvGrpSpPr>
          <p:grpSpPr>
            <a:xfrm>
              <a:off x="3547800" y="1895040"/>
              <a:ext cx="363240" cy="671040"/>
              <a:chOff x="3547800" y="1895040"/>
              <a:chExt cx="363240" cy="671040"/>
            </a:xfrm>
          </p:grpSpPr>
          <p:sp>
            <p:nvSpPr>
              <p:cNvPr id="1214" name="Arc 119"/>
              <p:cNvSpPr/>
              <p:nvPr/>
            </p:nvSpPr>
            <p:spPr>
              <a:xfrm rot="21496800">
                <a:off x="3557520" y="1898280"/>
                <a:ext cx="240840" cy="653400"/>
              </a:xfrm>
              <a:custGeom>
                <a:avLst/>
                <a:gdLst/>
                <a:ahLst/>
                <a:rect l="l" t="t" r="r" b="b"/>
                <a:pathLst>
                  <a:path fill="none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</a:path>
                  <a:path stroke="0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  <a:lnTo>
                      <a:pt x="772" y="21600"/>
                    </a:lnTo>
                    <a:lnTo>
                      <a:pt x="77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Arc 120"/>
              <p:cNvSpPr/>
              <p:nvPr/>
            </p:nvSpPr>
            <p:spPr>
              <a:xfrm flipH="1" rot="103200">
                <a:off x="3659760" y="1909080"/>
                <a:ext cx="240840" cy="653400"/>
              </a:xfrm>
              <a:custGeom>
                <a:avLst/>
                <a:gdLst/>
                <a:ahLst/>
                <a:rect l="l" t="t" r="r" b="b"/>
                <a:pathLst>
                  <a:path fill="none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</a:path>
                  <a:path stroke="0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  <a:lnTo>
                      <a:pt x="772" y="21600"/>
                    </a:lnTo>
                    <a:lnTo>
                      <a:pt x="77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Rectangle 124"/>
            <p:cNvSpPr/>
            <p:nvPr/>
          </p:nvSpPr>
          <p:spPr>
            <a:xfrm>
              <a:off x="820800" y="2793960"/>
              <a:ext cx="1299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125"/>
            <p:cNvSpPr/>
            <p:nvPr/>
          </p:nvSpPr>
          <p:spPr>
            <a:xfrm>
              <a:off x="5748480" y="2819160"/>
              <a:ext cx="1299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Text Box 3"/>
          <p:cNvSpPr/>
          <p:nvPr/>
        </p:nvSpPr>
        <p:spPr>
          <a:xfrm>
            <a:off x="1219320" y="1778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IDUZIONE A PRI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Group 256"/>
          <p:cNvGrpSpPr/>
          <p:nvPr/>
        </p:nvGrpSpPr>
        <p:grpSpPr>
          <a:xfrm>
            <a:off x="1327320" y="914400"/>
            <a:ext cx="3108240" cy="2178000"/>
            <a:chOff x="1327320" y="914400"/>
            <a:chExt cx="3108240" cy="2178000"/>
          </a:xfrm>
        </p:grpSpPr>
        <p:sp>
          <p:nvSpPr>
            <p:cNvPr id="1220" name="Freeform 224"/>
            <p:cNvSpPr/>
            <p:nvPr/>
          </p:nvSpPr>
          <p:spPr>
            <a:xfrm>
              <a:off x="1624320" y="1193760"/>
              <a:ext cx="582480" cy="48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75" y="0"/>
                  </a:lnTo>
                  <a:lnTo>
                    <a:pt x="19975" y="199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25"/>
            <p:cNvSpPr/>
            <p:nvPr/>
          </p:nvSpPr>
          <p:spPr>
            <a:xfrm>
              <a:off x="1667160" y="2293920"/>
              <a:ext cx="539640" cy="519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3"/>
                  </a:moveTo>
                  <a:lnTo>
                    <a:pt x="19783" y="19973"/>
                  </a:lnTo>
                  <a:lnTo>
                    <a:pt x="19783" y="373"/>
                  </a:lnTo>
                  <a:lnTo>
                    <a:pt x="1997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26"/>
            <p:cNvSpPr/>
            <p:nvPr/>
          </p:nvSpPr>
          <p:spPr>
            <a:xfrm>
              <a:off x="2611440" y="1193760"/>
              <a:ext cx="658800" cy="48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2"/>
                  </a:moveTo>
                  <a:lnTo>
                    <a:pt x="0" y="0"/>
                  </a:lnTo>
                  <a:lnTo>
                    <a:pt x="199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27"/>
            <p:cNvSpPr/>
            <p:nvPr/>
          </p:nvSpPr>
          <p:spPr>
            <a:xfrm>
              <a:off x="2611440" y="2293920"/>
              <a:ext cx="671760" cy="507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73"/>
                  </a:lnTo>
                  <a:lnTo>
                    <a:pt x="19978" y="1997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228"/>
            <p:cNvSpPr/>
            <p:nvPr/>
          </p:nvSpPr>
          <p:spPr>
            <a:xfrm>
              <a:off x="2205360" y="935280"/>
              <a:ext cx="46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: 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Oval 229"/>
            <p:cNvSpPr/>
            <p:nvPr/>
          </p:nvSpPr>
          <p:spPr>
            <a:xfrm>
              <a:off x="2238480" y="1319400"/>
              <a:ext cx="44640" cy="41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Oval 230"/>
            <p:cNvSpPr/>
            <p:nvPr/>
          </p:nvSpPr>
          <p:spPr>
            <a:xfrm>
              <a:off x="2535480" y="1319400"/>
              <a:ext cx="44280" cy="41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231"/>
            <p:cNvSpPr/>
            <p:nvPr/>
          </p:nvSpPr>
          <p:spPr>
            <a:xfrm>
              <a:off x="3006720" y="119376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232"/>
            <p:cNvSpPr/>
            <p:nvPr/>
          </p:nvSpPr>
          <p:spPr>
            <a:xfrm>
              <a:off x="1756080" y="1266840"/>
              <a:ext cx="24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233"/>
            <p:cNvSpPr/>
            <p:nvPr/>
          </p:nvSpPr>
          <p:spPr>
            <a:xfrm>
              <a:off x="1382760" y="2894040"/>
              <a:ext cx="24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234"/>
            <p:cNvSpPr/>
            <p:nvPr/>
          </p:nvSpPr>
          <p:spPr>
            <a:xfrm>
              <a:off x="1327320" y="914400"/>
              <a:ext cx="24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Oval 235"/>
            <p:cNvSpPr/>
            <p:nvPr/>
          </p:nvSpPr>
          <p:spPr>
            <a:xfrm>
              <a:off x="1590840" y="1173240"/>
              <a:ext cx="44280" cy="42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Oval 236"/>
            <p:cNvSpPr/>
            <p:nvPr/>
          </p:nvSpPr>
          <p:spPr>
            <a:xfrm>
              <a:off x="1646280" y="2801880"/>
              <a:ext cx="44640" cy="41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Oval 237"/>
            <p:cNvSpPr/>
            <p:nvPr/>
          </p:nvSpPr>
          <p:spPr>
            <a:xfrm>
              <a:off x="3248280" y="1173240"/>
              <a:ext cx="46080" cy="42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Oval 238"/>
            <p:cNvSpPr/>
            <p:nvPr/>
          </p:nvSpPr>
          <p:spPr>
            <a:xfrm>
              <a:off x="3248280" y="2781360"/>
              <a:ext cx="46080" cy="41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239"/>
            <p:cNvSpPr/>
            <p:nvPr/>
          </p:nvSpPr>
          <p:spPr>
            <a:xfrm>
              <a:off x="2941920" y="1257480"/>
              <a:ext cx="2412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240"/>
            <p:cNvSpPr/>
            <p:nvPr/>
          </p:nvSpPr>
          <p:spPr>
            <a:xfrm>
              <a:off x="3292560" y="1235160"/>
              <a:ext cx="16524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241"/>
            <p:cNvSpPr/>
            <p:nvPr/>
          </p:nvSpPr>
          <p:spPr>
            <a:xfrm>
              <a:off x="3303720" y="925560"/>
              <a:ext cx="2430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242"/>
            <p:cNvSpPr/>
            <p:nvPr/>
          </p:nvSpPr>
          <p:spPr>
            <a:xfrm>
              <a:off x="3337200" y="2873520"/>
              <a:ext cx="24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243"/>
            <p:cNvSpPr/>
            <p:nvPr/>
          </p:nvSpPr>
          <p:spPr>
            <a:xfrm>
              <a:off x="1766880" y="1193760"/>
              <a:ext cx="87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244"/>
            <p:cNvSpPr/>
            <p:nvPr/>
          </p:nvSpPr>
          <p:spPr>
            <a:xfrm>
              <a:off x="1327320" y="1857600"/>
              <a:ext cx="24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245"/>
            <p:cNvSpPr/>
            <p:nvPr/>
          </p:nvSpPr>
          <p:spPr>
            <a:xfrm>
              <a:off x="3380040" y="1920960"/>
              <a:ext cx="2426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246"/>
            <p:cNvSpPr/>
            <p:nvPr/>
          </p:nvSpPr>
          <p:spPr>
            <a:xfrm>
              <a:off x="1403640" y="1204920"/>
              <a:ext cx="1666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3" name="Group 247"/>
            <p:cNvGrpSpPr/>
            <p:nvPr/>
          </p:nvGrpSpPr>
          <p:grpSpPr>
            <a:xfrm>
              <a:off x="2193120" y="1667520"/>
              <a:ext cx="421200" cy="628920"/>
              <a:chOff x="2193120" y="1667520"/>
              <a:chExt cx="421200" cy="628920"/>
            </a:xfrm>
          </p:grpSpPr>
          <p:sp>
            <p:nvSpPr>
              <p:cNvPr id="1244" name="Arc 248"/>
              <p:cNvSpPr/>
              <p:nvPr/>
            </p:nvSpPr>
            <p:spPr>
              <a:xfrm rot="21496800">
                <a:off x="2202120" y="1671480"/>
                <a:ext cx="281880" cy="610200"/>
              </a:xfrm>
              <a:custGeom>
                <a:avLst/>
                <a:gdLst/>
                <a:ahLst/>
                <a:rect l="l" t="t" r="r" b="b"/>
                <a:pathLst>
                  <a:path fill="none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</a:path>
                  <a:path stroke="0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  <a:lnTo>
                      <a:pt x="772" y="21600"/>
                    </a:lnTo>
                    <a:lnTo>
                      <a:pt x="77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Arc 249"/>
              <p:cNvSpPr/>
              <p:nvPr/>
            </p:nvSpPr>
            <p:spPr>
              <a:xfrm flipH="1" rot="103200">
                <a:off x="2322360" y="1681560"/>
                <a:ext cx="281880" cy="610560"/>
              </a:xfrm>
              <a:custGeom>
                <a:avLst/>
                <a:gdLst/>
                <a:ahLst/>
                <a:rect l="l" t="t" r="r" b="b"/>
                <a:pathLst>
                  <a:path fill="none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</a:path>
                  <a:path stroke="0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  <a:lnTo>
                      <a:pt x="772" y="21600"/>
                    </a:lnTo>
                    <a:lnTo>
                      <a:pt x="77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6" name="Rectangle 250"/>
            <p:cNvSpPr/>
            <p:nvPr/>
          </p:nvSpPr>
          <p:spPr>
            <a:xfrm>
              <a:off x="3873600" y="1638360"/>
              <a:ext cx="190440" cy="71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51"/>
            <p:cNvSpPr/>
            <p:nvPr/>
          </p:nvSpPr>
          <p:spPr>
            <a:xfrm>
              <a:off x="3264120" y="1193760"/>
              <a:ext cx="711000" cy="432000"/>
            </a:xfrm>
            <a:custGeom>
              <a:avLst/>
              <a:gdLst/>
              <a:ahLst/>
              <a:rect l="l" t="t" r="r" b="b"/>
              <a:pathLst>
                <a:path w="432" h="256">
                  <a:moveTo>
                    <a:pt x="0" y="0"/>
                  </a:moveTo>
                  <a:lnTo>
                    <a:pt x="432" y="0"/>
                  </a:lnTo>
                  <a:lnTo>
                    <a:pt x="432" y="2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52"/>
            <p:cNvSpPr/>
            <p:nvPr/>
          </p:nvSpPr>
          <p:spPr>
            <a:xfrm flipV="1">
              <a:off x="3289320" y="2349720"/>
              <a:ext cx="685800" cy="444240"/>
            </a:xfrm>
            <a:custGeom>
              <a:avLst/>
              <a:gdLst/>
              <a:ahLst/>
              <a:rect l="l" t="t" r="r" b="b"/>
              <a:pathLst>
                <a:path w="432" h="256">
                  <a:moveTo>
                    <a:pt x="0" y="0"/>
                  </a:moveTo>
                  <a:lnTo>
                    <a:pt x="432" y="0"/>
                  </a:lnTo>
                  <a:lnTo>
                    <a:pt x="432" y="2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253"/>
            <p:cNvSpPr/>
            <p:nvPr/>
          </p:nvSpPr>
          <p:spPr>
            <a:xfrm>
              <a:off x="3318120" y="2492280"/>
              <a:ext cx="1648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254"/>
            <p:cNvSpPr/>
            <p:nvPr/>
          </p:nvSpPr>
          <p:spPr>
            <a:xfrm>
              <a:off x="1489320" y="2568600"/>
              <a:ext cx="1648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255"/>
            <p:cNvSpPr/>
            <p:nvPr/>
          </p:nvSpPr>
          <p:spPr>
            <a:xfrm>
              <a:off x="4192920" y="1946520"/>
              <a:ext cx="24264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AutoShape 257"/>
          <p:cNvSpPr/>
          <p:nvPr/>
        </p:nvSpPr>
        <p:spPr>
          <a:xfrm>
            <a:off x="4521240" y="1752480"/>
            <a:ext cx="711000" cy="355680"/>
          </a:xfrm>
          <a:prstGeom prst="rightArrow">
            <a:avLst>
              <a:gd name="adj1" fmla="val 50000"/>
              <a:gd name="adj2" fmla="val 499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Group 295"/>
          <p:cNvGrpSpPr/>
          <p:nvPr/>
        </p:nvGrpSpPr>
        <p:grpSpPr>
          <a:xfrm>
            <a:off x="5551560" y="1120680"/>
            <a:ext cx="2398680" cy="1822680"/>
            <a:chOff x="5551560" y="1120680"/>
            <a:chExt cx="2398680" cy="1822680"/>
          </a:xfrm>
        </p:grpSpPr>
        <p:grpSp>
          <p:nvGrpSpPr>
            <p:cNvPr id="1254" name="Group 291"/>
            <p:cNvGrpSpPr/>
            <p:nvPr/>
          </p:nvGrpSpPr>
          <p:grpSpPr>
            <a:xfrm>
              <a:off x="5994720" y="1231920"/>
              <a:ext cx="799560" cy="1600200"/>
              <a:chOff x="5994720" y="1231920"/>
              <a:chExt cx="799560" cy="1600200"/>
            </a:xfrm>
          </p:grpSpPr>
          <p:sp>
            <p:nvSpPr>
              <p:cNvPr id="1255" name="Rectangle 285"/>
              <p:cNvSpPr/>
              <p:nvPr/>
            </p:nvSpPr>
            <p:spPr>
              <a:xfrm>
                <a:off x="6603840" y="1676520"/>
                <a:ext cx="190440" cy="711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286"/>
              <p:cNvSpPr/>
              <p:nvPr/>
            </p:nvSpPr>
            <p:spPr>
              <a:xfrm>
                <a:off x="5994720" y="1231920"/>
                <a:ext cx="711000" cy="432000"/>
              </a:xfrm>
              <a:custGeom>
                <a:avLst/>
                <a:gdLst/>
                <a:ahLst/>
                <a:rect l="l" t="t" r="r" b="b"/>
                <a:pathLst>
                  <a:path w="432" h="256">
                    <a:moveTo>
                      <a:pt x="0" y="0"/>
                    </a:moveTo>
                    <a:lnTo>
                      <a:pt x="432" y="0"/>
                    </a:lnTo>
                    <a:lnTo>
                      <a:pt x="432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287"/>
              <p:cNvSpPr/>
              <p:nvPr/>
            </p:nvSpPr>
            <p:spPr>
              <a:xfrm flipV="1">
                <a:off x="6019920" y="2387880"/>
                <a:ext cx="685440" cy="444240"/>
              </a:xfrm>
              <a:custGeom>
                <a:avLst/>
                <a:gdLst/>
                <a:ahLst/>
                <a:rect l="l" t="t" r="r" b="b"/>
                <a:pathLst>
                  <a:path w="432" h="256">
                    <a:moveTo>
                      <a:pt x="0" y="0"/>
                    </a:moveTo>
                    <a:lnTo>
                      <a:pt x="432" y="0"/>
                    </a:lnTo>
                    <a:lnTo>
                      <a:pt x="432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8" name="Rectangle 290"/>
            <p:cNvSpPr/>
            <p:nvPr/>
          </p:nvSpPr>
          <p:spPr>
            <a:xfrm>
              <a:off x="5551560" y="1120680"/>
              <a:ext cx="2430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292"/>
            <p:cNvSpPr/>
            <p:nvPr/>
          </p:nvSpPr>
          <p:spPr>
            <a:xfrm>
              <a:off x="5602320" y="2746440"/>
              <a:ext cx="2430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293"/>
            <p:cNvSpPr/>
            <p:nvPr/>
          </p:nvSpPr>
          <p:spPr>
            <a:xfrm>
              <a:off x="6910560" y="1971720"/>
              <a:ext cx="2430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1" name="Object 294"/>
                <p:cNvSpPr txBox="1"/>
                <p:nvPr/>
              </p:nvSpPr>
              <p:spPr>
                <a:xfrm>
                  <a:off x="7086600" y="1752840"/>
                  <a:ext cx="86364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62" name="Rectangle 397"/>
          <p:cNvSpPr/>
          <p:nvPr/>
        </p:nvSpPr>
        <p:spPr>
          <a:xfrm>
            <a:off x="5562720" y="3188160"/>
            <a:ext cx="358128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23960" indent="-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istenza secondaria ridotta a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d1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ttanza di dispersione secondaria ridotta a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rrente secondaria ridotta a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nsione secondaria ridotta a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3" name="Object 401"/>
              <p:cNvSpPr txBox="1"/>
              <p:nvPr/>
            </p:nvSpPr>
            <p:spPr>
              <a:xfrm>
                <a:off x="1400040" y="6008760"/>
                <a:ext cx="1043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Object 400"/>
              <p:cNvSpPr txBox="1"/>
              <p:nvPr/>
            </p:nvSpPr>
            <p:spPr>
              <a:xfrm>
                <a:off x="3106800" y="6046920"/>
                <a:ext cx="12715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Object 399"/>
              <p:cNvSpPr txBox="1"/>
              <p:nvPr/>
            </p:nvSpPr>
            <p:spPr>
              <a:xfrm>
                <a:off x="5130720" y="6086520"/>
                <a:ext cx="7444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Object 398"/>
              <p:cNvSpPr txBox="1"/>
              <p:nvPr/>
            </p:nvSpPr>
            <p:spPr>
              <a:xfrm>
                <a:off x="6634080" y="6089760"/>
                <a:ext cx="889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67" name="Group 424"/>
          <p:cNvGrpSpPr/>
          <p:nvPr/>
        </p:nvGrpSpPr>
        <p:grpSpPr>
          <a:xfrm>
            <a:off x="895320" y="3273480"/>
            <a:ext cx="4429080" cy="2400120"/>
            <a:chOff x="895320" y="3273480"/>
            <a:chExt cx="4429080" cy="2400120"/>
          </a:xfrm>
        </p:grpSpPr>
        <p:sp>
          <p:nvSpPr>
            <p:cNvPr id="1268" name="Freeform 297"/>
            <p:cNvSpPr/>
            <p:nvPr/>
          </p:nvSpPr>
          <p:spPr>
            <a:xfrm>
              <a:off x="2546280" y="4230720"/>
              <a:ext cx="246240" cy="652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9252" y="0"/>
                  </a:moveTo>
                  <a:lnTo>
                    <a:pt x="9252" y="5137"/>
                  </a:lnTo>
                  <a:lnTo>
                    <a:pt x="19945" y="6490"/>
                  </a:lnTo>
                  <a:lnTo>
                    <a:pt x="0" y="8097"/>
                  </a:lnTo>
                  <a:lnTo>
                    <a:pt x="19224" y="9450"/>
                  </a:lnTo>
                  <a:lnTo>
                    <a:pt x="0" y="11332"/>
                  </a:lnTo>
                  <a:lnTo>
                    <a:pt x="19945" y="12685"/>
                  </a:lnTo>
                  <a:lnTo>
                    <a:pt x="0" y="14841"/>
                  </a:lnTo>
                  <a:lnTo>
                    <a:pt x="9252" y="15941"/>
                  </a:lnTo>
                  <a:lnTo>
                    <a:pt x="9252" y="1997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Group 298"/>
            <p:cNvGrpSpPr/>
            <p:nvPr/>
          </p:nvGrpSpPr>
          <p:grpSpPr>
            <a:xfrm>
              <a:off x="2951280" y="4223880"/>
              <a:ext cx="255600" cy="652680"/>
              <a:chOff x="2951280" y="4223880"/>
              <a:chExt cx="255600" cy="652680"/>
            </a:xfrm>
          </p:grpSpPr>
          <p:sp>
            <p:nvSpPr>
              <p:cNvPr id="1270" name="Arc 299"/>
              <p:cNvSpPr/>
              <p:nvPr/>
            </p:nvSpPr>
            <p:spPr>
              <a:xfrm>
                <a:off x="3117960" y="4320720"/>
                <a:ext cx="88920" cy="64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Group 300"/>
              <p:cNvGrpSpPr/>
              <p:nvPr/>
            </p:nvGrpSpPr>
            <p:grpSpPr>
              <a:xfrm>
                <a:off x="2956680" y="4362840"/>
                <a:ext cx="250200" cy="128160"/>
                <a:chOff x="2956680" y="4362840"/>
                <a:chExt cx="250200" cy="128160"/>
              </a:xfrm>
            </p:grpSpPr>
            <p:sp>
              <p:nvSpPr>
                <p:cNvPr id="1272" name="Arc 301"/>
                <p:cNvSpPr/>
                <p:nvPr/>
              </p:nvSpPr>
              <p:spPr>
                <a:xfrm flipV="1">
                  <a:off x="3108960" y="4390200"/>
                  <a:ext cx="97920" cy="49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Arc 302"/>
                <p:cNvSpPr/>
                <p:nvPr/>
              </p:nvSpPr>
              <p:spPr>
                <a:xfrm flipH="1" flipV="1">
                  <a:off x="2962440" y="4399200"/>
                  <a:ext cx="129960" cy="37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Arc 303"/>
                <p:cNvSpPr/>
                <p:nvPr/>
              </p:nvSpPr>
              <p:spPr>
                <a:xfrm flipH="1">
                  <a:off x="2956680" y="4362840"/>
                  <a:ext cx="85680" cy="424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Arc 304"/>
                <p:cNvSpPr/>
                <p:nvPr/>
              </p:nvSpPr>
              <p:spPr>
                <a:xfrm>
                  <a:off x="3042360" y="4362840"/>
                  <a:ext cx="164520" cy="128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6" name="Group 305"/>
              <p:cNvGrpSpPr/>
              <p:nvPr/>
            </p:nvGrpSpPr>
            <p:grpSpPr>
              <a:xfrm>
                <a:off x="2954520" y="4475520"/>
                <a:ext cx="249120" cy="128160"/>
                <a:chOff x="2954520" y="4475520"/>
                <a:chExt cx="249120" cy="128160"/>
              </a:xfrm>
            </p:grpSpPr>
            <p:sp>
              <p:nvSpPr>
                <p:cNvPr id="1277" name="Arc 306"/>
                <p:cNvSpPr/>
                <p:nvPr/>
              </p:nvSpPr>
              <p:spPr>
                <a:xfrm flipV="1">
                  <a:off x="3105720" y="4501440"/>
                  <a:ext cx="97920" cy="49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Arc 307"/>
                <p:cNvSpPr/>
                <p:nvPr/>
              </p:nvSpPr>
              <p:spPr>
                <a:xfrm flipH="1" flipV="1">
                  <a:off x="2959920" y="4512600"/>
                  <a:ext cx="129960" cy="37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Arc 308"/>
                <p:cNvSpPr/>
                <p:nvPr/>
              </p:nvSpPr>
              <p:spPr>
                <a:xfrm flipH="1">
                  <a:off x="2954520" y="4475520"/>
                  <a:ext cx="85680" cy="424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Arc 309"/>
                <p:cNvSpPr/>
                <p:nvPr/>
              </p:nvSpPr>
              <p:spPr>
                <a:xfrm>
                  <a:off x="3038760" y="4475520"/>
                  <a:ext cx="164520" cy="128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1" name="Group 310"/>
              <p:cNvGrpSpPr/>
              <p:nvPr/>
            </p:nvGrpSpPr>
            <p:grpSpPr>
              <a:xfrm>
                <a:off x="2951280" y="4592520"/>
                <a:ext cx="249480" cy="128160"/>
                <a:chOff x="2951280" y="4592520"/>
                <a:chExt cx="249480" cy="128160"/>
              </a:xfrm>
            </p:grpSpPr>
            <p:sp>
              <p:nvSpPr>
                <p:cNvPr id="1282" name="Arc 311"/>
                <p:cNvSpPr/>
                <p:nvPr/>
              </p:nvSpPr>
              <p:spPr>
                <a:xfrm flipV="1">
                  <a:off x="3102840" y="4619160"/>
                  <a:ext cx="97920" cy="49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Arc 312"/>
                <p:cNvSpPr/>
                <p:nvPr/>
              </p:nvSpPr>
              <p:spPr>
                <a:xfrm flipH="1" flipV="1">
                  <a:off x="2957400" y="4630320"/>
                  <a:ext cx="129600" cy="37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Arc 313"/>
                <p:cNvSpPr/>
                <p:nvPr/>
              </p:nvSpPr>
              <p:spPr>
                <a:xfrm flipH="1">
                  <a:off x="2951280" y="4592520"/>
                  <a:ext cx="85680" cy="42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Arc 314"/>
                <p:cNvSpPr/>
                <p:nvPr/>
              </p:nvSpPr>
              <p:spPr>
                <a:xfrm>
                  <a:off x="3036240" y="4592520"/>
                  <a:ext cx="164520" cy="128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6" name="Arc 315"/>
              <p:cNvSpPr/>
              <p:nvPr/>
            </p:nvSpPr>
            <p:spPr>
              <a:xfrm flipV="1">
                <a:off x="3121920" y="4717080"/>
                <a:ext cx="78840" cy="58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Line 316"/>
              <p:cNvSpPr/>
              <p:nvPr/>
            </p:nvSpPr>
            <p:spPr>
              <a:xfrm flipV="1">
                <a:off x="3117960" y="4223880"/>
                <a:ext cx="36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Line 317"/>
              <p:cNvSpPr/>
              <p:nvPr/>
            </p:nvSpPr>
            <p:spPr>
              <a:xfrm flipV="1">
                <a:off x="3117960" y="4784760"/>
                <a:ext cx="36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9" name="Group 318"/>
            <p:cNvGrpSpPr/>
            <p:nvPr/>
          </p:nvGrpSpPr>
          <p:grpSpPr>
            <a:xfrm>
              <a:off x="3432240" y="3532320"/>
              <a:ext cx="1278000" cy="299520"/>
              <a:chOff x="3432240" y="3532320"/>
              <a:chExt cx="1278000" cy="299520"/>
            </a:xfrm>
          </p:grpSpPr>
          <p:sp>
            <p:nvSpPr>
              <p:cNvPr id="1290" name="Freeform 319"/>
              <p:cNvSpPr/>
              <p:nvPr/>
            </p:nvSpPr>
            <p:spPr>
              <a:xfrm>
                <a:off x="3432240" y="3532320"/>
                <a:ext cx="644040" cy="248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0693"/>
                    </a:moveTo>
                    <a:lnTo>
                      <a:pt x="5137" y="10693"/>
                    </a:lnTo>
                    <a:lnTo>
                      <a:pt x="6490" y="0"/>
                    </a:lnTo>
                    <a:lnTo>
                      <a:pt x="8097" y="19945"/>
                    </a:lnTo>
                    <a:lnTo>
                      <a:pt x="9450" y="720"/>
                    </a:lnTo>
                    <a:lnTo>
                      <a:pt x="11332" y="19945"/>
                    </a:lnTo>
                    <a:lnTo>
                      <a:pt x="12685" y="0"/>
                    </a:lnTo>
                    <a:lnTo>
                      <a:pt x="14841" y="19945"/>
                    </a:lnTo>
                    <a:lnTo>
                      <a:pt x="15941" y="10693"/>
                    </a:lnTo>
                    <a:lnTo>
                      <a:pt x="19979" y="106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1" name="Group 320"/>
              <p:cNvGrpSpPr/>
              <p:nvPr/>
            </p:nvGrpSpPr>
            <p:grpSpPr>
              <a:xfrm>
                <a:off x="4065480" y="3573360"/>
                <a:ext cx="644760" cy="258480"/>
                <a:chOff x="4065480" y="3573360"/>
                <a:chExt cx="644760" cy="258480"/>
              </a:xfrm>
            </p:grpSpPr>
            <p:sp>
              <p:nvSpPr>
                <p:cNvPr id="1292" name="Arc 321"/>
                <p:cNvSpPr/>
                <p:nvPr/>
              </p:nvSpPr>
              <p:spPr>
                <a:xfrm flipH="1">
                  <a:off x="4160880" y="3573360"/>
                  <a:ext cx="633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3" name="Group 322"/>
                <p:cNvGrpSpPr/>
                <p:nvPr/>
              </p:nvGrpSpPr>
              <p:grpSpPr>
                <a:xfrm>
                  <a:off x="4201920" y="3573360"/>
                  <a:ext cx="127080" cy="253080"/>
                  <a:chOff x="4201920" y="3573360"/>
                  <a:chExt cx="127080" cy="253080"/>
                </a:xfrm>
              </p:grpSpPr>
              <p:sp>
                <p:nvSpPr>
                  <p:cNvPr id="1294" name="Arc 323"/>
                  <p:cNvSpPr/>
                  <p:nvPr/>
                </p:nvSpPr>
                <p:spPr>
                  <a:xfrm>
                    <a:off x="4229280" y="3573360"/>
                    <a:ext cx="489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Arc 324"/>
                  <p:cNvSpPr/>
                  <p:nvPr/>
                </p:nvSpPr>
                <p:spPr>
                  <a:xfrm flipV="1">
                    <a:off x="4239000" y="3687480"/>
                    <a:ext cx="367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Arc 325"/>
                  <p:cNvSpPr/>
                  <p:nvPr/>
                </p:nvSpPr>
                <p:spPr>
                  <a:xfrm flipH="1" flipV="1">
                    <a:off x="4201560" y="3739320"/>
                    <a:ext cx="4212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Arc 326"/>
                  <p:cNvSpPr/>
                  <p:nvPr/>
                </p:nvSpPr>
                <p:spPr>
                  <a:xfrm flipH="1">
                    <a:off x="4202280" y="3573360"/>
                    <a:ext cx="1267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8" name="Group 327"/>
                <p:cNvGrpSpPr/>
                <p:nvPr/>
              </p:nvGrpSpPr>
              <p:grpSpPr>
                <a:xfrm>
                  <a:off x="4313160" y="3576600"/>
                  <a:ext cx="127080" cy="251640"/>
                  <a:chOff x="4313160" y="3576600"/>
                  <a:chExt cx="127080" cy="251640"/>
                </a:xfrm>
              </p:grpSpPr>
              <p:sp>
                <p:nvSpPr>
                  <p:cNvPr id="1299" name="Arc 328"/>
                  <p:cNvSpPr/>
                  <p:nvPr/>
                </p:nvSpPr>
                <p:spPr>
                  <a:xfrm>
                    <a:off x="4339440" y="3576600"/>
                    <a:ext cx="489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Arc 329"/>
                  <p:cNvSpPr/>
                  <p:nvPr/>
                </p:nvSpPr>
                <p:spPr>
                  <a:xfrm flipV="1">
                    <a:off x="4350960" y="3690000"/>
                    <a:ext cx="367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Arc 330"/>
                  <p:cNvSpPr/>
                  <p:nvPr/>
                </p:nvSpPr>
                <p:spPr>
                  <a:xfrm flipH="1" flipV="1">
                    <a:off x="4312800" y="3741840"/>
                    <a:ext cx="4212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Arc 331"/>
                  <p:cNvSpPr/>
                  <p:nvPr/>
                </p:nvSpPr>
                <p:spPr>
                  <a:xfrm flipH="1">
                    <a:off x="4313520" y="3576600"/>
                    <a:ext cx="1267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3" name="Group 332"/>
                <p:cNvGrpSpPr/>
                <p:nvPr/>
              </p:nvGrpSpPr>
              <p:grpSpPr>
                <a:xfrm>
                  <a:off x="4429080" y="3579480"/>
                  <a:ext cx="127080" cy="252360"/>
                  <a:chOff x="4429080" y="3579480"/>
                  <a:chExt cx="127080" cy="252360"/>
                </a:xfrm>
              </p:grpSpPr>
              <p:sp>
                <p:nvSpPr>
                  <p:cNvPr id="1304" name="Arc 333"/>
                  <p:cNvSpPr/>
                  <p:nvPr/>
                </p:nvSpPr>
                <p:spPr>
                  <a:xfrm>
                    <a:off x="4455720" y="3579480"/>
                    <a:ext cx="489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Arc 334"/>
                  <p:cNvSpPr/>
                  <p:nvPr/>
                </p:nvSpPr>
                <p:spPr>
                  <a:xfrm flipV="1">
                    <a:off x="4467600" y="3694320"/>
                    <a:ext cx="36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Arc 335"/>
                  <p:cNvSpPr/>
                  <p:nvPr/>
                </p:nvSpPr>
                <p:spPr>
                  <a:xfrm flipH="1" flipV="1">
                    <a:off x="4428720" y="3745440"/>
                    <a:ext cx="4212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Arc 336"/>
                  <p:cNvSpPr/>
                  <p:nvPr/>
                </p:nvSpPr>
                <p:spPr>
                  <a:xfrm flipH="1">
                    <a:off x="4429440" y="3579480"/>
                    <a:ext cx="1267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8" name="Arc 337"/>
                <p:cNvSpPr/>
                <p:nvPr/>
              </p:nvSpPr>
              <p:spPr>
                <a:xfrm>
                  <a:off x="4552200" y="3579480"/>
                  <a:ext cx="57960" cy="79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Line 338"/>
                <p:cNvSpPr/>
                <p:nvPr/>
              </p:nvSpPr>
              <p:spPr>
                <a:xfrm flipH="1">
                  <a:off x="4065480" y="3663000"/>
                  <a:ext cx="907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339"/>
                <p:cNvSpPr/>
                <p:nvPr/>
              </p:nvSpPr>
              <p:spPr>
                <a:xfrm flipH="1">
                  <a:off x="4619520" y="3663000"/>
                  <a:ext cx="907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1" name="Rectangle 340"/>
            <p:cNvSpPr/>
            <p:nvPr/>
          </p:nvSpPr>
          <p:spPr>
            <a:xfrm>
              <a:off x="3646440" y="3273480"/>
              <a:ext cx="22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341"/>
            <p:cNvSpPr/>
            <p:nvPr/>
          </p:nvSpPr>
          <p:spPr>
            <a:xfrm>
              <a:off x="4199040" y="3273480"/>
              <a:ext cx="35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d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342"/>
            <p:cNvSpPr/>
            <p:nvPr/>
          </p:nvSpPr>
          <p:spPr>
            <a:xfrm>
              <a:off x="2665440" y="4008600"/>
              <a:ext cx="449280" cy="226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033"/>
                  </a:moveTo>
                  <a:lnTo>
                    <a:pt x="0" y="0"/>
                  </a:lnTo>
                  <a:lnTo>
                    <a:pt x="19970" y="0"/>
                  </a:lnTo>
                  <a:lnTo>
                    <a:pt x="19970" y="199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343"/>
            <p:cNvSpPr/>
            <p:nvPr/>
          </p:nvSpPr>
          <p:spPr>
            <a:xfrm>
              <a:off x="2665440" y="4876920"/>
              <a:ext cx="44928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906"/>
                  </a:moveTo>
                  <a:lnTo>
                    <a:pt x="0" y="19940"/>
                  </a:lnTo>
                  <a:lnTo>
                    <a:pt x="19970" y="19940"/>
                  </a:lnTo>
                  <a:lnTo>
                    <a:pt x="1997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344"/>
            <p:cNvSpPr/>
            <p:nvPr/>
          </p:nvSpPr>
          <p:spPr>
            <a:xfrm flipV="1">
              <a:off x="2889360" y="3676680"/>
              <a:ext cx="144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345"/>
            <p:cNvSpPr/>
            <p:nvPr/>
          </p:nvSpPr>
          <p:spPr>
            <a:xfrm flipV="1">
              <a:off x="2868480" y="5094000"/>
              <a:ext cx="1800" cy="33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346"/>
            <p:cNvSpPr/>
            <p:nvPr/>
          </p:nvSpPr>
          <p:spPr>
            <a:xfrm>
              <a:off x="2276640" y="4441680"/>
              <a:ext cx="245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347"/>
            <p:cNvSpPr/>
            <p:nvPr/>
          </p:nvSpPr>
          <p:spPr>
            <a:xfrm>
              <a:off x="3247920" y="4473720"/>
              <a:ext cx="2667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348"/>
            <p:cNvSpPr/>
            <p:nvPr/>
          </p:nvSpPr>
          <p:spPr>
            <a:xfrm>
              <a:off x="2603520" y="3666960"/>
              <a:ext cx="82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349"/>
            <p:cNvSpPr/>
            <p:nvPr/>
          </p:nvSpPr>
          <p:spPr>
            <a:xfrm flipH="1">
              <a:off x="1325160" y="5435640"/>
              <a:ext cx="154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350"/>
            <p:cNvSpPr/>
            <p:nvPr/>
          </p:nvSpPr>
          <p:spPr>
            <a:xfrm flipH="1">
              <a:off x="1171440" y="3666960"/>
              <a:ext cx="14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351"/>
            <p:cNvSpPr/>
            <p:nvPr/>
          </p:nvSpPr>
          <p:spPr>
            <a:xfrm flipH="1">
              <a:off x="1171440" y="5435640"/>
              <a:ext cx="14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352"/>
            <p:cNvSpPr/>
            <p:nvPr/>
          </p:nvSpPr>
          <p:spPr>
            <a:xfrm>
              <a:off x="1252440" y="3728880"/>
              <a:ext cx="22716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353"/>
            <p:cNvSpPr/>
            <p:nvPr/>
          </p:nvSpPr>
          <p:spPr>
            <a:xfrm>
              <a:off x="895320" y="5477040"/>
              <a:ext cx="2253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354"/>
            <p:cNvSpPr/>
            <p:nvPr/>
          </p:nvSpPr>
          <p:spPr>
            <a:xfrm>
              <a:off x="936720" y="3449520"/>
              <a:ext cx="22536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val 355"/>
            <p:cNvSpPr/>
            <p:nvPr/>
          </p:nvSpPr>
          <p:spPr>
            <a:xfrm>
              <a:off x="1141560" y="3646440"/>
              <a:ext cx="41040" cy="41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Oval 356"/>
            <p:cNvSpPr/>
            <p:nvPr/>
          </p:nvSpPr>
          <p:spPr>
            <a:xfrm>
              <a:off x="1141560" y="5415120"/>
              <a:ext cx="41040" cy="41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357"/>
            <p:cNvSpPr/>
            <p:nvPr/>
          </p:nvSpPr>
          <p:spPr>
            <a:xfrm>
              <a:off x="1008000" y="3728880"/>
              <a:ext cx="15408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358"/>
            <p:cNvSpPr/>
            <p:nvPr/>
          </p:nvSpPr>
          <p:spPr>
            <a:xfrm>
              <a:off x="895320" y="4462560"/>
              <a:ext cx="22536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359"/>
            <p:cNvSpPr/>
            <p:nvPr/>
          </p:nvSpPr>
          <p:spPr>
            <a:xfrm>
              <a:off x="4719600" y="3666960"/>
              <a:ext cx="30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Line 360"/>
            <p:cNvSpPr/>
            <p:nvPr/>
          </p:nvSpPr>
          <p:spPr>
            <a:xfrm>
              <a:off x="4822920" y="366696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361"/>
            <p:cNvSpPr/>
            <p:nvPr/>
          </p:nvSpPr>
          <p:spPr>
            <a:xfrm>
              <a:off x="5006880" y="3635280"/>
              <a:ext cx="41400" cy="42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Oval 362"/>
            <p:cNvSpPr/>
            <p:nvPr/>
          </p:nvSpPr>
          <p:spPr>
            <a:xfrm>
              <a:off x="5006880" y="5403960"/>
              <a:ext cx="41400" cy="42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363"/>
            <p:cNvSpPr/>
            <p:nvPr/>
          </p:nvSpPr>
          <p:spPr>
            <a:xfrm>
              <a:off x="4680000" y="3759120"/>
              <a:ext cx="22536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364"/>
            <p:cNvSpPr/>
            <p:nvPr/>
          </p:nvSpPr>
          <p:spPr>
            <a:xfrm>
              <a:off x="5016600" y="3708360"/>
              <a:ext cx="1537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365"/>
            <p:cNvSpPr/>
            <p:nvPr/>
          </p:nvSpPr>
          <p:spPr>
            <a:xfrm>
              <a:off x="5037120" y="3397320"/>
              <a:ext cx="28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366"/>
            <p:cNvSpPr/>
            <p:nvPr/>
          </p:nvSpPr>
          <p:spPr>
            <a:xfrm>
              <a:off x="5057640" y="5477040"/>
              <a:ext cx="22572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367"/>
            <p:cNvSpPr/>
            <p:nvPr/>
          </p:nvSpPr>
          <p:spPr>
            <a:xfrm>
              <a:off x="4965840" y="4473720"/>
              <a:ext cx="276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Line 368"/>
            <p:cNvSpPr/>
            <p:nvPr/>
          </p:nvSpPr>
          <p:spPr>
            <a:xfrm>
              <a:off x="2665440" y="4906800"/>
              <a:ext cx="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Line 369"/>
            <p:cNvSpPr/>
            <p:nvPr/>
          </p:nvSpPr>
          <p:spPr>
            <a:xfrm>
              <a:off x="3114720" y="4906800"/>
              <a:ext cx="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370"/>
            <p:cNvSpPr/>
            <p:nvPr/>
          </p:nvSpPr>
          <p:spPr>
            <a:xfrm>
              <a:off x="2347920" y="4876920"/>
              <a:ext cx="2253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371"/>
            <p:cNvSpPr/>
            <p:nvPr/>
          </p:nvSpPr>
          <p:spPr>
            <a:xfrm>
              <a:off x="3186000" y="4876920"/>
              <a:ext cx="2253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Line 372"/>
            <p:cNvSpPr/>
            <p:nvPr/>
          </p:nvSpPr>
          <p:spPr>
            <a:xfrm>
              <a:off x="2879640" y="5435640"/>
              <a:ext cx="215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4" name="Group 373"/>
            <p:cNvGrpSpPr/>
            <p:nvPr/>
          </p:nvGrpSpPr>
          <p:grpSpPr>
            <a:xfrm>
              <a:off x="1325520" y="3532320"/>
              <a:ext cx="1278000" cy="299520"/>
              <a:chOff x="1325520" y="3532320"/>
              <a:chExt cx="1278000" cy="299520"/>
            </a:xfrm>
          </p:grpSpPr>
          <p:sp>
            <p:nvSpPr>
              <p:cNvPr id="1345" name="Freeform 374"/>
              <p:cNvSpPr/>
              <p:nvPr/>
            </p:nvSpPr>
            <p:spPr>
              <a:xfrm>
                <a:off x="1325520" y="3532320"/>
                <a:ext cx="644040" cy="248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0693"/>
                    </a:moveTo>
                    <a:lnTo>
                      <a:pt x="5137" y="10693"/>
                    </a:lnTo>
                    <a:lnTo>
                      <a:pt x="6490" y="0"/>
                    </a:lnTo>
                    <a:lnTo>
                      <a:pt x="8097" y="19945"/>
                    </a:lnTo>
                    <a:lnTo>
                      <a:pt x="9450" y="720"/>
                    </a:lnTo>
                    <a:lnTo>
                      <a:pt x="11332" y="19945"/>
                    </a:lnTo>
                    <a:lnTo>
                      <a:pt x="12685" y="0"/>
                    </a:lnTo>
                    <a:lnTo>
                      <a:pt x="14841" y="19945"/>
                    </a:lnTo>
                    <a:lnTo>
                      <a:pt x="15941" y="10693"/>
                    </a:lnTo>
                    <a:lnTo>
                      <a:pt x="19979" y="106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6" name="Group 375"/>
              <p:cNvGrpSpPr/>
              <p:nvPr/>
            </p:nvGrpSpPr>
            <p:grpSpPr>
              <a:xfrm>
                <a:off x="1958760" y="3573360"/>
                <a:ext cx="644760" cy="258480"/>
                <a:chOff x="1958760" y="3573360"/>
                <a:chExt cx="644760" cy="258480"/>
              </a:xfrm>
            </p:grpSpPr>
            <p:sp>
              <p:nvSpPr>
                <p:cNvPr id="1347" name="Arc 376"/>
                <p:cNvSpPr/>
                <p:nvPr/>
              </p:nvSpPr>
              <p:spPr>
                <a:xfrm flipH="1">
                  <a:off x="2053800" y="3573360"/>
                  <a:ext cx="633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8" name="Group 377"/>
                <p:cNvGrpSpPr/>
                <p:nvPr/>
              </p:nvGrpSpPr>
              <p:grpSpPr>
                <a:xfrm>
                  <a:off x="2095200" y="3573360"/>
                  <a:ext cx="127080" cy="253080"/>
                  <a:chOff x="2095200" y="3573360"/>
                  <a:chExt cx="127080" cy="253080"/>
                </a:xfrm>
              </p:grpSpPr>
              <p:sp>
                <p:nvSpPr>
                  <p:cNvPr id="1349" name="Arc 378"/>
                  <p:cNvSpPr/>
                  <p:nvPr/>
                </p:nvSpPr>
                <p:spPr>
                  <a:xfrm>
                    <a:off x="2122920" y="3573360"/>
                    <a:ext cx="489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Arc 379"/>
                  <p:cNvSpPr/>
                  <p:nvPr/>
                </p:nvSpPr>
                <p:spPr>
                  <a:xfrm flipV="1">
                    <a:off x="2132280" y="3687480"/>
                    <a:ext cx="367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Arc 380"/>
                  <p:cNvSpPr/>
                  <p:nvPr/>
                </p:nvSpPr>
                <p:spPr>
                  <a:xfrm flipH="1" flipV="1">
                    <a:off x="2094840" y="3739320"/>
                    <a:ext cx="4212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Arc 381"/>
                  <p:cNvSpPr/>
                  <p:nvPr/>
                </p:nvSpPr>
                <p:spPr>
                  <a:xfrm flipH="1">
                    <a:off x="2095560" y="3573360"/>
                    <a:ext cx="1267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3" name="Group 382"/>
                <p:cNvGrpSpPr/>
                <p:nvPr/>
              </p:nvGrpSpPr>
              <p:grpSpPr>
                <a:xfrm>
                  <a:off x="2206440" y="3576600"/>
                  <a:ext cx="127080" cy="251640"/>
                  <a:chOff x="2206440" y="3576600"/>
                  <a:chExt cx="127080" cy="251640"/>
                </a:xfrm>
              </p:grpSpPr>
              <p:sp>
                <p:nvSpPr>
                  <p:cNvPr id="1354" name="Arc 383"/>
                  <p:cNvSpPr/>
                  <p:nvPr/>
                </p:nvSpPr>
                <p:spPr>
                  <a:xfrm>
                    <a:off x="2232720" y="3576600"/>
                    <a:ext cx="489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Arc 384"/>
                  <p:cNvSpPr/>
                  <p:nvPr/>
                </p:nvSpPr>
                <p:spPr>
                  <a:xfrm flipV="1">
                    <a:off x="2244240" y="3690000"/>
                    <a:ext cx="367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Arc 385"/>
                  <p:cNvSpPr/>
                  <p:nvPr/>
                </p:nvSpPr>
                <p:spPr>
                  <a:xfrm flipH="1" flipV="1">
                    <a:off x="2206080" y="3741840"/>
                    <a:ext cx="4212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Arc 386"/>
                  <p:cNvSpPr/>
                  <p:nvPr/>
                </p:nvSpPr>
                <p:spPr>
                  <a:xfrm flipH="1">
                    <a:off x="2206800" y="3576600"/>
                    <a:ext cx="1267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387"/>
                <p:cNvGrpSpPr/>
                <p:nvPr/>
              </p:nvGrpSpPr>
              <p:grpSpPr>
                <a:xfrm>
                  <a:off x="2322360" y="3579480"/>
                  <a:ext cx="127080" cy="252360"/>
                  <a:chOff x="2322360" y="3579480"/>
                  <a:chExt cx="127080" cy="252360"/>
                </a:xfrm>
              </p:grpSpPr>
              <p:sp>
                <p:nvSpPr>
                  <p:cNvPr id="1359" name="Arc 388"/>
                  <p:cNvSpPr/>
                  <p:nvPr/>
                </p:nvSpPr>
                <p:spPr>
                  <a:xfrm>
                    <a:off x="2349000" y="3579480"/>
                    <a:ext cx="489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Arc 389"/>
                  <p:cNvSpPr/>
                  <p:nvPr/>
                </p:nvSpPr>
                <p:spPr>
                  <a:xfrm flipV="1">
                    <a:off x="2360880" y="3694320"/>
                    <a:ext cx="36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Arc 390"/>
                  <p:cNvSpPr/>
                  <p:nvPr/>
                </p:nvSpPr>
                <p:spPr>
                  <a:xfrm flipH="1" flipV="1">
                    <a:off x="2322000" y="3745440"/>
                    <a:ext cx="4212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Arc 391"/>
                  <p:cNvSpPr/>
                  <p:nvPr/>
                </p:nvSpPr>
                <p:spPr>
                  <a:xfrm flipH="1">
                    <a:off x="2322720" y="3579480"/>
                    <a:ext cx="1267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3" name="Arc 392"/>
                <p:cNvSpPr/>
                <p:nvPr/>
              </p:nvSpPr>
              <p:spPr>
                <a:xfrm>
                  <a:off x="2445480" y="3579480"/>
                  <a:ext cx="57600" cy="79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393"/>
                <p:cNvSpPr/>
                <p:nvPr/>
              </p:nvSpPr>
              <p:spPr>
                <a:xfrm flipH="1">
                  <a:off x="1958760" y="3663000"/>
                  <a:ext cx="907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394"/>
                <p:cNvSpPr/>
                <p:nvPr/>
              </p:nvSpPr>
              <p:spPr>
                <a:xfrm flipH="1">
                  <a:off x="2512800" y="3663000"/>
                  <a:ext cx="907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6" name="Rectangle 395"/>
            <p:cNvSpPr/>
            <p:nvPr/>
          </p:nvSpPr>
          <p:spPr>
            <a:xfrm>
              <a:off x="2163600" y="3284640"/>
              <a:ext cx="2970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396"/>
            <p:cNvSpPr/>
            <p:nvPr/>
          </p:nvSpPr>
          <p:spPr>
            <a:xfrm>
              <a:off x="1560600" y="3273480"/>
              <a:ext cx="22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422"/>
            <p:cNvSpPr/>
            <p:nvPr/>
          </p:nvSpPr>
          <p:spPr>
            <a:xfrm>
              <a:off x="1033560" y="5151600"/>
              <a:ext cx="1537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423"/>
            <p:cNvSpPr/>
            <p:nvPr/>
          </p:nvSpPr>
          <p:spPr>
            <a:xfrm>
              <a:off x="5122800" y="5151600"/>
              <a:ext cx="1540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Text Box 2"/>
          <p:cNvSpPr/>
          <p:nvPr/>
        </p:nvSpPr>
        <p:spPr>
          <a:xfrm>
            <a:off x="1219320" y="1778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IRCUITO EQUIVALENTE SEMPLIF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3"/>
          <p:cNvSpPr/>
          <p:nvPr/>
        </p:nvSpPr>
        <p:spPr>
          <a:xfrm>
            <a:off x="5803920" y="2307600"/>
            <a:ext cx="33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ircui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ettrico equivalente del trasformatore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emplifi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Group 106"/>
          <p:cNvGrpSpPr/>
          <p:nvPr/>
        </p:nvGrpSpPr>
        <p:grpSpPr>
          <a:xfrm>
            <a:off x="336600" y="949320"/>
            <a:ext cx="5257440" cy="2209680"/>
            <a:chOff x="336600" y="949320"/>
            <a:chExt cx="5257440" cy="2209680"/>
          </a:xfrm>
        </p:grpSpPr>
        <p:grpSp>
          <p:nvGrpSpPr>
            <p:cNvPr id="1373" name="Group 107"/>
            <p:cNvGrpSpPr/>
            <p:nvPr/>
          </p:nvGrpSpPr>
          <p:grpSpPr>
            <a:xfrm>
              <a:off x="1488960" y="1187280"/>
              <a:ext cx="1190880" cy="276480"/>
              <a:chOff x="1488960" y="1187280"/>
              <a:chExt cx="1190880" cy="276480"/>
            </a:xfrm>
          </p:grpSpPr>
          <p:sp>
            <p:nvSpPr>
              <p:cNvPr id="1374" name="Freeform 108"/>
              <p:cNvSpPr/>
              <p:nvPr/>
            </p:nvSpPr>
            <p:spPr>
              <a:xfrm>
                <a:off x="1488960" y="1187280"/>
                <a:ext cx="60048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0693"/>
                    </a:moveTo>
                    <a:lnTo>
                      <a:pt x="5137" y="10693"/>
                    </a:lnTo>
                    <a:lnTo>
                      <a:pt x="6490" y="0"/>
                    </a:lnTo>
                    <a:lnTo>
                      <a:pt x="8097" y="19945"/>
                    </a:lnTo>
                    <a:lnTo>
                      <a:pt x="9450" y="720"/>
                    </a:lnTo>
                    <a:lnTo>
                      <a:pt x="11332" y="19945"/>
                    </a:lnTo>
                    <a:lnTo>
                      <a:pt x="12685" y="0"/>
                    </a:lnTo>
                    <a:lnTo>
                      <a:pt x="14841" y="19945"/>
                    </a:lnTo>
                    <a:lnTo>
                      <a:pt x="15941" y="10693"/>
                    </a:lnTo>
                    <a:lnTo>
                      <a:pt x="19979" y="106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Group 109"/>
              <p:cNvGrpSpPr/>
              <p:nvPr/>
            </p:nvGrpSpPr>
            <p:grpSpPr>
              <a:xfrm>
                <a:off x="2079360" y="1225080"/>
                <a:ext cx="600480" cy="238680"/>
                <a:chOff x="2079360" y="1225080"/>
                <a:chExt cx="600480" cy="238680"/>
              </a:xfrm>
            </p:grpSpPr>
            <p:sp>
              <p:nvSpPr>
                <p:cNvPr id="1376" name="Arc 110"/>
                <p:cNvSpPr/>
                <p:nvPr/>
              </p:nvSpPr>
              <p:spPr>
                <a:xfrm flipH="1">
                  <a:off x="2168280" y="1225080"/>
                  <a:ext cx="59040" cy="83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7" name="Group 111"/>
                <p:cNvGrpSpPr/>
                <p:nvPr/>
              </p:nvGrpSpPr>
              <p:grpSpPr>
                <a:xfrm>
                  <a:off x="2206440" y="1225080"/>
                  <a:ext cx="118440" cy="233640"/>
                  <a:chOff x="2206440" y="1225080"/>
                  <a:chExt cx="118440" cy="233640"/>
                </a:xfrm>
              </p:grpSpPr>
              <p:sp>
                <p:nvSpPr>
                  <p:cNvPr id="1378" name="Arc 112"/>
                  <p:cNvSpPr/>
                  <p:nvPr/>
                </p:nvSpPr>
                <p:spPr>
                  <a:xfrm>
                    <a:off x="2232000" y="1225080"/>
                    <a:ext cx="4572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Arc 113"/>
                  <p:cNvSpPr/>
                  <p:nvPr/>
                </p:nvSpPr>
                <p:spPr>
                  <a:xfrm flipV="1">
                    <a:off x="2241000" y="1330200"/>
                    <a:ext cx="342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Arc 114"/>
                  <p:cNvSpPr/>
                  <p:nvPr/>
                </p:nvSpPr>
                <p:spPr>
                  <a:xfrm flipH="1" flipV="1">
                    <a:off x="2206080" y="1378800"/>
                    <a:ext cx="3924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Arc 115"/>
                  <p:cNvSpPr/>
                  <p:nvPr/>
                </p:nvSpPr>
                <p:spPr>
                  <a:xfrm flipH="1">
                    <a:off x="2206800" y="1225080"/>
                    <a:ext cx="1180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Group 116"/>
                <p:cNvGrpSpPr/>
                <p:nvPr/>
              </p:nvGrpSpPr>
              <p:grpSpPr>
                <a:xfrm>
                  <a:off x="2310120" y="1227960"/>
                  <a:ext cx="118440" cy="232560"/>
                  <a:chOff x="2310120" y="1227960"/>
                  <a:chExt cx="118440" cy="232560"/>
                </a:xfrm>
              </p:grpSpPr>
              <p:sp>
                <p:nvSpPr>
                  <p:cNvPr id="1383" name="Arc 117"/>
                  <p:cNvSpPr/>
                  <p:nvPr/>
                </p:nvSpPr>
                <p:spPr>
                  <a:xfrm>
                    <a:off x="2334600" y="1227960"/>
                    <a:ext cx="4572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Arc 118"/>
                  <p:cNvSpPr/>
                  <p:nvPr/>
                </p:nvSpPr>
                <p:spPr>
                  <a:xfrm flipV="1">
                    <a:off x="2345400" y="1332720"/>
                    <a:ext cx="342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Arc 119"/>
                  <p:cNvSpPr/>
                  <p:nvPr/>
                </p:nvSpPr>
                <p:spPr>
                  <a:xfrm flipH="1" flipV="1">
                    <a:off x="2309760" y="1380600"/>
                    <a:ext cx="3924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Arc 120"/>
                  <p:cNvSpPr/>
                  <p:nvPr/>
                </p:nvSpPr>
                <p:spPr>
                  <a:xfrm flipH="1">
                    <a:off x="2310480" y="1227960"/>
                    <a:ext cx="1180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7" name="Group 121"/>
                <p:cNvGrpSpPr/>
                <p:nvPr/>
              </p:nvGrpSpPr>
              <p:grpSpPr>
                <a:xfrm>
                  <a:off x="2418120" y="1230480"/>
                  <a:ext cx="118440" cy="233280"/>
                  <a:chOff x="2418120" y="1230480"/>
                  <a:chExt cx="118440" cy="233280"/>
                </a:xfrm>
              </p:grpSpPr>
              <p:sp>
                <p:nvSpPr>
                  <p:cNvPr id="1388" name="Arc 122"/>
                  <p:cNvSpPr/>
                  <p:nvPr/>
                </p:nvSpPr>
                <p:spPr>
                  <a:xfrm>
                    <a:off x="2442960" y="1230480"/>
                    <a:ext cx="4572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Arc 123"/>
                  <p:cNvSpPr/>
                  <p:nvPr/>
                </p:nvSpPr>
                <p:spPr>
                  <a:xfrm flipV="1">
                    <a:off x="2454120" y="1335960"/>
                    <a:ext cx="342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Arc 124"/>
                  <p:cNvSpPr/>
                  <p:nvPr/>
                </p:nvSpPr>
                <p:spPr>
                  <a:xfrm flipH="1" flipV="1">
                    <a:off x="2417760" y="1383840"/>
                    <a:ext cx="3924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Arc 125"/>
                  <p:cNvSpPr/>
                  <p:nvPr/>
                </p:nvSpPr>
                <p:spPr>
                  <a:xfrm flipH="1">
                    <a:off x="2418480" y="1230480"/>
                    <a:ext cx="1180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2" name="Arc 126"/>
                <p:cNvSpPr/>
                <p:nvPr/>
              </p:nvSpPr>
              <p:spPr>
                <a:xfrm>
                  <a:off x="2532600" y="1230480"/>
                  <a:ext cx="53640" cy="734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7"/>
                <p:cNvSpPr/>
                <p:nvPr/>
              </p:nvSpPr>
              <p:spPr>
                <a:xfrm flipH="1">
                  <a:off x="2079360" y="1307520"/>
                  <a:ext cx="842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128"/>
                <p:cNvSpPr/>
                <p:nvPr/>
              </p:nvSpPr>
              <p:spPr>
                <a:xfrm flipH="1">
                  <a:off x="2595600" y="1307520"/>
                  <a:ext cx="842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5" name="Rectangle 129"/>
            <p:cNvSpPr/>
            <p:nvPr/>
          </p:nvSpPr>
          <p:spPr>
            <a:xfrm>
              <a:off x="1707840" y="949320"/>
              <a:ext cx="20988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Rectangle 130"/>
            <p:cNvSpPr/>
            <p:nvPr/>
          </p:nvSpPr>
          <p:spPr>
            <a:xfrm>
              <a:off x="2269800" y="958680"/>
              <a:ext cx="2955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7" name="Group 131"/>
            <p:cNvGrpSpPr/>
            <p:nvPr/>
          </p:nvGrpSpPr>
          <p:grpSpPr>
            <a:xfrm>
              <a:off x="3888720" y="1187280"/>
              <a:ext cx="1190880" cy="276480"/>
              <a:chOff x="3888720" y="1187280"/>
              <a:chExt cx="1190880" cy="276480"/>
            </a:xfrm>
          </p:grpSpPr>
          <p:sp>
            <p:nvSpPr>
              <p:cNvPr id="1398" name="Freeform 132"/>
              <p:cNvSpPr/>
              <p:nvPr/>
            </p:nvSpPr>
            <p:spPr>
              <a:xfrm>
                <a:off x="3888720" y="1187280"/>
                <a:ext cx="60048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0693"/>
                    </a:moveTo>
                    <a:lnTo>
                      <a:pt x="5137" y="10693"/>
                    </a:lnTo>
                    <a:lnTo>
                      <a:pt x="6490" y="0"/>
                    </a:lnTo>
                    <a:lnTo>
                      <a:pt x="8097" y="19945"/>
                    </a:lnTo>
                    <a:lnTo>
                      <a:pt x="9450" y="720"/>
                    </a:lnTo>
                    <a:lnTo>
                      <a:pt x="11332" y="19945"/>
                    </a:lnTo>
                    <a:lnTo>
                      <a:pt x="12685" y="0"/>
                    </a:lnTo>
                    <a:lnTo>
                      <a:pt x="14841" y="19945"/>
                    </a:lnTo>
                    <a:lnTo>
                      <a:pt x="15941" y="10693"/>
                    </a:lnTo>
                    <a:lnTo>
                      <a:pt x="19979" y="106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9" name="Group 133"/>
              <p:cNvGrpSpPr/>
              <p:nvPr/>
            </p:nvGrpSpPr>
            <p:grpSpPr>
              <a:xfrm>
                <a:off x="4479120" y="1225080"/>
                <a:ext cx="600480" cy="238680"/>
                <a:chOff x="4479120" y="1225080"/>
                <a:chExt cx="600480" cy="238680"/>
              </a:xfrm>
            </p:grpSpPr>
            <p:sp>
              <p:nvSpPr>
                <p:cNvPr id="1400" name="Arc 134"/>
                <p:cNvSpPr/>
                <p:nvPr/>
              </p:nvSpPr>
              <p:spPr>
                <a:xfrm flipH="1">
                  <a:off x="4568040" y="1225080"/>
                  <a:ext cx="59040" cy="83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1" name="Group 135"/>
                <p:cNvGrpSpPr/>
                <p:nvPr/>
              </p:nvGrpSpPr>
              <p:grpSpPr>
                <a:xfrm>
                  <a:off x="4606200" y="1225080"/>
                  <a:ext cx="118440" cy="233640"/>
                  <a:chOff x="4606200" y="1225080"/>
                  <a:chExt cx="118440" cy="233640"/>
                </a:xfrm>
              </p:grpSpPr>
              <p:sp>
                <p:nvSpPr>
                  <p:cNvPr id="1402" name="Arc 136"/>
                  <p:cNvSpPr/>
                  <p:nvPr/>
                </p:nvSpPr>
                <p:spPr>
                  <a:xfrm>
                    <a:off x="4631760" y="1225080"/>
                    <a:ext cx="4572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Arc 137"/>
                  <p:cNvSpPr/>
                  <p:nvPr/>
                </p:nvSpPr>
                <p:spPr>
                  <a:xfrm flipV="1">
                    <a:off x="4640760" y="1330200"/>
                    <a:ext cx="342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Arc 138"/>
                  <p:cNvSpPr/>
                  <p:nvPr/>
                </p:nvSpPr>
                <p:spPr>
                  <a:xfrm flipH="1" flipV="1">
                    <a:off x="4605840" y="1378800"/>
                    <a:ext cx="3924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Arc 139"/>
                  <p:cNvSpPr/>
                  <p:nvPr/>
                </p:nvSpPr>
                <p:spPr>
                  <a:xfrm flipH="1">
                    <a:off x="4606560" y="1225080"/>
                    <a:ext cx="1180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6" name="Group 140"/>
                <p:cNvGrpSpPr/>
                <p:nvPr/>
              </p:nvGrpSpPr>
              <p:grpSpPr>
                <a:xfrm>
                  <a:off x="4709880" y="1227960"/>
                  <a:ext cx="118440" cy="232560"/>
                  <a:chOff x="4709880" y="1227960"/>
                  <a:chExt cx="118440" cy="232560"/>
                </a:xfrm>
              </p:grpSpPr>
              <p:sp>
                <p:nvSpPr>
                  <p:cNvPr id="1407" name="Arc 141"/>
                  <p:cNvSpPr/>
                  <p:nvPr/>
                </p:nvSpPr>
                <p:spPr>
                  <a:xfrm>
                    <a:off x="4734360" y="1227960"/>
                    <a:ext cx="4572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Arc 142"/>
                  <p:cNvSpPr/>
                  <p:nvPr/>
                </p:nvSpPr>
                <p:spPr>
                  <a:xfrm flipV="1">
                    <a:off x="4745160" y="1332720"/>
                    <a:ext cx="342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Arc 143"/>
                  <p:cNvSpPr/>
                  <p:nvPr/>
                </p:nvSpPr>
                <p:spPr>
                  <a:xfrm flipH="1" flipV="1">
                    <a:off x="4709520" y="1380600"/>
                    <a:ext cx="3924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Arc 144"/>
                  <p:cNvSpPr/>
                  <p:nvPr/>
                </p:nvSpPr>
                <p:spPr>
                  <a:xfrm flipH="1">
                    <a:off x="4710240" y="1227960"/>
                    <a:ext cx="1180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145"/>
                <p:cNvGrpSpPr/>
                <p:nvPr/>
              </p:nvGrpSpPr>
              <p:grpSpPr>
                <a:xfrm>
                  <a:off x="4817880" y="1230480"/>
                  <a:ext cx="118440" cy="233280"/>
                  <a:chOff x="4817880" y="1230480"/>
                  <a:chExt cx="118440" cy="233280"/>
                </a:xfrm>
              </p:grpSpPr>
              <p:sp>
                <p:nvSpPr>
                  <p:cNvPr id="1412" name="Arc 146"/>
                  <p:cNvSpPr/>
                  <p:nvPr/>
                </p:nvSpPr>
                <p:spPr>
                  <a:xfrm>
                    <a:off x="4842720" y="1230480"/>
                    <a:ext cx="4572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Arc 147"/>
                  <p:cNvSpPr/>
                  <p:nvPr/>
                </p:nvSpPr>
                <p:spPr>
                  <a:xfrm flipV="1">
                    <a:off x="4853880" y="1335960"/>
                    <a:ext cx="342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Arc 148"/>
                  <p:cNvSpPr/>
                  <p:nvPr/>
                </p:nvSpPr>
                <p:spPr>
                  <a:xfrm flipH="1" flipV="1">
                    <a:off x="4817520" y="1383840"/>
                    <a:ext cx="3924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Arc 149"/>
                  <p:cNvSpPr/>
                  <p:nvPr/>
                </p:nvSpPr>
                <p:spPr>
                  <a:xfrm flipH="1">
                    <a:off x="4818240" y="1230480"/>
                    <a:ext cx="1180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6" name="Arc 150"/>
                <p:cNvSpPr/>
                <p:nvPr/>
              </p:nvSpPr>
              <p:spPr>
                <a:xfrm>
                  <a:off x="4932360" y="1230480"/>
                  <a:ext cx="53640" cy="734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7" name="Line 151"/>
                <p:cNvSpPr/>
                <p:nvPr/>
              </p:nvSpPr>
              <p:spPr>
                <a:xfrm flipH="1">
                  <a:off x="4479120" y="1307520"/>
                  <a:ext cx="842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Line 152"/>
                <p:cNvSpPr/>
                <p:nvPr/>
              </p:nvSpPr>
              <p:spPr>
                <a:xfrm flipH="1">
                  <a:off x="4995360" y="1307520"/>
                  <a:ext cx="842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9" name="Rectangle 153"/>
            <p:cNvSpPr/>
            <p:nvPr/>
          </p:nvSpPr>
          <p:spPr>
            <a:xfrm>
              <a:off x="4107960" y="949320"/>
              <a:ext cx="20988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54"/>
            <p:cNvSpPr/>
            <p:nvPr/>
          </p:nvSpPr>
          <p:spPr>
            <a:xfrm>
              <a:off x="4669920" y="958680"/>
              <a:ext cx="28620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155"/>
            <p:cNvSpPr/>
            <p:nvPr/>
          </p:nvSpPr>
          <p:spPr>
            <a:xfrm>
              <a:off x="679320" y="1949040"/>
              <a:ext cx="21960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156"/>
            <p:cNvSpPr/>
            <p:nvPr/>
          </p:nvSpPr>
          <p:spPr>
            <a:xfrm>
              <a:off x="1555560" y="1968120"/>
              <a:ext cx="20052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157"/>
            <p:cNvSpPr/>
            <p:nvPr/>
          </p:nvSpPr>
          <p:spPr>
            <a:xfrm>
              <a:off x="593640" y="1311120"/>
              <a:ext cx="8956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158"/>
            <p:cNvSpPr/>
            <p:nvPr/>
          </p:nvSpPr>
          <p:spPr>
            <a:xfrm>
              <a:off x="2679480" y="1311120"/>
              <a:ext cx="505080" cy="533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75" y="0"/>
                  </a:lnTo>
                  <a:lnTo>
                    <a:pt x="19975" y="1997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59"/>
            <p:cNvSpPr/>
            <p:nvPr/>
          </p:nvSpPr>
          <p:spPr>
            <a:xfrm>
              <a:off x="2174400" y="2406240"/>
              <a:ext cx="1019520" cy="533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6"/>
                  </a:moveTo>
                  <a:lnTo>
                    <a:pt x="19801" y="19976"/>
                  </a:lnTo>
                  <a:lnTo>
                    <a:pt x="19801" y="357"/>
                  </a:lnTo>
                  <a:lnTo>
                    <a:pt x="199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60"/>
            <p:cNvSpPr/>
            <p:nvPr/>
          </p:nvSpPr>
          <p:spPr>
            <a:xfrm>
              <a:off x="3546000" y="1311120"/>
              <a:ext cx="343440" cy="543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5"/>
                  </a:moveTo>
                  <a:lnTo>
                    <a:pt x="0" y="0"/>
                  </a:lnTo>
                  <a:lnTo>
                    <a:pt x="1996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161"/>
            <p:cNvSpPr/>
            <p:nvPr/>
          </p:nvSpPr>
          <p:spPr>
            <a:xfrm>
              <a:off x="5069880" y="1311120"/>
              <a:ext cx="286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62"/>
            <p:cNvSpPr/>
            <p:nvPr/>
          </p:nvSpPr>
          <p:spPr>
            <a:xfrm>
              <a:off x="3536640" y="2415600"/>
              <a:ext cx="1819440" cy="524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76"/>
                  </a:lnTo>
                  <a:lnTo>
                    <a:pt x="19993" y="1997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163"/>
            <p:cNvSpPr/>
            <p:nvPr/>
          </p:nvSpPr>
          <p:spPr>
            <a:xfrm flipH="1">
              <a:off x="736560" y="2939400"/>
              <a:ext cx="14385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164"/>
            <p:cNvSpPr/>
            <p:nvPr/>
          </p:nvSpPr>
          <p:spPr>
            <a:xfrm>
              <a:off x="3155400" y="1072800"/>
              <a:ext cx="4672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: 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165"/>
            <p:cNvSpPr/>
            <p:nvPr/>
          </p:nvSpPr>
          <p:spPr>
            <a:xfrm>
              <a:off x="3222360" y="142524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166"/>
            <p:cNvSpPr/>
            <p:nvPr/>
          </p:nvSpPr>
          <p:spPr>
            <a:xfrm>
              <a:off x="3450960" y="142524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Line 167"/>
            <p:cNvSpPr/>
            <p:nvPr/>
          </p:nvSpPr>
          <p:spPr>
            <a:xfrm>
              <a:off x="5165280" y="1311120"/>
              <a:ext cx="766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Line 168"/>
            <p:cNvSpPr/>
            <p:nvPr/>
          </p:nvSpPr>
          <p:spPr>
            <a:xfrm flipV="1">
              <a:off x="1203120" y="1386720"/>
              <a:ext cx="36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Line 169"/>
            <p:cNvSpPr/>
            <p:nvPr/>
          </p:nvSpPr>
          <p:spPr>
            <a:xfrm flipH="1">
              <a:off x="593280" y="2939400"/>
              <a:ext cx="1335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170"/>
            <p:cNvSpPr/>
            <p:nvPr/>
          </p:nvSpPr>
          <p:spPr>
            <a:xfrm>
              <a:off x="669600" y="136800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171"/>
            <p:cNvSpPr/>
            <p:nvPr/>
          </p:nvSpPr>
          <p:spPr>
            <a:xfrm>
              <a:off x="336600" y="297756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172"/>
            <p:cNvSpPr/>
            <p:nvPr/>
          </p:nvSpPr>
          <p:spPr>
            <a:xfrm>
              <a:off x="374400" y="111096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Oval 173"/>
            <p:cNvSpPr/>
            <p:nvPr/>
          </p:nvSpPr>
          <p:spPr>
            <a:xfrm>
              <a:off x="564840" y="129204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Oval 174"/>
            <p:cNvSpPr/>
            <p:nvPr/>
          </p:nvSpPr>
          <p:spPr>
            <a:xfrm>
              <a:off x="564840" y="292032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Oval 175"/>
            <p:cNvSpPr/>
            <p:nvPr/>
          </p:nvSpPr>
          <p:spPr>
            <a:xfrm>
              <a:off x="5336640" y="128232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Oval 176"/>
            <p:cNvSpPr/>
            <p:nvPr/>
          </p:nvSpPr>
          <p:spPr>
            <a:xfrm>
              <a:off x="5336640" y="291096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177"/>
            <p:cNvSpPr/>
            <p:nvPr/>
          </p:nvSpPr>
          <p:spPr>
            <a:xfrm>
              <a:off x="441360" y="1368000"/>
              <a:ext cx="143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178"/>
            <p:cNvSpPr/>
            <p:nvPr/>
          </p:nvSpPr>
          <p:spPr>
            <a:xfrm>
              <a:off x="5031720" y="139680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179"/>
            <p:cNvSpPr/>
            <p:nvPr/>
          </p:nvSpPr>
          <p:spPr>
            <a:xfrm>
              <a:off x="5346360" y="1348920"/>
              <a:ext cx="143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180"/>
            <p:cNvSpPr/>
            <p:nvPr/>
          </p:nvSpPr>
          <p:spPr>
            <a:xfrm>
              <a:off x="5365080" y="106344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Rectangle 181"/>
            <p:cNvSpPr/>
            <p:nvPr/>
          </p:nvSpPr>
          <p:spPr>
            <a:xfrm>
              <a:off x="5384160" y="297756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Line 182"/>
            <p:cNvSpPr/>
            <p:nvPr/>
          </p:nvSpPr>
          <p:spPr>
            <a:xfrm>
              <a:off x="2698560" y="1311120"/>
              <a:ext cx="766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Rectangle 183"/>
            <p:cNvSpPr/>
            <p:nvPr/>
          </p:nvSpPr>
          <p:spPr>
            <a:xfrm>
              <a:off x="2736720" y="107280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Rectangle 184"/>
            <p:cNvSpPr/>
            <p:nvPr/>
          </p:nvSpPr>
          <p:spPr>
            <a:xfrm>
              <a:off x="336600" y="204444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185"/>
            <p:cNvSpPr/>
            <p:nvPr/>
          </p:nvSpPr>
          <p:spPr>
            <a:xfrm>
              <a:off x="5384160" y="204444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Rectangle 186"/>
            <p:cNvSpPr/>
            <p:nvPr/>
          </p:nvSpPr>
          <p:spPr>
            <a:xfrm>
              <a:off x="2841120" y="1701360"/>
              <a:ext cx="143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Rectangle 187"/>
            <p:cNvSpPr/>
            <p:nvPr/>
          </p:nvSpPr>
          <p:spPr>
            <a:xfrm>
              <a:off x="3717720" y="1711080"/>
              <a:ext cx="13356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Rectangle 188"/>
            <p:cNvSpPr/>
            <p:nvPr/>
          </p:nvSpPr>
          <p:spPr>
            <a:xfrm>
              <a:off x="2774520" y="195876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Rectangle 189"/>
            <p:cNvSpPr/>
            <p:nvPr/>
          </p:nvSpPr>
          <p:spPr>
            <a:xfrm>
              <a:off x="3784320" y="1977480"/>
              <a:ext cx="200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6" name="Group 190"/>
            <p:cNvGrpSpPr/>
            <p:nvPr/>
          </p:nvGrpSpPr>
          <p:grpSpPr>
            <a:xfrm>
              <a:off x="883800" y="1311120"/>
              <a:ext cx="615240" cy="1609920"/>
              <a:chOff x="883800" y="1311120"/>
              <a:chExt cx="615240" cy="1609920"/>
            </a:xfrm>
          </p:grpSpPr>
          <p:sp>
            <p:nvSpPr>
              <p:cNvPr id="1457" name="Freeform 191"/>
              <p:cNvSpPr/>
              <p:nvPr/>
            </p:nvSpPr>
            <p:spPr>
              <a:xfrm>
                <a:off x="883800" y="1801800"/>
                <a:ext cx="229320" cy="600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9252" y="0"/>
                    </a:moveTo>
                    <a:lnTo>
                      <a:pt x="9252" y="5137"/>
                    </a:lnTo>
                    <a:lnTo>
                      <a:pt x="19945" y="6490"/>
                    </a:lnTo>
                    <a:lnTo>
                      <a:pt x="0" y="8097"/>
                    </a:lnTo>
                    <a:lnTo>
                      <a:pt x="19224" y="9450"/>
                    </a:lnTo>
                    <a:lnTo>
                      <a:pt x="0" y="11332"/>
                    </a:lnTo>
                    <a:lnTo>
                      <a:pt x="19945" y="12685"/>
                    </a:lnTo>
                    <a:lnTo>
                      <a:pt x="0" y="14841"/>
                    </a:lnTo>
                    <a:lnTo>
                      <a:pt x="9252" y="15941"/>
                    </a:lnTo>
                    <a:lnTo>
                      <a:pt x="9252" y="1997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8" name="Group 192"/>
              <p:cNvGrpSpPr/>
              <p:nvPr/>
            </p:nvGrpSpPr>
            <p:grpSpPr>
              <a:xfrm>
                <a:off x="993600" y="1311120"/>
                <a:ext cx="505440" cy="1609920"/>
                <a:chOff x="993600" y="1311120"/>
                <a:chExt cx="505440" cy="1609920"/>
              </a:xfrm>
            </p:grpSpPr>
            <p:grpSp>
              <p:nvGrpSpPr>
                <p:cNvPr id="1459" name="Group 193"/>
                <p:cNvGrpSpPr/>
                <p:nvPr/>
              </p:nvGrpSpPr>
              <p:grpSpPr>
                <a:xfrm>
                  <a:off x="1260360" y="1815840"/>
                  <a:ext cx="238680" cy="600480"/>
                  <a:chOff x="1260360" y="1815840"/>
                  <a:chExt cx="238680" cy="600480"/>
                </a:xfrm>
              </p:grpSpPr>
              <p:sp>
                <p:nvSpPr>
                  <p:cNvPr id="1460" name="Arc 194"/>
                  <p:cNvSpPr/>
                  <p:nvPr/>
                </p:nvSpPr>
                <p:spPr>
                  <a:xfrm>
                    <a:off x="1415880" y="1904400"/>
                    <a:ext cx="8316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1" name="Group 195"/>
                  <p:cNvGrpSpPr/>
                  <p:nvPr/>
                </p:nvGrpSpPr>
                <p:grpSpPr>
                  <a:xfrm>
                    <a:off x="1265400" y="1943280"/>
                    <a:ext cx="233640" cy="118080"/>
                    <a:chOff x="1265400" y="1943280"/>
                    <a:chExt cx="233640" cy="118080"/>
                  </a:xfrm>
                </p:grpSpPr>
                <p:sp>
                  <p:nvSpPr>
                    <p:cNvPr id="1462" name="Arc 196"/>
                    <p:cNvSpPr/>
                    <p:nvPr/>
                  </p:nvSpPr>
                  <p:spPr>
                    <a:xfrm flipV="1">
                      <a:off x="1407600" y="1967760"/>
                      <a:ext cx="91440" cy="4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3" name="Arc 197"/>
                    <p:cNvSpPr/>
                    <p:nvPr/>
                  </p:nvSpPr>
                  <p:spPr>
                    <a:xfrm flipH="1" flipV="1">
                      <a:off x="1270800" y="1976760"/>
                      <a:ext cx="1213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4" name="Arc 198"/>
                    <p:cNvSpPr/>
                    <p:nvPr/>
                  </p:nvSpPr>
                  <p:spPr>
                    <a:xfrm flipH="1">
                      <a:off x="1265400" y="1943280"/>
                      <a:ext cx="7992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5" name="Arc 199"/>
                    <p:cNvSpPr/>
                    <p:nvPr/>
                  </p:nvSpPr>
                  <p:spPr>
                    <a:xfrm>
                      <a:off x="1345320" y="1943280"/>
                      <a:ext cx="153720" cy="11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6" name="Group 200"/>
                  <p:cNvGrpSpPr/>
                  <p:nvPr/>
                </p:nvGrpSpPr>
                <p:grpSpPr>
                  <a:xfrm>
                    <a:off x="1263240" y="2046960"/>
                    <a:ext cx="232560" cy="118080"/>
                    <a:chOff x="1263240" y="2046960"/>
                    <a:chExt cx="232560" cy="118080"/>
                  </a:xfrm>
                </p:grpSpPr>
                <p:sp>
                  <p:nvSpPr>
                    <p:cNvPr id="1467" name="Arc 201"/>
                    <p:cNvSpPr/>
                    <p:nvPr/>
                  </p:nvSpPr>
                  <p:spPr>
                    <a:xfrm flipV="1">
                      <a:off x="1404360" y="2070360"/>
                      <a:ext cx="91440" cy="4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8" name="Arc 202"/>
                    <p:cNvSpPr/>
                    <p:nvPr/>
                  </p:nvSpPr>
                  <p:spPr>
                    <a:xfrm flipH="1" flipV="1">
                      <a:off x="1267920" y="2081160"/>
                      <a:ext cx="1213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9" name="Arc 203"/>
                    <p:cNvSpPr/>
                    <p:nvPr/>
                  </p:nvSpPr>
                  <p:spPr>
                    <a:xfrm flipH="1">
                      <a:off x="1263240" y="2046960"/>
                      <a:ext cx="7992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Arc 204"/>
                    <p:cNvSpPr/>
                    <p:nvPr/>
                  </p:nvSpPr>
                  <p:spPr>
                    <a:xfrm>
                      <a:off x="1342080" y="2046960"/>
                      <a:ext cx="153720" cy="11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205"/>
                  <p:cNvGrpSpPr/>
                  <p:nvPr/>
                </p:nvGrpSpPr>
                <p:grpSpPr>
                  <a:xfrm>
                    <a:off x="1260360" y="2154600"/>
                    <a:ext cx="233280" cy="118080"/>
                    <a:chOff x="1260360" y="2154600"/>
                    <a:chExt cx="233280" cy="118080"/>
                  </a:xfrm>
                </p:grpSpPr>
                <p:sp>
                  <p:nvSpPr>
                    <p:cNvPr id="1472" name="Arc 206"/>
                    <p:cNvSpPr/>
                    <p:nvPr/>
                  </p:nvSpPr>
                  <p:spPr>
                    <a:xfrm flipV="1">
                      <a:off x="1402200" y="2178720"/>
                      <a:ext cx="91440" cy="4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Arc 207"/>
                    <p:cNvSpPr/>
                    <p:nvPr/>
                  </p:nvSpPr>
                  <p:spPr>
                    <a:xfrm flipH="1" flipV="1">
                      <a:off x="1265040" y="2189520"/>
                      <a:ext cx="1213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Arc 208"/>
                    <p:cNvSpPr/>
                    <p:nvPr/>
                  </p:nvSpPr>
                  <p:spPr>
                    <a:xfrm flipH="1">
                      <a:off x="1260360" y="2154600"/>
                      <a:ext cx="7992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5" name="Arc 209"/>
                    <p:cNvSpPr/>
                    <p:nvPr/>
                  </p:nvSpPr>
                  <p:spPr>
                    <a:xfrm>
                      <a:off x="1339920" y="2154600"/>
                      <a:ext cx="153720" cy="11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6" name="Arc 210"/>
                  <p:cNvSpPr/>
                  <p:nvPr/>
                </p:nvSpPr>
                <p:spPr>
                  <a:xfrm flipV="1">
                    <a:off x="1419840" y="2268360"/>
                    <a:ext cx="734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Line 211"/>
                  <p:cNvSpPr/>
                  <p:nvPr/>
                </p:nvSpPr>
                <p:spPr>
                  <a:xfrm flipV="1">
                    <a:off x="1415880" y="1815840"/>
                    <a:ext cx="360" cy="84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Line 212"/>
                  <p:cNvSpPr/>
                  <p:nvPr/>
                </p:nvSpPr>
                <p:spPr>
                  <a:xfrm flipV="1">
                    <a:off x="1415880" y="2332080"/>
                    <a:ext cx="360" cy="84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79" name="Freeform 213"/>
                <p:cNvSpPr/>
                <p:nvPr/>
              </p:nvSpPr>
              <p:spPr>
                <a:xfrm>
                  <a:off x="993600" y="1615680"/>
                  <a:ext cx="419760" cy="209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033"/>
                      </a:moveTo>
                      <a:lnTo>
                        <a:pt x="0" y="0"/>
                      </a:lnTo>
                      <a:lnTo>
                        <a:pt x="19970" y="0"/>
                      </a:lnTo>
                      <a:lnTo>
                        <a:pt x="19970" y="1994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Freeform 214"/>
                <p:cNvSpPr/>
                <p:nvPr/>
              </p:nvSpPr>
              <p:spPr>
                <a:xfrm>
                  <a:off x="993600" y="2415600"/>
                  <a:ext cx="419760" cy="209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906"/>
                      </a:moveTo>
                      <a:lnTo>
                        <a:pt x="0" y="19940"/>
                      </a:lnTo>
                      <a:lnTo>
                        <a:pt x="19970" y="19940"/>
                      </a:lnTo>
                      <a:lnTo>
                        <a:pt x="1997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Line 215"/>
                <p:cNvSpPr/>
                <p:nvPr/>
              </p:nvSpPr>
              <p:spPr>
                <a:xfrm flipV="1">
                  <a:off x="1203120" y="1311120"/>
                  <a:ext cx="360" cy="30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Line 216"/>
                <p:cNvSpPr/>
                <p:nvPr/>
              </p:nvSpPr>
              <p:spPr>
                <a:xfrm flipV="1">
                  <a:off x="1184040" y="2615760"/>
                  <a:ext cx="360" cy="30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Line 217"/>
                <p:cNvSpPr/>
                <p:nvPr/>
              </p:nvSpPr>
              <p:spPr>
                <a:xfrm>
                  <a:off x="993600" y="2444400"/>
                  <a:ext cx="360" cy="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Line 218"/>
                <p:cNvSpPr/>
                <p:nvPr/>
              </p:nvSpPr>
              <p:spPr>
                <a:xfrm>
                  <a:off x="1412640" y="2444400"/>
                  <a:ext cx="360" cy="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5" name="Rectangle 219"/>
            <p:cNvSpPr/>
            <p:nvPr/>
          </p:nvSpPr>
          <p:spPr>
            <a:xfrm>
              <a:off x="717480" y="2349000"/>
              <a:ext cx="209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220"/>
            <p:cNvSpPr/>
            <p:nvPr/>
          </p:nvSpPr>
          <p:spPr>
            <a:xfrm>
              <a:off x="1279080" y="135864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221"/>
            <p:cNvSpPr/>
            <p:nvPr/>
          </p:nvSpPr>
          <p:spPr>
            <a:xfrm>
              <a:off x="1498320" y="2396520"/>
              <a:ext cx="209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Arc 222"/>
            <p:cNvSpPr/>
            <p:nvPr/>
          </p:nvSpPr>
          <p:spPr>
            <a:xfrm>
              <a:off x="3174120" y="1845000"/>
              <a:ext cx="238680" cy="561600"/>
            </a:xfrm>
            <a:custGeom>
              <a:avLst/>
              <a:gdLst/>
              <a:ahLst/>
              <a:rect l="l" t="t" r="r" b="b"/>
              <a:pathLst>
                <a:path fill="none" w="23732" h="43200">
                  <a:moveTo>
                    <a:pt x="2131" y="0"/>
                  </a:moveTo>
                  <a:cubicBezTo>
                    <a:pt x="14061" y="0"/>
                    <a:pt x="23732" y="9670"/>
                    <a:pt x="23732" y="21600"/>
                  </a:cubicBezTo>
                  <a:cubicBezTo>
                    <a:pt x="23732" y="-32007"/>
                    <a:pt x="14061" y="-22336"/>
                    <a:pt x="2132" y="-22336"/>
                  </a:cubicBezTo>
                  <a:cubicBezTo>
                    <a:pt x="1420" y="-22336"/>
                    <a:pt x="708" y="-22372"/>
                    <a:pt x="0" y="-22442"/>
                  </a:cubicBezTo>
                </a:path>
                <a:path stroke="0" w="23732" h="43200">
                  <a:moveTo>
                    <a:pt x="2131" y="0"/>
                  </a:moveTo>
                  <a:cubicBezTo>
                    <a:pt x="14061" y="0"/>
                    <a:pt x="23732" y="9670"/>
                    <a:pt x="23732" y="21600"/>
                  </a:cubicBezTo>
                  <a:cubicBezTo>
                    <a:pt x="23732" y="-32007"/>
                    <a:pt x="14061" y="-22336"/>
                    <a:pt x="2132" y="-22336"/>
                  </a:cubicBezTo>
                  <a:cubicBezTo>
                    <a:pt x="1420" y="-22336"/>
                    <a:pt x="708" y="-22372"/>
                    <a:pt x="0" y="-22442"/>
                  </a:cubicBezTo>
                  <a:lnTo>
                    <a:pt x="2132" y="21600"/>
                  </a:lnTo>
                  <a:lnTo>
                    <a:pt x="213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Arc 223"/>
            <p:cNvSpPr/>
            <p:nvPr/>
          </p:nvSpPr>
          <p:spPr>
            <a:xfrm rot="10800000">
              <a:off x="3297600" y="1845000"/>
              <a:ext cx="238680" cy="561600"/>
            </a:xfrm>
            <a:custGeom>
              <a:avLst/>
              <a:gdLst/>
              <a:ahLst/>
              <a:rect l="l" t="t" r="r" b="b"/>
              <a:pathLst>
                <a:path fill="none" w="23732" h="43200">
                  <a:moveTo>
                    <a:pt x="2131" y="0"/>
                  </a:moveTo>
                  <a:cubicBezTo>
                    <a:pt x="14061" y="0"/>
                    <a:pt x="23732" y="9670"/>
                    <a:pt x="23732" y="21600"/>
                  </a:cubicBezTo>
                  <a:cubicBezTo>
                    <a:pt x="23732" y="-32007"/>
                    <a:pt x="14061" y="-22336"/>
                    <a:pt x="2132" y="-22336"/>
                  </a:cubicBezTo>
                  <a:cubicBezTo>
                    <a:pt x="1420" y="-22336"/>
                    <a:pt x="708" y="-22372"/>
                    <a:pt x="0" y="-22442"/>
                  </a:cubicBezTo>
                </a:path>
                <a:path stroke="0" w="23732" h="43200">
                  <a:moveTo>
                    <a:pt x="2131" y="0"/>
                  </a:moveTo>
                  <a:cubicBezTo>
                    <a:pt x="14061" y="0"/>
                    <a:pt x="23732" y="9670"/>
                    <a:pt x="23732" y="21600"/>
                  </a:cubicBezTo>
                  <a:cubicBezTo>
                    <a:pt x="23732" y="-32007"/>
                    <a:pt x="14061" y="-22336"/>
                    <a:pt x="2132" y="-22336"/>
                  </a:cubicBezTo>
                  <a:cubicBezTo>
                    <a:pt x="1420" y="-22336"/>
                    <a:pt x="708" y="-22372"/>
                    <a:pt x="0" y="-22442"/>
                  </a:cubicBezTo>
                  <a:lnTo>
                    <a:pt x="2132" y="21600"/>
                  </a:lnTo>
                  <a:lnTo>
                    <a:pt x="213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224"/>
            <p:cNvSpPr/>
            <p:nvPr/>
          </p:nvSpPr>
          <p:spPr>
            <a:xfrm>
              <a:off x="403200" y="2672640"/>
              <a:ext cx="143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225"/>
            <p:cNvSpPr/>
            <p:nvPr/>
          </p:nvSpPr>
          <p:spPr>
            <a:xfrm>
              <a:off x="5165280" y="2691720"/>
              <a:ext cx="143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92" name="Object 226"/>
              <p:cNvSpPr txBox="1"/>
              <p:nvPr/>
            </p:nvSpPr>
            <p:spPr>
              <a:xfrm>
                <a:off x="6432480" y="1012680"/>
                <a:ext cx="19558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X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&lt;&lt;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μ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X</m:t>
                                </m:r>
                              </m:e>
                              <m:sub>
                                <m:r>
                                  <m:t xml:space="preserve">μ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3" name="AutoShape 227"/>
          <p:cNvSpPr/>
          <p:nvPr/>
        </p:nvSpPr>
        <p:spPr>
          <a:xfrm>
            <a:off x="7302600" y="1752480"/>
            <a:ext cx="380880" cy="444600"/>
          </a:xfrm>
          <a:prstGeom prst="downArrow">
            <a:avLst>
              <a:gd name="adj1" fmla="val 50000"/>
              <a:gd name="adj2" fmla="val 291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Group 230"/>
          <p:cNvGrpSpPr/>
          <p:nvPr/>
        </p:nvGrpSpPr>
        <p:grpSpPr>
          <a:xfrm>
            <a:off x="279360" y="3959280"/>
            <a:ext cx="3666960" cy="2209680"/>
            <a:chOff x="279360" y="3959280"/>
            <a:chExt cx="3666960" cy="2209680"/>
          </a:xfrm>
        </p:grpSpPr>
        <p:sp>
          <p:nvSpPr>
            <p:cNvPr id="1495" name="Freeform 231"/>
            <p:cNvSpPr/>
            <p:nvPr/>
          </p:nvSpPr>
          <p:spPr>
            <a:xfrm>
              <a:off x="1359720" y="4840200"/>
              <a:ext cx="228960" cy="600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9252" y="0"/>
                  </a:moveTo>
                  <a:lnTo>
                    <a:pt x="9252" y="5137"/>
                  </a:lnTo>
                  <a:lnTo>
                    <a:pt x="19945" y="6490"/>
                  </a:lnTo>
                  <a:lnTo>
                    <a:pt x="0" y="8097"/>
                  </a:lnTo>
                  <a:lnTo>
                    <a:pt x="19224" y="9450"/>
                  </a:lnTo>
                  <a:lnTo>
                    <a:pt x="0" y="11332"/>
                  </a:lnTo>
                  <a:lnTo>
                    <a:pt x="19945" y="12685"/>
                  </a:lnTo>
                  <a:lnTo>
                    <a:pt x="0" y="14841"/>
                  </a:lnTo>
                  <a:lnTo>
                    <a:pt x="9252" y="15941"/>
                  </a:lnTo>
                  <a:lnTo>
                    <a:pt x="9252" y="1997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6" name="Group 232"/>
            <p:cNvGrpSpPr/>
            <p:nvPr/>
          </p:nvGrpSpPr>
          <p:grpSpPr>
            <a:xfrm>
              <a:off x="1736280" y="4835160"/>
              <a:ext cx="238680" cy="600480"/>
              <a:chOff x="1736280" y="4835160"/>
              <a:chExt cx="238680" cy="600480"/>
            </a:xfrm>
          </p:grpSpPr>
          <p:sp>
            <p:nvSpPr>
              <p:cNvPr id="1497" name="Arc 233"/>
              <p:cNvSpPr/>
              <p:nvPr/>
            </p:nvSpPr>
            <p:spPr>
              <a:xfrm>
                <a:off x="1891800" y="4924080"/>
                <a:ext cx="83160" cy="59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8" name="Group 234"/>
              <p:cNvGrpSpPr/>
              <p:nvPr/>
            </p:nvGrpSpPr>
            <p:grpSpPr>
              <a:xfrm>
                <a:off x="1741320" y="4962600"/>
                <a:ext cx="233640" cy="118080"/>
                <a:chOff x="1741320" y="4962600"/>
                <a:chExt cx="233640" cy="118080"/>
              </a:xfrm>
            </p:grpSpPr>
            <p:sp>
              <p:nvSpPr>
                <p:cNvPr id="1499" name="Arc 235"/>
                <p:cNvSpPr/>
                <p:nvPr/>
              </p:nvSpPr>
              <p:spPr>
                <a:xfrm flipV="1">
                  <a:off x="1883520" y="4987080"/>
                  <a:ext cx="91440" cy="45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Arc 236"/>
                <p:cNvSpPr/>
                <p:nvPr/>
              </p:nvSpPr>
              <p:spPr>
                <a:xfrm flipH="1" flipV="1">
                  <a:off x="1746720" y="4996080"/>
                  <a:ext cx="121320" cy="34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Arc 237"/>
                <p:cNvSpPr/>
                <p:nvPr/>
              </p:nvSpPr>
              <p:spPr>
                <a:xfrm flipH="1">
                  <a:off x="1741320" y="4962600"/>
                  <a:ext cx="79920" cy="392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Arc 238"/>
                <p:cNvSpPr/>
                <p:nvPr/>
              </p:nvSpPr>
              <p:spPr>
                <a:xfrm>
                  <a:off x="1821240" y="4962600"/>
                  <a:ext cx="153720" cy="118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3" name="Group 239"/>
              <p:cNvGrpSpPr/>
              <p:nvPr/>
            </p:nvGrpSpPr>
            <p:grpSpPr>
              <a:xfrm>
                <a:off x="1739160" y="5066280"/>
                <a:ext cx="232560" cy="118080"/>
                <a:chOff x="1739160" y="5066280"/>
                <a:chExt cx="232560" cy="118080"/>
              </a:xfrm>
            </p:grpSpPr>
            <p:sp>
              <p:nvSpPr>
                <p:cNvPr id="1504" name="Arc 240"/>
                <p:cNvSpPr/>
                <p:nvPr/>
              </p:nvSpPr>
              <p:spPr>
                <a:xfrm flipV="1">
                  <a:off x="1880280" y="5089680"/>
                  <a:ext cx="91440" cy="45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Arc 241"/>
                <p:cNvSpPr/>
                <p:nvPr/>
              </p:nvSpPr>
              <p:spPr>
                <a:xfrm flipH="1" flipV="1">
                  <a:off x="1743840" y="5100480"/>
                  <a:ext cx="121320" cy="34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Arc 242"/>
                <p:cNvSpPr/>
                <p:nvPr/>
              </p:nvSpPr>
              <p:spPr>
                <a:xfrm flipH="1">
                  <a:off x="1739160" y="5066280"/>
                  <a:ext cx="79920" cy="392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Arc 243"/>
                <p:cNvSpPr/>
                <p:nvPr/>
              </p:nvSpPr>
              <p:spPr>
                <a:xfrm>
                  <a:off x="1818000" y="5066280"/>
                  <a:ext cx="153720" cy="118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8" name="Group 244"/>
              <p:cNvGrpSpPr/>
              <p:nvPr/>
            </p:nvGrpSpPr>
            <p:grpSpPr>
              <a:xfrm>
                <a:off x="1736280" y="5174280"/>
                <a:ext cx="233280" cy="118080"/>
                <a:chOff x="1736280" y="5174280"/>
                <a:chExt cx="233280" cy="118080"/>
              </a:xfrm>
            </p:grpSpPr>
            <p:sp>
              <p:nvSpPr>
                <p:cNvPr id="1509" name="Arc 245"/>
                <p:cNvSpPr/>
                <p:nvPr/>
              </p:nvSpPr>
              <p:spPr>
                <a:xfrm flipV="1">
                  <a:off x="1878120" y="5198040"/>
                  <a:ext cx="91440" cy="45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Arc 246"/>
                <p:cNvSpPr/>
                <p:nvPr/>
              </p:nvSpPr>
              <p:spPr>
                <a:xfrm flipH="1" flipV="1">
                  <a:off x="1740960" y="5209200"/>
                  <a:ext cx="121320" cy="34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Arc 247"/>
                <p:cNvSpPr/>
                <p:nvPr/>
              </p:nvSpPr>
              <p:spPr>
                <a:xfrm flipH="1">
                  <a:off x="1736280" y="5174280"/>
                  <a:ext cx="79920" cy="392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Arc 248"/>
                <p:cNvSpPr/>
                <p:nvPr/>
              </p:nvSpPr>
              <p:spPr>
                <a:xfrm>
                  <a:off x="1815840" y="5174280"/>
                  <a:ext cx="153720" cy="118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3" name="Arc 249"/>
              <p:cNvSpPr/>
              <p:nvPr/>
            </p:nvSpPr>
            <p:spPr>
              <a:xfrm flipV="1">
                <a:off x="1895760" y="5288400"/>
                <a:ext cx="73440" cy="54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Line 250"/>
              <p:cNvSpPr/>
              <p:nvPr/>
            </p:nvSpPr>
            <p:spPr>
              <a:xfrm flipV="1">
                <a:off x="1891800" y="4835160"/>
                <a:ext cx="3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Line 251"/>
              <p:cNvSpPr/>
              <p:nvPr/>
            </p:nvSpPr>
            <p:spPr>
              <a:xfrm flipV="1">
                <a:off x="1891800" y="5351400"/>
                <a:ext cx="3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6" name="Group 252"/>
            <p:cNvGrpSpPr/>
            <p:nvPr/>
          </p:nvGrpSpPr>
          <p:grpSpPr>
            <a:xfrm>
              <a:off x="2184120" y="4197240"/>
              <a:ext cx="1190880" cy="276480"/>
              <a:chOff x="2184120" y="4197240"/>
              <a:chExt cx="1190880" cy="276480"/>
            </a:xfrm>
          </p:grpSpPr>
          <p:sp>
            <p:nvSpPr>
              <p:cNvPr id="1517" name="Freeform 253"/>
              <p:cNvSpPr/>
              <p:nvPr/>
            </p:nvSpPr>
            <p:spPr>
              <a:xfrm>
                <a:off x="2184120" y="4197240"/>
                <a:ext cx="60048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0693"/>
                    </a:moveTo>
                    <a:lnTo>
                      <a:pt x="5137" y="10693"/>
                    </a:lnTo>
                    <a:lnTo>
                      <a:pt x="6490" y="0"/>
                    </a:lnTo>
                    <a:lnTo>
                      <a:pt x="8097" y="19945"/>
                    </a:lnTo>
                    <a:lnTo>
                      <a:pt x="9450" y="720"/>
                    </a:lnTo>
                    <a:lnTo>
                      <a:pt x="11332" y="19945"/>
                    </a:lnTo>
                    <a:lnTo>
                      <a:pt x="12685" y="0"/>
                    </a:lnTo>
                    <a:lnTo>
                      <a:pt x="14841" y="19945"/>
                    </a:lnTo>
                    <a:lnTo>
                      <a:pt x="15941" y="10693"/>
                    </a:lnTo>
                    <a:lnTo>
                      <a:pt x="19979" y="106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8" name="Group 254"/>
              <p:cNvGrpSpPr/>
              <p:nvPr/>
            </p:nvGrpSpPr>
            <p:grpSpPr>
              <a:xfrm>
                <a:off x="2774520" y="4235040"/>
                <a:ext cx="600480" cy="238680"/>
                <a:chOff x="2774520" y="4235040"/>
                <a:chExt cx="600480" cy="238680"/>
              </a:xfrm>
            </p:grpSpPr>
            <p:sp>
              <p:nvSpPr>
                <p:cNvPr id="1519" name="Arc 255"/>
                <p:cNvSpPr/>
                <p:nvPr/>
              </p:nvSpPr>
              <p:spPr>
                <a:xfrm flipH="1">
                  <a:off x="2863440" y="4235040"/>
                  <a:ext cx="59040" cy="83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0" name="Group 256"/>
                <p:cNvGrpSpPr/>
                <p:nvPr/>
              </p:nvGrpSpPr>
              <p:grpSpPr>
                <a:xfrm>
                  <a:off x="2901600" y="4235040"/>
                  <a:ext cx="118440" cy="233640"/>
                  <a:chOff x="2901600" y="4235040"/>
                  <a:chExt cx="118440" cy="233640"/>
                </a:xfrm>
              </p:grpSpPr>
              <p:sp>
                <p:nvSpPr>
                  <p:cNvPr id="1521" name="Arc 257"/>
                  <p:cNvSpPr/>
                  <p:nvPr/>
                </p:nvSpPr>
                <p:spPr>
                  <a:xfrm>
                    <a:off x="2927160" y="4235040"/>
                    <a:ext cx="4572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Arc 258"/>
                  <p:cNvSpPr/>
                  <p:nvPr/>
                </p:nvSpPr>
                <p:spPr>
                  <a:xfrm flipV="1">
                    <a:off x="2936160" y="4340160"/>
                    <a:ext cx="342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Arc 259"/>
                  <p:cNvSpPr/>
                  <p:nvPr/>
                </p:nvSpPr>
                <p:spPr>
                  <a:xfrm flipH="1" flipV="1">
                    <a:off x="2901240" y="4388760"/>
                    <a:ext cx="3924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Arc 260"/>
                  <p:cNvSpPr/>
                  <p:nvPr/>
                </p:nvSpPr>
                <p:spPr>
                  <a:xfrm flipH="1">
                    <a:off x="2901960" y="4235040"/>
                    <a:ext cx="1180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5" name="Group 261"/>
                <p:cNvGrpSpPr/>
                <p:nvPr/>
              </p:nvGrpSpPr>
              <p:grpSpPr>
                <a:xfrm>
                  <a:off x="3005280" y="4237920"/>
                  <a:ext cx="118440" cy="232560"/>
                  <a:chOff x="3005280" y="4237920"/>
                  <a:chExt cx="118440" cy="232560"/>
                </a:xfrm>
              </p:grpSpPr>
              <p:sp>
                <p:nvSpPr>
                  <p:cNvPr id="1526" name="Arc 262"/>
                  <p:cNvSpPr/>
                  <p:nvPr/>
                </p:nvSpPr>
                <p:spPr>
                  <a:xfrm>
                    <a:off x="3029760" y="4237920"/>
                    <a:ext cx="4572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Arc 263"/>
                  <p:cNvSpPr/>
                  <p:nvPr/>
                </p:nvSpPr>
                <p:spPr>
                  <a:xfrm flipV="1">
                    <a:off x="3040560" y="4342680"/>
                    <a:ext cx="342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Arc 264"/>
                  <p:cNvSpPr/>
                  <p:nvPr/>
                </p:nvSpPr>
                <p:spPr>
                  <a:xfrm flipH="1" flipV="1">
                    <a:off x="3004920" y="4390560"/>
                    <a:ext cx="3924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Arc 265"/>
                  <p:cNvSpPr/>
                  <p:nvPr/>
                </p:nvSpPr>
                <p:spPr>
                  <a:xfrm flipH="1">
                    <a:off x="3005640" y="4237920"/>
                    <a:ext cx="1180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0" name="Group 266"/>
                <p:cNvGrpSpPr/>
                <p:nvPr/>
              </p:nvGrpSpPr>
              <p:grpSpPr>
                <a:xfrm>
                  <a:off x="3113280" y="4240440"/>
                  <a:ext cx="118440" cy="233280"/>
                  <a:chOff x="3113280" y="4240440"/>
                  <a:chExt cx="118440" cy="233280"/>
                </a:xfrm>
              </p:grpSpPr>
              <p:sp>
                <p:nvSpPr>
                  <p:cNvPr id="1531" name="Arc 267"/>
                  <p:cNvSpPr/>
                  <p:nvPr/>
                </p:nvSpPr>
                <p:spPr>
                  <a:xfrm>
                    <a:off x="3138120" y="4240440"/>
                    <a:ext cx="4572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Arc 268"/>
                  <p:cNvSpPr/>
                  <p:nvPr/>
                </p:nvSpPr>
                <p:spPr>
                  <a:xfrm flipV="1">
                    <a:off x="3149280" y="4345920"/>
                    <a:ext cx="342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Arc 269"/>
                  <p:cNvSpPr/>
                  <p:nvPr/>
                </p:nvSpPr>
                <p:spPr>
                  <a:xfrm flipH="1" flipV="1">
                    <a:off x="3112920" y="4393800"/>
                    <a:ext cx="3924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Arc 270"/>
                  <p:cNvSpPr/>
                  <p:nvPr/>
                </p:nvSpPr>
                <p:spPr>
                  <a:xfrm flipH="1">
                    <a:off x="3113640" y="4240440"/>
                    <a:ext cx="1180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5" name="Arc 271"/>
                <p:cNvSpPr/>
                <p:nvPr/>
              </p:nvSpPr>
              <p:spPr>
                <a:xfrm>
                  <a:off x="3227760" y="4240440"/>
                  <a:ext cx="53640" cy="734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Line 272"/>
                <p:cNvSpPr/>
                <p:nvPr/>
              </p:nvSpPr>
              <p:spPr>
                <a:xfrm flipH="1">
                  <a:off x="2774520" y="4317480"/>
                  <a:ext cx="842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Line 273"/>
                <p:cNvSpPr/>
                <p:nvPr/>
              </p:nvSpPr>
              <p:spPr>
                <a:xfrm flipH="1">
                  <a:off x="3290760" y="4317480"/>
                  <a:ext cx="842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8" name="Rectangle 274"/>
            <p:cNvSpPr/>
            <p:nvPr/>
          </p:nvSpPr>
          <p:spPr>
            <a:xfrm>
              <a:off x="2383920" y="3959280"/>
              <a:ext cx="20988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275"/>
            <p:cNvSpPr/>
            <p:nvPr/>
          </p:nvSpPr>
          <p:spPr>
            <a:xfrm>
              <a:off x="2898360" y="3959280"/>
              <a:ext cx="33372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276"/>
            <p:cNvSpPr/>
            <p:nvPr/>
          </p:nvSpPr>
          <p:spPr>
            <a:xfrm>
              <a:off x="1469520" y="4635000"/>
              <a:ext cx="419400" cy="209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033"/>
                  </a:moveTo>
                  <a:lnTo>
                    <a:pt x="0" y="0"/>
                  </a:lnTo>
                  <a:lnTo>
                    <a:pt x="19970" y="0"/>
                  </a:lnTo>
                  <a:lnTo>
                    <a:pt x="19970" y="199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277"/>
            <p:cNvSpPr/>
            <p:nvPr/>
          </p:nvSpPr>
          <p:spPr>
            <a:xfrm>
              <a:off x="1469520" y="5435280"/>
              <a:ext cx="419400" cy="209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906"/>
                  </a:moveTo>
                  <a:lnTo>
                    <a:pt x="0" y="19940"/>
                  </a:lnTo>
                  <a:lnTo>
                    <a:pt x="19970" y="19940"/>
                  </a:lnTo>
                  <a:lnTo>
                    <a:pt x="1997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Line 278"/>
            <p:cNvSpPr/>
            <p:nvPr/>
          </p:nvSpPr>
          <p:spPr>
            <a:xfrm flipV="1">
              <a:off x="1679040" y="4330440"/>
              <a:ext cx="360" cy="30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Line 279"/>
            <p:cNvSpPr/>
            <p:nvPr/>
          </p:nvSpPr>
          <p:spPr>
            <a:xfrm flipV="1">
              <a:off x="1660320" y="5635080"/>
              <a:ext cx="360" cy="30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Rectangle 280"/>
            <p:cNvSpPr/>
            <p:nvPr/>
          </p:nvSpPr>
          <p:spPr>
            <a:xfrm>
              <a:off x="1107720" y="5035320"/>
              <a:ext cx="2289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Rectangle 281"/>
            <p:cNvSpPr/>
            <p:nvPr/>
          </p:nvSpPr>
          <p:spPr>
            <a:xfrm>
              <a:off x="2012760" y="5063760"/>
              <a:ext cx="24804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Line 282"/>
            <p:cNvSpPr/>
            <p:nvPr/>
          </p:nvSpPr>
          <p:spPr>
            <a:xfrm>
              <a:off x="688680" y="4321080"/>
              <a:ext cx="14958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Line 283"/>
            <p:cNvSpPr/>
            <p:nvPr/>
          </p:nvSpPr>
          <p:spPr>
            <a:xfrm flipH="1">
              <a:off x="869400" y="4321080"/>
              <a:ext cx="286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284"/>
            <p:cNvSpPr/>
            <p:nvPr/>
          </p:nvSpPr>
          <p:spPr>
            <a:xfrm>
              <a:off x="860040" y="4368600"/>
              <a:ext cx="19080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285"/>
            <p:cNvSpPr/>
            <p:nvPr/>
          </p:nvSpPr>
          <p:spPr>
            <a:xfrm>
              <a:off x="298080" y="597780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286"/>
            <p:cNvSpPr/>
            <p:nvPr/>
          </p:nvSpPr>
          <p:spPr>
            <a:xfrm>
              <a:off x="288720" y="412092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Oval 287"/>
            <p:cNvSpPr/>
            <p:nvPr/>
          </p:nvSpPr>
          <p:spPr>
            <a:xfrm>
              <a:off x="641160" y="430200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Oval 288"/>
            <p:cNvSpPr/>
            <p:nvPr/>
          </p:nvSpPr>
          <p:spPr>
            <a:xfrm>
              <a:off x="593640" y="593028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Rectangle 289"/>
            <p:cNvSpPr/>
            <p:nvPr/>
          </p:nvSpPr>
          <p:spPr>
            <a:xfrm>
              <a:off x="364680" y="4473360"/>
              <a:ext cx="16236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290"/>
            <p:cNvSpPr/>
            <p:nvPr/>
          </p:nvSpPr>
          <p:spPr>
            <a:xfrm>
              <a:off x="279360" y="498744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Line 291"/>
            <p:cNvSpPr/>
            <p:nvPr/>
          </p:nvSpPr>
          <p:spPr>
            <a:xfrm>
              <a:off x="3384000" y="4321080"/>
              <a:ext cx="286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Line 292"/>
            <p:cNvSpPr/>
            <p:nvPr/>
          </p:nvSpPr>
          <p:spPr>
            <a:xfrm>
              <a:off x="3479400" y="4321080"/>
              <a:ext cx="766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Oval 293"/>
            <p:cNvSpPr/>
            <p:nvPr/>
          </p:nvSpPr>
          <p:spPr>
            <a:xfrm>
              <a:off x="3650760" y="429228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Oval 294"/>
            <p:cNvSpPr/>
            <p:nvPr/>
          </p:nvSpPr>
          <p:spPr>
            <a:xfrm>
              <a:off x="3650760" y="592092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Rectangle 295"/>
            <p:cNvSpPr/>
            <p:nvPr/>
          </p:nvSpPr>
          <p:spPr>
            <a:xfrm>
              <a:off x="3345840" y="440676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296"/>
            <p:cNvSpPr/>
            <p:nvPr/>
          </p:nvSpPr>
          <p:spPr>
            <a:xfrm>
              <a:off x="3660480" y="4358880"/>
              <a:ext cx="143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Rectangle 297"/>
            <p:cNvSpPr/>
            <p:nvPr/>
          </p:nvSpPr>
          <p:spPr>
            <a:xfrm>
              <a:off x="3679200" y="4073400"/>
              <a:ext cx="26712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Rectangle 298"/>
            <p:cNvSpPr/>
            <p:nvPr/>
          </p:nvSpPr>
          <p:spPr>
            <a:xfrm>
              <a:off x="3698280" y="598752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Rectangle 299"/>
            <p:cNvSpPr/>
            <p:nvPr/>
          </p:nvSpPr>
          <p:spPr>
            <a:xfrm>
              <a:off x="3612600" y="5063760"/>
              <a:ext cx="25740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Line 300"/>
            <p:cNvSpPr/>
            <p:nvPr/>
          </p:nvSpPr>
          <p:spPr>
            <a:xfrm>
              <a:off x="1469520" y="5463720"/>
              <a:ext cx="360" cy="7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Line 301"/>
            <p:cNvSpPr/>
            <p:nvPr/>
          </p:nvSpPr>
          <p:spPr>
            <a:xfrm>
              <a:off x="1888920" y="5463720"/>
              <a:ext cx="360" cy="7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302"/>
            <p:cNvSpPr/>
            <p:nvPr/>
          </p:nvSpPr>
          <p:spPr>
            <a:xfrm>
              <a:off x="1174680" y="543528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303"/>
            <p:cNvSpPr/>
            <p:nvPr/>
          </p:nvSpPr>
          <p:spPr>
            <a:xfrm>
              <a:off x="1955520" y="543528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Line 304"/>
            <p:cNvSpPr/>
            <p:nvPr/>
          </p:nvSpPr>
          <p:spPr>
            <a:xfrm>
              <a:off x="593640" y="5949360"/>
              <a:ext cx="30862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9" name="Rectangle 305"/>
          <p:cNvSpPr/>
          <p:nvPr/>
        </p:nvSpPr>
        <p:spPr>
          <a:xfrm>
            <a:off x="6210360" y="3425040"/>
            <a:ext cx="3174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istenza totale ridotta a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ttanza di dispersione totale ridotta a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istenza totale ridotta a second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ttanza di dispersione totale ridotta a seco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0" name="Object 309"/>
              <p:cNvSpPr txBox="1"/>
              <p:nvPr/>
            </p:nvSpPr>
            <p:spPr>
              <a:xfrm>
                <a:off x="4124160" y="3573360"/>
                <a:ext cx="17132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1" name="Object 308"/>
              <p:cNvSpPr txBox="1"/>
              <p:nvPr/>
            </p:nvSpPr>
            <p:spPr>
              <a:xfrm>
                <a:off x="4098960" y="4424400"/>
                <a:ext cx="20397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2" name="Object 307"/>
              <p:cNvSpPr txBox="1"/>
              <p:nvPr/>
            </p:nvSpPr>
            <p:spPr>
              <a:xfrm>
                <a:off x="4098960" y="5184720"/>
                <a:ext cx="1790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3" name="Object 306"/>
              <p:cNvSpPr txBox="1"/>
              <p:nvPr/>
            </p:nvSpPr>
            <p:spPr>
              <a:xfrm>
                <a:off x="4149720" y="6010200"/>
                <a:ext cx="20480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4" name="Rectangle 310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ectangle 312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314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Text Box 2"/>
          <p:cNvSpPr/>
          <p:nvPr/>
        </p:nvSpPr>
        <p:spPr>
          <a:xfrm>
            <a:off x="1219320" y="1778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ROVA  A  VU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3"/>
          <p:cNvSpPr/>
          <p:nvPr/>
        </p:nvSpPr>
        <p:spPr>
          <a:xfrm>
            <a:off x="457200" y="4157640"/>
            <a:ext cx="82677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rova a vuoto viene eseguita alimentando il primario con la sua tensione nominale e mantenendo il secondario in circuito aperto e misurando a primario, la tensione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,  la corrente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e la potenza attiva assorbita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Rectangle 4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5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Rectangle 6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2" name="Group 7"/>
          <p:cNvGrpSpPr/>
          <p:nvPr/>
        </p:nvGrpSpPr>
        <p:grpSpPr>
          <a:xfrm>
            <a:off x="343080" y="1139760"/>
            <a:ext cx="5590800" cy="2401560"/>
            <a:chOff x="343080" y="1139760"/>
            <a:chExt cx="5590800" cy="2401560"/>
          </a:xfrm>
        </p:grpSpPr>
        <p:grpSp>
          <p:nvGrpSpPr>
            <p:cNvPr id="1583" name="Group 8"/>
            <p:cNvGrpSpPr/>
            <p:nvPr/>
          </p:nvGrpSpPr>
          <p:grpSpPr>
            <a:xfrm>
              <a:off x="2514240" y="1244160"/>
              <a:ext cx="3419640" cy="2297160"/>
              <a:chOff x="2514240" y="1244160"/>
              <a:chExt cx="3419640" cy="2297160"/>
            </a:xfrm>
          </p:grpSpPr>
          <p:grpSp>
            <p:nvGrpSpPr>
              <p:cNvPr id="1584" name="Group 9"/>
              <p:cNvGrpSpPr/>
              <p:nvPr/>
            </p:nvGrpSpPr>
            <p:grpSpPr>
              <a:xfrm>
                <a:off x="3666600" y="1482120"/>
                <a:ext cx="1191240" cy="276480"/>
                <a:chOff x="3666600" y="1482120"/>
                <a:chExt cx="1191240" cy="276480"/>
              </a:xfrm>
            </p:grpSpPr>
            <p:sp>
              <p:nvSpPr>
                <p:cNvPr id="1585" name="Freeform 10"/>
                <p:cNvSpPr/>
                <p:nvPr/>
              </p:nvSpPr>
              <p:spPr>
                <a:xfrm>
                  <a:off x="3666600" y="1482120"/>
                  <a:ext cx="600840" cy="229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0693"/>
                      </a:moveTo>
                      <a:lnTo>
                        <a:pt x="5137" y="10693"/>
                      </a:lnTo>
                      <a:lnTo>
                        <a:pt x="6490" y="0"/>
                      </a:lnTo>
                      <a:lnTo>
                        <a:pt x="8097" y="19945"/>
                      </a:lnTo>
                      <a:lnTo>
                        <a:pt x="9450" y="720"/>
                      </a:lnTo>
                      <a:lnTo>
                        <a:pt x="11332" y="19945"/>
                      </a:lnTo>
                      <a:lnTo>
                        <a:pt x="12685" y="0"/>
                      </a:lnTo>
                      <a:lnTo>
                        <a:pt x="14841" y="19945"/>
                      </a:lnTo>
                      <a:lnTo>
                        <a:pt x="15941" y="10693"/>
                      </a:lnTo>
                      <a:lnTo>
                        <a:pt x="19979" y="106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6" name="Group 11"/>
                <p:cNvGrpSpPr/>
                <p:nvPr/>
              </p:nvGrpSpPr>
              <p:grpSpPr>
                <a:xfrm>
                  <a:off x="4257000" y="1519920"/>
                  <a:ext cx="600840" cy="238680"/>
                  <a:chOff x="4257000" y="1519920"/>
                  <a:chExt cx="600840" cy="238680"/>
                </a:xfrm>
              </p:grpSpPr>
              <p:sp>
                <p:nvSpPr>
                  <p:cNvPr id="1587" name="Arc 12"/>
                  <p:cNvSpPr/>
                  <p:nvPr/>
                </p:nvSpPr>
                <p:spPr>
                  <a:xfrm flipH="1">
                    <a:off x="4345920" y="1519920"/>
                    <a:ext cx="5904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8" name="Group 13"/>
                  <p:cNvGrpSpPr/>
                  <p:nvPr/>
                </p:nvGrpSpPr>
                <p:grpSpPr>
                  <a:xfrm>
                    <a:off x="4384080" y="1519920"/>
                    <a:ext cx="118440" cy="234000"/>
                    <a:chOff x="4384080" y="1519920"/>
                    <a:chExt cx="118440" cy="234000"/>
                  </a:xfrm>
                </p:grpSpPr>
                <p:sp>
                  <p:nvSpPr>
                    <p:cNvPr id="1589" name="Arc 14"/>
                    <p:cNvSpPr/>
                    <p:nvPr/>
                  </p:nvSpPr>
                  <p:spPr>
                    <a:xfrm>
                      <a:off x="4409640" y="1519920"/>
                      <a:ext cx="457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0" name="Arc 15"/>
                    <p:cNvSpPr/>
                    <p:nvPr/>
                  </p:nvSpPr>
                  <p:spPr>
                    <a:xfrm flipV="1">
                      <a:off x="4418640" y="1625400"/>
                      <a:ext cx="3420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1" name="Arc 16"/>
                    <p:cNvSpPr/>
                    <p:nvPr/>
                  </p:nvSpPr>
                  <p:spPr>
                    <a:xfrm flipH="1" flipV="1">
                      <a:off x="4383720" y="1674000"/>
                      <a:ext cx="39240" cy="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2" name="Arc 17"/>
                    <p:cNvSpPr/>
                    <p:nvPr/>
                  </p:nvSpPr>
                  <p:spPr>
                    <a:xfrm flipH="1">
                      <a:off x="4384440" y="1519920"/>
                      <a:ext cx="11808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3" name="Group 18"/>
                  <p:cNvGrpSpPr/>
                  <p:nvPr/>
                </p:nvGrpSpPr>
                <p:grpSpPr>
                  <a:xfrm>
                    <a:off x="4487760" y="1522800"/>
                    <a:ext cx="118440" cy="232560"/>
                    <a:chOff x="4487760" y="1522800"/>
                    <a:chExt cx="118440" cy="232560"/>
                  </a:xfrm>
                </p:grpSpPr>
                <p:sp>
                  <p:nvSpPr>
                    <p:cNvPr id="1594" name="Arc 19"/>
                    <p:cNvSpPr/>
                    <p:nvPr/>
                  </p:nvSpPr>
                  <p:spPr>
                    <a:xfrm>
                      <a:off x="4512240" y="1522800"/>
                      <a:ext cx="457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5" name="Arc 20"/>
                    <p:cNvSpPr/>
                    <p:nvPr/>
                  </p:nvSpPr>
                  <p:spPr>
                    <a:xfrm flipV="1">
                      <a:off x="4523040" y="1628280"/>
                      <a:ext cx="34200" cy="12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6" name="Arc 21"/>
                    <p:cNvSpPr/>
                    <p:nvPr/>
                  </p:nvSpPr>
                  <p:spPr>
                    <a:xfrm flipH="1" flipV="1">
                      <a:off x="4487400" y="1674720"/>
                      <a:ext cx="3924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7" name="Arc 22"/>
                    <p:cNvSpPr/>
                    <p:nvPr/>
                  </p:nvSpPr>
                  <p:spPr>
                    <a:xfrm flipH="1">
                      <a:off x="4488120" y="1522800"/>
                      <a:ext cx="11808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8" name="Group 23"/>
                  <p:cNvGrpSpPr/>
                  <p:nvPr/>
                </p:nvGrpSpPr>
                <p:grpSpPr>
                  <a:xfrm>
                    <a:off x="4595760" y="1525320"/>
                    <a:ext cx="118440" cy="233280"/>
                    <a:chOff x="4595760" y="1525320"/>
                    <a:chExt cx="118440" cy="233280"/>
                  </a:xfrm>
                </p:grpSpPr>
                <p:sp>
                  <p:nvSpPr>
                    <p:cNvPr id="1599" name="Arc 24"/>
                    <p:cNvSpPr/>
                    <p:nvPr/>
                  </p:nvSpPr>
                  <p:spPr>
                    <a:xfrm>
                      <a:off x="4620600" y="1525320"/>
                      <a:ext cx="4572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0" name="Arc 25"/>
                    <p:cNvSpPr/>
                    <p:nvPr/>
                  </p:nvSpPr>
                  <p:spPr>
                    <a:xfrm flipV="1">
                      <a:off x="4631760" y="1631520"/>
                      <a:ext cx="34200" cy="12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1" name="Arc 26"/>
                    <p:cNvSpPr/>
                    <p:nvPr/>
                  </p:nvSpPr>
                  <p:spPr>
                    <a:xfrm flipH="1" flipV="1">
                      <a:off x="4595400" y="1677960"/>
                      <a:ext cx="3924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2" name="Arc 27"/>
                    <p:cNvSpPr/>
                    <p:nvPr/>
                  </p:nvSpPr>
                  <p:spPr>
                    <a:xfrm flipH="1">
                      <a:off x="4596120" y="1525320"/>
                      <a:ext cx="11808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03" name="Arc 28"/>
                  <p:cNvSpPr/>
                  <p:nvPr/>
                </p:nvSpPr>
                <p:spPr>
                  <a:xfrm>
                    <a:off x="4710600" y="1525320"/>
                    <a:ext cx="5364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Line 29"/>
                  <p:cNvSpPr/>
                  <p:nvPr/>
                </p:nvSpPr>
                <p:spPr>
                  <a:xfrm flipH="1">
                    <a:off x="4257000" y="1602360"/>
                    <a:ext cx="84240" cy="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Line 30"/>
                  <p:cNvSpPr/>
                  <p:nvPr/>
                </p:nvSpPr>
                <p:spPr>
                  <a:xfrm flipH="1">
                    <a:off x="4773600" y="1602360"/>
                    <a:ext cx="84240" cy="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06" name="Rectangle 31"/>
              <p:cNvSpPr/>
              <p:nvPr/>
            </p:nvSpPr>
            <p:spPr>
              <a:xfrm>
                <a:off x="3885840" y="1244160"/>
                <a:ext cx="2102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Rectangle 32"/>
              <p:cNvSpPr/>
              <p:nvPr/>
            </p:nvSpPr>
            <p:spPr>
              <a:xfrm>
                <a:off x="4447800" y="1253520"/>
                <a:ext cx="29592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Rectangle 33"/>
              <p:cNvSpPr/>
              <p:nvPr/>
            </p:nvSpPr>
            <p:spPr>
              <a:xfrm>
                <a:off x="2856960" y="2244600"/>
                <a:ext cx="21960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Rectangle 34"/>
              <p:cNvSpPr/>
              <p:nvPr/>
            </p:nvSpPr>
            <p:spPr>
              <a:xfrm>
                <a:off x="3733200" y="2263680"/>
                <a:ext cx="20052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Line 35"/>
              <p:cNvSpPr/>
              <p:nvPr/>
            </p:nvSpPr>
            <p:spPr>
              <a:xfrm>
                <a:off x="2771280" y="1606320"/>
                <a:ext cx="8956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Line 36"/>
              <p:cNvSpPr/>
              <p:nvPr/>
            </p:nvSpPr>
            <p:spPr>
              <a:xfrm>
                <a:off x="4828680" y="1606320"/>
                <a:ext cx="80064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Line 37"/>
              <p:cNvSpPr/>
              <p:nvPr/>
            </p:nvSpPr>
            <p:spPr>
              <a:xfrm flipH="1">
                <a:off x="2913840" y="3235680"/>
                <a:ext cx="27342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Oval 38"/>
              <p:cNvSpPr/>
              <p:nvPr/>
            </p:nvSpPr>
            <p:spPr>
              <a:xfrm>
                <a:off x="5609880" y="1586880"/>
                <a:ext cx="38520" cy="38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Line 39"/>
              <p:cNvSpPr/>
              <p:nvPr/>
            </p:nvSpPr>
            <p:spPr>
              <a:xfrm flipV="1">
                <a:off x="3381120" y="1682280"/>
                <a:ext cx="3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Line 40"/>
              <p:cNvSpPr/>
              <p:nvPr/>
            </p:nvSpPr>
            <p:spPr>
              <a:xfrm flipH="1">
                <a:off x="2771280" y="3235680"/>
                <a:ext cx="1339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Rectangle 41"/>
              <p:cNvSpPr/>
              <p:nvPr/>
            </p:nvSpPr>
            <p:spPr>
              <a:xfrm>
                <a:off x="2847600" y="1663200"/>
                <a:ext cx="21024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Rectangle 42"/>
              <p:cNvSpPr/>
              <p:nvPr/>
            </p:nvSpPr>
            <p:spPr>
              <a:xfrm>
                <a:off x="2514240" y="3273840"/>
                <a:ext cx="21024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Rectangle 43"/>
              <p:cNvSpPr/>
              <p:nvPr/>
            </p:nvSpPr>
            <p:spPr>
              <a:xfrm>
                <a:off x="2552400" y="1406160"/>
                <a:ext cx="20988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Oval 44"/>
              <p:cNvSpPr/>
              <p:nvPr/>
            </p:nvSpPr>
            <p:spPr>
              <a:xfrm>
                <a:off x="2742840" y="1586880"/>
                <a:ext cx="38520" cy="38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Oval 45"/>
              <p:cNvSpPr/>
              <p:nvPr/>
            </p:nvSpPr>
            <p:spPr>
              <a:xfrm>
                <a:off x="2742840" y="3216600"/>
                <a:ext cx="38520" cy="38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Oval 46"/>
              <p:cNvSpPr/>
              <p:nvPr/>
            </p:nvSpPr>
            <p:spPr>
              <a:xfrm>
                <a:off x="5647680" y="3216600"/>
                <a:ext cx="38520" cy="38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Rectangle 47"/>
              <p:cNvSpPr/>
              <p:nvPr/>
            </p:nvSpPr>
            <p:spPr>
              <a:xfrm>
                <a:off x="2580840" y="1672920"/>
                <a:ext cx="172080" cy="19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Rectangle 48"/>
              <p:cNvSpPr/>
              <p:nvPr/>
            </p:nvSpPr>
            <p:spPr>
              <a:xfrm>
                <a:off x="5619240" y="1339200"/>
                <a:ext cx="31464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Rectangle 49"/>
              <p:cNvSpPr/>
              <p:nvPr/>
            </p:nvSpPr>
            <p:spPr>
              <a:xfrm>
                <a:off x="5609880" y="3312000"/>
                <a:ext cx="25776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Rectangle 50"/>
              <p:cNvSpPr/>
              <p:nvPr/>
            </p:nvSpPr>
            <p:spPr>
              <a:xfrm>
                <a:off x="4990680" y="1272600"/>
                <a:ext cx="42912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2 </a:t>
                </a: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= 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Rectangle 51"/>
              <p:cNvSpPr/>
              <p:nvPr/>
            </p:nvSpPr>
            <p:spPr>
              <a:xfrm>
                <a:off x="2514240" y="2340000"/>
                <a:ext cx="21024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V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7" name="Group 52"/>
              <p:cNvGrpSpPr/>
              <p:nvPr/>
            </p:nvGrpSpPr>
            <p:grpSpPr>
              <a:xfrm>
                <a:off x="3061440" y="1606320"/>
                <a:ext cx="615240" cy="1611000"/>
                <a:chOff x="3061440" y="1606320"/>
                <a:chExt cx="615240" cy="1611000"/>
              </a:xfrm>
            </p:grpSpPr>
            <p:sp>
              <p:nvSpPr>
                <p:cNvPr id="1628" name="Freeform 53"/>
                <p:cNvSpPr/>
                <p:nvPr/>
              </p:nvSpPr>
              <p:spPr>
                <a:xfrm>
                  <a:off x="3061440" y="2097360"/>
                  <a:ext cx="229320" cy="600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9252" y="0"/>
                      </a:moveTo>
                      <a:lnTo>
                        <a:pt x="9252" y="5137"/>
                      </a:lnTo>
                      <a:lnTo>
                        <a:pt x="19945" y="6490"/>
                      </a:lnTo>
                      <a:lnTo>
                        <a:pt x="0" y="8097"/>
                      </a:lnTo>
                      <a:lnTo>
                        <a:pt x="19224" y="9450"/>
                      </a:lnTo>
                      <a:lnTo>
                        <a:pt x="0" y="11332"/>
                      </a:lnTo>
                      <a:lnTo>
                        <a:pt x="19945" y="12685"/>
                      </a:lnTo>
                      <a:lnTo>
                        <a:pt x="0" y="14841"/>
                      </a:lnTo>
                      <a:lnTo>
                        <a:pt x="9252" y="15941"/>
                      </a:lnTo>
                      <a:lnTo>
                        <a:pt x="9252" y="1997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9" name="Group 54"/>
                <p:cNvGrpSpPr/>
                <p:nvPr/>
              </p:nvGrpSpPr>
              <p:grpSpPr>
                <a:xfrm>
                  <a:off x="3171240" y="1606320"/>
                  <a:ext cx="505440" cy="1611000"/>
                  <a:chOff x="3171240" y="1606320"/>
                  <a:chExt cx="505440" cy="1611000"/>
                </a:xfrm>
              </p:grpSpPr>
              <p:grpSp>
                <p:nvGrpSpPr>
                  <p:cNvPr id="1630" name="Group 55"/>
                  <p:cNvGrpSpPr/>
                  <p:nvPr/>
                </p:nvGrpSpPr>
                <p:grpSpPr>
                  <a:xfrm>
                    <a:off x="3438000" y="2111400"/>
                    <a:ext cx="238680" cy="600840"/>
                    <a:chOff x="3438000" y="2111400"/>
                    <a:chExt cx="238680" cy="600840"/>
                  </a:xfrm>
                </p:grpSpPr>
                <p:sp>
                  <p:nvSpPr>
                    <p:cNvPr id="1631" name="Arc 56"/>
                    <p:cNvSpPr/>
                    <p:nvPr/>
                  </p:nvSpPr>
                  <p:spPr>
                    <a:xfrm>
                      <a:off x="3593520" y="2200320"/>
                      <a:ext cx="83160" cy="5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240" bIns="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632" name="Group 57"/>
                    <p:cNvGrpSpPr/>
                    <p:nvPr/>
                  </p:nvGrpSpPr>
                  <p:grpSpPr>
                    <a:xfrm>
                      <a:off x="3443040" y="2238840"/>
                      <a:ext cx="233640" cy="118080"/>
                      <a:chOff x="3443040" y="2238840"/>
                      <a:chExt cx="233640" cy="118080"/>
                    </a:xfrm>
                  </p:grpSpPr>
                  <p:sp>
                    <p:nvSpPr>
                      <p:cNvPr id="1633" name="Arc 58"/>
                      <p:cNvSpPr/>
                      <p:nvPr/>
                    </p:nvSpPr>
                    <p:spPr>
                      <a:xfrm flipV="1">
                        <a:off x="3585240" y="2263320"/>
                        <a:ext cx="91440" cy="45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" bIns="-1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4" name="Arc 59"/>
                      <p:cNvSpPr/>
                      <p:nvPr/>
                    </p:nvSpPr>
                    <p:spPr>
                      <a:xfrm flipH="1" flipV="1">
                        <a:off x="3448440" y="2272320"/>
                        <a:ext cx="121320" cy="3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600" bIns="-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5" name="Arc 60"/>
                      <p:cNvSpPr/>
                      <p:nvPr/>
                    </p:nvSpPr>
                    <p:spPr>
                      <a:xfrm flipH="1">
                        <a:off x="3443040" y="2238840"/>
                        <a:ext cx="79920" cy="3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560" bIns="-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6" name="Arc 61"/>
                      <p:cNvSpPr/>
                      <p:nvPr/>
                    </p:nvSpPr>
                    <p:spPr>
                      <a:xfrm>
                        <a:off x="3522960" y="2238840"/>
                        <a:ext cx="153720" cy="11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37" name="Group 62"/>
                    <p:cNvGrpSpPr/>
                    <p:nvPr/>
                  </p:nvGrpSpPr>
                  <p:grpSpPr>
                    <a:xfrm>
                      <a:off x="3440880" y="2342520"/>
                      <a:ext cx="232560" cy="118080"/>
                      <a:chOff x="3440880" y="2342520"/>
                      <a:chExt cx="232560" cy="118080"/>
                    </a:xfrm>
                  </p:grpSpPr>
                  <p:sp>
                    <p:nvSpPr>
                      <p:cNvPr id="1638" name="Arc 63"/>
                      <p:cNvSpPr/>
                      <p:nvPr/>
                    </p:nvSpPr>
                    <p:spPr>
                      <a:xfrm flipV="1">
                        <a:off x="3582000" y="2365920"/>
                        <a:ext cx="91440" cy="45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" bIns="-1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9" name="Arc 64"/>
                      <p:cNvSpPr/>
                      <p:nvPr/>
                    </p:nvSpPr>
                    <p:spPr>
                      <a:xfrm flipH="1" flipV="1">
                        <a:off x="3445560" y="2376720"/>
                        <a:ext cx="121320" cy="3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600" bIns="-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0" name="Arc 65"/>
                      <p:cNvSpPr/>
                      <p:nvPr/>
                    </p:nvSpPr>
                    <p:spPr>
                      <a:xfrm flipH="1">
                        <a:off x="3440880" y="2342520"/>
                        <a:ext cx="79920" cy="3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560" bIns="-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1" name="Arc 66"/>
                      <p:cNvSpPr/>
                      <p:nvPr/>
                    </p:nvSpPr>
                    <p:spPr>
                      <a:xfrm>
                        <a:off x="3519720" y="2342520"/>
                        <a:ext cx="153720" cy="11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42" name="Group 67"/>
                    <p:cNvGrpSpPr/>
                    <p:nvPr/>
                  </p:nvGrpSpPr>
                  <p:grpSpPr>
                    <a:xfrm>
                      <a:off x="3438000" y="2450520"/>
                      <a:ext cx="233280" cy="118080"/>
                      <a:chOff x="3438000" y="2450520"/>
                      <a:chExt cx="233280" cy="118080"/>
                    </a:xfrm>
                  </p:grpSpPr>
                  <p:sp>
                    <p:nvSpPr>
                      <p:cNvPr id="1643" name="Arc 68"/>
                      <p:cNvSpPr/>
                      <p:nvPr/>
                    </p:nvSpPr>
                    <p:spPr>
                      <a:xfrm flipV="1">
                        <a:off x="3579840" y="2474640"/>
                        <a:ext cx="91440" cy="45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" bIns="-1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4" name="Arc 69"/>
                      <p:cNvSpPr/>
                      <p:nvPr/>
                    </p:nvSpPr>
                    <p:spPr>
                      <a:xfrm flipH="1" flipV="1">
                        <a:off x="3442680" y="2485440"/>
                        <a:ext cx="121320" cy="3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600" bIns="-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5" name="Arc 70"/>
                      <p:cNvSpPr/>
                      <p:nvPr/>
                    </p:nvSpPr>
                    <p:spPr>
                      <a:xfrm flipH="1">
                        <a:off x="3438000" y="2450520"/>
                        <a:ext cx="79920" cy="3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560" bIns="-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6" name="Arc 71"/>
                      <p:cNvSpPr/>
                      <p:nvPr/>
                    </p:nvSpPr>
                    <p:spPr>
                      <a:xfrm>
                        <a:off x="3517560" y="2450520"/>
                        <a:ext cx="153720" cy="11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47" name="Arc 72"/>
                    <p:cNvSpPr/>
                    <p:nvPr/>
                  </p:nvSpPr>
                  <p:spPr>
                    <a:xfrm flipV="1">
                      <a:off x="3597480" y="2564280"/>
                      <a:ext cx="7344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8" name="Line 73"/>
                    <p:cNvSpPr/>
                    <p:nvPr/>
                  </p:nvSpPr>
                  <p:spPr>
                    <a:xfrm flipV="1">
                      <a:off x="3593520" y="2111400"/>
                      <a:ext cx="360" cy="84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9" name="Line 74"/>
                    <p:cNvSpPr/>
                    <p:nvPr/>
                  </p:nvSpPr>
                  <p:spPr>
                    <a:xfrm flipV="1">
                      <a:off x="3593520" y="2628000"/>
                      <a:ext cx="360" cy="84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50" name="Freeform 75"/>
                  <p:cNvSpPr/>
                  <p:nvPr/>
                </p:nvSpPr>
                <p:spPr>
                  <a:xfrm>
                    <a:off x="3171240" y="1911240"/>
                    <a:ext cx="419760" cy="21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033"/>
                        </a:moveTo>
                        <a:lnTo>
                          <a:pt x="0" y="0"/>
                        </a:lnTo>
                        <a:lnTo>
                          <a:pt x="19970" y="0"/>
                        </a:lnTo>
                        <a:lnTo>
                          <a:pt x="19970" y="1994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Freeform 76"/>
                  <p:cNvSpPr/>
                  <p:nvPr/>
                </p:nvSpPr>
                <p:spPr>
                  <a:xfrm>
                    <a:off x="3171240" y="2711520"/>
                    <a:ext cx="419760" cy="21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906"/>
                        </a:moveTo>
                        <a:lnTo>
                          <a:pt x="0" y="19940"/>
                        </a:lnTo>
                        <a:lnTo>
                          <a:pt x="19970" y="19940"/>
                        </a:lnTo>
                        <a:lnTo>
                          <a:pt x="1997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77"/>
                  <p:cNvSpPr/>
                  <p:nvPr/>
                </p:nvSpPr>
                <p:spPr>
                  <a:xfrm flipV="1">
                    <a:off x="3380760" y="1606320"/>
                    <a:ext cx="360" cy="305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Line 78"/>
                  <p:cNvSpPr/>
                  <p:nvPr/>
                </p:nvSpPr>
                <p:spPr>
                  <a:xfrm flipV="1">
                    <a:off x="3361680" y="2912040"/>
                    <a:ext cx="360" cy="305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Line 79"/>
                  <p:cNvSpPr/>
                  <p:nvPr/>
                </p:nvSpPr>
                <p:spPr>
                  <a:xfrm>
                    <a:off x="3171240" y="2740320"/>
                    <a:ext cx="360" cy="76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80"/>
                  <p:cNvSpPr/>
                  <p:nvPr/>
                </p:nvSpPr>
                <p:spPr>
                  <a:xfrm>
                    <a:off x="3590280" y="2740320"/>
                    <a:ext cx="360" cy="76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56" name="Rectangle 81"/>
              <p:cNvSpPr/>
              <p:nvPr/>
            </p:nvSpPr>
            <p:spPr>
              <a:xfrm>
                <a:off x="2895120" y="2644920"/>
                <a:ext cx="21024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Rectangle 82"/>
              <p:cNvSpPr/>
              <p:nvPr/>
            </p:nvSpPr>
            <p:spPr>
              <a:xfrm>
                <a:off x="3457080" y="1653840"/>
                <a:ext cx="20988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Rectangle 83"/>
              <p:cNvSpPr/>
              <p:nvPr/>
            </p:nvSpPr>
            <p:spPr>
              <a:xfrm>
                <a:off x="3676320" y="2692440"/>
                <a:ext cx="21024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Line 84"/>
              <p:cNvSpPr/>
              <p:nvPr/>
            </p:nvSpPr>
            <p:spPr>
              <a:xfrm>
                <a:off x="5057280" y="1606320"/>
                <a:ext cx="20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0" name="Oval 85"/>
            <p:cNvSpPr/>
            <p:nvPr/>
          </p:nvSpPr>
          <p:spPr>
            <a:xfrm>
              <a:off x="628200" y="2149560"/>
              <a:ext cx="390240" cy="42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86"/>
            <p:cNvSpPr/>
            <p:nvPr/>
          </p:nvSpPr>
          <p:spPr>
            <a:xfrm>
              <a:off x="818640" y="1606680"/>
              <a:ext cx="0" cy="16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87"/>
            <p:cNvSpPr/>
            <p:nvPr/>
          </p:nvSpPr>
          <p:spPr>
            <a:xfrm>
              <a:off x="523800" y="1958400"/>
              <a:ext cx="17208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88"/>
            <p:cNvSpPr/>
            <p:nvPr/>
          </p:nvSpPr>
          <p:spPr>
            <a:xfrm>
              <a:off x="343080" y="2292120"/>
              <a:ext cx="26712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Line 89"/>
            <p:cNvSpPr/>
            <p:nvPr/>
          </p:nvSpPr>
          <p:spPr>
            <a:xfrm>
              <a:off x="818640" y="160668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90"/>
            <p:cNvSpPr/>
            <p:nvPr/>
          </p:nvSpPr>
          <p:spPr>
            <a:xfrm>
              <a:off x="818640" y="3245760"/>
              <a:ext cx="197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6" name="Group 91"/>
            <p:cNvGrpSpPr/>
            <p:nvPr/>
          </p:nvGrpSpPr>
          <p:grpSpPr>
            <a:xfrm>
              <a:off x="1152000" y="2254680"/>
              <a:ext cx="360000" cy="360000"/>
              <a:chOff x="1152000" y="2254680"/>
              <a:chExt cx="360000" cy="360000"/>
            </a:xfrm>
          </p:grpSpPr>
          <p:sp>
            <p:nvSpPr>
              <p:cNvPr id="1667" name="Oval 92"/>
              <p:cNvSpPr/>
              <p:nvPr/>
            </p:nvSpPr>
            <p:spPr>
              <a:xfrm>
                <a:off x="1152000" y="2254680"/>
                <a:ext cx="360000" cy="360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Rectangle 93"/>
              <p:cNvSpPr/>
              <p:nvPr/>
            </p:nvSpPr>
            <p:spPr>
              <a:xfrm>
                <a:off x="1256400" y="2349720"/>
                <a:ext cx="181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9" name="Group 94"/>
            <p:cNvGrpSpPr/>
            <p:nvPr/>
          </p:nvGrpSpPr>
          <p:grpSpPr>
            <a:xfrm>
              <a:off x="1485360" y="1415880"/>
              <a:ext cx="360000" cy="360000"/>
              <a:chOff x="1485360" y="1415880"/>
              <a:chExt cx="360000" cy="360000"/>
            </a:xfrm>
          </p:grpSpPr>
          <p:sp>
            <p:nvSpPr>
              <p:cNvPr id="1670" name="Oval 95"/>
              <p:cNvSpPr/>
              <p:nvPr/>
            </p:nvSpPr>
            <p:spPr>
              <a:xfrm>
                <a:off x="1485360" y="1415880"/>
                <a:ext cx="360000" cy="360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Rectangle 96"/>
              <p:cNvSpPr/>
              <p:nvPr/>
            </p:nvSpPr>
            <p:spPr>
              <a:xfrm>
                <a:off x="1589760" y="1510920"/>
                <a:ext cx="181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2" name="Group 97"/>
            <p:cNvGrpSpPr/>
            <p:nvPr/>
          </p:nvGrpSpPr>
          <p:grpSpPr>
            <a:xfrm>
              <a:off x="2037600" y="1415880"/>
              <a:ext cx="360000" cy="360000"/>
              <a:chOff x="2037600" y="1415880"/>
              <a:chExt cx="360000" cy="360000"/>
            </a:xfrm>
          </p:grpSpPr>
          <p:sp>
            <p:nvSpPr>
              <p:cNvPr id="1673" name="Oval 98"/>
              <p:cNvSpPr/>
              <p:nvPr/>
            </p:nvSpPr>
            <p:spPr>
              <a:xfrm>
                <a:off x="2037600" y="1415880"/>
                <a:ext cx="360000" cy="360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Rectangle 99"/>
              <p:cNvSpPr/>
              <p:nvPr/>
            </p:nvSpPr>
            <p:spPr>
              <a:xfrm>
                <a:off x="2142000" y="1510920"/>
                <a:ext cx="181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5" name="Oval 100"/>
            <p:cNvSpPr/>
            <p:nvPr/>
          </p:nvSpPr>
          <p:spPr>
            <a:xfrm>
              <a:off x="1324080" y="159624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Oval 101"/>
            <p:cNvSpPr/>
            <p:nvPr/>
          </p:nvSpPr>
          <p:spPr>
            <a:xfrm>
              <a:off x="1305000" y="322596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Oval 102"/>
            <p:cNvSpPr/>
            <p:nvPr/>
          </p:nvSpPr>
          <p:spPr>
            <a:xfrm>
              <a:off x="2209680" y="321624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Line 103"/>
            <p:cNvSpPr/>
            <p:nvPr/>
          </p:nvSpPr>
          <p:spPr>
            <a:xfrm flipV="1">
              <a:off x="1342440" y="1606320"/>
              <a:ext cx="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Line 104"/>
            <p:cNvSpPr/>
            <p:nvPr/>
          </p:nvSpPr>
          <p:spPr>
            <a:xfrm flipV="1">
              <a:off x="1323360" y="2625840"/>
              <a:ext cx="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Line 105"/>
            <p:cNvSpPr/>
            <p:nvPr/>
          </p:nvSpPr>
          <p:spPr>
            <a:xfrm>
              <a:off x="1847160" y="161604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Line 106"/>
            <p:cNvSpPr/>
            <p:nvPr/>
          </p:nvSpPr>
          <p:spPr>
            <a:xfrm>
              <a:off x="2409120" y="1606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Oval 107"/>
            <p:cNvSpPr/>
            <p:nvPr/>
          </p:nvSpPr>
          <p:spPr>
            <a:xfrm>
              <a:off x="1914480" y="158688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08"/>
            <p:cNvSpPr/>
            <p:nvPr/>
          </p:nvSpPr>
          <p:spPr>
            <a:xfrm>
              <a:off x="1933200" y="1139760"/>
              <a:ext cx="295200" cy="466920"/>
            </a:xfrm>
            <a:custGeom>
              <a:avLst/>
              <a:gdLst/>
              <a:ahLst/>
              <a:rect l="l" t="t" r="r" b="b"/>
              <a:pathLst>
                <a:path w="465" h="735">
                  <a:moveTo>
                    <a:pt x="0" y="735"/>
                  </a:moveTo>
                  <a:lnTo>
                    <a:pt x="0" y="0"/>
                  </a:lnTo>
                  <a:lnTo>
                    <a:pt x="465" y="0"/>
                  </a:lnTo>
                  <a:lnTo>
                    <a:pt x="465" y="4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Line 109"/>
            <p:cNvSpPr/>
            <p:nvPr/>
          </p:nvSpPr>
          <p:spPr>
            <a:xfrm>
              <a:off x="2218680" y="1778040"/>
              <a:ext cx="0" cy="145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5" name="Rectangle 110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6" name="Object 111"/>
              <p:cNvSpPr txBox="1"/>
              <p:nvPr/>
            </p:nvSpPr>
            <p:spPr>
              <a:xfrm>
                <a:off x="6686640" y="1692360"/>
                <a:ext cx="18414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0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0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7" name="Rectangle 112"/>
          <p:cNvSpPr/>
          <p:nvPr/>
        </p:nvSpPr>
        <p:spPr>
          <a:xfrm>
            <a:off x="444600" y="5482800"/>
            <a:ext cx="82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Mediante la prova a vuoto è possibile misurare il valore dei parametri del circuito equivalente relativi alle perdite nel 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Text Box 2"/>
          <p:cNvSpPr/>
          <p:nvPr/>
        </p:nvSpPr>
        <p:spPr>
          <a:xfrm>
            <a:off x="1219320" y="1778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ROVA  IN  CORTO CIRC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3"/>
          <p:cNvSpPr/>
          <p:nvPr/>
        </p:nvSpPr>
        <p:spPr>
          <a:xfrm>
            <a:off x="457200" y="3140640"/>
            <a:ext cx="82677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rova in cortocircuito viene effettuata alimentando il primario del trasformatore con il secondario chiuso su un amperometro (la bassa impedenza dell’amperometro permette di considerare il secondario chiuso in cortocircuito) e misurando e a primario, la tensione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c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,  la corrente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c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e la potenza attiva assorbita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Rectangle 4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Rectangle 5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6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7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le 8"/>
          <p:cNvSpPr/>
          <p:nvPr/>
        </p:nvSpPr>
        <p:spPr>
          <a:xfrm>
            <a:off x="520560" y="6015960"/>
            <a:ext cx="82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Mediante la prova in corto circuito è possibile misurare il valore dei parametri del circuito equivalente relativi alle perdite nel 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5" name="Group 9"/>
          <p:cNvGrpSpPr/>
          <p:nvPr/>
        </p:nvGrpSpPr>
        <p:grpSpPr>
          <a:xfrm>
            <a:off x="291960" y="542880"/>
            <a:ext cx="5911920" cy="2403000"/>
            <a:chOff x="291960" y="542880"/>
            <a:chExt cx="5911920" cy="2403000"/>
          </a:xfrm>
        </p:grpSpPr>
        <p:grpSp>
          <p:nvGrpSpPr>
            <p:cNvPr id="1696" name="Group 10"/>
            <p:cNvGrpSpPr/>
            <p:nvPr/>
          </p:nvGrpSpPr>
          <p:grpSpPr>
            <a:xfrm>
              <a:off x="3702960" y="930600"/>
              <a:ext cx="1222200" cy="312840"/>
              <a:chOff x="3702960" y="930600"/>
              <a:chExt cx="1222200" cy="312840"/>
            </a:xfrm>
          </p:grpSpPr>
          <p:sp>
            <p:nvSpPr>
              <p:cNvPr id="1697" name="Freeform 11"/>
              <p:cNvSpPr/>
              <p:nvPr/>
            </p:nvSpPr>
            <p:spPr>
              <a:xfrm>
                <a:off x="3702960" y="930600"/>
                <a:ext cx="616680" cy="259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0693"/>
                    </a:moveTo>
                    <a:lnTo>
                      <a:pt x="5137" y="10693"/>
                    </a:lnTo>
                    <a:lnTo>
                      <a:pt x="6490" y="0"/>
                    </a:lnTo>
                    <a:lnTo>
                      <a:pt x="8097" y="19945"/>
                    </a:lnTo>
                    <a:lnTo>
                      <a:pt x="9450" y="720"/>
                    </a:lnTo>
                    <a:lnTo>
                      <a:pt x="11332" y="19945"/>
                    </a:lnTo>
                    <a:lnTo>
                      <a:pt x="12685" y="0"/>
                    </a:lnTo>
                    <a:lnTo>
                      <a:pt x="14841" y="19945"/>
                    </a:lnTo>
                    <a:lnTo>
                      <a:pt x="15941" y="10693"/>
                    </a:lnTo>
                    <a:lnTo>
                      <a:pt x="19979" y="106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8" name="Group 12"/>
              <p:cNvGrpSpPr/>
              <p:nvPr/>
            </p:nvGrpSpPr>
            <p:grpSpPr>
              <a:xfrm>
                <a:off x="4308840" y="973440"/>
                <a:ext cx="616320" cy="270000"/>
                <a:chOff x="4308840" y="973440"/>
                <a:chExt cx="616320" cy="270000"/>
              </a:xfrm>
            </p:grpSpPr>
            <p:sp>
              <p:nvSpPr>
                <p:cNvPr id="1699" name="Arc 13"/>
                <p:cNvSpPr/>
                <p:nvPr/>
              </p:nvSpPr>
              <p:spPr>
                <a:xfrm flipH="1">
                  <a:off x="4399920" y="973440"/>
                  <a:ext cx="60480" cy="93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00" name="Group 14"/>
                <p:cNvGrpSpPr/>
                <p:nvPr/>
              </p:nvGrpSpPr>
              <p:grpSpPr>
                <a:xfrm>
                  <a:off x="4439880" y="973440"/>
                  <a:ext cx="120960" cy="263880"/>
                  <a:chOff x="4439880" y="973440"/>
                  <a:chExt cx="120960" cy="263880"/>
                </a:xfrm>
              </p:grpSpPr>
              <p:sp>
                <p:nvSpPr>
                  <p:cNvPr id="1701" name="Arc 15"/>
                  <p:cNvSpPr/>
                  <p:nvPr/>
                </p:nvSpPr>
                <p:spPr>
                  <a:xfrm>
                    <a:off x="4465800" y="973440"/>
                    <a:ext cx="468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2" name="Arc 16"/>
                  <p:cNvSpPr/>
                  <p:nvPr/>
                </p:nvSpPr>
                <p:spPr>
                  <a:xfrm flipV="1">
                    <a:off x="4474800" y="1092600"/>
                    <a:ext cx="3492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3" name="Arc 17"/>
                  <p:cNvSpPr/>
                  <p:nvPr/>
                </p:nvSpPr>
                <p:spPr>
                  <a:xfrm flipH="1" flipV="1">
                    <a:off x="4439880" y="1146600"/>
                    <a:ext cx="403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4" name="Arc 18"/>
                  <p:cNvSpPr/>
                  <p:nvPr/>
                </p:nvSpPr>
                <p:spPr>
                  <a:xfrm flipH="1">
                    <a:off x="4439880" y="973440"/>
                    <a:ext cx="12096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5" name="Group 19"/>
                <p:cNvGrpSpPr/>
                <p:nvPr/>
              </p:nvGrpSpPr>
              <p:grpSpPr>
                <a:xfrm>
                  <a:off x="4545720" y="977040"/>
                  <a:ext cx="121320" cy="262440"/>
                  <a:chOff x="4545720" y="977040"/>
                  <a:chExt cx="121320" cy="262440"/>
                </a:xfrm>
              </p:grpSpPr>
              <p:sp>
                <p:nvSpPr>
                  <p:cNvPr id="1706" name="Arc 20"/>
                  <p:cNvSpPr/>
                  <p:nvPr/>
                </p:nvSpPr>
                <p:spPr>
                  <a:xfrm>
                    <a:off x="4570920" y="977040"/>
                    <a:ext cx="468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7" name="Arc 21"/>
                  <p:cNvSpPr/>
                  <p:nvPr/>
                </p:nvSpPr>
                <p:spPr>
                  <a:xfrm flipV="1">
                    <a:off x="4582080" y="1095480"/>
                    <a:ext cx="3492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8" name="Arc 22"/>
                  <p:cNvSpPr/>
                  <p:nvPr/>
                </p:nvSpPr>
                <p:spPr>
                  <a:xfrm flipH="1" flipV="1">
                    <a:off x="4546080" y="1148760"/>
                    <a:ext cx="403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9" name="Arc 23"/>
                  <p:cNvSpPr/>
                  <p:nvPr/>
                </p:nvSpPr>
                <p:spPr>
                  <a:xfrm flipH="1">
                    <a:off x="4545360" y="977040"/>
                    <a:ext cx="12132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0" name="Group 24"/>
                <p:cNvGrpSpPr/>
                <p:nvPr/>
              </p:nvGrpSpPr>
              <p:grpSpPr>
                <a:xfrm>
                  <a:off x="4656960" y="979560"/>
                  <a:ext cx="120960" cy="263880"/>
                  <a:chOff x="4656960" y="979560"/>
                  <a:chExt cx="120960" cy="263880"/>
                </a:xfrm>
              </p:grpSpPr>
              <p:sp>
                <p:nvSpPr>
                  <p:cNvPr id="1711" name="Arc 25"/>
                  <p:cNvSpPr/>
                  <p:nvPr/>
                </p:nvSpPr>
                <p:spPr>
                  <a:xfrm>
                    <a:off x="4682160" y="979560"/>
                    <a:ext cx="4680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Arc 26"/>
                  <p:cNvSpPr/>
                  <p:nvPr/>
                </p:nvSpPr>
                <p:spPr>
                  <a:xfrm flipV="1">
                    <a:off x="4693320" y="1099440"/>
                    <a:ext cx="3492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Arc 27"/>
                  <p:cNvSpPr/>
                  <p:nvPr/>
                </p:nvSpPr>
                <p:spPr>
                  <a:xfrm flipH="1" flipV="1">
                    <a:off x="4656960" y="1152720"/>
                    <a:ext cx="403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Arc 28"/>
                  <p:cNvSpPr/>
                  <p:nvPr/>
                </p:nvSpPr>
                <p:spPr>
                  <a:xfrm flipH="1">
                    <a:off x="4656960" y="979560"/>
                    <a:ext cx="12096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5" name="Arc 29"/>
                <p:cNvSpPr/>
                <p:nvPr/>
              </p:nvSpPr>
              <p:spPr>
                <a:xfrm>
                  <a:off x="4774320" y="979560"/>
                  <a:ext cx="55080" cy="83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Line 30"/>
                <p:cNvSpPr/>
                <p:nvPr/>
              </p:nvSpPr>
              <p:spPr>
                <a:xfrm flipH="1">
                  <a:off x="4308840" y="1066680"/>
                  <a:ext cx="8640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Line 31"/>
                <p:cNvSpPr/>
                <p:nvPr/>
              </p:nvSpPr>
              <p:spPr>
                <a:xfrm flipH="1">
                  <a:off x="4838400" y="1066680"/>
                  <a:ext cx="8676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8" name="Rectangle 32"/>
            <p:cNvSpPr/>
            <p:nvPr/>
          </p:nvSpPr>
          <p:spPr>
            <a:xfrm>
              <a:off x="3927960" y="661320"/>
              <a:ext cx="21564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33"/>
            <p:cNvSpPr/>
            <p:nvPr/>
          </p:nvSpPr>
          <p:spPr>
            <a:xfrm>
              <a:off x="4504680" y="671760"/>
              <a:ext cx="30348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34"/>
            <p:cNvSpPr/>
            <p:nvPr/>
          </p:nvSpPr>
          <p:spPr>
            <a:xfrm>
              <a:off x="2872080" y="1792800"/>
              <a:ext cx="22536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35"/>
            <p:cNvSpPr/>
            <p:nvPr/>
          </p:nvSpPr>
          <p:spPr>
            <a:xfrm>
              <a:off x="3771360" y="1814400"/>
              <a:ext cx="2059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Line 36"/>
            <p:cNvSpPr/>
            <p:nvPr/>
          </p:nvSpPr>
          <p:spPr>
            <a:xfrm>
              <a:off x="2784240" y="1071000"/>
              <a:ext cx="91944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Line 37"/>
            <p:cNvSpPr/>
            <p:nvPr/>
          </p:nvSpPr>
          <p:spPr>
            <a:xfrm>
              <a:off x="4896000" y="1071000"/>
              <a:ext cx="8218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Line 38"/>
            <p:cNvSpPr/>
            <p:nvPr/>
          </p:nvSpPr>
          <p:spPr>
            <a:xfrm flipH="1">
              <a:off x="2930400" y="2913840"/>
              <a:ext cx="2806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Oval 39"/>
            <p:cNvSpPr/>
            <p:nvPr/>
          </p:nvSpPr>
          <p:spPr>
            <a:xfrm>
              <a:off x="5697360" y="1049040"/>
              <a:ext cx="39600" cy="43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Line 40"/>
            <p:cNvSpPr/>
            <p:nvPr/>
          </p:nvSpPr>
          <p:spPr>
            <a:xfrm flipV="1">
              <a:off x="3409920" y="1157040"/>
              <a:ext cx="360" cy="15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Line 41"/>
            <p:cNvSpPr/>
            <p:nvPr/>
          </p:nvSpPr>
          <p:spPr>
            <a:xfrm flipH="1">
              <a:off x="2783880" y="2913840"/>
              <a:ext cx="1371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42"/>
            <p:cNvSpPr/>
            <p:nvPr/>
          </p:nvSpPr>
          <p:spPr>
            <a:xfrm>
              <a:off x="2950200" y="1178640"/>
              <a:ext cx="21564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43"/>
            <p:cNvSpPr/>
            <p:nvPr/>
          </p:nvSpPr>
          <p:spPr>
            <a:xfrm>
              <a:off x="2549520" y="2601360"/>
              <a:ext cx="21564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44"/>
            <p:cNvSpPr/>
            <p:nvPr/>
          </p:nvSpPr>
          <p:spPr>
            <a:xfrm>
              <a:off x="2559240" y="844560"/>
              <a:ext cx="21564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Oval 45"/>
            <p:cNvSpPr/>
            <p:nvPr/>
          </p:nvSpPr>
          <p:spPr>
            <a:xfrm>
              <a:off x="2754720" y="1049040"/>
              <a:ext cx="39600" cy="43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Oval 46"/>
            <p:cNvSpPr/>
            <p:nvPr/>
          </p:nvSpPr>
          <p:spPr>
            <a:xfrm>
              <a:off x="2754720" y="2892240"/>
              <a:ext cx="39600" cy="43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Oval 47"/>
            <p:cNvSpPr/>
            <p:nvPr/>
          </p:nvSpPr>
          <p:spPr>
            <a:xfrm>
              <a:off x="5736600" y="2892240"/>
              <a:ext cx="39600" cy="43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48"/>
            <p:cNvSpPr/>
            <p:nvPr/>
          </p:nvSpPr>
          <p:spPr>
            <a:xfrm>
              <a:off x="2588760" y="1146240"/>
              <a:ext cx="1764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49"/>
            <p:cNvSpPr/>
            <p:nvPr/>
          </p:nvSpPr>
          <p:spPr>
            <a:xfrm>
              <a:off x="5531400" y="1189440"/>
              <a:ext cx="3229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50"/>
            <p:cNvSpPr/>
            <p:nvPr/>
          </p:nvSpPr>
          <p:spPr>
            <a:xfrm>
              <a:off x="5472720" y="2558160"/>
              <a:ext cx="26424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51"/>
            <p:cNvSpPr/>
            <p:nvPr/>
          </p:nvSpPr>
          <p:spPr>
            <a:xfrm>
              <a:off x="4925160" y="650520"/>
              <a:ext cx="8899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= 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n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/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52"/>
            <p:cNvSpPr/>
            <p:nvPr/>
          </p:nvSpPr>
          <p:spPr>
            <a:xfrm>
              <a:off x="2520360" y="1900800"/>
              <a:ext cx="21564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9" name="Group 53"/>
            <p:cNvGrpSpPr/>
            <p:nvPr/>
          </p:nvGrpSpPr>
          <p:grpSpPr>
            <a:xfrm>
              <a:off x="3081960" y="1071000"/>
              <a:ext cx="631440" cy="1821960"/>
              <a:chOff x="3081960" y="1071000"/>
              <a:chExt cx="631440" cy="1821960"/>
            </a:xfrm>
          </p:grpSpPr>
          <p:sp>
            <p:nvSpPr>
              <p:cNvPr id="1740" name="Freeform 54"/>
              <p:cNvSpPr/>
              <p:nvPr/>
            </p:nvSpPr>
            <p:spPr>
              <a:xfrm>
                <a:off x="3081960" y="1626120"/>
                <a:ext cx="235080" cy="679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9252" y="0"/>
                    </a:moveTo>
                    <a:lnTo>
                      <a:pt x="9252" y="5137"/>
                    </a:lnTo>
                    <a:lnTo>
                      <a:pt x="19945" y="6490"/>
                    </a:lnTo>
                    <a:lnTo>
                      <a:pt x="0" y="8097"/>
                    </a:lnTo>
                    <a:lnTo>
                      <a:pt x="19224" y="9450"/>
                    </a:lnTo>
                    <a:lnTo>
                      <a:pt x="0" y="11332"/>
                    </a:lnTo>
                    <a:lnTo>
                      <a:pt x="19945" y="12685"/>
                    </a:lnTo>
                    <a:lnTo>
                      <a:pt x="0" y="14841"/>
                    </a:lnTo>
                    <a:lnTo>
                      <a:pt x="9252" y="15941"/>
                    </a:lnTo>
                    <a:lnTo>
                      <a:pt x="9252" y="1997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1" name="Group 55"/>
              <p:cNvGrpSpPr/>
              <p:nvPr/>
            </p:nvGrpSpPr>
            <p:grpSpPr>
              <a:xfrm>
                <a:off x="3194640" y="1071000"/>
                <a:ext cx="518760" cy="1821960"/>
                <a:chOff x="3194640" y="1071000"/>
                <a:chExt cx="518760" cy="1821960"/>
              </a:xfrm>
            </p:grpSpPr>
            <p:grpSp>
              <p:nvGrpSpPr>
                <p:cNvPr id="1742" name="Group 56"/>
                <p:cNvGrpSpPr/>
                <p:nvPr/>
              </p:nvGrpSpPr>
              <p:grpSpPr>
                <a:xfrm>
                  <a:off x="3468240" y="1641600"/>
                  <a:ext cx="245160" cy="679680"/>
                  <a:chOff x="3468240" y="1641600"/>
                  <a:chExt cx="245160" cy="679680"/>
                </a:xfrm>
              </p:grpSpPr>
              <p:sp>
                <p:nvSpPr>
                  <p:cNvPr id="1743" name="Arc 57"/>
                  <p:cNvSpPr/>
                  <p:nvPr/>
                </p:nvSpPr>
                <p:spPr>
                  <a:xfrm>
                    <a:off x="3628080" y="1742400"/>
                    <a:ext cx="8532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44" name="Group 58"/>
                  <p:cNvGrpSpPr/>
                  <p:nvPr/>
                </p:nvGrpSpPr>
                <p:grpSpPr>
                  <a:xfrm>
                    <a:off x="3473280" y="1786320"/>
                    <a:ext cx="240120" cy="133560"/>
                    <a:chOff x="3473280" y="1786320"/>
                    <a:chExt cx="240120" cy="133560"/>
                  </a:xfrm>
                </p:grpSpPr>
                <p:sp>
                  <p:nvSpPr>
                    <p:cNvPr id="1745" name="Arc 59"/>
                    <p:cNvSpPr/>
                    <p:nvPr/>
                  </p:nvSpPr>
                  <p:spPr>
                    <a:xfrm flipV="1">
                      <a:off x="3619440" y="1814760"/>
                      <a:ext cx="93960" cy="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6" name="Arc 60"/>
                    <p:cNvSpPr/>
                    <p:nvPr/>
                  </p:nvSpPr>
                  <p:spPr>
                    <a:xfrm flipH="1" flipV="1">
                      <a:off x="3479760" y="1825200"/>
                      <a:ext cx="124560" cy="3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7" name="Arc 61"/>
                    <p:cNvSpPr/>
                    <p:nvPr/>
                  </p:nvSpPr>
                  <p:spPr>
                    <a:xfrm flipH="1">
                      <a:off x="3473280" y="1786320"/>
                      <a:ext cx="8208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8" name="Arc 62"/>
                    <p:cNvSpPr/>
                    <p:nvPr/>
                  </p:nvSpPr>
                  <p:spPr>
                    <a:xfrm>
                      <a:off x="3555360" y="1786320"/>
                      <a:ext cx="158040" cy="13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9" name="Group 63"/>
                  <p:cNvGrpSpPr/>
                  <p:nvPr/>
                </p:nvGrpSpPr>
                <p:grpSpPr>
                  <a:xfrm>
                    <a:off x="3471480" y="1903320"/>
                    <a:ext cx="238680" cy="133560"/>
                    <a:chOff x="3471480" y="1903320"/>
                    <a:chExt cx="238680" cy="133560"/>
                  </a:xfrm>
                </p:grpSpPr>
                <p:sp>
                  <p:nvSpPr>
                    <p:cNvPr id="1750" name="Arc 64"/>
                    <p:cNvSpPr/>
                    <p:nvPr/>
                  </p:nvSpPr>
                  <p:spPr>
                    <a:xfrm flipV="1">
                      <a:off x="3616200" y="1930680"/>
                      <a:ext cx="93960" cy="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1" name="Arc 65"/>
                    <p:cNvSpPr/>
                    <p:nvPr/>
                  </p:nvSpPr>
                  <p:spPr>
                    <a:xfrm flipH="1" flipV="1">
                      <a:off x="3477240" y="1942560"/>
                      <a:ext cx="124560" cy="3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2" name="Arc 66"/>
                    <p:cNvSpPr/>
                    <p:nvPr/>
                  </p:nvSpPr>
                  <p:spPr>
                    <a:xfrm flipH="1">
                      <a:off x="3471480" y="1903320"/>
                      <a:ext cx="8208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3" name="Arc 67"/>
                    <p:cNvSpPr/>
                    <p:nvPr/>
                  </p:nvSpPr>
                  <p:spPr>
                    <a:xfrm>
                      <a:off x="3552120" y="1903320"/>
                      <a:ext cx="158040" cy="13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54" name="Group 68"/>
                  <p:cNvGrpSpPr/>
                  <p:nvPr/>
                </p:nvGrpSpPr>
                <p:grpSpPr>
                  <a:xfrm>
                    <a:off x="3468240" y="2025720"/>
                    <a:ext cx="239400" cy="133560"/>
                    <a:chOff x="3468240" y="2025720"/>
                    <a:chExt cx="239400" cy="133560"/>
                  </a:xfrm>
                </p:grpSpPr>
                <p:sp>
                  <p:nvSpPr>
                    <p:cNvPr id="1755" name="Arc 69"/>
                    <p:cNvSpPr/>
                    <p:nvPr/>
                  </p:nvSpPr>
                  <p:spPr>
                    <a:xfrm flipV="1">
                      <a:off x="3613680" y="2053800"/>
                      <a:ext cx="93960" cy="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6" name="Arc 70"/>
                    <p:cNvSpPr/>
                    <p:nvPr/>
                  </p:nvSpPr>
                  <p:spPr>
                    <a:xfrm flipH="1" flipV="1">
                      <a:off x="3474000" y="2066040"/>
                      <a:ext cx="124560" cy="3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7" name="Arc 71"/>
                    <p:cNvSpPr/>
                    <p:nvPr/>
                  </p:nvSpPr>
                  <p:spPr>
                    <a:xfrm flipH="1">
                      <a:off x="3468240" y="2025720"/>
                      <a:ext cx="8208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8" name="Arc 72"/>
                    <p:cNvSpPr/>
                    <p:nvPr/>
                  </p:nvSpPr>
                  <p:spPr>
                    <a:xfrm>
                      <a:off x="3549600" y="2025720"/>
                      <a:ext cx="158040" cy="13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59" name="Arc 73"/>
                  <p:cNvSpPr/>
                  <p:nvPr/>
                </p:nvSpPr>
                <p:spPr>
                  <a:xfrm flipV="1">
                    <a:off x="3632040" y="2154240"/>
                    <a:ext cx="7560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0" name="Line 74"/>
                  <p:cNvSpPr/>
                  <p:nvPr/>
                </p:nvSpPr>
                <p:spPr>
                  <a:xfrm flipV="1">
                    <a:off x="3628080" y="1641600"/>
                    <a:ext cx="360" cy="9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1" name="Line 75"/>
                  <p:cNvSpPr/>
                  <p:nvPr/>
                </p:nvSpPr>
                <p:spPr>
                  <a:xfrm flipV="1">
                    <a:off x="3628080" y="2225880"/>
                    <a:ext cx="360" cy="9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2" name="Freeform 76"/>
                <p:cNvSpPr/>
                <p:nvPr/>
              </p:nvSpPr>
              <p:spPr>
                <a:xfrm>
                  <a:off x="3194640" y="1415880"/>
                  <a:ext cx="430920" cy="237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033"/>
                      </a:moveTo>
                      <a:lnTo>
                        <a:pt x="0" y="0"/>
                      </a:lnTo>
                      <a:lnTo>
                        <a:pt x="19970" y="0"/>
                      </a:lnTo>
                      <a:lnTo>
                        <a:pt x="19970" y="1994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Freeform 77"/>
                <p:cNvSpPr/>
                <p:nvPr/>
              </p:nvSpPr>
              <p:spPr>
                <a:xfrm>
                  <a:off x="3194640" y="2321280"/>
                  <a:ext cx="430920" cy="237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906"/>
                      </a:moveTo>
                      <a:lnTo>
                        <a:pt x="0" y="19940"/>
                      </a:lnTo>
                      <a:lnTo>
                        <a:pt x="19970" y="19940"/>
                      </a:lnTo>
                      <a:lnTo>
                        <a:pt x="1997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4" name="Line 78"/>
                <p:cNvSpPr/>
                <p:nvPr/>
              </p:nvSpPr>
              <p:spPr>
                <a:xfrm flipV="1">
                  <a:off x="3409560" y="1071000"/>
                  <a:ext cx="360" cy="345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5" name="Line 79"/>
                <p:cNvSpPr/>
                <p:nvPr/>
              </p:nvSpPr>
              <p:spPr>
                <a:xfrm flipV="1">
                  <a:off x="3390120" y="2547360"/>
                  <a:ext cx="360" cy="345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Line 80"/>
                <p:cNvSpPr/>
                <p:nvPr/>
              </p:nvSpPr>
              <p:spPr>
                <a:xfrm>
                  <a:off x="3194640" y="2353320"/>
                  <a:ext cx="360" cy="8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Line 81"/>
                <p:cNvSpPr/>
                <p:nvPr/>
              </p:nvSpPr>
              <p:spPr>
                <a:xfrm>
                  <a:off x="3624840" y="2353320"/>
                  <a:ext cx="360" cy="8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68" name="Rectangle 82"/>
            <p:cNvSpPr/>
            <p:nvPr/>
          </p:nvSpPr>
          <p:spPr>
            <a:xfrm>
              <a:off x="2911320" y="2245680"/>
              <a:ext cx="21564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Rectangle 83"/>
            <p:cNvSpPr/>
            <p:nvPr/>
          </p:nvSpPr>
          <p:spPr>
            <a:xfrm>
              <a:off x="3488040" y="1124640"/>
              <a:ext cx="21564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Rectangle 84"/>
            <p:cNvSpPr/>
            <p:nvPr/>
          </p:nvSpPr>
          <p:spPr>
            <a:xfrm>
              <a:off x="3712680" y="2299320"/>
              <a:ext cx="21564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Line 85"/>
            <p:cNvSpPr/>
            <p:nvPr/>
          </p:nvSpPr>
          <p:spPr>
            <a:xfrm>
              <a:off x="5130720" y="1071000"/>
              <a:ext cx="21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Oval 86"/>
            <p:cNvSpPr/>
            <p:nvPr/>
          </p:nvSpPr>
          <p:spPr>
            <a:xfrm>
              <a:off x="584280" y="1685160"/>
              <a:ext cx="400680" cy="48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Line 87"/>
            <p:cNvSpPr/>
            <p:nvPr/>
          </p:nvSpPr>
          <p:spPr>
            <a:xfrm>
              <a:off x="780120" y="1071000"/>
              <a:ext cx="0" cy="18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Rectangle 88"/>
            <p:cNvSpPr/>
            <p:nvPr/>
          </p:nvSpPr>
          <p:spPr>
            <a:xfrm>
              <a:off x="477720" y="1468800"/>
              <a:ext cx="1764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89"/>
            <p:cNvSpPr/>
            <p:nvPr/>
          </p:nvSpPr>
          <p:spPr>
            <a:xfrm>
              <a:off x="291960" y="1846080"/>
              <a:ext cx="27432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Line 90"/>
            <p:cNvSpPr/>
            <p:nvPr/>
          </p:nvSpPr>
          <p:spPr>
            <a:xfrm>
              <a:off x="780120" y="1071000"/>
              <a:ext cx="66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Line 91"/>
            <p:cNvSpPr/>
            <p:nvPr/>
          </p:nvSpPr>
          <p:spPr>
            <a:xfrm>
              <a:off x="780120" y="2924640"/>
              <a:ext cx="20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8" name="Group 92"/>
            <p:cNvGrpSpPr/>
            <p:nvPr/>
          </p:nvGrpSpPr>
          <p:grpSpPr>
            <a:xfrm>
              <a:off x="1122120" y="1803960"/>
              <a:ext cx="369360" cy="407160"/>
              <a:chOff x="1122120" y="1803960"/>
              <a:chExt cx="369360" cy="407160"/>
            </a:xfrm>
          </p:grpSpPr>
          <p:sp>
            <p:nvSpPr>
              <p:cNvPr id="1779" name="Oval 93"/>
              <p:cNvSpPr/>
              <p:nvPr/>
            </p:nvSpPr>
            <p:spPr>
              <a:xfrm>
                <a:off x="1122120" y="1803960"/>
                <a:ext cx="369360" cy="40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Rectangle 94"/>
              <p:cNvSpPr/>
              <p:nvPr/>
            </p:nvSpPr>
            <p:spPr>
              <a:xfrm>
                <a:off x="1229400" y="1911600"/>
                <a:ext cx="186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1" name="Group 95"/>
            <p:cNvGrpSpPr/>
            <p:nvPr/>
          </p:nvGrpSpPr>
          <p:grpSpPr>
            <a:xfrm>
              <a:off x="1464480" y="855360"/>
              <a:ext cx="369360" cy="407160"/>
              <a:chOff x="1464480" y="855360"/>
              <a:chExt cx="369360" cy="407160"/>
            </a:xfrm>
          </p:grpSpPr>
          <p:sp>
            <p:nvSpPr>
              <p:cNvPr id="1782" name="Oval 96"/>
              <p:cNvSpPr/>
              <p:nvPr/>
            </p:nvSpPr>
            <p:spPr>
              <a:xfrm>
                <a:off x="1464480" y="855360"/>
                <a:ext cx="369360" cy="40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97"/>
              <p:cNvSpPr/>
              <p:nvPr/>
            </p:nvSpPr>
            <p:spPr>
              <a:xfrm>
                <a:off x="1571760" y="963000"/>
                <a:ext cx="186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4" name="Group 98"/>
            <p:cNvGrpSpPr/>
            <p:nvPr/>
          </p:nvGrpSpPr>
          <p:grpSpPr>
            <a:xfrm>
              <a:off x="2031120" y="855360"/>
              <a:ext cx="369360" cy="407160"/>
              <a:chOff x="2031120" y="855360"/>
              <a:chExt cx="369360" cy="407160"/>
            </a:xfrm>
          </p:grpSpPr>
          <p:sp>
            <p:nvSpPr>
              <p:cNvPr id="1785" name="Oval 99"/>
              <p:cNvSpPr/>
              <p:nvPr/>
            </p:nvSpPr>
            <p:spPr>
              <a:xfrm>
                <a:off x="2031120" y="855360"/>
                <a:ext cx="369360" cy="40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100"/>
              <p:cNvSpPr/>
              <p:nvPr/>
            </p:nvSpPr>
            <p:spPr>
              <a:xfrm>
                <a:off x="2138400" y="963000"/>
                <a:ext cx="186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7" name="Oval 101"/>
            <p:cNvSpPr/>
            <p:nvPr/>
          </p:nvSpPr>
          <p:spPr>
            <a:xfrm>
              <a:off x="1298880" y="1059120"/>
              <a:ext cx="39600" cy="43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Oval 102"/>
            <p:cNvSpPr/>
            <p:nvPr/>
          </p:nvSpPr>
          <p:spPr>
            <a:xfrm>
              <a:off x="1279080" y="2902320"/>
              <a:ext cx="39600" cy="43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Oval 103"/>
            <p:cNvSpPr/>
            <p:nvPr/>
          </p:nvSpPr>
          <p:spPr>
            <a:xfrm>
              <a:off x="2207880" y="2891520"/>
              <a:ext cx="39600" cy="43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Line 104"/>
            <p:cNvSpPr/>
            <p:nvPr/>
          </p:nvSpPr>
          <p:spPr>
            <a:xfrm flipV="1">
              <a:off x="1317600" y="1070640"/>
              <a:ext cx="0" cy="72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Line 105"/>
            <p:cNvSpPr/>
            <p:nvPr/>
          </p:nvSpPr>
          <p:spPr>
            <a:xfrm flipV="1">
              <a:off x="1298160" y="2224080"/>
              <a:ext cx="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Line 106"/>
            <p:cNvSpPr/>
            <p:nvPr/>
          </p:nvSpPr>
          <p:spPr>
            <a:xfrm>
              <a:off x="1835640" y="1081440"/>
              <a:ext cx="20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Line 107"/>
            <p:cNvSpPr/>
            <p:nvPr/>
          </p:nvSpPr>
          <p:spPr>
            <a:xfrm>
              <a:off x="2412720" y="107100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Oval 108"/>
            <p:cNvSpPr/>
            <p:nvPr/>
          </p:nvSpPr>
          <p:spPr>
            <a:xfrm>
              <a:off x="1904760" y="1048680"/>
              <a:ext cx="39600" cy="43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09"/>
            <p:cNvSpPr/>
            <p:nvPr/>
          </p:nvSpPr>
          <p:spPr>
            <a:xfrm>
              <a:off x="1923840" y="542880"/>
              <a:ext cx="302760" cy="528120"/>
            </a:xfrm>
            <a:custGeom>
              <a:avLst/>
              <a:gdLst/>
              <a:ahLst/>
              <a:rect l="l" t="t" r="r" b="b"/>
              <a:pathLst>
                <a:path w="465" h="735">
                  <a:moveTo>
                    <a:pt x="0" y="735"/>
                  </a:moveTo>
                  <a:lnTo>
                    <a:pt x="0" y="0"/>
                  </a:lnTo>
                  <a:lnTo>
                    <a:pt x="465" y="0"/>
                  </a:lnTo>
                  <a:lnTo>
                    <a:pt x="465" y="4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Line 110"/>
            <p:cNvSpPr/>
            <p:nvPr/>
          </p:nvSpPr>
          <p:spPr>
            <a:xfrm>
              <a:off x="2217240" y="1264680"/>
              <a:ext cx="0" cy="164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7" name="Group 111"/>
            <p:cNvGrpSpPr/>
            <p:nvPr/>
          </p:nvGrpSpPr>
          <p:grpSpPr>
            <a:xfrm>
              <a:off x="5834520" y="1631160"/>
              <a:ext cx="369360" cy="407520"/>
              <a:chOff x="5834520" y="1631160"/>
              <a:chExt cx="369360" cy="407520"/>
            </a:xfrm>
          </p:grpSpPr>
          <p:sp>
            <p:nvSpPr>
              <p:cNvPr id="1798" name="Oval 112"/>
              <p:cNvSpPr/>
              <p:nvPr/>
            </p:nvSpPr>
            <p:spPr>
              <a:xfrm>
                <a:off x="5834520" y="1631160"/>
                <a:ext cx="369360" cy="407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Rectangle 113"/>
              <p:cNvSpPr/>
              <p:nvPr/>
            </p:nvSpPr>
            <p:spPr>
              <a:xfrm>
                <a:off x="5941800" y="1738800"/>
                <a:ext cx="186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0" name="Freeform 114"/>
            <p:cNvSpPr/>
            <p:nvPr/>
          </p:nvSpPr>
          <p:spPr>
            <a:xfrm>
              <a:off x="5737320" y="1069920"/>
              <a:ext cx="273600" cy="549720"/>
            </a:xfrm>
            <a:custGeom>
              <a:avLst/>
              <a:gdLst/>
              <a:ahLst/>
              <a:rect l="l" t="t" r="r" b="b"/>
              <a:pathLst>
                <a:path w="420" h="765">
                  <a:moveTo>
                    <a:pt x="0" y="0"/>
                  </a:moveTo>
                  <a:lnTo>
                    <a:pt x="420" y="0"/>
                  </a:lnTo>
                  <a:lnTo>
                    <a:pt x="420" y="7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15"/>
            <p:cNvSpPr/>
            <p:nvPr/>
          </p:nvSpPr>
          <p:spPr>
            <a:xfrm>
              <a:off x="5756760" y="2029320"/>
              <a:ext cx="263880" cy="883800"/>
            </a:xfrm>
            <a:custGeom>
              <a:avLst/>
              <a:gdLst/>
              <a:ahLst/>
              <a:rect l="l" t="t" r="r" b="b"/>
              <a:pathLst>
                <a:path w="405" h="1230">
                  <a:moveTo>
                    <a:pt x="0" y="1230"/>
                  </a:moveTo>
                  <a:lnTo>
                    <a:pt x="405" y="1230"/>
                  </a:lnTo>
                  <a:lnTo>
                    <a:pt x="40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Line 116"/>
            <p:cNvSpPr/>
            <p:nvPr/>
          </p:nvSpPr>
          <p:spPr>
            <a:xfrm>
              <a:off x="2918880" y="1068480"/>
              <a:ext cx="21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Line 117"/>
            <p:cNvSpPr/>
            <p:nvPr/>
          </p:nvSpPr>
          <p:spPr>
            <a:xfrm>
              <a:off x="2872800" y="1468800"/>
              <a:ext cx="1270800" cy="104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Line 118"/>
            <p:cNvSpPr/>
            <p:nvPr/>
          </p:nvSpPr>
          <p:spPr>
            <a:xfrm>
              <a:off x="2872800" y="1468800"/>
              <a:ext cx="1270800" cy="1045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Line 119"/>
            <p:cNvSpPr/>
            <p:nvPr/>
          </p:nvSpPr>
          <p:spPr>
            <a:xfrm flipV="1">
              <a:off x="2774880" y="1436400"/>
              <a:ext cx="1270800" cy="1045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6" name="Rectangle 120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7" name="Object 121"/>
              <p:cNvSpPr txBox="1"/>
              <p:nvPr/>
            </p:nvSpPr>
            <p:spPr>
              <a:xfrm>
                <a:off x="6924600" y="1484280"/>
                <a:ext cx="152568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num>
                          <m:den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8" name="Rectangle 122"/>
          <p:cNvSpPr/>
          <p:nvPr/>
        </p:nvSpPr>
        <p:spPr>
          <a:xfrm>
            <a:off x="495360" y="4581720"/>
            <a:ext cx="82677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tensione primaria deve essere tale che il valore efficace della corrente erogata a secondario, che viene misurato dall’amperometro, sia pari alla corrente nominale. Tale valore della tensione viene chiamato tensione di cortocircuito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c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e risulta essere pari ad un frazione (&lt; 10 %) della tensione nominale prim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Text Box 2"/>
          <p:cNvSpPr/>
          <p:nvPr/>
        </p:nvSpPr>
        <p:spPr>
          <a:xfrm>
            <a:off x="1219320" y="1778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NDIMENTO  CONVENZ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Rectangle 201"/>
          <p:cNvSpPr/>
          <p:nvPr/>
        </p:nvSpPr>
        <p:spPr>
          <a:xfrm>
            <a:off x="254160" y="815040"/>
            <a:ext cx="59180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endimento del trasformatore (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viene definito come il rapporto tra la potenza attiva erogata a secondario (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e la potenza attiva assorbita a primario (P1); indicando con 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a potenza dissipata (trasformata in calore) all’interno del trasformatore risul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Rectangle 206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Rectangle 207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Rectangle 208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Rectangle 313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43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Object 429"/>
              <p:cNvSpPr txBox="1"/>
              <p:nvPr/>
            </p:nvSpPr>
            <p:spPr>
              <a:xfrm>
                <a:off x="6710400" y="1157400"/>
                <a:ext cx="17445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7" name="Rectangle 431"/>
          <p:cNvSpPr/>
          <p:nvPr/>
        </p:nvSpPr>
        <p:spPr>
          <a:xfrm>
            <a:off x="228600" y="2370960"/>
            <a:ext cx="868032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eterminazione sperimentale di tale grandezza risulta difficoltos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necessario poter disporre in laboratorio di un carico in grado di assorbire la potenza nominale del trasformatore che può risultare anche di parecchi M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essendo presenti parti rotanti nel trasformatore, il rendimento dello stesso è molto elevato (può essere superiore al 99.5) e piccoli errori nella misura delle potenze assorbite ed erogate possono produrre un errore notevole nelle determinazione del rendi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norme definiscono un rendimento convenzionale del trasformatore (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conv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ectangle 43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9" name="Object 432"/>
              <p:cNvSpPr txBox="1"/>
              <p:nvPr/>
            </p:nvSpPr>
            <p:spPr>
              <a:xfrm>
                <a:off x="2990880" y="4665600"/>
                <a:ext cx="26272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v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0" name="Rectangle 434"/>
          <p:cNvSpPr/>
          <p:nvPr/>
        </p:nvSpPr>
        <p:spPr>
          <a:xfrm>
            <a:off x="403200" y="5433120"/>
            <a:ext cx="82742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tenza apparente nominale del trasformatore, che è indicata sui dati di targa del trasformatore st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cu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dite nel rame, valutate mediante la prova in cortocircui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f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no le perdite nel ferro, valutate mediante la prova a vuo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Text Box 2"/>
          <p:cNvSpPr/>
          <p:nvPr/>
        </p:nvSpPr>
        <p:spPr>
          <a:xfrm>
            <a:off x="1231920" y="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ASFORMATORE TRI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4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Rectangle 5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Rectangle 6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Rectangle 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8" name="Picture 9" descr=""/>
          <p:cNvPicPr/>
          <p:nvPr/>
        </p:nvPicPr>
        <p:blipFill>
          <a:blip r:embed="rId1"/>
          <a:stretch/>
        </p:blipFill>
        <p:spPr>
          <a:xfrm>
            <a:off x="330120" y="355680"/>
            <a:ext cx="3560760" cy="270180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10"/>
          <p:cNvSpPr/>
          <p:nvPr/>
        </p:nvSpPr>
        <p:spPr>
          <a:xfrm>
            <a:off x="3759120" y="1323720"/>
            <a:ext cx="14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anco di tre trasformatori monof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0" name="Object 11"/>
          <p:cNvGraphicFramePr/>
          <p:nvPr/>
        </p:nvGraphicFramePr>
        <p:xfrm>
          <a:off x="609480" y="3154320"/>
          <a:ext cx="2578320" cy="25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1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54320"/>
                    <a:ext cx="257832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2" name="Rectangle 12"/>
          <p:cNvSpPr/>
          <p:nvPr/>
        </p:nvSpPr>
        <p:spPr>
          <a:xfrm>
            <a:off x="216000" y="5725800"/>
            <a:ext cx="361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sformatore trifase equivalente al banco di tre trasformatori monof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3" name="Object 13"/>
          <p:cNvGraphicFramePr/>
          <p:nvPr/>
        </p:nvGraphicFramePr>
        <p:xfrm>
          <a:off x="5423040" y="3040200"/>
          <a:ext cx="2679480" cy="267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34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23040" y="3040200"/>
                    <a:ext cx="267948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5" name="Rectangle 14"/>
          <p:cNvSpPr/>
          <p:nvPr/>
        </p:nvSpPr>
        <p:spPr>
          <a:xfrm>
            <a:off x="4648320" y="5716080"/>
            <a:ext cx="40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sformatore trifase con nucleo simme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Object 15"/>
          <p:cNvGraphicFramePr/>
          <p:nvPr/>
        </p:nvGraphicFramePr>
        <p:xfrm>
          <a:off x="5384880" y="514440"/>
          <a:ext cx="3257640" cy="1509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7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84880" y="514440"/>
                    <a:ext cx="325764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8" name="Rectangle 16"/>
          <p:cNvSpPr/>
          <p:nvPr/>
        </p:nvSpPr>
        <p:spPr>
          <a:xfrm>
            <a:off x="5943600" y="2026800"/>
            <a:ext cx="26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sformatore trifase con nucleo complan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Text Box 2"/>
          <p:cNvSpPr/>
          <p:nvPr/>
        </p:nvSpPr>
        <p:spPr>
          <a:xfrm>
            <a:off x="1231920" y="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LLEGAMENTI DELLE F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Rectangle 4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Rectangle 5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Rectangle 6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Rectangle 7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Rectangle 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Rectangle 11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Rectangle 15"/>
          <p:cNvSpPr/>
          <p:nvPr/>
        </p:nvSpPr>
        <p:spPr>
          <a:xfrm>
            <a:off x="787320" y="26809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llegamento a st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Rectangle 18"/>
          <p:cNvSpPr/>
          <p:nvPr/>
        </p:nvSpPr>
        <p:spPr>
          <a:xfrm>
            <a:off x="406440" y="5806440"/>
            <a:ext cx="836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apporto di trasformazione dipende dal collegamento delle fasi primarie e second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Rectangle 24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9" name="Object 23"/>
          <p:cNvGraphicFramePr/>
          <p:nvPr/>
        </p:nvGraphicFramePr>
        <p:xfrm>
          <a:off x="749160" y="952560"/>
          <a:ext cx="1997280" cy="15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0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952560"/>
                    <a:ext cx="199728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1" name="Rectangle 26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2" name="Object 25"/>
          <p:cNvGraphicFramePr/>
          <p:nvPr/>
        </p:nvGraphicFramePr>
        <p:xfrm>
          <a:off x="3200400" y="1038240"/>
          <a:ext cx="155268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3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038240"/>
                    <a:ext cx="15526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4" name="Rectangle 27"/>
          <p:cNvSpPr/>
          <p:nvPr/>
        </p:nvSpPr>
        <p:spPr>
          <a:xfrm>
            <a:off x="3225960" y="26427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llegamento a triang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Rectangle 29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6" name="Object 28"/>
          <p:cNvGraphicFramePr/>
          <p:nvPr/>
        </p:nvGraphicFramePr>
        <p:xfrm>
          <a:off x="5626080" y="819000"/>
          <a:ext cx="2581200" cy="14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7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26080" y="819000"/>
                    <a:ext cx="25812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8" name="Rectangle 30"/>
          <p:cNvSpPr/>
          <p:nvPr/>
        </p:nvSpPr>
        <p:spPr>
          <a:xfrm>
            <a:off x="6146640" y="26046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llegamento a zig-z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Rectangle 31"/>
          <p:cNvSpPr/>
          <p:nvPr/>
        </p:nvSpPr>
        <p:spPr>
          <a:xfrm>
            <a:off x="317520" y="3454560"/>
            <a:ext cx="848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rapporto di trasform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un trasformatore trifase (K) viene definito come il rapporto tra il valore efficace delle tensioni concatenate corrispondenti alle coppie di morsetti omologhi primari e secondari, relativo al funzionamento a vuoto del trasformatore (trascurando quindi le cadute di tensione interne del trasformator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Rectangle 3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1" name="Object 32"/>
              <p:cNvSpPr txBox="1"/>
              <p:nvPr/>
            </p:nvSpPr>
            <p:spPr>
              <a:xfrm>
                <a:off x="3765600" y="4711680"/>
                <a:ext cx="1054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12"/>
          <p:cNvSpPr/>
          <p:nvPr/>
        </p:nvSpPr>
        <p:spPr>
          <a:xfrm>
            <a:off x="539640" y="2852640"/>
            <a:ext cx="8064720" cy="35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125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orno ad un nucleo di materiale ferromagnetico sono avvolti due avvolgimenti composti rispettivamente da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pire (avvolgimento primario) ed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pire (avvolgimento secondari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125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ndo si alimenta il primario facendo circolare una corrente alternata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il campo magnetico prodotto da tale corrente induce nel secondario una f.e.m. Se l’avvolgimento secondario è chiuso su un carico la f.e.m. indotta fa circolare una corrente alternata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Il rapporto tra i valori efficaci delle tension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delle corrent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pende dal rapporto tra i numeri di s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125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trasformatore permette quindi il trasferimento di potenza, in corrente alternata, tra il circuito primario e quello secondario, in assenza di contatto elettrico tra i due circiti, a diversi valori della tensione e della corr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9"/>
          <p:cNvSpPr/>
          <p:nvPr/>
        </p:nvSpPr>
        <p:spPr>
          <a:xfrm>
            <a:off x="831960" y="13032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figura mostra lo schema di principio di un trasformatore monof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1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22"/>
          <p:cNvGrpSpPr/>
          <p:nvPr/>
        </p:nvGrpSpPr>
        <p:grpSpPr>
          <a:xfrm>
            <a:off x="4456080" y="819000"/>
            <a:ext cx="3471840" cy="1863360"/>
            <a:chOff x="4456080" y="819000"/>
            <a:chExt cx="3471840" cy="1863360"/>
          </a:xfrm>
        </p:grpSpPr>
        <p:sp>
          <p:nvSpPr>
            <p:cNvPr id="53" name="Rectangle 123"/>
            <p:cNvSpPr/>
            <p:nvPr/>
          </p:nvSpPr>
          <p:spPr>
            <a:xfrm>
              <a:off x="5222160" y="849600"/>
              <a:ext cx="1855080" cy="1832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4"/>
            <p:cNvSpPr/>
            <p:nvPr/>
          </p:nvSpPr>
          <p:spPr>
            <a:xfrm>
              <a:off x="5531040" y="1157760"/>
              <a:ext cx="1265040" cy="120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25"/>
            <p:cNvSpPr/>
            <p:nvPr/>
          </p:nvSpPr>
          <p:spPr>
            <a:xfrm>
              <a:off x="5713920" y="1696680"/>
              <a:ext cx="352080" cy="370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26"/>
            <p:cNvSpPr/>
            <p:nvPr/>
          </p:nvSpPr>
          <p:spPr>
            <a:xfrm>
              <a:off x="6303960" y="1711800"/>
              <a:ext cx="352080" cy="370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27"/>
            <p:cNvSpPr/>
            <p:nvPr/>
          </p:nvSpPr>
          <p:spPr>
            <a:xfrm>
              <a:off x="4701960" y="819000"/>
              <a:ext cx="352080" cy="370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8"/>
            <p:cNvSpPr/>
            <p:nvPr/>
          </p:nvSpPr>
          <p:spPr>
            <a:xfrm>
              <a:off x="7216920" y="849600"/>
              <a:ext cx="352080" cy="370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9"/>
            <p:cNvSpPr/>
            <p:nvPr/>
          </p:nvSpPr>
          <p:spPr>
            <a:xfrm>
              <a:off x="4456080" y="1211040"/>
              <a:ext cx="380160" cy="1201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0"/>
            <p:cNvSpPr/>
            <p:nvPr/>
          </p:nvSpPr>
          <p:spPr>
            <a:xfrm>
              <a:off x="7547760" y="1203840"/>
              <a:ext cx="380160" cy="1155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1"/>
            <p:cNvSpPr/>
            <p:nvPr/>
          </p:nvSpPr>
          <p:spPr>
            <a:xfrm>
              <a:off x="7076520" y="2158200"/>
              <a:ext cx="3520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32"/>
            <p:cNvSpPr/>
            <p:nvPr/>
          </p:nvSpPr>
          <p:spPr>
            <a:xfrm>
              <a:off x="7231320" y="1388520"/>
              <a:ext cx="1270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33"/>
            <p:cNvSpPr/>
            <p:nvPr/>
          </p:nvSpPr>
          <p:spPr>
            <a:xfrm>
              <a:off x="7399800" y="2127600"/>
              <a:ext cx="56880" cy="6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34"/>
            <p:cNvSpPr/>
            <p:nvPr/>
          </p:nvSpPr>
          <p:spPr>
            <a:xfrm>
              <a:off x="4744440" y="2204280"/>
              <a:ext cx="56880" cy="6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35"/>
            <p:cNvSpPr/>
            <p:nvPr/>
          </p:nvSpPr>
          <p:spPr>
            <a:xfrm>
              <a:off x="7399800" y="1357560"/>
              <a:ext cx="56880" cy="6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136"/>
            <p:cNvGrpSpPr/>
            <p:nvPr/>
          </p:nvGrpSpPr>
          <p:grpSpPr>
            <a:xfrm>
              <a:off x="4772520" y="1357560"/>
              <a:ext cx="829800" cy="878040"/>
              <a:chOff x="4772520" y="1357560"/>
              <a:chExt cx="829800" cy="878040"/>
            </a:xfrm>
          </p:grpSpPr>
          <p:sp>
            <p:nvSpPr>
              <p:cNvPr id="67" name="Arc 137"/>
              <p:cNvSpPr/>
              <p:nvPr/>
            </p:nvSpPr>
            <p:spPr>
              <a:xfrm flipV="1">
                <a:off x="4786560" y="2219040"/>
                <a:ext cx="436320" cy="1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138"/>
              <p:cNvSpPr/>
              <p:nvPr/>
            </p:nvSpPr>
            <p:spPr>
              <a:xfrm>
                <a:off x="4969080" y="1388160"/>
                <a:ext cx="1270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139"/>
              <p:cNvSpPr/>
              <p:nvPr/>
            </p:nvSpPr>
            <p:spPr>
              <a:xfrm>
                <a:off x="4772520" y="1357560"/>
                <a:ext cx="56880" cy="6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" name="Group 140"/>
              <p:cNvGrpSpPr/>
              <p:nvPr/>
            </p:nvGrpSpPr>
            <p:grpSpPr>
              <a:xfrm>
                <a:off x="5170320" y="1639800"/>
                <a:ext cx="422280" cy="216360"/>
                <a:chOff x="5170320" y="1639800"/>
                <a:chExt cx="422280" cy="216360"/>
              </a:xfrm>
            </p:grpSpPr>
            <p:grpSp>
              <p:nvGrpSpPr>
                <p:cNvPr id="71" name="Group 141"/>
                <p:cNvGrpSpPr/>
                <p:nvPr/>
              </p:nvGrpSpPr>
              <p:grpSpPr>
                <a:xfrm>
                  <a:off x="5170320" y="1639800"/>
                  <a:ext cx="212400" cy="105120"/>
                  <a:chOff x="5170320" y="1639800"/>
                  <a:chExt cx="212400" cy="105120"/>
                </a:xfrm>
              </p:grpSpPr>
              <p:sp>
                <p:nvSpPr>
                  <p:cNvPr id="72" name="Arc 142"/>
                  <p:cNvSpPr/>
                  <p:nvPr/>
                </p:nvSpPr>
                <p:spPr>
                  <a:xfrm flipH="1" flipV="1">
                    <a:off x="5173200" y="1678680"/>
                    <a:ext cx="20952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Arc 143"/>
                  <p:cNvSpPr/>
                  <p:nvPr/>
                </p:nvSpPr>
                <p:spPr>
                  <a:xfrm flipH="1">
                    <a:off x="5169960" y="1639800"/>
                    <a:ext cx="550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144"/>
                <p:cNvGrpSpPr/>
                <p:nvPr/>
              </p:nvGrpSpPr>
              <p:grpSpPr>
                <a:xfrm>
                  <a:off x="5380200" y="1749600"/>
                  <a:ext cx="212400" cy="106560"/>
                  <a:chOff x="5380200" y="1749600"/>
                  <a:chExt cx="212400" cy="106560"/>
                </a:xfrm>
              </p:grpSpPr>
              <p:sp>
                <p:nvSpPr>
                  <p:cNvPr id="75" name="Arc 145"/>
                  <p:cNvSpPr/>
                  <p:nvPr/>
                </p:nvSpPr>
                <p:spPr>
                  <a:xfrm>
                    <a:off x="5380200" y="1749600"/>
                    <a:ext cx="20952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Arc 146"/>
                  <p:cNvSpPr/>
                  <p:nvPr/>
                </p:nvSpPr>
                <p:spPr>
                  <a:xfrm flipV="1">
                    <a:off x="5537520" y="1820160"/>
                    <a:ext cx="5508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" name="Group 147"/>
              <p:cNvGrpSpPr/>
              <p:nvPr/>
            </p:nvGrpSpPr>
            <p:grpSpPr>
              <a:xfrm>
                <a:off x="5170320" y="1947600"/>
                <a:ext cx="422280" cy="215640"/>
                <a:chOff x="5170320" y="1947600"/>
                <a:chExt cx="422280" cy="215640"/>
              </a:xfrm>
            </p:grpSpPr>
            <p:grpSp>
              <p:nvGrpSpPr>
                <p:cNvPr id="78" name="Group 148"/>
                <p:cNvGrpSpPr/>
                <p:nvPr/>
              </p:nvGrpSpPr>
              <p:grpSpPr>
                <a:xfrm>
                  <a:off x="5170320" y="1947600"/>
                  <a:ext cx="212400" cy="105120"/>
                  <a:chOff x="5170320" y="1947600"/>
                  <a:chExt cx="212400" cy="105120"/>
                </a:xfrm>
              </p:grpSpPr>
              <p:sp>
                <p:nvSpPr>
                  <p:cNvPr id="79" name="Arc 149"/>
                  <p:cNvSpPr/>
                  <p:nvPr/>
                </p:nvSpPr>
                <p:spPr>
                  <a:xfrm flipH="1" flipV="1">
                    <a:off x="5173200" y="1985760"/>
                    <a:ext cx="20952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Arc 150"/>
                  <p:cNvSpPr/>
                  <p:nvPr/>
                </p:nvSpPr>
                <p:spPr>
                  <a:xfrm flipH="1">
                    <a:off x="5169960" y="1947600"/>
                    <a:ext cx="550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" name="Group 151"/>
                <p:cNvGrpSpPr/>
                <p:nvPr/>
              </p:nvGrpSpPr>
              <p:grpSpPr>
                <a:xfrm>
                  <a:off x="5380200" y="2057400"/>
                  <a:ext cx="212400" cy="105840"/>
                  <a:chOff x="5380200" y="2057400"/>
                  <a:chExt cx="212400" cy="105840"/>
                </a:xfrm>
              </p:grpSpPr>
              <p:sp>
                <p:nvSpPr>
                  <p:cNvPr id="82" name="Arc 152"/>
                  <p:cNvSpPr/>
                  <p:nvPr/>
                </p:nvSpPr>
                <p:spPr>
                  <a:xfrm>
                    <a:off x="5380200" y="2057400"/>
                    <a:ext cx="20952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rc 153"/>
                  <p:cNvSpPr/>
                  <p:nvPr/>
                </p:nvSpPr>
                <p:spPr>
                  <a:xfrm flipV="1">
                    <a:off x="5537520" y="2127240"/>
                    <a:ext cx="550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4" name="Line 154"/>
              <p:cNvSpPr/>
              <p:nvPr/>
            </p:nvSpPr>
            <p:spPr>
              <a:xfrm>
                <a:off x="4814640" y="1383120"/>
                <a:ext cx="563040" cy="2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Group 155"/>
              <p:cNvGrpSpPr/>
              <p:nvPr/>
            </p:nvGrpSpPr>
            <p:grpSpPr>
              <a:xfrm>
                <a:off x="5389920" y="1400400"/>
                <a:ext cx="212400" cy="105840"/>
                <a:chOff x="5389920" y="1400400"/>
                <a:chExt cx="212400" cy="105840"/>
              </a:xfrm>
            </p:grpSpPr>
            <p:sp>
              <p:nvSpPr>
                <p:cNvPr id="86" name="Arc 156"/>
                <p:cNvSpPr/>
                <p:nvPr/>
              </p:nvSpPr>
              <p:spPr>
                <a:xfrm>
                  <a:off x="5389920" y="1400400"/>
                  <a:ext cx="209520" cy="666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Arc 157"/>
                <p:cNvSpPr/>
                <p:nvPr/>
              </p:nvSpPr>
              <p:spPr>
                <a:xfrm flipV="1">
                  <a:off x="5547240" y="1470240"/>
                  <a:ext cx="55080" cy="35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" name="Group 158"/>
            <p:cNvGrpSpPr/>
            <p:nvPr/>
          </p:nvGrpSpPr>
          <p:grpSpPr>
            <a:xfrm>
              <a:off x="6734520" y="1383480"/>
              <a:ext cx="722160" cy="729000"/>
              <a:chOff x="6734520" y="1383480"/>
              <a:chExt cx="722160" cy="729000"/>
            </a:xfrm>
          </p:grpSpPr>
          <p:grpSp>
            <p:nvGrpSpPr>
              <p:cNvPr id="89" name="Group 159"/>
              <p:cNvGrpSpPr/>
              <p:nvPr/>
            </p:nvGrpSpPr>
            <p:grpSpPr>
              <a:xfrm>
                <a:off x="6742800" y="1623600"/>
                <a:ext cx="387360" cy="200880"/>
                <a:chOff x="6742800" y="1623600"/>
                <a:chExt cx="387360" cy="200880"/>
              </a:xfrm>
            </p:grpSpPr>
            <p:grpSp>
              <p:nvGrpSpPr>
                <p:cNvPr id="90" name="Group 160"/>
                <p:cNvGrpSpPr/>
                <p:nvPr/>
              </p:nvGrpSpPr>
              <p:grpSpPr>
                <a:xfrm>
                  <a:off x="6935760" y="1623600"/>
                  <a:ext cx="194400" cy="97560"/>
                  <a:chOff x="6935760" y="1623600"/>
                  <a:chExt cx="194400" cy="97560"/>
                </a:xfrm>
              </p:grpSpPr>
              <p:sp>
                <p:nvSpPr>
                  <p:cNvPr id="91" name="Arc 161"/>
                  <p:cNvSpPr/>
                  <p:nvPr/>
                </p:nvSpPr>
                <p:spPr>
                  <a:xfrm flipV="1">
                    <a:off x="6935760" y="1658520"/>
                    <a:ext cx="19296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Arc 162"/>
                  <p:cNvSpPr/>
                  <p:nvPr/>
                </p:nvSpPr>
                <p:spPr>
                  <a:xfrm>
                    <a:off x="7079760" y="1623600"/>
                    <a:ext cx="50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" name="Group 163"/>
                <p:cNvGrpSpPr/>
                <p:nvPr/>
              </p:nvGrpSpPr>
              <p:grpSpPr>
                <a:xfrm>
                  <a:off x="6742800" y="1725840"/>
                  <a:ext cx="195480" cy="98640"/>
                  <a:chOff x="6742800" y="1725840"/>
                  <a:chExt cx="195480" cy="98640"/>
                </a:xfrm>
              </p:grpSpPr>
              <p:sp>
                <p:nvSpPr>
                  <p:cNvPr id="94" name="Arc 164"/>
                  <p:cNvSpPr/>
                  <p:nvPr/>
                </p:nvSpPr>
                <p:spPr>
                  <a:xfrm flipH="1">
                    <a:off x="6745320" y="1725840"/>
                    <a:ext cx="19296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Arc 165"/>
                  <p:cNvSpPr/>
                  <p:nvPr/>
                </p:nvSpPr>
                <p:spPr>
                  <a:xfrm flipH="1" flipV="1">
                    <a:off x="6742800" y="1790640"/>
                    <a:ext cx="50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" name="Group 166"/>
              <p:cNvGrpSpPr/>
              <p:nvPr/>
            </p:nvGrpSpPr>
            <p:grpSpPr>
              <a:xfrm>
                <a:off x="6742800" y="1910880"/>
                <a:ext cx="387360" cy="201600"/>
                <a:chOff x="6742800" y="1910880"/>
                <a:chExt cx="387360" cy="201600"/>
              </a:xfrm>
            </p:grpSpPr>
            <p:grpSp>
              <p:nvGrpSpPr>
                <p:cNvPr id="97" name="Group 167"/>
                <p:cNvGrpSpPr/>
                <p:nvPr/>
              </p:nvGrpSpPr>
              <p:grpSpPr>
                <a:xfrm>
                  <a:off x="6935760" y="1910880"/>
                  <a:ext cx="194400" cy="97560"/>
                  <a:chOff x="6935760" y="1910880"/>
                  <a:chExt cx="194400" cy="97560"/>
                </a:xfrm>
              </p:grpSpPr>
              <p:sp>
                <p:nvSpPr>
                  <p:cNvPr id="98" name="Arc 168"/>
                  <p:cNvSpPr/>
                  <p:nvPr/>
                </p:nvSpPr>
                <p:spPr>
                  <a:xfrm flipV="1">
                    <a:off x="6935760" y="1945800"/>
                    <a:ext cx="19296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Arc 169"/>
                  <p:cNvSpPr/>
                  <p:nvPr/>
                </p:nvSpPr>
                <p:spPr>
                  <a:xfrm>
                    <a:off x="7079760" y="1910880"/>
                    <a:ext cx="5040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170"/>
                <p:cNvGrpSpPr/>
                <p:nvPr/>
              </p:nvGrpSpPr>
              <p:grpSpPr>
                <a:xfrm>
                  <a:off x="6742800" y="2013120"/>
                  <a:ext cx="195480" cy="99360"/>
                  <a:chOff x="6742800" y="2013120"/>
                  <a:chExt cx="195480" cy="99360"/>
                </a:xfrm>
              </p:grpSpPr>
              <p:sp>
                <p:nvSpPr>
                  <p:cNvPr id="101" name="Arc 171"/>
                  <p:cNvSpPr/>
                  <p:nvPr/>
                </p:nvSpPr>
                <p:spPr>
                  <a:xfrm flipH="1">
                    <a:off x="6745320" y="2013120"/>
                    <a:ext cx="19296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Arc 172"/>
                  <p:cNvSpPr/>
                  <p:nvPr/>
                </p:nvSpPr>
                <p:spPr>
                  <a:xfrm flipH="1" flipV="1">
                    <a:off x="6742800" y="2078640"/>
                    <a:ext cx="5040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3" name="Line 173"/>
              <p:cNvSpPr/>
              <p:nvPr/>
            </p:nvSpPr>
            <p:spPr>
              <a:xfrm flipH="1">
                <a:off x="6940440" y="1383480"/>
                <a:ext cx="51624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Group 174"/>
              <p:cNvGrpSpPr/>
              <p:nvPr/>
            </p:nvGrpSpPr>
            <p:grpSpPr>
              <a:xfrm>
                <a:off x="6734520" y="1399680"/>
                <a:ext cx="195120" cy="99360"/>
                <a:chOff x="6734520" y="1399680"/>
                <a:chExt cx="195120" cy="99360"/>
              </a:xfrm>
            </p:grpSpPr>
            <p:sp>
              <p:nvSpPr>
                <p:cNvPr id="105" name="Arc 175"/>
                <p:cNvSpPr/>
                <p:nvPr/>
              </p:nvSpPr>
              <p:spPr>
                <a:xfrm flipH="1">
                  <a:off x="6736680" y="1399680"/>
                  <a:ext cx="192600" cy="62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Arc 176"/>
                <p:cNvSpPr/>
                <p:nvPr/>
              </p:nvSpPr>
              <p:spPr>
                <a:xfrm flipH="1" flipV="1">
                  <a:off x="6734520" y="1465200"/>
                  <a:ext cx="50400" cy="33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7" name="Text Box 177"/>
          <p:cNvSpPr/>
          <p:nvPr/>
        </p:nvSpPr>
        <p:spPr>
          <a:xfrm>
            <a:off x="1130400" y="1778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RINCIPIO DI FUNZ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Text Box 2"/>
          <p:cNvSpPr/>
          <p:nvPr/>
        </p:nvSpPr>
        <p:spPr>
          <a:xfrm>
            <a:off x="1206360" y="368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LASSIF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Rectangle 3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Rectangle 4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Rectangle 5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Rectangle 6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Rectangle 17"/>
          <p:cNvSpPr/>
          <p:nvPr/>
        </p:nvSpPr>
        <p:spPr>
          <a:xfrm>
            <a:off x="399960" y="2391480"/>
            <a:ext cx="840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ollegamento a stell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viene indicato con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l primario e con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l seconda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ollegamento a triangol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viene indicato con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l primario e con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l seconda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ene indicato lo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fasamento tra tensioni primarie e secondar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trasformatore; cioè la differenza di fase (fase della grandezza primaria - fase della grandezza secondaria) tra due tensioni principali di fase corrispondenti.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Nel calcolo dello sfasamento vengono trascurati gli effetti dissipativ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 in tal modo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lo sfasamento risulta essere sempre un multiplo di 30°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Dividendo l’angolo di sfasamento per 30° si associa a tale grandezza un numero da 0 a 11 che individua il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gruppo di appartenenz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trasformat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Rectangle 18"/>
          <p:cNvSpPr/>
          <p:nvPr/>
        </p:nvSpPr>
        <p:spPr>
          <a:xfrm>
            <a:off x="326880" y="1264680"/>
            <a:ext cx="840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guendo le Norme CEI, la classificazione dei trasformatori trifase segue i seguenti crit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Rectangle 3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Rectangle 4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Rectangle 5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Rectangle 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6" name="Object 9"/>
          <p:cNvGraphicFramePr/>
          <p:nvPr/>
        </p:nvGraphicFramePr>
        <p:xfrm>
          <a:off x="1460520" y="228600"/>
          <a:ext cx="6210360" cy="64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228600"/>
                    <a:ext cx="621036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Rectangle 2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Rectangle 3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Rectangle 4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Rectangle 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3" name="Object 275"/>
          <p:cNvGraphicFramePr/>
          <p:nvPr/>
        </p:nvGraphicFramePr>
        <p:xfrm>
          <a:off x="1460520" y="355680"/>
          <a:ext cx="6134040" cy="62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4" name="Object 2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355680"/>
                    <a:ext cx="6134040" cy="62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5" name=""/>
          <p:cNvGraphicFramePr/>
          <p:nvPr/>
        </p:nvGraphicFramePr>
        <p:xfrm>
          <a:off x="971640" y="1100160"/>
          <a:ext cx="6856200" cy="3579840"/>
        </p:xfrm>
        <a:graphic>
          <a:graphicData uri="http://schemas.openxmlformats.org/drawingml/2006/table">
            <a:tbl>
              <a:tblPr/>
              <a:tblGrid>
                <a:gridCol w="2194560"/>
                <a:gridCol w="740520"/>
                <a:gridCol w="742320"/>
                <a:gridCol w="740520"/>
                <a:gridCol w="740880"/>
                <a:gridCol w="741960"/>
                <a:gridCol w="740880"/>
                <a:gridCol w="216000"/>
              </a:tblGrid>
              <a:tr h="4366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i caratteristici di trasformatori per cabine di distribuzione MT /   b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tenza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kV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sioni a vuoto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k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/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/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/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/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/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/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sioni di c.c.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ente a vuoto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di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el rame e addizionali (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el ferro (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dimento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a pieno carico e cos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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Text Box 2"/>
          <p:cNvSpPr/>
          <p:nvPr/>
        </p:nvSpPr>
        <p:spPr>
          <a:xfrm>
            <a:off x="1206360" y="368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ARALLELO DEI TRASFORM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Rectangle 3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Rectangle 4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6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Rectangle 54"/>
          <p:cNvSpPr/>
          <p:nvPr/>
        </p:nvSpPr>
        <p:spPr>
          <a:xfrm>
            <a:off x="4010040" y="1587240"/>
            <a:ext cx="470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ffinché il parallelo tra due trasformatori funzioni correttamente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a vuo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devono essere verificate le seguenti condizio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55"/>
          <p:cNvSpPr/>
          <p:nvPr/>
        </p:nvSpPr>
        <p:spPr>
          <a:xfrm>
            <a:off x="235080" y="3745440"/>
            <a:ext cx="890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Char char="●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trasformatori devono avere le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tesse tensioni nominali sia primaria che secondar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Se così non fosse, si avrebbe infatti, nel funzionamento a vuoto, una circolazione di corrente nella maglia costituita dagli avvolgimenti secondari dei trasformatori collegati in parallelo (maglia aa - ba -bb - ab - aa della figur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●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Nel caso di trasformatori trifa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questi devono avere lo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tesso gruppo di appartenenz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Se i due trasformatori trifase, pur verificando la condizione di cui al punto 1, avessero diversi gruppi di appartenenza, sarebbe comunque presente, nel funzionamento a vuoto, una circolazione di corrente nei secondari dei trasformatori, dovuta alla differenza di fase delle f.e.m. indotte nei due avvolgimenti secondari in parall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3" name="Group 11"/>
          <p:cNvGrpSpPr/>
          <p:nvPr/>
        </p:nvGrpSpPr>
        <p:grpSpPr>
          <a:xfrm>
            <a:off x="763560" y="939960"/>
            <a:ext cx="2847600" cy="2562120"/>
            <a:chOff x="763560" y="939960"/>
            <a:chExt cx="2847600" cy="2562120"/>
          </a:xfrm>
        </p:grpSpPr>
        <p:grpSp>
          <p:nvGrpSpPr>
            <p:cNvPr id="1894" name="Group 12"/>
            <p:cNvGrpSpPr/>
            <p:nvPr/>
          </p:nvGrpSpPr>
          <p:grpSpPr>
            <a:xfrm>
              <a:off x="1045800" y="1184040"/>
              <a:ext cx="2565360" cy="2089080"/>
              <a:chOff x="1045800" y="1184040"/>
              <a:chExt cx="2565360" cy="2089080"/>
            </a:xfrm>
          </p:grpSpPr>
          <p:sp>
            <p:nvSpPr>
              <p:cNvPr id="1895" name="Freeform 13"/>
              <p:cNvSpPr/>
              <p:nvPr/>
            </p:nvSpPr>
            <p:spPr>
              <a:xfrm>
                <a:off x="1045800" y="1184040"/>
                <a:ext cx="2565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9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4"/>
              <p:cNvSpPr/>
              <p:nvPr/>
            </p:nvSpPr>
            <p:spPr>
              <a:xfrm>
                <a:off x="1045800" y="1415880"/>
                <a:ext cx="2565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9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5"/>
              <p:cNvSpPr/>
              <p:nvPr/>
            </p:nvSpPr>
            <p:spPr>
              <a:xfrm>
                <a:off x="1884960" y="1415880"/>
                <a:ext cx="116640" cy="510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5"/>
                    </a:moveTo>
                    <a:lnTo>
                      <a:pt x="19889" y="13619"/>
                    </a:lnTo>
                    <a:lnTo>
                      <a:pt x="1988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6"/>
              <p:cNvSpPr/>
              <p:nvPr/>
            </p:nvSpPr>
            <p:spPr>
              <a:xfrm>
                <a:off x="1488600" y="1184040"/>
                <a:ext cx="117000" cy="743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89" y="19983"/>
                    </a:moveTo>
                    <a:lnTo>
                      <a:pt x="0" y="1561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7"/>
              <p:cNvSpPr/>
              <p:nvPr/>
            </p:nvSpPr>
            <p:spPr>
              <a:xfrm>
                <a:off x="1045800" y="3040560"/>
                <a:ext cx="2565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9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8"/>
              <p:cNvSpPr/>
              <p:nvPr/>
            </p:nvSpPr>
            <p:spPr>
              <a:xfrm>
                <a:off x="1045800" y="3272760"/>
                <a:ext cx="2565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9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9"/>
              <p:cNvSpPr/>
              <p:nvPr/>
            </p:nvSpPr>
            <p:spPr>
              <a:xfrm>
                <a:off x="1488600" y="2529720"/>
                <a:ext cx="117000" cy="51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89" y="0"/>
                    </a:moveTo>
                    <a:lnTo>
                      <a:pt x="0" y="6348"/>
                    </a:lnTo>
                    <a:lnTo>
                      <a:pt x="0" y="199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20"/>
              <p:cNvSpPr/>
              <p:nvPr/>
            </p:nvSpPr>
            <p:spPr>
              <a:xfrm>
                <a:off x="1884960" y="2529720"/>
                <a:ext cx="93240" cy="743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861" y="4367"/>
                    </a:lnTo>
                    <a:lnTo>
                      <a:pt x="19861" y="1998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3" name="Group 21"/>
            <p:cNvGrpSpPr/>
            <p:nvPr/>
          </p:nvGrpSpPr>
          <p:grpSpPr>
            <a:xfrm>
              <a:off x="1511640" y="1184040"/>
              <a:ext cx="1632960" cy="2089080"/>
              <a:chOff x="1511640" y="1184040"/>
              <a:chExt cx="1632960" cy="2089080"/>
            </a:xfrm>
          </p:grpSpPr>
          <p:sp>
            <p:nvSpPr>
              <p:cNvPr id="1904" name="Freeform 22"/>
              <p:cNvSpPr/>
              <p:nvPr/>
            </p:nvSpPr>
            <p:spPr>
              <a:xfrm>
                <a:off x="1511640" y="2111760"/>
                <a:ext cx="466920" cy="46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93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96" y="17143"/>
                    </a:lnTo>
                    <a:lnTo>
                      <a:pt x="16245" y="17781"/>
                    </a:lnTo>
                    <a:lnTo>
                      <a:pt x="15438" y="18391"/>
                    </a:lnTo>
                    <a:lnTo>
                      <a:pt x="14548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61" y="19723"/>
                    </a:lnTo>
                    <a:lnTo>
                      <a:pt x="6815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70" y="16782"/>
                    </a:lnTo>
                    <a:lnTo>
                      <a:pt x="2058" y="16033"/>
                    </a:lnTo>
                    <a:lnTo>
                      <a:pt x="1474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74" y="4799"/>
                    </a:lnTo>
                    <a:lnTo>
                      <a:pt x="2058" y="3967"/>
                    </a:lnTo>
                    <a:lnTo>
                      <a:pt x="2670" y="3218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815" y="499"/>
                    </a:lnTo>
                    <a:lnTo>
                      <a:pt x="7761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48" y="1110"/>
                    </a:lnTo>
                    <a:lnTo>
                      <a:pt x="15438" y="1609"/>
                    </a:lnTo>
                    <a:lnTo>
                      <a:pt x="16245" y="2219"/>
                    </a:lnTo>
                    <a:lnTo>
                      <a:pt x="16996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215"/>
                    </a:lnTo>
                    <a:lnTo>
                      <a:pt x="19193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23"/>
              <p:cNvSpPr/>
              <p:nvPr/>
            </p:nvSpPr>
            <p:spPr>
              <a:xfrm>
                <a:off x="1511640" y="1879920"/>
                <a:ext cx="466920" cy="46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93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96" y="17143"/>
                    </a:lnTo>
                    <a:lnTo>
                      <a:pt x="16245" y="17781"/>
                    </a:lnTo>
                    <a:lnTo>
                      <a:pt x="15438" y="18391"/>
                    </a:lnTo>
                    <a:lnTo>
                      <a:pt x="14548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61" y="19723"/>
                    </a:lnTo>
                    <a:lnTo>
                      <a:pt x="6815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70" y="16782"/>
                    </a:lnTo>
                    <a:lnTo>
                      <a:pt x="2058" y="16033"/>
                    </a:lnTo>
                    <a:lnTo>
                      <a:pt x="1474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74" y="4799"/>
                    </a:lnTo>
                    <a:lnTo>
                      <a:pt x="2058" y="3939"/>
                    </a:lnTo>
                    <a:lnTo>
                      <a:pt x="2670" y="3190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815" y="499"/>
                    </a:lnTo>
                    <a:lnTo>
                      <a:pt x="7761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48" y="1110"/>
                    </a:lnTo>
                    <a:lnTo>
                      <a:pt x="15438" y="1609"/>
                    </a:lnTo>
                    <a:lnTo>
                      <a:pt x="16245" y="2191"/>
                    </a:lnTo>
                    <a:lnTo>
                      <a:pt x="16996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187"/>
                    </a:lnTo>
                    <a:lnTo>
                      <a:pt x="19193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24"/>
              <p:cNvSpPr/>
              <p:nvPr/>
            </p:nvSpPr>
            <p:spPr>
              <a:xfrm>
                <a:off x="3027240" y="1415880"/>
                <a:ext cx="117360" cy="510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5"/>
                    </a:moveTo>
                    <a:lnTo>
                      <a:pt x="19890" y="13619"/>
                    </a:lnTo>
                    <a:lnTo>
                      <a:pt x="1989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25"/>
              <p:cNvSpPr/>
              <p:nvPr/>
            </p:nvSpPr>
            <p:spPr>
              <a:xfrm>
                <a:off x="2630880" y="1184040"/>
                <a:ext cx="117360" cy="743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90" y="19983"/>
                    </a:moveTo>
                    <a:lnTo>
                      <a:pt x="0" y="1561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26"/>
              <p:cNvSpPr/>
              <p:nvPr/>
            </p:nvSpPr>
            <p:spPr>
              <a:xfrm>
                <a:off x="2630880" y="2529720"/>
                <a:ext cx="117360" cy="51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90" y="0"/>
                    </a:moveTo>
                    <a:lnTo>
                      <a:pt x="0" y="6348"/>
                    </a:lnTo>
                    <a:lnTo>
                      <a:pt x="0" y="199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27"/>
              <p:cNvSpPr/>
              <p:nvPr/>
            </p:nvSpPr>
            <p:spPr>
              <a:xfrm>
                <a:off x="3027240" y="2529720"/>
                <a:ext cx="93960" cy="743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862" y="4367"/>
                    </a:lnTo>
                    <a:lnTo>
                      <a:pt x="19862" y="1998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28"/>
              <p:cNvSpPr/>
              <p:nvPr/>
            </p:nvSpPr>
            <p:spPr>
              <a:xfrm>
                <a:off x="2654280" y="2111760"/>
                <a:ext cx="466920" cy="46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66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68" y="17143"/>
                    </a:lnTo>
                    <a:lnTo>
                      <a:pt x="16217" y="17781"/>
                    </a:lnTo>
                    <a:lnTo>
                      <a:pt x="15438" y="18391"/>
                    </a:lnTo>
                    <a:lnTo>
                      <a:pt x="14520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33" y="19723"/>
                    </a:lnTo>
                    <a:lnTo>
                      <a:pt x="6787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43" y="16782"/>
                    </a:lnTo>
                    <a:lnTo>
                      <a:pt x="2058" y="16033"/>
                    </a:lnTo>
                    <a:lnTo>
                      <a:pt x="1446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46" y="4799"/>
                    </a:lnTo>
                    <a:lnTo>
                      <a:pt x="2058" y="3967"/>
                    </a:lnTo>
                    <a:lnTo>
                      <a:pt x="2643" y="3218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787" y="499"/>
                    </a:lnTo>
                    <a:lnTo>
                      <a:pt x="7733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20" y="1110"/>
                    </a:lnTo>
                    <a:lnTo>
                      <a:pt x="15438" y="1609"/>
                    </a:lnTo>
                    <a:lnTo>
                      <a:pt x="16217" y="2219"/>
                    </a:lnTo>
                    <a:lnTo>
                      <a:pt x="16968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215"/>
                    </a:lnTo>
                    <a:lnTo>
                      <a:pt x="19166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29"/>
              <p:cNvSpPr/>
              <p:nvPr/>
            </p:nvSpPr>
            <p:spPr>
              <a:xfrm>
                <a:off x="2654280" y="1879920"/>
                <a:ext cx="466920" cy="46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66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68" y="17143"/>
                    </a:lnTo>
                    <a:lnTo>
                      <a:pt x="16217" y="17781"/>
                    </a:lnTo>
                    <a:lnTo>
                      <a:pt x="15438" y="18391"/>
                    </a:lnTo>
                    <a:lnTo>
                      <a:pt x="14520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33" y="19723"/>
                    </a:lnTo>
                    <a:lnTo>
                      <a:pt x="6787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43" y="16782"/>
                    </a:lnTo>
                    <a:lnTo>
                      <a:pt x="2058" y="16033"/>
                    </a:lnTo>
                    <a:lnTo>
                      <a:pt x="1446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46" y="4799"/>
                    </a:lnTo>
                    <a:lnTo>
                      <a:pt x="2058" y="3939"/>
                    </a:lnTo>
                    <a:lnTo>
                      <a:pt x="2643" y="3190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787" y="499"/>
                    </a:lnTo>
                    <a:lnTo>
                      <a:pt x="7733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20" y="1110"/>
                    </a:lnTo>
                    <a:lnTo>
                      <a:pt x="15438" y="1609"/>
                    </a:lnTo>
                    <a:lnTo>
                      <a:pt x="16217" y="2191"/>
                    </a:lnTo>
                    <a:lnTo>
                      <a:pt x="16968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187"/>
                    </a:lnTo>
                    <a:lnTo>
                      <a:pt x="19166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2" name="Rectangle 30"/>
            <p:cNvSpPr/>
            <p:nvPr/>
          </p:nvSpPr>
          <p:spPr>
            <a:xfrm>
              <a:off x="2071800" y="2229480"/>
              <a:ext cx="1857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Rectangle 31"/>
            <p:cNvSpPr/>
            <p:nvPr/>
          </p:nvSpPr>
          <p:spPr>
            <a:xfrm>
              <a:off x="3260880" y="2252520"/>
              <a:ext cx="1857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32"/>
            <p:cNvSpPr/>
            <p:nvPr/>
          </p:nvSpPr>
          <p:spPr>
            <a:xfrm>
              <a:off x="1357920" y="939960"/>
              <a:ext cx="2052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33"/>
            <p:cNvSpPr/>
            <p:nvPr/>
          </p:nvSpPr>
          <p:spPr>
            <a:xfrm>
              <a:off x="763560" y="3066480"/>
              <a:ext cx="2052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34"/>
            <p:cNvSpPr/>
            <p:nvPr/>
          </p:nvSpPr>
          <p:spPr>
            <a:xfrm>
              <a:off x="946440" y="1461960"/>
              <a:ext cx="12708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35"/>
            <p:cNvSpPr/>
            <p:nvPr/>
          </p:nvSpPr>
          <p:spPr>
            <a:xfrm>
              <a:off x="927000" y="2853720"/>
              <a:ext cx="12708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36"/>
            <p:cNvSpPr/>
            <p:nvPr/>
          </p:nvSpPr>
          <p:spPr>
            <a:xfrm>
              <a:off x="975960" y="997920"/>
              <a:ext cx="127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37"/>
            <p:cNvSpPr/>
            <p:nvPr/>
          </p:nvSpPr>
          <p:spPr>
            <a:xfrm>
              <a:off x="936720" y="3317760"/>
              <a:ext cx="12708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Oval 38"/>
            <p:cNvSpPr/>
            <p:nvPr/>
          </p:nvSpPr>
          <p:spPr>
            <a:xfrm>
              <a:off x="1472760" y="116208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Oval 39"/>
            <p:cNvSpPr/>
            <p:nvPr/>
          </p:nvSpPr>
          <p:spPr>
            <a:xfrm>
              <a:off x="1979640" y="1403640"/>
              <a:ext cx="2952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Oval 40"/>
            <p:cNvSpPr/>
            <p:nvPr/>
          </p:nvSpPr>
          <p:spPr>
            <a:xfrm>
              <a:off x="2612880" y="116208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Oval 41"/>
            <p:cNvSpPr/>
            <p:nvPr/>
          </p:nvSpPr>
          <p:spPr>
            <a:xfrm>
              <a:off x="3139200" y="139428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Oval 42"/>
            <p:cNvSpPr/>
            <p:nvPr/>
          </p:nvSpPr>
          <p:spPr>
            <a:xfrm>
              <a:off x="1482480" y="301824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Oval 43"/>
            <p:cNvSpPr/>
            <p:nvPr/>
          </p:nvSpPr>
          <p:spPr>
            <a:xfrm>
              <a:off x="1959840" y="325008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Oval 44"/>
            <p:cNvSpPr/>
            <p:nvPr/>
          </p:nvSpPr>
          <p:spPr>
            <a:xfrm>
              <a:off x="2612880" y="300852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Oval 45"/>
            <p:cNvSpPr/>
            <p:nvPr/>
          </p:nvSpPr>
          <p:spPr>
            <a:xfrm>
              <a:off x="3100320" y="325008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Rectangle 46"/>
            <p:cNvSpPr/>
            <p:nvPr/>
          </p:nvSpPr>
          <p:spPr>
            <a:xfrm>
              <a:off x="3053520" y="1210320"/>
              <a:ext cx="20520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Rectangle 47"/>
            <p:cNvSpPr/>
            <p:nvPr/>
          </p:nvSpPr>
          <p:spPr>
            <a:xfrm>
              <a:off x="802440" y="1210320"/>
              <a:ext cx="2052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Rectangle 48"/>
            <p:cNvSpPr/>
            <p:nvPr/>
          </p:nvSpPr>
          <p:spPr>
            <a:xfrm>
              <a:off x="1893960" y="1210320"/>
              <a:ext cx="2052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Rectangle 49"/>
            <p:cNvSpPr/>
            <p:nvPr/>
          </p:nvSpPr>
          <p:spPr>
            <a:xfrm>
              <a:off x="2488320" y="939960"/>
              <a:ext cx="2052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Rectangle 50"/>
            <p:cNvSpPr/>
            <p:nvPr/>
          </p:nvSpPr>
          <p:spPr>
            <a:xfrm>
              <a:off x="3043800" y="3308040"/>
              <a:ext cx="2052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Rectangle 51"/>
            <p:cNvSpPr/>
            <p:nvPr/>
          </p:nvSpPr>
          <p:spPr>
            <a:xfrm>
              <a:off x="1893960" y="3298680"/>
              <a:ext cx="2052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52"/>
            <p:cNvSpPr/>
            <p:nvPr/>
          </p:nvSpPr>
          <p:spPr>
            <a:xfrm>
              <a:off x="1387080" y="3076200"/>
              <a:ext cx="2052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53"/>
            <p:cNvSpPr/>
            <p:nvPr/>
          </p:nvSpPr>
          <p:spPr>
            <a:xfrm>
              <a:off x="2527200" y="3076200"/>
              <a:ext cx="2052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Text Box 2"/>
          <p:cNvSpPr/>
          <p:nvPr/>
        </p:nvSpPr>
        <p:spPr>
          <a:xfrm>
            <a:off x="1206360" y="368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ARALLELO DEI TRASFORM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3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Rectangle 4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Rectangle 6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8"/>
          <p:cNvSpPr/>
          <p:nvPr/>
        </p:nvSpPr>
        <p:spPr>
          <a:xfrm>
            <a:off x="3921120" y="1434600"/>
            <a:ext cx="470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ffinché il parallelo tra due trasformatori funzioni correttamente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a caric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devono essere verificate le seguenti condizio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2" name="Group 10"/>
          <p:cNvGrpSpPr/>
          <p:nvPr/>
        </p:nvGrpSpPr>
        <p:grpSpPr>
          <a:xfrm>
            <a:off x="662040" y="1359000"/>
            <a:ext cx="2847600" cy="2562120"/>
            <a:chOff x="662040" y="1359000"/>
            <a:chExt cx="2847600" cy="2562120"/>
          </a:xfrm>
        </p:grpSpPr>
        <p:grpSp>
          <p:nvGrpSpPr>
            <p:cNvPr id="1943" name="Group 11"/>
            <p:cNvGrpSpPr/>
            <p:nvPr/>
          </p:nvGrpSpPr>
          <p:grpSpPr>
            <a:xfrm>
              <a:off x="944280" y="1603080"/>
              <a:ext cx="2565360" cy="2089080"/>
              <a:chOff x="944280" y="1603080"/>
              <a:chExt cx="2565360" cy="2089080"/>
            </a:xfrm>
          </p:grpSpPr>
          <p:sp>
            <p:nvSpPr>
              <p:cNvPr id="1944" name="Freeform 12"/>
              <p:cNvSpPr/>
              <p:nvPr/>
            </p:nvSpPr>
            <p:spPr>
              <a:xfrm>
                <a:off x="944280" y="1603080"/>
                <a:ext cx="2565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9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Freeform 13"/>
              <p:cNvSpPr/>
              <p:nvPr/>
            </p:nvSpPr>
            <p:spPr>
              <a:xfrm>
                <a:off x="944280" y="1834920"/>
                <a:ext cx="2565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9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4"/>
              <p:cNvSpPr/>
              <p:nvPr/>
            </p:nvSpPr>
            <p:spPr>
              <a:xfrm>
                <a:off x="1783440" y="1834920"/>
                <a:ext cx="116640" cy="510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5"/>
                    </a:moveTo>
                    <a:lnTo>
                      <a:pt x="19889" y="13619"/>
                    </a:lnTo>
                    <a:lnTo>
                      <a:pt x="1988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5"/>
              <p:cNvSpPr/>
              <p:nvPr/>
            </p:nvSpPr>
            <p:spPr>
              <a:xfrm>
                <a:off x="1387080" y="1603080"/>
                <a:ext cx="117000" cy="743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89" y="19983"/>
                    </a:moveTo>
                    <a:lnTo>
                      <a:pt x="0" y="1561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6"/>
              <p:cNvSpPr/>
              <p:nvPr/>
            </p:nvSpPr>
            <p:spPr>
              <a:xfrm>
                <a:off x="944280" y="3459600"/>
                <a:ext cx="2565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9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7"/>
              <p:cNvSpPr/>
              <p:nvPr/>
            </p:nvSpPr>
            <p:spPr>
              <a:xfrm>
                <a:off x="944280" y="3691800"/>
                <a:ext cx="2565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9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8"/>
              <p:cNvSpPr/>
              <p:nvPr/>
            </p:nvSpPr>
            <p:spPr>
              <a:xfrm>
                <a:off x="1387080" y="2948760"/>
                <a:ext cx="117000" cy="51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89" y="0"/>
                    </a:moveTo>
                    <a:lnTo>
                      <a:pt x="0" y="6348"/>
                    </a:lnTo>
                    <a:lnTo>
                      <a:pt x="0" y="199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19"/>
              <p:cNvSpPr/>
              <p:nvPr/>
            </p:nvSpPr>
            <p:spPr>
              <a:xfrm>
                <a:off x="1783440" y="2948760"/>
                <a:ext cx="93240" cy="743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861" y="4367"/>
                    </a:lnTo>
                    <a:lnTo>
                      <a:pt x="19861" y="1998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2" name="Group 20"/>
            <p:cNvGrpSpPr/>
            <p:nvPr/>
          </p:nvGrpSpPr>
          <p:grpSpPr>
            <a:xfrm>
              <a:off x="1410120" y="1603080"/>
              <a:ext cx="1632960" cy="2089080"/>
              <a:chOff x="1410120" y="1603080"/>
              <a:chExt cx="1632960" cy="2089080"/>
            </a:xfrm>
          </p:grpSpPr>
          <p:sp>
            <p:nvSpPr>
              <p:cNvPr id="1953" name="Freeform 21"/>
              <p:cNvSpPr/>
              <p:nvPr/>
            </p:nvSpPr>
            <p:spPr>
              <a:xfrm>
                <a:off x="1410120" y="2530800"/>
                <a:ext cx="466920" cy="46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93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96" y="17143"/>
                    </a:lnTo>
                    <a:lnTo>
                      <a:pt x="16245" y="17781"/>
                    </a:lnTo>
                    <a:lnTo>
                      <a:pt x="15438" y="18391"/>
                    </a:lnTo>
                    <a:lnTo>
                      <a:pt x="14548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61" y="19723"/>
                    </a:lnTo>
                    <a:lnTo>
                      <a:pt x="6815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70" y="16782"/>
                    </a:lnTo>
                    <a:lnTo>
                      <a:pt x="2058" y="16033"/>
                    </a:lnTo>
                    <a:lnTo>
                      <a:pt x="1474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74" y="4799"/>
                    </a:lnTo>
                    <a:lnTo>
                      <a:pt x="2058" y="3967"/>
                    </a:lnTo>
                    <a:lnTo>
                      <a:pt x="2670" y="3218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815" y="499"/>
                    </a:lnTo>
                    <a:lnTo>
                      <a:pt x="7761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48" y="1110"/>
                    </a:lnTo>
                    <a:lnTo>
                      <a:pt x="15438" y="1609"/>
                    </a:lnTo>
                    <a:lnTo>
                      <a:pt x="16245" y="2219"/>
                    </a:lnTo>
                    <a:lnTo>
                      <a:pt x="16996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215"/>
                    </a:lnTo>
                    <a:lnTo>
                      <a:pt x="19193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22"/>
              <p:cNvSpPr/>
              <p:nvPr/>
            </p:nvSpPr>
            <p:spPr>
              <a:xfrm>
                <a:off x="1410120" y="2298960"/>
                <a:ext cx="466920" cy="46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93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96" y="17143"/>
                    </a:lnTo>
                    <a:lnTo>
                      <a:pt x="16245" y="17781"/>
                    </a:lnTo>
                    <a:lnTo>
                      <a:pt x="15438" y="18391"/>
                    </a:lnTo>
                    <a:lnTo>
                      <a:pt x="14548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61" y="19723"/>
                    </a:lnTo>
                    <a:lnTo>
                      <a:pt x="6815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70" y="16782"/>
                    </a:lnTo>
                    <a:lnTo>
                      <a:pt x="2058" y="16033"/>
                    </a:lnTo>
                    <a:lnTo>
                      <a:pt x="1474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74" y="4799"/>
                    </a:lnTo>
                    <a:lnTo>
                      <a:pt x="2058" y="3939"/>
                    </a:lnTo>
                    <a:lnTo>
                      <a:pt x="2670" y="3190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815" y="499"/>
                    </a:lnTo>
                    <a:lnTo>
                      <a:pt x="7761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48" y="1110"/>
                    </a:lnTo>
                    <a:lnTo>
                      <a:pt x="15438" y="1609"/>
                    </a:lnTo>
                    <a:lnTo>
                      <a:pt x="16245" y="2191"/>
                    </a:lnTo>
                    <a:lnTo>
                      <a:pt x="16996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187"/>
                    </a:lnTo>
                    <a:lnTo>
                      <a:pt x="19193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23"/>
              <p:cNvSpPr/>
              <p:nvPr/>
            </p:nvSpPr>
            <p:spPr>
              <a:xfrm>
                <a:off x="2925720" y="1834920"/>
                <a:ext cx="117360" cy="510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5"/>
                    </a:moveTo>
                    <a:lnTo>
                      <a:pt x="19890" y="13619"/>
                    </a:lnTo>
                    <a:lnTo>
                      <a:pt x="1989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24"/>
              <p:cNvSpPr/>
              <p:nvPr/>
            </p:nvSpPr>
            <p:spPr>
              <a:xfrm>
                <a:off x="2529360" y="1603080"/>
                <a:ext cx="117360" cy="743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90" y="19983"/>
                    </a:moveTo>
                    <a:lnTo>
                      <a:pt x="0" y="1561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25"/>
              <p:cNvSpPr/>
              <p:nvPr/>
            </p:nvSpPr>
            <p:spPr>
              <a:xfrm>
                <a:off x="2529360" y="2948760"/>
                <a:ext cx="117360" cy="51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90" y="0"/>
                    </a:moveTo>
                    <a:lnTo>
                      <a:pt x="0" y="6348"/>
                    </a:lnTo>
                    <a:lnTo>
                      <a:pt x="0" y="199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26"/>
              <p:cNvSpPr/>
              <p:nvPr/>
            </p:nvSpPr>
            <p:spPr>
              <a:xfrm>
                <a:off x="2925720" y="2948760"/>
                <a:ext cx="93960" cy="743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862" y="4367"/>
                    </a:lnTo>
                    <a:lnTo>
                      <a:pt x="19862" y="1998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27"/>
              <p:cNvSpPr/>
              <p:nvPr/>
            </p:nvSpPr>
            <p:spPr>
              <a:xfrm>
                <a:off x="2552760" y="2530800"/>
                <a:ext cx="466920" cy="46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66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68" y="17143"/>
                    </a:lnTo>
                    <a:lnTo>
                      <a:pt x="16217" y="17781"/>
                    </a:lnTo>
                    <a:lnTo>
                      <a:pt x="15438" y="18391"/>
                    </a:lnTo>
                    <a:lnTo>
                      <a:pt x="14520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33" y="19723"/>
                    </a:lnTo>
                    <a:lnTo>
                      <a:pt x="6787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43" y="16782"/>
                    </a:lnTo>
                    <a:lnTo>
                      <a:pt x="2058" y="16033"/>
                    </a:lnTo>
                    <a:lnTo>
                      <a:pt x="1446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46" y="4799"/>
                    </a:lnTo>
                    <a:lnTo>
                      <a:pt x="2058" y="3967"/>
                    </a:lnTo>
                    <a:lnTo>
                      <a:pt x="2643" y="3218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787" y="499"/>
                    </a:lnTo>
                    <a:lnTo>
                      <a:pt x="7733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20" y="1110"/>
                    </a:lnTo>
                    <a:lnTo>
                      <a:pt x="15438" y="1609"/>
                    </a:lnTo>
                    <a:lnTo>
                      <a:pt x="16217" y="2219"/>
                    </a:lnTo>
                    <a:lnTo>
                      <a:pt x="16968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215"/>
                    </a:lnTo>
                    <a:lnTo>
                      <a:pt x="19166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28"/>
              <p:cNvSpPr/>
              <p:nvPr/>
            </p:nvSpPr>
            <p:spPr>
              <a:xfrm>
                <a:off x="2552760" y="2298960"/>
                <a:ext cx="466920" cy="46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66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68" y="17143"/>
                    </a:lnTo>
                    <a:lnTo>
                      <a:pt x="16217" y="17781"/>
                    </a:lnTo>
                    <a:lnTo>
                      <a:pt x="15438" y="18391"/>
                    </a:lnTo>
                    <a:lnTo>
                      <a:pt x="14520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33" y="19723"/>
                    </a:lnTo>
                    <a:lnTo>
                      <a:pt x="6787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43" y="16782"/>
                    </a:lnTo>
                    <a:lnTo>
                      <a:pt x="2058" y="16033"/>
                    </a:lnTo>
                    <a:lnTo>
                      <a:pt x="1446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46" y="4799"/>
                    </a:lnTo>
                    <a:lnTo>
                      <a:pt x="2058" y="3939"/>
                    </a:lnTo>
                    <a:lnTo>
                      <a:pt x="2643" y="3190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787" y="499"/>
                    </a:lnTo>
                    <a:lnTo>
                      <a:pt x="7733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20" y="1110"/>
                    </a:lnTo>
                    <a:lnTo>
                      <a:pt x="15438" y="1609"/>
                    </a:lnTo>
                    <a:lnTo>
                      <a:pt x="16217" y="2191"/>
                    </a:lnTo>
                    <a:lnTo>
                      <a:pt x="16968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187"/>
                    </a:lnTo>
                    <a:lnTo>
                      <a:pt x="19166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1" name="Rectangle 29"/>
            <p:cNvSpPr/>
            <p:nvPr/>
          </p:nvSpPr>
          <p:spPr>
            <a:xfrm>
              <a:off x="1970280" y="2648520"/>
              <a:ext cx="1857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Rectangle 30"/>
            <p:cNvSpPr/>
            <p:nvPr/>
          </p:nvSpPr>
          <p:spPr>
            <a:xfrm>
              <a:off x="3159360" y="2671560"/>
              <a:ext cx="1857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31"/>
            <p:cNvSpPr/>
            <p:nvPr/>
          </p:nvSpPr>
          <p:spPr>
            <a:xfrm>
              <a:off x="1256400" y="1359000"/>
              <a:ext cx="2052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Rectangle 32"/>
            <p:cNvSpPr/>
            <p:nvPr/>
          </p:nvSpPr>
          <p:spPr>
            <a:xfrm>
              <a:off x="662040" y="3485520"/>
              <a:ext cx="2052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Rectangle 33"/>
            <p:cNvSpPr/>
            <p:nvPr/>
          </p:nvSpPr>
          <p:spPr>
            <a:xfrm>
              <a:off x="844920" y="1881000"/>
              <a:ext cx="12708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Rectangle 34"/>
            <p:cNvSpPr/>
            <p:nvPr/>
          </p:nvSpPr>
          <p:spPr>
            <a:xfrm>
              <a:off x="825480" y="3272760"/>
              <a:ext cx="12708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Rectangle 35"/>
            <p:cNvSpPr/>
            <p:nvPr/>
          </p:nvSpPr>
          <p:spPr>
            <a:xfrm>
              <a:off x="874440" y="1416960"/>
              <a:ext cx="127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Rectangle 36"/>
            <p:cNvSpPr/>
            <p:nvPr/>
          </p:nvSpPr>
          <p:spPr>
            <a:xfrm>
              <a:off x="835200" y="3736800"/>
              <a:ext cx="12708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Oval 37"/>
            <p:cNvSpPr/>
            <p:nvPr/>
          </p:nvSpPr>
          <p:spPr>
            <a:xfrm>
              <a:off x="1371240" y="158112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Oval 38"/>
            <p:cNvSpPr/>
            <p:nvPr/>
          </p:nvSpPr>
          <p:spPr>
            <a:xfrm>
              <a:off x="1878120" y="1822680"/>
              <a:ext cx="2952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Oval 39"/>
            <p:cNvSpPr/>
            <p:nvPr/>
          </p:nvSpPr>
          <p:spPr>
            <a:xfrm>
              <a:off x="2511360" y="158112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Oval 40"/>
            <p:cNvSpPr/>
            <p:nvPr/>
          </p:nvSpPr>
          <p:spPr>
            <a:xfrm>
              <a:off x="3037680" y="181332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Oval 41"/>
            <p:cNvSpPr/>
            <p:nvPr/>
          </p:nvSpPr>
          <p:spPr>
            <a:xfrm>
              <a:off x="1380960" y="343728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Oval 42"/>
            <p:cNvSpPr/>
            <p:nvPr/>
          </p:nvSpPr>
          <p:spPr>
            <a:xfrm>
              <a:off x="1858320" y="366912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Oval 43"/>
            <p:cNvSpPr/>
            <p:nvPr/>
          </p:nvSpPr>
          <p:spPr>
            <a:xfrm>
              <a:off x="2511360" y="342756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Oval 44"/>
            <p:cNvSpPr/>
            <p:nvPr/>
          </p:nvSpPr>
          <p:spPr>
            <a:xfrm>
              <a:off x="2998800" y="366912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Rectangle 45"/>
            <p:cNvSpPr/>
            <p:nvPr/>
          </p:nvSpPr>
          <p:spPr>
            <a:xfrm>
              <a:off x="2952000" y="1629360"/>
              <a:ext cx="20520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Rectangle 46"/>
            <p:cNvSpPr/>
            <p:nvPr/>
          </p:nvSpPr>
          <p:spPr>
            <a:xfrm>
              <a:off x="700920" y="1629360"/>
              <a:ext cx="2052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ectangle 47"/>
            <p:cNvSpPr/>
            <p:nvPr/>
          </p:nvSpPr>
          <p:spPr>
            <a:xfrm>
              <a:off x="1792440" y="1629360"/>
              <a:ext cx="2052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Rectangle 48"/>
            <p:cNvSpPr/>
            <p:nvPr/>
          </p:nvSpPr>
          <p:spPr>
            <a:xfrm>
              <a:off x="2386800" y="1359000"/>
              <a:ext cx="2052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Rectangle 49"/>
            <p:cNvSpPr/>
            <p:nvPr/>
          </p:nvSpPr>
          <p:spPr>
            <a:xfrm>
              <a:off x="2942280" y="3727080"/>
              <a:ext cx="2052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Rectangle 50"/>
            <p:cNvSpPr/>
            <p:nvPr/>
          </p:nvSpPr>
          <p:spPr>
            <a:xfrm>
              <a:off x="1792440" y="3717720"/>
              <a:ext cx="2052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Rectangle 51"/>
            <p:cNvSpPr/>
            <p:nvPr/>
          </p:nvSpPr>
          <p:spPr>
            <a:xfrm>
              <a:off x="1285560" y="3495240"/>
              <a:ext cx="2052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52"/>
            <p:cNvSpPr/>
            <p:nvPr/>
          </p:nvSpPr>
          <p:spPr>
            <a:xfrm>
              <a:off x="2425680" y="3495240"/>
              <a:ext cx="2052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5" name="Rectangle 54"/>
          <p:cNvSpPr/>
          <p:nvPr/>
        </p:nvSpPr>
        <p:spPr>
          <a:xfrm>
            <a:off x="441360" y="5050800"/>
            <a:ext cx="818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stessa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tensione di corto-circ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 stesso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fattore di potenza di cortocirc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55"/>
          <p:cNvSpPr/>
          <p:nvPr/>
        </p:nvSpPr>
        <p:spPr>
          <a:xfrm>
            <a:off x="542880" y="4413960"/>
            <a:ext cx="64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ffinché ciò accada I due trasformatori devono av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57"/>
          <p:cNvSpPr/>
          <p:nvPr/>
        </p:nvSpPr>
        <p:spPr>
          <a:xfrm>
            <a:off x="3997440" y="2419200"/>
            <a:ext cx="4870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correnti secondarie sono in fa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tra lo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potenza erogata si ripartis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tra i due trasformatori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in maniera proporzionale alle rispettive potenze apparenti nomin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Text Box 2"/>
          <p:cNvSpPr/>
          <p:nvPr/>
        </p:nvSpPr>
        <p:spPr>
          <a:xfrm>
            <a:off x="1054080" y="2160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ASFORMATORI  SPEC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Rectangle 3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Rectangle 4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Rectangle 6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Rectangle 8"/>
          <p:cNvSpPr/>
          <p:nvPr/>
        </p:nvSpPr>
        <p:spPr>
          <a:xfrm>
            <a:off x="3540240" y="1023840"/>
            <a:ext cx="485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Auto-trasformato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è presente un solo avvolgimento (manca quindi l’isolamento elettrico tra il circuito primario e quello second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condizioni nominali funziona come un trasformatore con due avvolgimenti ma risulta economicamente conven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4" name="Group 57"/>
          <p:cNvGrpSpPr/>
          <p:nvPr/>
        </p:nvGrpSpPr>
        <p:grpSpPr>
          <a:xfrm>
            <a:off x="987480" y="1006560"/>
            <a:ext cx="2454120" cy="2403360"/>
            <a:chOff x="987480" y="1006560"/>
            <a:chExt cx="2454120" cy="2403360"/>
          </a:xfrm>
        </p:grpSpPr>
        <p:sp>
          <p:nvSpPr>
            <p:cNvPr id="1995" name="Freeform 58"/>
            <p:cNvSpPr/>
            <p:nvPr/>
          </p:nvSpPr>
          <p:spPr>
            <a:xfrm>
              <a:off x="2252520" y="1176120"/>
              <a:ext cx="360" cy="258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59"/>
            <p:cNvSpPr/>
            <p:nvPr/>
          </p:nvSpPr>
          <p:spPr>
            <a:xfrm>
              <a:off x="2251080" y="1433880"/>
              <a:ext cx="193320" cy="35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181"/>
                  </a:lnTo>
                  <a:lnTo>
                    <a:pt x="5770" y="433"/>
                  </a:lnTo>
                  <a:lnTo>
                    <a:pt x="7672" y="794"/>
                  </a:lnTo>
                  <a:lnTo>
                    <a:pt x="9377" y="1155"/>
                  </a:lnTo>
                  <a:lnTo>
                    <a:pt x="11082" y="1661"/>
                  </a:lnTo>
                  <a:lnTo>
                    <a:pt x="12656" y="2238"/>
                  </a:lnTo>
                  <a:lnTo>
                    <a:pt x="14033" y="2924"/>
                  </a:lnTo>
                  <a:lnTo>
                    <a:pt x="15475" y="3682"/>
                  </a:lnTo>
                  <a:lnTo>
                    <a:pt x="16525" y="4440"/>
                  </a:lnTo>
                  <a:lnTo>
                    <a:pt x="17574" y="5271"/>
                  </a:lnTo>
                  <a:lnTo>
                    <a:pt x="18426" y="6173"/>
                  </a:lnTo>
                  <a:lnTo>
                    <a:pt x="19082" y="7076"/>
                  </a:lnTo>
                  <a:lnTo>
                    <a:pt x="19541" y="8014"/>
                  </a:lnTo>
                  <a:lnTo>
                    <a:pt x="19803" y="8989"/>
                  </a:lnTo>
                  <a:lnTo>
                    <a:pt x="19934" y="9964"/>
                  </a:lnTo>
                  <a:lnTo>
                    <a:pt x="19803" y="10939"/>
                  </a:lnTo>
                  <a:lnTo>
                    <a:pt x="19541" y="11913"/>
                  </a:lnTo>
                  <a:lnTo>
                    <a:pt x="19082" y="12888"/>
                  </a:lnTo>
                  <a:lnTo>
                    <a:pt x="18426" y="13791"/>
                  </a:lnTo>
                  <a:lnTo>
                    <a:pt x="17574" y="14657"/>
                  </a:lnTo>
                  <a:lnTo>
                    <a:pt x="16525" y="15523"/>
                  </a:lnTo>
                  <a:lnTo>
                    <a:pt x="15475" y="16318"/>
                  </a:lnTo>
                  <a:lnTo>
                    <a:pt x="14033" y="17040"/>
                  </a:lnTo>
                  <a:lnTo>
                    <a:pt x="12656" y="17726"/>
                  </a:lnTo>
                  <a:lnTo>
                    <a:pt x="11082" y="18303"/>
                  </a:lnTo>
                  <a:lnTo>
                    <a:pt x="9377" y="18773"/>
                  </a:lnTo>
                  <a:lnTo>
                    <a:pt x="7672" y="19170"/>
                  </a:lnTo>
                  <a:lnTo>
                    <a:pt x="5770" y="19495"/>
                  </a:lnTo>
                  <a:lnTo>
                    <a:pt x="3869" y="19747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60"/>
            <p:cNvSpPr/>
            <p:nvPr/>
          </p:nvSpPr>
          <p:spPr>
            <a:xfrm>
              <a:off x="2058840" y="1551240"/>
              <a:ext cx="193320" cy="23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4" y="0"/>
                  </a:moveTo>
                  <a:lnTo>
                    <a:pt x="17967" y="108"/>
                  </a:lnTo>
                  <a:lnTo>
                    <a:pt x="15934" y="217"/>
                  </a:lnTo>
                  <a:lnTo>
                    <a:pt x="13967" y="434"/>
                  </a:lnTo>
                  <a:lnTo>
                    <a:pt x="12066" y="813"/>
                  </a:lnTo>
                  <a:lnTo>
                    <a:pt x="10295" y="1247"/>
                  </a:lnTo>
                  <a:lnTo>
                    <a:pt x="8525" y="1734"/>
                  </a:lnTo>
                  <a:lnTo>
                    <a:pt x="7016" y="2385"/>
                  </a:lnTo>
                  <a:lnTo>
                    <a:pt x="5508" y="3035"/>
                  </a:lnTo>
                  <a:lnTo>
                    <a:pt x="4197" y="3848"/>
                  </a:lnTo>
                  <a:lnTo>
                    <a:pt x="3016" y="4661"/>
                  </a:lnTo>
                  <a:lnTo>
                    <a:pt x="2033" y="5583"/>
                  </a:lnTo>
                  <a:lnTo>
                    <a:pt x="1246" y="6504"/>
                  </a:lnTo>
                  <a:lnTo>
                    <a:pt x="590" y="7480"/>
                  </a:lnTo>
                  <a:lnTo>
                    <a:pt x="197" y="8455"/>
                  </a:lnTo>
                  <a:lnTo>
                    <a:pt x="0" y="9431"/>
                  </a:lnTo>
                  <a:lnTo>
                    <a:pt x="0" y="10461"/>
                  </a:lnTo>
                  <a:lnTo>
                    <a:pt x="197" y="11545"/>
                  </a:lnTo>
                  <a:lnTo>
                    <a:pt x="590" y="12466"/>
                  </a:lnTo>
                  <a:lnTo>
                    <a:pt x="1246" y="13388"/>
                  </a:lnTo>
                  <a:lnTo>
                    <a:pt x="2033" y="14363"/>
                  </a:lnTo>
                  <a:lnTo>
                    <a:pt x="3016" y="15230"/>
                  </a:lnTo>
                  <a:lnTo>
                    <a:pt x="4197" y="16043"/>
                  </a:lnTo>
                  <a:lnTo>
                    <a:pt x="5508" y="16856"/>
                  </a:lnTo>
                  <a:lnTo>
                    <a:pt x="7016" y="17507"/>
                  </a:lnTo>
                  <a:lnTo>
                    <a:pt x="8525" y="18157"/>
                  </a:lnTo>
                  <a:lnTo>
                    <a:pt x="10295" y="18699"/>
                  </a:lnTo>
                  <a:lnTo>
                    <a:pt x="12066" y="19133"/>
                  </a:lnTo>
                  <a:lnTo>
                    <a:pt x="13967" y="19512"/>
                  </a:lnTo>
                  <a:lnTo>
                    <a:pt x="15934" y="19729"/>
                  </a:lnTo>
                  <a:lnTo>
                    <a:pt x="17967" y="19892"/>
                  </a:lnTo>
                  <a:lnTo>
                    <a:pt x="19934" y="199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61"/>
            <p:cNvSpPr/>
            <p:nvPr/>
          </p:nvSpPr>
          <p:spPr>
            <a:xfrm>
              <a:off x="2251080" y="1551240"/>
              <a:ext cx="193320" cy="351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181"/>
                  </a:lnTo>
                  <a:lnTo>
                    <a:pt x="5770" y="434"/>
                  </a:lnTo>
                  <a:lnTo>
                    <a:pt x="7672" y="796"/>
                  </a:lnTo>
                  <a:lnTo>
                    <a:pt x="9377" y="1157"/>
                  </a:lnTo>
                  <a:lnTo>
                    <a:pt x="11082" y="1664"/>
                  </a:lnTo>
                  <a:lnTo>
                    <a:pt x="12656" y="2242"/>
                  </a:lnTo>
                  <a:lnTo>
                    <a:pt x="14033" y="2929"/>
                  </a:lnTo>
                  <a:lnTo>
                    <a:pt x="15475" y="3689"/>
                  </a:lnTo>
                  <a:lnTo>
                    <a:pt x="16525" y="4448"/>
                  </a:lnTo>
                  <a:lnTo>
                    <a:pt x="17574" y="5280"/>
                  </a:lnTo>
                  <a:lnTo>
                    <a:pt x="18426" y="6184"/>
                  </a:lnTo>
                  <a:lnTo>
                    <a:pt x="19082" y="7089"/>
                  </a:lnTo>
                  <a:lnTo>
                    <a:pt x="19541" y="8029"/>
                  </a:lnTo>
                  <a:lnTo>
                    <a:pt x="19803" y="9005"/>
                  </a:lnTo>
                  <a:lnTo>
                    <a:pt x="19934" y="9982"/>
                  </a:lnTo>
                  <a:lnTo>
                    <a:pt x="19803" y="10958"/>
                  </a:lnTo>
                  <a:lnTo>
                    <a:pt x="19541" y="11935"/>
                  </a:lnTo>
                  <a:lnTo>
                    <a:pt x="19082" y="12875"/>
                  </a:lnTo>
                  <a:lnTo>
                    <a:pt x="18426" y="13816"/>
                  </a:lnTo>
                  <a:lnTo>
                    <a:pt x="17574" y="14684"/>
                  </a:lnTo>
                  <a:lnTo>
                    <a:pt x="16525" y="15552"/>
                  </a:lnTo>
                  <a:lnTo>
                    <a:pt x="15475" y="16311"/>
                  </a:lnTo>
                  <a:lnTo>
                    <a:pt x="14033" y="17034"/>
                  </a:lnTo>
                  <a:lnTo>
                    <a:pt x="12656" y="17758"/>
                  </a:lnTo>
                  <a:lnTo>
                    <a:pt x="11082" y="18300"/>
                  </a:lnTo>
                  <a:lnTo>
                    <a:pt x="9377" y="18807"/>
                  </a:lnTo>
                  <a:lnTo>
                    <a:pt x="7672" y="19204"/>
                  </a:lnTo>
                  <a:lnTo>
                    <a:pt x="5770" y="19530"/>
                  </a:lnTo>
                  <a:lnTo>
                    <a:pt x="3869" y="19783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62"/>
            <p:cNvSpPr/>
            <p:nvPr/>
          </p:nvSpPr>
          <p:spPr>
            <a:xfrm>
              <a:off x="2058840" y="1669320"/>
              <a:ext cx="193320" cy="23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4" y="0"/>
                  </a:moveTo>
                  <a:lnTo>
                    <a:pt x="17967" y="108"/>
                  </a:lnTo>
                  <a:lnTo>
                    <a:pt x="15934" y="271"/>
                  </a:lnTo>
                  <a:lnTo>
                    <a:pt x="13967" y="434"/>
                  </a:lnTo>
                  <a:lnTo>
                    <a:pt x="12066" y="813"/>
                  </a:lnTo>
                  <a:lnTo>
                    <a:pt x="10295" y="1247"/>
                  </a:lnTo>
                  <a:lnTo>
                    <a:pt x="8525" y="1789"/>
                  </a:lnTo>
                  <a:lnTo>
                    <a:pt x="7016" y="2439"/>
                  </a:lnTo>
                  <a:lnTo>
                    <a:pt x="5508" y="3089"/>
                  </a:lnTo>
                  <a:lnTo>
                    <a:pt x="4197" y="3902"/>
                  </a:lnTo>
                  <a:lnTo>
                    <a:pt x="3016" y="4715"/>
                  </a:lnTo>
                  <a:lnTo>
                    <a:pt x="2033" y="5583"/>
                  </a:lnTo>
                  <a:lnTo>
                    <a:pt x="1246" y="6558"/>
                  </a:lnTo>
                  <a:lnTo>
                    <a:pt x="590" y="7480"/>
                  </a:lnTo>
                  <a:lnTo>
                    <a:pt x="197" y="8455"/>
                  </a:lnTo>
                  <a:lnTo>
                    <a:pt x="0" y="9485"/>
                  </a:lnTo>
                  <a:lnTo>
                    <a:pt x="0" y="10515"/>
                  </a:lnTo>
                  <a:lnTo>
                    <a:pt x="197" y="11545"/>
                  </a:lnTo>
                  <a:lnTo>
                    <a:pt x="590" y="12466"/>
                  </a:lnTo>
                  <a:lnTo>
                    <a:pt x="1246" y="13442"/>
                  </a:lnTo>
                  <a:lnTo>
                    <a:pt x="2033" y="14363"/>
                  </a:lnTo>
                  <a:lnTo>
                    <a:pt x="3016" y="15285"/>
                  </a:lnTo>
                  <a:lnTo>
                    <a:pt x="4197" y="16098"/>
                  </a:lnTo>
                  <a:lnTo>
                    <a:pt x="5508" y="16856"/>
                  </a:lnTo>
                  <a:lnTo>
                    <a:pt x="7016" y="17561"/>
                  </a:lnTo>
                  <a:lnTo>
                    <a:pt x="8525" y="18211"/>
                  </a:lnTo>
                  <a:lnTo>
                    <a:pt x="10295" y="18699"/>
                  </a:lnTo>
                  <a:lnTo>
                    <a:pt x="12066" y="19133"/>
                  </a:lnTo>
                  <a:lnTo>
                    <a:pt x="13967" y="19512"/>
                  </a:lnTo>
                  <a:lnTo>
                    <a:pt x="15934" y="19729"/>
                  </a:lnTo>
                  <a:lnTo>
                    <a:pt x="17967" y="19892"/>
                  </a:lnTo>
                  <a:lnTo>
                    <a:pt x="19934" y="199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63"/>
            <p:cNvSpPr/>
            <p:nvPr/>
          </p:nvSpPr>
          <p:spPr>
            <a:xfrm>
              <a:off x="2058840" y="1905120"/>
              <a:ext cx="193320" cy="23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4" y="0"/>
                  </a:moveTo>
                  <a:lnTo>
                    <a:pt x="17967" y="108"/>
                  </a:lnTo>
                  <a:lnTo>
                    <a:pt x="15934" y="217"/>
                  </a:lnTo>
                  <a:lnTo>
                    <a:pt x="13967" y="434"/>
                  </a:lnTo>
                  <a:lnTo>
                    <a:pt x="12066" y="813"/>
                  </a:lnTo>
                  <a:lnTo>
                    <a:pt x="10295" y="1247"/>
                  </a:lnTo>
                  <a:lnTo>
                    <a:pt x="8525" y="1734"/>
                  </a:lnTo>
                  <a:lnTo>
                    <a:pt x="7016" y="2385"/>
                  </a:lnTo>
                  <a:lnTo>
                    <a:pt x="5508" y="3035"/>
                  </a:lnTo>
                  <a:lnTo>
                    <a:pt x="4197" y="3848"/>
                  </a:lnTo>
                  <a:lnTo>
                    <a:pt x="3016" y="4661"/>
                  </a:lnTo>
                  <a:lnTo>
                    <a:pt x="2033" y="5583"/>
                  </a:lnTo>
                  <a:lnTo>
                    <a:pt x="1246" y="6504"/>
                  </a:lnTo>
                  <a:lnTo>
                    <a:pt x="590" y="7480"/>
                  </a:lnTo>
                  <a:lnTo>
                    <a:pt x="197" y="8455"/>
                  </a:lnTo>
                  <a:lnTo>
                    <a:pt x="0" y="9431"/>
                  </a:lnTo>
                  <a:lnTo>
                    <a:pt x="0" y="10461"/>
                  </a:lnTo>
                  <a:lnTo>
                    <a:pt x="197" y="11545"/>
                  </a:lnTo>
                  <a:lnTo>
                    <a:pt x="590" y="12466"/>
                  </a:lnTo>
                  <a:lnTo>
                    <a:pt x="1246" y="13388"/>
                  </a:lnTo>
                  <a:lnTo>
                    <a:pt x="2033" y="14363"/>
                  </a:lnTo>
                  <a:lnTo>
                    <a:pt x="3016" y="15230"/>
                  </a:lnTo>
                  <a:lnTo>
                    <a:pt x="4197" y="16043"/>
                  </a:lnTo>
                  <a:lnTo>
                    <a:pt x="5508" y="16856"/>
                  </a:lnTo>
                  <a:lnTo>
                    <a:pt x="7016" y="17507"/>
                  </a:lnTo>
                  <a:lnTo>
                    <a:pt x="8525" y="18157"/>
                  </a:lnTo>
                  <a:lnTo>
                    <a:pt x="10295" y="18699"/>
                  </a:lnTo>
                  <a:lnTo>
                    <a:pt x="12066" y="19133"/>
                  </a:lnTo>
                  <a:lnTo>
                    <a:pt x="13967" y="19512"/>
                  </a:lnTo>
                  <a:lnTo>
                    <a:pt x="15934" y="19729"/>
                  </a:lnTo>
                  <a:lnTo>
                    <a:pt x="17967" y="19892"/>
                  </a:lnTo>
                  <a:lnTo>
                    <a:pt x="19934" y="199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64"/>
            <p:cNvSpPr/>
            <p:nvPr/>
          </p:nvSpPr>
          <p:spPr>
            <a:xfrm>
              <a:off x="2058840" y="2140560"/>
              <a:ext cx="193320" cy="23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4" y="0"/>
                  </a:moveTo>
                  <a:lnTo>
                    <a:pt x="17967" y="108"/>
                  </a:lnTo>
                  <a:lnTo>
                    <a:pt x="15934" y="271"/>
                  </a:lnTo>
                  <a:lnTo>
                    <a:pt x="13967" y="434"/>
                  </a:lnTo>
                  <a:lnTo>
                    <a:pt x="12066" y="813"/>
                  </a:lnTo>
                  <a:lnTo>
                    <a:pt x="10295" y="1247"/>
                  </a:lnTo>
                  <a:lnTo>
                    <a:pt x="8525" y="1734"/>
                  </a:lnTo>
                  <a:lnTo>
                    <a:pt x="7016" y="2439"/>
                  </a:lnTo>
                  <a:lnTo>
                    <a:pt x="5508" y="3089"/>
                  </a:lnTo>
                  <a:lnTo>
                    <a:pt x="4197" y="3902"/>
                  </a:lnTo>
                  <a:lnTo>
                    <a:pt x="3016" y="4661"/>
                  </a:lnTo>
                  <a:lnTo>
                    <a:pt x="2033" y="5583"/>
                  </a:lnTo>
                  <a:lnTo>
                    <a:pt x="1246" y="6504"/>
                  </a:lnTo>
                  <a:lnTo>
                    <a:pt x="590" y="7480"/>
                  </a:lnTo>
                  <a:lnTo>
                    <a:pt x="197" y="8455"/>
                  </a:lnTo>
                  <a:lnTo>
                    <a:pt x="0" y="9431"/>
                  </a:lnTo>
                  <a:lnTo>
                    <a:pt x="0" y="10515"/>
                  </a:lnTo>
                  <a:lnTo>
                    <a:pt x="197" y="11545"/>
                  </a:lnTo>
                  <a:lnTo>
                    <a:pt x="590" y="12466"/>
                  </a:lnTo>
                  <a:lnTo>
                    <a:pt x="1246" y="13442"/>
                  </a:lnTo>
                  <a:lnTo>
                    <a:pt x="2033" y="14363"/>
                  </a:lnTo>
                  <a:lnTo>
                    <a:pt x="3016" y="15285"/>
                  </a:lnTo>
                  <a:lnTo>
                    <a:pt x="4197" y="16043"/>
                  </a:lnTo>
                  <a:lnTo>
                    <a:pt x="5508" y="16856"/>
                  </a:lnTo>
                  <a:lnTo>
                    <a:pt x="7016" y="17507"/>
                  </a:lnTo>
                  <a:lnTo>
                    <a:pt x="8525" y="18211"/>
                  </a:lnTo>
                  <a:lnTo>
                    <a:pt x="10295" y="18699"/>
                  </a:lnTo>
                  <a:lnTo>
                    <a:pt x="12066" y="19133"/>
                  </a:lnTo>
                  <a:lnTo>
                    <a:pt x="13967" y="19512"/>
                  </a:lnTo>
                  <a:lnTo>
                    <a:pt x="15934" y="19729"/>
                  </a:lnTo>
                  <a:lnTo>
                    <a:pt x="17967" y="19892"/>
                  </a:lnTo>
                  <a:lnTo>
                    <a:pt x="19934" y="199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65"/>
            <p:cNvSpPr/>
            <p:nvPr/>
          </p:nvSpPr>
          <p:spPr>
            <a:xfrm>
              <a:off x="2058840" y="2022480"/>
              <a:ext cx="193320" cy="23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4" y="0"/>
                  </a:moveTo>
                  <a:lnTo>
                    <a:pt x="17967" y="108"/>
                  </a:lnTo>
                  <a:lnTo>
                    <a:pt x="15934" y="271"/>
                  </a:lnTo>
                  <a:lnTo>
                    <a:pt x="13967" y="434"/>
                  </a:lnTo>
                  <a:lnTo>
                    <a:pt x="12066" y="813"/>
                  </a:lnTo>
                  <a:lnTo>
                    <a:pt x="10295" y="1247"/>
                  </a:lnTo>
                  <a:lnTo>
                    <a:pt x="8525" y="1789"/>
                  </a:lnTo>
                  <a:lnTo>
                    <a:pt x="7016" y="2439"/>
                  </a:lnTo>
                  <a:lnTo>
                    <a:pt x="5508" y="3089"/>
                  </a:lnTo>
                  <a:lnTo>
                    <a:pt x="4197" y="3902"/>
                  </a:lnTo>
                  <a:lnTo>
                    <a:pt x="3016" y="4715"/>
                  </a:lnTo>
                  <a:lnTo>
                    <a:pt x="2033" y="5583"/>
                  </a:lnTo>
                  <a:lnTo>
                    <a:pt x="1246" y="6558"/>
                  </a:lnTo>
                  <a:lnTo>
                    <a:pt x="590" y="7480"/>
                  </a:lnTo>
                  <a:lnTo>
                    <a:pt x="197" y="8455"/>
                  </a:lnTo>
                  <a:lnTo>
                    <a:pt x="0" y="9485"/>
                  </a:lnTo>
                  <a:lnTo>
                    <a:pt x="0" y="10515"/>
                  </a:lnTo>
                  <a:lnTo>
                    <a:pt x="197" y="11545"/>
                  </a:lnTo>
                  <a:lnTo>
                    <a:pt x="590" y="12520"/>
                  </a:lnTo>
                  <a:lnTo>
                    <a:pt x="1246" y="13442"/>
                  </a:lnTo>
                  <a:lnTo>
                    <a:pt x="2033" y="14363"/>
                  </a:lnTo>
                  <a:lnTo>
                    <a:pt x="3016" y="15285"/>
                  </a:lnTo>
                  <a:lnTo>
                    <a:pt x="4197" y="16098"/>
                  </a:lnTo>
                  <a:lnTo>
                    <a:pt x="5508" y="16911"/>
                  </a:lnTo>
                  <a:lnTo>
                    <a:pt x="7016" y="17561"/>
                  </a:lnTo>
                  <a:lnTo>
                    <a:pt x="8525" y="18211"/>
                  </a:lnTo>
                  <a:lnTo>
                    <a:pt x="10295" y="18753"/>
                  </a:lnTo>
                  <a:lnTo>
                    <a:pt x="12066" y="19133"/>
                  </a:lnTo>
                  <a:lnTo>
                    <a:pt x="13967" y="19512"/>
                  </a:lnTo>
                  <a:lnTo>
                    <a:pt x="15934" y="19729"/>
                  </a:lnTo>
                  <a:lnTo>
                    <a:pt x="17967" y="19892"/>
                  </a:lnTo>
                  <a:lnTo>
                    <a:pt x="19934" y="199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66"/>
            <p:cNvSpPr/>
            <p:nvPr/>
          </p:nvSpPr>
          <p:spPr>
            <a:xfrm>
              <a:off x="2058840" y="1787040"/>
              <a:ext cx="193320" cy="23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4" y="0"/>
                  </a:moveTo>
                  <a:lnTo>
                    <a:pt x="17967" y="108"/>
                  </a:lnTo>
                  <a:lnTo>
                    <a:pt x="15934" y="271"/>
                  </a:lnTo>
                  <a:lnTo>
                    <a:pt x="13967" y="434"/>
                  </a:lnTo>
                  <a:lnTo>
                    <a:pt x="12066" y="813"/>
                  </a:lnTo>
                  <a:lnTo>
                    <a:pt x="10295" y="1247"/>
                  </a:lnTo>
                  <a:lnTo>
                    <a:pt x="8525" y="1734"/>
                  </a:lnTo>
                  <a:lnTo>
                    <a:pt x="7016" y="2439"/>
                  </a:lnTo>
                  <a:lnTo>
                    <a:pt x="5508" y="3089"/>
                  </a:lnTo>
                  <a:lnTo>
                    <a:pt x="4197" y="3902"/>
                  </a:lnTo>
                  <a:lnTo>
                    <a:pt x="3016" y="4661"/>
                  </a:lnTo>
                  <a:lnTo>
                    <a:pt x="2033" y="5583"/>
                  </a:lnTo>
                  <a:lnTo>
                    <a:pt x="1246" y="6504"/>
                  </a:lnTo>
                  <a:lnTo>
                    <a:pt x="590" y="7480"/>
                  </a:lnTo>
                  <a:lnTo>
                    <a:pt x="197" y="8455"/>
                  </a:lnTo>
                  <a:lnTo>
                    <a:pt x="0" y="9431"/>
                  </a:lnTo>
                  <a:lnTo>
                    <a:pt x="0" y="10515"/>
                  </a:lnTo>
                  <a:lnTo>
                    <a:pt x="197" y="11545"/>
                  </a:lnTo>
                  <a:lnTo>
                    <a:pt x="590" y="12466"/>
                  </a:lnTo>
                  <a:lnTo>
                    <a:pt x="1246" y="13442"/>
                  </a:lnTo>
                  <a:lnTo>
                    <a:pt x="2033" y="14363"/>
                  </a:lnTo>
                  <a:lnTo>
                    <a:pt x="3016" y="15285"/>
                  </a:lnTo>
                  <a:lnTo>
                    <a:pt x="4197" y="16043"/>
                  </a:lnTo>
                  <a:lnTo>
                    <a:pt x="5508" y="16856"/>
                  </a:lnTo>
                  <a:lnTo>
                    <a:pt x="7016" y="17507"/>
                  </a:lnTo>
                  <a:lnTo>
                    <a:pt x="8525" y="18211"/>
                  </a:lnTo>
                  <a:lnTo>
                    <a:pt x="10295" y="18699"/>
                  </a:lnTo>
                  <a:lnTo>
                    <a:pt x="12066" y="19133"/>
                  </a:lnTo>
                  <a:lnTo>
                    <a:pt x="13967" y="19512"/>
                  </a:lnTo>
                  <a:lnTo>
                    <a:pt x="15934" y="19729"/>
                  </a:lnTo>
                  <a:lnTo>
                    <a:pt x="17967" y="19892"/>
                  </a:lnTo>
                  <a:lnTo>
                    <a:pt x="19934" y="199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67"/>
            <p:cNvSpPr/>
            <p:nvPr/>
          </p:nvSpPr>
          <p:spPr>
            <a:xfrm>
              <a:off x="2251080" y="2140560"/>
              <a:ext cx="193320" cy="35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181"/>
                  </a:lnTo>
                  <a:lnTo>
                    <a:pt x="5770" y="433"/>
                  </a:lnTo>
                  <a:lnTo>
                    <a:pt x="7672" y="794"/>
                  </a:lnTo>
                  <a:lnTo>
                    <a:pt x="9377" y="1155"/>
                  </a:lnTo>
                  <a:lnTo>
                    <a:pt x="11082" y="1661"/>
                  </a:lnTo>
                  <a:lnTo>
                    <a:pt x="12656" y="2238"/>
                  </a:lnTo>
                  <a:lnTo>
                    <a:pt x="14033" y="2924"/>
                  </a:lnTo>
                  <a:lnTo>
                    <a:pt x="15475" y="3682"/>
                  </a:lnTo>
                  <a:lnTo>
                    <a:pt x="16525" y="4440"/>
                  </a:lnTo>
                  <a:lnTo>
                    <a:pt x="17574" y="5307"/>
                  </a:lnTo>
                  <a:lnTo>
                    <a:pt x="18426" y="6173"/>
                  </a:lnTo>
                  <a:lnTo>
                    <a:pt x="19082" y="7076"/>
                  </a:lnTo>
                  <a:lnTo>
                    <a:pt x="19541" y="8014"/>
                  </a:lnTo>
                  <a:lnTo>
                    <a:pt x="19803" y="8989"/>
                  </a:lnTo>
                  <a:lnTo>
                    <a:pt x="19934" y="9964"/>
                  </a:lnTo>
                  <a:lnTo>
                    <a:pt x="19803" y="10939"/>
                  </a:lnTo>
                  <a:lnTo>
                    <a:pt x="19541" y="11913"/>
                  </a:lnTo>
                  <a:lnTo>
                    <a:pt x="19082" y="12888"/>
                  </a:lnTo>
                  <a:lnTo>
                    <a:pt x="18426" y="13791"/>
                  </a:lnTo>
                  <a:lnTo>
                    <a:pt x="17574" y="14657"/>
                  </a:lnTo>
                  <a:lnTo>
                    <a:pt x="16525" y="15523"/>
                  </a:lnTo>
                  <a:lnTo>
                    <a:pt x="15475" y="16318"/>
                  </a:lnTo>
                  <a:lnTo>
                    <a:pt x="14033" y="17040"/>
                  </a:lnTo>
                  <a:lnTo>
                    <a:pt x="12656" y="17726"/>
                  </a:lnTo>
                  <a:lnTo>
                    <a:pt x="11082" y="18303"/>
                  </a:lnTo>
                  <a:lnTo>
                    <a:pt x="9377" y="18809"/>
                  </a:lnTo>
                  <a:lnTo>
                    <a:pt x="7672" y="19170"/>
                  </a:lnTo>
                  <a:lnTo>
                    <a:pt x="5770" y="19531"/>
                  </a:lnTo>
                  <a:lnTo>
                    <a:pt x="3869" y="19783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68"/>
            <p:cNvSpPr/>
            <p:nvPr/>
          </p:nvSpPr>
          <p:spPr>
            <a:xfrm>
              <a:off x="2251080" y="1905120"/>
              <a:ext cx="193320" cy="351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181"/>
                  </a:lnTo>
                  <a:lnTo>
                    <a:pt x="5770" y="434"/>
                  </a:lnTo>
                  <a:lnTo>
                    <a:pt x="7672" y="796"/>
                  </a:lnTo>
                  <a:lnTo>
                    <a:pt x="9377" y="1157"/>
                  </a:lnTo>
                  <a:lnTo>
                    <a:pt x="11082" y="1664"/>
                  </a:lnTo>
                  <a:lnTo>
                    <a:pt x="12656" y="2242"/>
                  </a:lnTo>
                  <a:lnTo>
                    <a:pt x="14033" y="2929"/>
                  </a:lnTo>
                  <a:lnTo>
                    <a:pt x="15475" y="3689"/>
                  </a:lnTo>
                  <a:lnTo>
                    <a:pt x="16525" y="4448"/>
                  </a:lnTo>
                  <a:lnTo>
                    <a:pt x="17574" y="5280"/>
                  </a:lnTo>
                  <a:lnTo>
                    <a:pt x="18426" y="6184"/>
                  </a:lnTo>
                  <a:lnTo>
                    <a:pt x="19082" y="7089"/>
                  </a:lnTo>
                  <a:lnTo>
                    <a:pt x="19541" y="8029"/>
                  </a:lnTo>
                  <a:lnTo>
                    <a:pt x="19803" y="9005"/>
                  </a:lnTo>
                  <a:lnTo>
                    <a:pt x="19934" y="9982"/>
                  </a:lnTo>
                  <a:lnTo>
                    <a:pt x="19803" y="10958"/>
                  </a:lnTo>
                  <a:lnTo>
                    <a:pt x="19541" y="11935"/>
                  </a:lnTo>
                  <a:lnTo>
                    <a:pt x="19082" y="12875"/>
                  </a:lnTo>
                  <a:lnTo>
                    <a:pt x="18426" y="13816"/>
                  </a:lnTo>
                  <a:lnTo>
                    <a:pt x="17574" y="14684"/>
                  </a:lnTo>
                  <a:lnTo>
                    <a:pt x="16525" y="15552"/>
                  </a:lnTo>
                  <a:lnTo>
                    <a:pt x="15475" y="16311"/>
                  </a:lnTo>
                  <a:lnTo>
                    <a:pt x="14033" y="17034"/>
                  </a:lnTo>
                  <a:lnTo>
                    <a:pt x="12656" y="17758"/>
                  </a:lnTo>
                  <a:lnTo>
                    <a:pt x="11082" y="18300"/>
                  </a:lnTo>
                  <a:lnTo>
                    <a:pt x="9377" y="18807"/>
                  </a:lnTo>
                  <a:lnTo>
                    <a:pt x="7672" y="19204"/>
                  </a:lnTo>
                  <a:lnTo>
                    <a:pt x="5770" y="19530"/>
                  </a:lnTo>
                  <a:lnTo>
                    <a:pt x="3869" y="19783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69"/>
            <p:cNvSpPr/>
            <p:nvPr/>
          </p:nvSpPr>
          <p:spPr>
            <a:xfrm>
              <a:off x="2251080" y="2257200"/>
              <a:ext cx="193320" cy="352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180"/>
                  </a:lnTo>
                  <a:lnTo>
                    <a:pt x="5770" y="432"/>
                  </a:lnTo>
                  <a:lnTo>
                    <a:pt x="7672" y="791"/>
                  </a:lnTo>
                  <a:lnTo>
                    <a:pt x="9377" y="1151"/>
                  </a:lnTo>
                  <a:lnTo>
                    <a:pt x="11082" y="1691"/>
                  </a:lnTo>
                  <a:lnTo>
                    <a:pt x="12656" y="2302"/>
                  </a:lnTo>
                  <a:lnTo>
                    <a:pt x="14033" y="2914"/>
                  </a:lnTo>
                  <a:lnTo>
                    <a:pt x="15475" y="3669"/>
                  </a:lnTo>
                  <a:lnTo>
                    <a:pt x="16525" y="4424"/>
                  </a:lnTo>
                  <a:lnTo>
                    <a:pt x="17574" y="5252"/>
                  </a:lnTo>
                  <a:lnTo>
                    <a:pt x="18426" y="6187"/>
                  </a:lnTo>
                  <a:lnTo>
                    <a:pt x="19082" y="7050"/>
                  </a:lnTo>
                  <a:lnTo>
                    <a:pt x="19541" y="8022"/>
                  </a:lnTo>
                  <a:lnTo>
                    <a:pt x="19803" y="9029"/>
                  </a:lnTo>
                  <a:lnTo>
                    <a:pt x="19934" y="10000"/>
                  </a:lnTo>
                  <a:lnTo>
                    <a:pt x="19803" y="10971"/>
                  </a:lnTo>
                  <a:lnTo>
                    <a:pt x="19541" y="11942"/>
                  </a:lnTo>
                  <a:lnTo>
                    <a:pt x="19082" y="12914"/>
                  </a:lnTo>
                  <a:lnTo>
                    <a:pt x="18426" y="13813"/>
                  </a:lnTo>
                  <a:lnTo>
                    <a:pt x="17574" y="14712"/>
                  </a:lnTo>
                  <a:lnTo>
                    <a:pt x="16525" y="15540"/>
                  </a:lnTo>
                  <a:lnTo>
                    <a:pt x="15475" y="16331"/>
                  </a:lnTo>
                  <a:lnTo>
                    <a:pt x="14033" y="17050"/>
                  </a:lnTo>
                  <a:lnTo>
                    <a:pt x="12656" y="17698"/>
                  </a:lnTo>
                  <a:lnTo>
                    <a:pt x="11082" y="18273"/>
                  </a:lnTo>
                  <a:lnTo>
                    <a:pt x="9377" y="18813"/>
                  </a:lnTo>
                  <a:lnTo>
                    <a:pt x="7672" y="19173"/>
                  </a:lnTo>
                  <a:lnTo>
                    <a:pt x="5770" y="19532"/>
                  </a:lnTo>
                  <a:lnTo>
                    <a:pt x="3869" y="19784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70"/>
            <p:cNvSpPr/>
            <p:nvPr/>
          </p:nvSpPr>
          <p:spPr>
            <a:xfrm>
              <a:off x="2251080" y="2022480"/>
              <a:ext cx="193320" cy="35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217"/>
                  </a:lnTo>
                  <a:lnTo>
                    <a:pt x="5770" y="469"/>
                  </a:lnTo>
                  <a:lnTo>
                    <a:pt x="7672" y="794"/>
                  </a:lnTo>
                  <a:lnTo>
                    <a:pt x="9377" y="1191"/>
                  </a:lnTo>
                  <a:lnTo>
                    <a:pt x="11082" y="1697"/>
                  </a:lnTo>
                  <a:lnTo>
                    <a:pt x="12656" y="2238"/>
                  </a:lnTo>
                  <a:lnTo>
                    <a:pt x="14033" y="2960"/>
                  </a:lnTo>
                  <a:lnTo>
                    <a:pt x="15475" y="3682"/>
                  </a:lnTo>
                  <a:lnTo>
                    <a:pt x="16525" y="4440"/>
                  </a:lnTo>
                  <a:lnTo>
                    <a:pt x="17574" y="5307"/>
                  </a:lnTo>
                  <a:lnTo>
                    <a:pt x="18426" y="6173"/>
                  </a:lnTo>
                  <a:lnTo>
                    <a:pt x="19082" y="7112"/>
                  </a:lnTo>
                  <a:lnTo>
                    <a:pt x="19541" y="8051"/>
                  </a:lnTo>
                  <a:lnTo>
                    <a:pt x="19803" y="9025"/>
                  </a:lnTo>
                  <a:lnTo>
                    <a:pt x="19934" y="10000"/>
                  </a:lnTo>
                  <a:lnTo>
                    <a:pt x="19803" y="10975"/>
                  </a:lnTo>
                  <a:lnTo>
                    <a:pt x="19541" y="11949"/>
                  </a:lnTo>
                  <a:lnTo>
                    <a:pt x="19082" y="12888"/>
                  </a:lnTo>
                  <a:lnTo>
                    <a:pt x="18426" y="13791"/>
                  </a:lnTo>
                  <a:lnTo>
                    <a:pt x="17574" y="14693"/>
                  </a:lnTo>
                  <a:lnTo>
                    <a:pt x="16525" y="15523"/>
                  </a:lnTo>
                  <a:lnTo>
                    <a:pt x="15475" y="16318"/>
                  </a:lnTo>
                  <a:lnTo>
                    <a:pt x="14033" y="17040"/>
                  </a:lnTo>
                  <a:lnTo>
                    <a:pt x="12656" y="17726"/>
                  </a:lnTo>
                  <a:lnTo>
                    <a:pt x="11082" y="18303"/>
                  </a:lnTo>
                  <a:lnTo>
                    <a:pt x="9377" y="18809"/>
                  </a:lnTo>
                  <a:lnTo>
                    <a:pt x="7672" y="19170"/>
                  </a:lnTo>
                  <a:lnTo>
                    <a:pt x="5770" y="19531"/>
                  </a:lnTo>
                  <a:lnTo>
                    <a:pt x="3869" y="19783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71"/>
            <p:cNvSpPr/>
            <p:nvPr/>
          </p:nvSpPr>
          <p:spPr>
            <a:xfrm>
              <a:off x="2251080" y="1787040"/>
              <a:ext cx="193320" cy="35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181"/>
                  </a:lnTo>
                  <a:lnTo>
                    <a:pt x="5770" y="433"/>
                  </a:lnTo>
                  <a:lnTo>
                    <a:pt x="7672" y="794"/>
                  </a:lnTo>
                  <a:lnTo>
                    <a:pt x="9377" y="1155"/>
                  </a:lnTo>
                  <a:lnTo>
                    <a:pt x="11082" y="1661"/>
                  </a:lnTo>
                  <a:lnTo>
                    <a:pt x="12656" y="2238"/>
                  </a:lnTo>
                  <a:lnTo>
                    <a:pt x="14033" y="2924"/>
                  </a:lnTo>
                  <a:lnTo>
                    <a:pt x="15475" y="3682"/>
                  </a:lnTo>
                  <a:lnTo>
                    <a:pt x="16525" y="4440"/>
                  </a:lnTo>
                  <a:lnTo>
                    <a:pt x="17574" y="5307"/>
                  </a:lnTo>
                  <a:lnTo>
                    <a:pt x="18426" y="6173"/>
                  </a:lnTo>
                  <a:lnTo>
                    <a:pt x="19082" y="7076"/>
                  </a:lnTo>
                  <a:lnTo>
                    <a:pt x="19541" y="8014"/>
                  </a:lnTo>
                  <a:lnTo>
                    <a:pt x="19803" y="8989"/>
                  </a:lnTo>
                  <a:lnTo>
                    <a:pt x="19934" y="9964"/>
                  </a:lnTo>
                  <a:lnTo>
                    <a:pt x="19803" y="10939"/>
                  </a:lnTo>
                  <a:lnTo>
                    <a:pt x="19541" y="11913"/>
                  </a:lnTo>
                  <a:lnTo>
                    <a:pt x="19082" y="12888"/>
                  </a:lnTo>
                  <a:lnTo>
                    <a:pt x="18426" y="13791"/>
                  </a:lnTo>
                  <a:lnTo>
                    <a:pt x="17574" y="14657"/>
                  </a:lnTo>
                  <a:lnTo>
                    <a:pt x="16525" y="15523"/>
                  </a:lnTo>
                  <a:lnTo>
                    <a:pt x="15475" y="16318"/>
                  </a:lnTo>
                  <a:lnTo>
                    <a:pt x="14033" y="17040"/>
                  </a:lnTo>
                  <a:lnTo>
                    <a:pt x="12656" y="17726"/>
                  </a:lnTo>
                  <a:lnTo>
                    <a:pt x="11082" y="18303"/>
                  </a:lnTo>
                  <a:lnTo>
                    <a:pt x="9377" y="18809"/>
                  </a:lnTo>
                  <a:lnTo>
                    <a:pt x="7672" y="19170"/>
                  </a:lnTo>
                  <a:lnTo>
                    <a:pt x="5770" y="19531"/>
                  </a:lnTo>
                  <a:lnTo>
                    <a:pt x="3869" y="19783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72"/>
            <p:cNvSpPr/>
            <p:nvPr/>
          </p:nvSpPr>
          <p:spPr>
            <a:xfrm>
              <a:off x="2251080" y="1669320"/>
              <a:ext cx="193320" cy="35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217"/>
                  </a:lnTo>
                  <a:lnTo>
                    <a:pt x="5770" y="469"/>
                  </a:lnTo>
                  <a:lnTo>
                    <a:pt x="7672" y="794"/>
                  </a:lnTo>
                  <a:lnTo>
                    <a:pt x="9377" y="1191"/>
                  </a:lnTo>
                  <a:lnTo>
                    <a:pt x="11082" y="1697"/>
                  </a:lnTo>
                  <a:lnTo>
                    <a:pt x="12656" y="2238"/>
                  </a:lnTo>
                  <a:lnTo>
                    <a:pt x="14033" y="2924"/>
                  </a:lnTo>
                  <a:lnTo>
                    <a:pt x="15475" y="3682"/>
                  </a:lnTo>
                  <a:lnTo>
                    <a:pt x="16525" y="4440"/>
                  </a:lnTo>
                  <a:lnTo>
                    <a:pt x="17574" y="5307"/>
                  </a:lnTo>
                  <a:lnTo>
                    <a:pt x="18426" y="6173"/>
                  </a:lnTo>
                  <a:lnTo>
                    <a:pt x="19082" y="7076"/>
                  </a:lnTo>
                  <a:lnTo>
                    <a:pt x="19541" y="8051"/>
                  </a:lnTo>
                  <a:lnTo>
                    <a:pt x="19803" y="9025"/>
                  </a:lnTo>
                  <a:lnTo>
                    <a:pt x="19934" y="10000"/>
                  </a:lnTo>
                  <a:lnTo>
                    <a:pt x="19803" y="10975"/>
                  </a:lnTo>
                  <a:lnTo>
                    <a:pt x="19541" y="11949"/>
                  </a:lnTo>
                  <a:lnTo>
                    <a:pt x="19082" y="12888"/>
                  </a:lnTo>
                  <a:lnTo>
                    <a:pt x="18426" y="13791"/>
                  </a:lnTo>
                  <a:lnTo>
                    <a:pt x="17574" y="14657"/>
                  </a:lnTo>
                  <a:lnTo>
                    <a:pt x="16525" y="15523"/>
                  </a:lnTo>
                  <a:lnTo>
                    <a:pt x="15475" y="16318"/>
                  </a:lnTo>
                  <a:lnTo>
                    <a:pt x="14033" y="17040"/>
                  </a:lnTo>
                  <a:lnTo>
                    <a:pt x="12656" y="17726"/>
                  </a:lnTo>
                  <a:lnTo>
                    <a:pt x="11082" y="18303"/>
                  </a:lnTo>
                  <a:lnTo>
                    <a:pt x="9377" y="18809"/>
                  </a:lnTo>
                  <a:lnTo>
                    <a:pt x="7672" y="19170"/>
                  </a:lnTo>
                  <a:lnTo>
                    <a:pt x="5770" y="19531"/>
                  </a:lnTo>
                  <a:lnTo>
                    <a:pt x="3869" y="19783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73"/>
            <p:cNvSpPr/>
            <p:nvPr/>
          </p:nvSpPr>
          <p:spPr>
            <a:xfrm>
              <a:off x="2058840" y="2257200"/>
              <a:ext cx="193320" cy="23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4" y="0"/>
                  </a:moveTo>
                  <a:lnTo>
                    <a:pt x="17967" y="108"/>
                  </a:lnTo>
                  <a:lnTo>
                    <a:pt x="15934" y="217"/>
                  </a:lnTo>
                  <a:lnTo>
                    <a:pt x="13967" y="434"/>
                  </a:lnTo>
                  <a:lnTo>
                    <a:pt x="12066" y="813"/>
                  </a:lnTo>
                  <a:lnTo>
                    <a:pt x="10295" y="1247"/>
                  </a:lnTo>
                  <a:lnTo>
                    <a:pt x="8525" y="1734"/>
                  </a:lnTo>
                  <a:lnTo>
                    <a:pt x="7016" y="2385"/>
                  </a:lnTo>
                  <a:lnTo>
                    <a:pt x="5508" y="3089"/>
                  </a:lnTo>
                  <a:lnTo>
                    <a:pt x="4197" y="3848"/>
                  </a:lnTo>
                  <a:lnTo>
                    <a:pt x="3016" y="4661"/>
                  </a:lnTo>
                  <a:lnTo>
                    <a:pt x="2033" y="5583"/>
                  </a:lnTo>
                  <a:lnTo>
                    <a:pt x="1246" y="6504"/>
                  </a:lnTo>
                  <a:lnTo>
                    <a:pt x="590" y="7480"/>
                  </a:lnTo>
                  <a:lnTo>
                    <a:pt x="197" y="8455"/>
                  </a:lnTo>
                  <a:lnTo>
                    <a:pt x="0" y="9431"/>
                  </a:lnTo>
                  <a:lnTo>
                    <a:pt x="0" y="10461"/>
                  </a:lnTo>
                  <a:lnTo>
                    <a:pt x="197" y="11545"/>
                  </a:lnTo>
                  <a:lnTo>
                    <a:pt x="590" y="12466"/>
                  </a:lnTo>
                  <a:lnTo>
                    <a:pt x="1246" y="13388"/>
                  </a:lnTo>
                  <a:lnTo>
                    <a:pt x="2033" y="14363"/>
                  </a:lnTo>
                  <a:lnTo>
                    <a:pt x="3016" y="15230"/>
                  </a:lnTo>
                  <a:lnTo>
                    <a:pt x="4197" y="16043"/>
                  </a:lnTo>
                  <a:lnTo>
                    <a:pt x="5508" y="16856"/>
                  </a:lnTo>
                  <a:lnTo>
                    <a:pt x="7016" y="17507"/>
                  </a:lnTo>
                  <a:lnTo>
                    <a:pt x="8525" y="18211"/>
                  </a:lnTo>
                  <a:lnTo>
                    <a:pt x="10295" y="18699"/>
                  </a:lnTo>
                  <a:lnTo>
                    <a:pt x="12066" y="19133"/>
                  </a:lnTo>
                  <a:lnTo>
                    <a:pt x="13967" y="19512"/>
                  </a:lnTo>
                  <a:lnTo>
                    <a:pt x="15934" y="19729"/>
                  </a:lnTo>
                  <a:lnTo>
                    <a:pt x="17967" y="19892"/>
                  </a:lnTo>
                  <a:lnTo>
                    <a:pt x="19934" y="199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74"/>
            <p:cNvSpPr/>
            <p:nvPr/>
          </p:nvSpPr>
          <p:spPr>
            <a:xfrm>
              <a:off x="2251080" y="2493000"/>
              <a:ext cx="193320" cy="352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216"/>
                  </a:lnTo>
                  <a:lnTo>
                    <a:pt x="5770" y="468"/>
                  </a:lnTo>
                  <a:lnTo>
                    <a:pt x="7672" y="791"/>
                  </a:lnTo>
                  <a:lnTo>
                    <a:pt x="9377" y="1187"/>
                  </a:lnTo>
                  <a:lnTo>
                    <a:pt x="11082" y="1691"/>
                  </a:lnTo>
                  <a:lnTo>
                    <a:pt x="12656" y="2302"/>
                  </a:lnTo>
                  <a:lnTo>
                    <a:pt x="14033" y="2914"/>
                  </a:lnTo>
                  <a:lnTo>
                    <a:pt x="15475" y="3669"/>
                  </a:lnTo>
                  <a:lnTo>
                    <a:pt x="16525" y="4424"/>
                  </a:lnTo>
                  <a:lnTo>
                    <a:pt x="17574" y="5288"/>
                  </a:lnTo>
                  <a:lnTo>
                    <a:pt x="18426" y="6187"/>
                  </a:lnTo>
                  <a:lnTo>
                    <a:pt x="19082" y="7050"/>
                  </a:lnTo>
                  <a:lnTo>
                    <a:pt x="19541" y="8022"/>
                  </a:lnTo>
                  <a:lnTo>
                    <a:pt x="19803" y="9029"/>
                  </a:lnTo>
                  <a:lnTo>
                    <a:pt x="19934" y="10000"/>
                  </a:lnTo>
                  <a:lnTo>
                    <a:pt x="19803" y="10971"/>
                  </a:lnTo>
                  <a:lnTo>
                    <a:pt x="19541" y="11942"/>
                  </a:lnTo>
                  <a:lnTo>
                    <a:pt x="19082" y="12914"/>
                  </a:lnTo>
                  <a:lnTo>
                    <a:pt x="18426" y="13813"/>
                  </a:lnTo>
                  <a:lnTo>
                    <a:pt x="17574" y="14712"/>
                  </a:lnTo>
                  <a:lnTo>
                    <a:pt x="16525" y="15576"/>
                  </a:lnTo>
                  <a:lnTo>
                    <a:pt x="15475" y="16331"/>
                  </a:lnTo>
                  <a:lnTo>
                    <a:pt x="14033" y="17050"/>
                  </a:lnTo>
                  <a:lnTo>
                    <a:pt x="12656" y="17698"/>
                  </a:lnTo>
                  <a:lnTo>
                    <a:pt x="11082" y="18273"/>
                  </a:lnTo>
                  <a:lnTo>
                    <a:pt x="9377" y="18813"/>
                  </a:lnTo>
                  <a:lnTo>
                    <a:pt x="7672" y="19209"/>
                  </a:lnTo>
                  <a:lnTo>
                    <a:pt x="5770" y="19532"/>
                  </a:lnTo>
                  <a:lnTo>
                    <a:pt x="3869" y="19784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75"/>
            <p:cNvSpPr/>
            <p:nvPr/>
          </p:nvSpPr>
          <p:spPr>
            <a:xfrm>
              <a:off x="2058840" y="2611800"/>
              <a:ext cx="193320" cy="23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4" y="0"/>
                  </a:moveTo>
                  <a:lnTo>
                    <a:pt x="17967" y="108"/>
                  </a:lnTo>
                  <a:lnTo>
                    <a:pt x="15934" y="217"/>
                  </a:lnTo>
                  <a:lnTo>
                    <a:pt x="13967" y="434"/>
                  </a:lnTo>
                  <a:lnTo>
                    <a:pt x="12066" y="813"/>
                  </a:lnTo>
                  <a:lnTo>
                    <a:pt x="10295" y="1247"/>
                  </a:lnTo>
                  <a:lnTo>
                    <a:pt x="8525" y="1734"/>
                  </a:lnTo>
                  <a:lnTo>
                    <a:pt x="7016" y="2385"/>
                  </a:lnTo>
                  <a:lnTo>
                    <a:pt x="5508" y="3035"/>
                  </a:lnTo>
                  <a:lnTo>
                    <a:pt x="4197" y="3902"/>
                  </a:lnTo>
                  <a:lnTo>
                    <a:pt x="3016" y="4715"/>
                  </a:lnTo>
                  <a:lnTo>
                    <a:pt x="2033" y="5583"/>
                  </a:lnTo>
                  <a:lnTo>
                    <a:pt x="1246" y="6504"/>
                  </a:lnTo>
                  <a:lnTo>
                    <a:pt x="590" y="7480"/>
                  </a:lnTo>
                  <a:lnTo>
                    <a:pt x="197" y="8455"/>
                  </a:lnTo>
                  <a:lnTo>
                    <a:pt x="0" y="9485"/>
                  </a:lnTo>
                  <a:lnTo>
                    <a:pt x="0" y="10515"/>
                  </a:lnTo>
                  <a:lnTo>
                    <a:pt x="197" y="11491"/>
                  </a:lnTo>
                  <a:lnTo>
                    <a:pt x="590" y="12466"/>
                  </a:lnTo>
                  <a:lnTo>
                    <a:pt x="1246" y="13442"/>
                  </a:lnTo>
                  <a:lnTo>
                    <a:pt x="2033" y="14417"/>
                  </a:lnTo>
                  <a:lnTo>
                    <a:pt x="3016" y="15285"/>
                  </a:lnTo>
                  <a:lnTo>
                    <a:pt x="4197" y="16098"/>
                  </a:lnTo>
                  <a:lnTo>
                    <a:pt x="5508" y="16911"/>
                  </a:lnTo>
                  <a:lnTo>
                    <a:pt x="7016" y="17561"/>
                  </a:lnTo>
                  <a:lnTo>
                    <a:pt x="8525" y="18211"/>
                  </a:lnTo>
                  <a:lnTo>
                    <a:pt x="10295" y="18753"/>
                  </a:lnTo>
                  <a:lnTo>
                    <a:pt x="12066" y="19187"/>
                  </a:lnTo>
                  <a:lnTo>
                    <a:pt x="13967" y="19566"/>
                  </a:lnTo>
                  <a:lnTo>
                    <a:pt x="15934" y="19729"/>
                  </a:lnTo>
                  <a:lnTo>
                    <a:pt x="17967" y="19892"/>
                  </a:lnTo>
                  <a:lnTo>
                    <a:pt x="19934" y="199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76"/>
            <p:cNvSpPr/>
            <p:nvPr/>
          </p:nvSpPr>
          <p:spPr>
            <a:xfrm>
              <a:off x="2058840" y="2376000"/>
              <a:ext cx="193320" cy="23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4" y="0"/>
                  </a:moveTo>
                  <a:lnTo>
                    <a:pt x="17967" y="108"/>
                  </a:lnTo>
                  <a:lnTo>
                    <a:pt x="15934" y="271"/>
                  </a:lnTo>
                  <a:lnTo>
                    <a:pt x="13967" y="434"/>
                  </a:lnTo>
                  <a:lnTo>
                    <a:pt x="12066" y="813"/>
                  </a:lnTo>
                  <a:lnTo>
                    <a:pt x="10295" y="1247"/>
                  </a:lnTo>
                  <a:lnTo>
                    <a:pt x="8525" y="1789"/>
                  </a:lnTo>
                  <a:lnTo>
                    <a:pt x="7016" y="2439"/>
                  </a:lnTo>
                  <a:lnTo>
                    <a:pt x="5508" y="3089"/>
                  </a:lnTo>
                  <a:lnTo>
                    <a:pt x="4197" y="3902"/>
                  </a:lnTo>
                  <a:lnTo>
                    <a:pt x="3016" y="4715"/>
                  </a:lnTo>
                  <a:lnTo>
                    <a:pt x="2033" y="5583"/>
                  </a:lnTo>
                  <a:lnTo>
                    <a:pt x="1246" y="6558"/>
                  </a:lnTo>
                  <a:lnTo>
                    <a:pt x="590" y="7480"/>
                  </a:lnTo>
                  <a:lnTo>
                    <a:pt x="197" y="8455"/>
                  </a:lnTo>
                  <a:lnTo>
                    <a:pt x="0" y="9485"/>
                  </a:lnTo>
                  <a:lnTo>
                    <a:pt x="0" y="10515"/>
                  </a:lnTo>
                  <a:lnTo>
                    <a:pt x="197" y="11545"/>
                  </a:lnTo>
                  <a:lnTo>
                    <a:pt x="590" y="12520"/>
                  </a:lnTo>
                  <a:lnTo>
                    <a:pt x="1246" y="13442"/>
                  </a:lnTo>
                  <a:lnTo>
                    <a:pt x="2033" y="14363"/>
                  </a:lnTo>
                  <a:lnTo>
                    <a:pt x="3016" y="15285"/>
                  </a:lnTo>
                  <a:lnTo>
                    <a:pt x="4197" y="16098"/>
                  </a:lnTo>
                  <a:lnTo>
                    <a:pt x="5508" y="16911"/>
                  </a:lnTo>
                  <a:lnTo>
                    <a:pt x="7016" y="17561"/>
                  </a:lnTo>
                  <a:lnTo>
                    <a:pt x="8525" y="18211"/>
                  </a:lnTo>
                  <a:lnTo>
                    <a:pt x="10295" y="18753"/>
                  </a:lnTo>
                  <a:lnTo>
                    <a:pt x="12066" y="19133"/>
                  </a:lnTo>
                  <a:lnTo>
                    <a:pt x="13967" y="19512"/>
                  </a:lnTo>
                  <a:lnTo>
                    <a:pt x="15934" y="19729"/>
                  </a:lnTo>
                  <a:lnTo>
                    <a:pt x="17967" y="19892"/>
                  </a:lnTo>
                  <a:lnTo>
                    <a:pt x="19934" y="199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77"/>
            <p:cNvSpPr/>
            <p:nvPr/>
          </p:nvSpPr>
          <p:spPr>
            <a:xfrm>
              <a:off x="2058840" y="2493000"/>
              <a:ext cx="193320" cy="23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4" y="0"/>
                  </a:moveTo>
                  <a:lnTo>
                    <a:pt x="17967" y="108"/>
                  </a:lnTo>
                  <a:lnTo>
                    <a:pt x="15934" y="271"/>
                  </a:lnTo>
                  <a:lnTo>
                    <a:pt x="13967" y="434"/>
                  </a:lnTo>
                  <a:lnTo>
                    <a:pt x="12066" y="813"/>
                  </a:lnTo>
                  <a:lnTo>
                    <a:pt x="10295" y="1247"/>
                  </a:lnTo>
                  <a:lnTo>
                    <a:pt x="8525" y="1789"/>
                  </a:lnTo>
                  <a:lnTo>
                    <a:pt x="7016" y="2439"/>
                  </a:lnTo>
                  <a:lnTo>
                    <a:pt x="5508" y="3089"/>
                  </a:lnTo>
                  <a:lnTo>
                    <a:pt x="4197" y="3902"/>
                  </a:lnTo>
                  <a:lnTo>
                    <a:pt x="3016" y="4715"/>
                  </a:lnTo>
                  <a:lnTo>
                    <a:pt x="2033" y="5583"/>
                  </a:lnTo>
                  <a:lnTo>
                    <a:pt x="1246" y="6558"/>
                  </a:lnTo>
                  <a:lnTo>
                    <a:pt x="590" y="7480"/>
                  </a:lnTo>
                  <a:lnTo>
                    <a:pt x="197" y="8455"/>
                  </a:lnTo>
                  <a:lnTo>
                    <a:pt x="0" y="9485"/>
                  </a:lnTo>
                  <a:lnTo>
                    <a:pt x="0" y="10515"/>
                  </a:lnTo>
                  <a:lnTo>
                    <a:pt x="197" y="11545"/>
                  </a:lnTo>
                  <a:lnTo>
                    <a:pt x="590" y="12466"/>
                  </a:lnTo>
                  <a:lnTo>
                    <a:pt x="1246" y="13442"/>
                  </a:lnTo>
                  <a:lnTo>
                    <a:pt x="2033" y="14363"/>
                  </a:lnTo>
                  <a:lnTo>
                    <a:pt x="3016" y="15285"/>
                  </a:lnTo>
                  <a:lnTo>
                    <a:pt x="4197" y="16098"/>
                  </a:lnTo>
                  <a:lnTo>
                    <a:pt x="5508" y="16856"/>
                  </a:lnTo>
                  <a:lnTo>
                    <a:pt x="7016" y="17561"/>
                  </a:lnTo>
                  <a:lnTo>
                    <a:pt x="8525" y="18211"/>
                  </a:lnTo>
                  <a:lnTo>
                    <a:pt x="10295" y="18699"/>
                  </a:lnTo>
                  <a:lnTo>
                    <a:pt x="12066" y="19133"/>
                  </a:lnTo>
                  <a:lnTo>
                    <a:pt x="13967" y="19512"/>
                  </a:lnTo>
                  <a:lnTo>
                    <a:pt x="15934" y="19729"/>
                  </a:lnTo>
                  <a:lnTo>
                    <a:pt x="17967" y="19892"/>
                  </a:lnTo>
                  <a:lnTo>
                    <a:pt x="19934" y="199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78"/>
            <p:cNvSpPr/>
            <p:nvPr/>
          </p:nvSpPr>
          <p:spPr>
            <a:xfrm>
              <a:off x="2251080" y="2376000"/>
              <a:ext cx="193320" cy="35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217"/>
                  </a:lnTo>
                  <a:lnTo>
                    <a:pt x="5770" y="469"/>
                  </a:lnTo>
                  <a:lnTo>
                    <a:pt x="7672" y="794"/>
                  </a:lnTo>
                  <a:lnTo>
                    <a:pt x="9377" y="1191"/>
                  </a:lnTo>
                  <a:lnTo>
                    <a:pt x="11082" y="1697"/>
                  </a:lnTo>
                  <a:lnTo>
                    <a:pt x="12656" y="2238"/>
                  </a:lnTo>
                  <a:lnTo>
                    <a:pt x="14033" y="2924"/>
                  </a:lnTo>
                  <a:lnTo>
                    <a:pt x="15475" y="3682"/>
                  </a:lnTo>
                  <a:lnTo>
                    <a:pt x="16525" y="4440"/>
                  </a:lnTo>
                  <a:lnTo>
                    <a:pt x="17574" y="5307"/>
                  </a:lnTo>
                  <a:lnTo>
                    <a:pt x="18426" y="6173"/>
                  </a:lnTo>
                  <a:lnTo>
                    <a:pt x="19082" y="7112"/>
                  </a:lnTo>
                  <a:lnTo>
                    <a:pt x="19541" y="8051"/>
                  </a:lnTo>
                  <a:lnTo>
                    <a:pt x="19803" y="9025"/>
                  </a:lnTo>
                  <a:lnTo>
                    <a:pt x="19934" y="10000"/>
                  </a:lnTo>
                  <a:lnTo>
                    <a:pt x="19803" y="10975"/>
                  </a:lnTo>
                  <a:lnTo>
                    <a:pt x="19541" y="11949"/>
                  </a:lnTo>
                  <a:lnTo>
                    <a:pt x="19082" y="12888"/>
                  </a:lnTo>
                  <a:lnTo>
                    <a:pt x="18426" y="13791"/>
                  </a:lnTo>
                  <a:lnTo>
                    <a:pt x="17574" y="14693"/>
                  </a:lnTo>
                  <a:lnTo>
                    <a:pt x="16525" y="15523"/>
                  </a:lnTo>
                  <a:lnTo>
                    <a:pt x="15475" y="16318"/>
                  </a:lnTo>
                  <a:lnTo>
                    <a:pt x="14033" y="17040"/>
                  </a:lnTo>
                  <a:lnTo>
                    <a:pt x="12656" y="17726"/>
                  </a:lnTo>
                  <a:lnTo>
                    <a:pt x="11082" y="18303"/>
                  </a:lnTo>
                  <a:lnTo>
                    <a:pt x="9377" y="18809"/>
                  </a:lnTo>
                  <a:lnTo>
                    <a:pt x="7672" y="19170"/>
                  </a:lnTo>
                  <a:lnTo>
                    <a:pt x="5770" y="19531"/>
                  </a:lnTo>
                  <a:lnTo>
                    <a:pt x="3869" y="19783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79"/>
            <p:cNvSpPr/>
            <p:nvPr/>
          </p:nvSpPr>
          <p:spPr>
            <a:xfrm>
              <a:off x="1113120" y="1176120"/>
              <a:ext cx="11394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9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80"/>
            <p:cNvSpPr/>
            <p:nvPr/>
          </p:nvSpPr>
          <p:spPr>
            <a:xfrm>
              <a:off x="2426040" y="2019240"/>
              <a:ext cx="39240" cy="3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7" y="9818"/>
                  </a:moveTo>
                  <a:lnTo>
                    <a:pt x="19032" y="12727"/>
                  </a:lnTo>
                  <a:lnTo>
                    <a:pt x="17742" y="16000"/>
                  </a:lnTo>
                  <a:lnTo>
                    <a:pt x="15484" y="17818"/>
                  </a:lnTo>
                  <a:lnTo>
                    <a:pt x="12903" y="19273"/>
                  </a:lnTo>
                  <a:lnTo>
                    <a:pt x="10000" y="19636"/>
                  </a:lnTo>
                  <a:lnTo>
                    <a:pt x="6774" y="19273"/>
                  </a:lnTo>
                  <a:lnTo>
                    <a:pt x="3871" y="17818"/>
                  </a:lnTo>
                  <a:lnTo>
                    <a:pt x="1935" y="16000"/>
                  </a:lnTo>
                  <a:lnTo>
                    <a:pt x="645" y="12727"/>
                  </a:lnTo>
                  <a:lnTo>
                    <a:pt x="0" y="9818"/>
                  </a:lnTo>
                  <a:lnTo>
                    <a:pt x="645" y="6909"/>
                  </a:lnTo>
                  <a:lnTo>
                    <a:pt x="1935" y="4000"/>
                  </a:lnTo>
                  <a:lnTo>
                    <a:pt x="3871" y="1818"/>
                  </a:lnTo>
                  <a:lnTo>
                    <a:pt x="6774" y="727"/>
                  </a:lnTo>
                  <a:lnTo>
                    <a:pt x="10000" y="0"/>
                  </a:lnTo>
                  <a:lnTo>
                    <a:pt x="12903" y="727"/>
                  </a:lnTo>
                  <a:lnTo>
                    <a:pt x="15484" y="1818"/>
                  </a:lnTo>
                  <a:lnTo>
                    <a:pt x="17742" y="4000"/>
                  </a:lnTo>
                  <a:lnTo>
                    <a:pt x="19032" y="6909"/>
                  </a:lnTo>
                  <a:lnTo>
                    <a:pt x="19677" y="98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81"/>
            <p:cNvSpPr/>
            <p:nvPr/>
          </p:nvSpPr>
          <p:spPr>
            <a:xfrm>
              <a:off x="2426040" y="2019240"/>
              <a:ext cx="39240" cy="3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7" y="9818"/>
                  </a:moveTo>
                  <a:lnTo>
                    <a:pt x="19032" y="12727"/>
                  </a:lnTo>
                  <a:lnTo>
                    <a:pt x="17742" y="16000"/>
                  </a:lnTo>
                  <a:lnTo>
                    <a:pt x="15484" y="17818"/>
                  </a:lnTo>
                  <a:lnTo>
                    <a:pt x="12903" y="19273"/>
                  </a:lnTo>
                  <a:lnTo>
                    <a:pt x="10000" y="19636"/>
                  </a:lnTo>
                  <a:lnTo>
                    <a:pt x="6774" y="19273"/>
                  </a:lnTo>
                  <a:lnTo>
                    <a:pt x="3871" y="17818"/>
                  </a:lnTo>
                  <a:lnTo>
                    <a:pt x="1935" y="16000"/>
                  </a:lnTo>
                  <a:lnTo>
                    <a:pt x="645" y="12727"/>
                  </a:lnTo>
                  <a:lnTo>
                    <a:pt x="0" y="9818"/>
                  </a:lnTo>
                  <a:lnTo>
                    <a:pt x="645" y="6909"/>
                  </a:lnTo>
                  <a:lnTo>
                    <a:pt x="1935" y="4000"/>
                  </a:lnTo>
                  <a:lnTo>
                    <a:pt x="3871" y="1818"/>
                  </a:lnTo>
                  <a:lnTo>
                    <a:pt x="6774" y="727"/>
                  </a:lnTo>
                  <a:lnTo>
                    <a:pt x="10000" y="0"/>
                  </a:lnTo>
                  <a:lnTo>
                    <a:pt x="12903" y="727"/>
                  </a:lnTo>
                  <a:lnTo>
                    <a:pt x="15484" y="1818"/>
                  </a:lnTo>
                  <a:lnTo>
                    <a:pt x="17742" y="4000"/>
                  </a:lnTo>
                  <a:lnTo>
                    <a:pt x="19032" y="6909"/>
                  </a:lnTo>
                  <a:lnTo>
                    <a:pt x="19677" y="981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82"/>
            <p:cNvSpPr/>
            <p:nvPr/>
          </p:nvSpPr>
          <p:spPr>
            <a:xfrm>
              <a:off x="2464560" y="2036520"/>
              <a:ext cx="7344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83"/>
            <p:cNvSpPr/>
            <p:nvPr/>
          </p:nvSpPr>
          <p:spPr>
            <a:xfrm>
              <a:off x="1116000" y="1165680"/>
              <a:ext cx="38520" cy="3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2" y="9818"/>
                  </a:moveTo>
                  <a:lnTo>
                    <a:pt x="19344" y="12727"/>
                  </a:lnTo>
                  <a:lnTo>
                    <a:pt x="17705" y="16000"/>
                  </a:lnTo>
                  <a:lnTo>
                    <a:pt x="15738" y="17818"/>
                  </a:lnTo>
                  <a:lnTo>
                    <a:pt x="12787" y="19273"/>
                  </a:lnTo>
                  <a:lnTo>
                    <a:pt x="10164" y="19636"/>
                  </a:lnTo>
                  <a:lnTo>
                    <a:pt x="6885" y="19273"/>
                  </a:lnTo>
                  <a:lnTo>
                    <a:pt x="3934" y="17818"/>
                  </a:lnTo>
                  <a:lnTo>
                    <a:pt x="1967" y="16000"/>
                  </a:lnTo>
                  <a:lnTo>
                    <a:pt x="328" y="12727"/>
                  </a:lnTo>
                  <a:lnTo>
                    <a:pt x="0" y="9818"/>
                  </a:lnTo>
                  <a:lnTo>
                    <a:pt x="328" y="6909"/>
                  </a:lnTo>
                  <a:lnTo>
                    <a:pt x="1967" y="4000"/>
                  </a:lnTo>
                  <a:lnTo>
                    <a:pt x="3934" y="1818"/>
                  </a:lnTo>
                  <a:lnTo>
                    <a:pt x="6885" y="727"/>
                  </a:lnTo>
                  <a:lnTo>
                    <a:pt x="10164" y="0"/>
                  </a:lnTo>
                  <a:lnTo>
                    <a:pt x="12787" y="727"/>
                  </a:lnTo>
                  <a:lnTo>
                    <a:pt x="15738" y="1818"/>
                  </a:lnTo>
                  <a:lnTo>
                    <a:pt x="17705" y="4000"/>
                  </a:lnTo>
                  <a:lnTo>
                    <a:pt x="19344" y="6909"/>
                  </a:lnTo>
                  <a:lnTo>
                    <a:pt x="19672" y="98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84"/>
            <p:cNvSpPr/>
            <p:nvPr/>
          </p:nvSpPr>
          <p:spPr>
            <a:xfrm>
              <a:off x="1850760" y="2535480"/>
              <a:ext cx="30960" cy="27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545"/>
                  </a:moveTo>
                  <a:lnTo>
                    <a:pt x="9796" y="0"/>
                  </a:lnTo>
                  <a:lnTo>
                    <a:pt x="19592" y="19545"/>
                  </a:lnTo>
                  <a:lnTo>
                    <a:pt x="9796" y="9545"/>
                  </a:lnTo>
                  <a:lnTo>
                    <a:pt x="0" y="195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2" name="Group 85"/>
            <p:cNvGrpSpPr/>
            <p:nvPr/>
          </p:nvGrpSpPr>
          <p:grpSpPr>
            <a:xfrm>
              <a:off x="1850760" y="2535480"/>
              <a:ext cx="30960" cy="344160"/>
              <a:chOff x="1850760" y="2535480"/>
              <a:chExt cx="30960" cy="344160"/>
            </a:xfrm>
          </p:grpSpPr>
          <p:sp>
            <p:nvSpPr>
              <p:cNvPr id="2023" name="Freeform 86"/>
              <p:cNvSpPr/>
              <p:nvPr/>
            </p:nvSpPr>
            <p:spPr>
              <a:xfrm>
                <a:off x="1850760" y="2535480"/>
                <a:ext cx="30960" cy="27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545"/>
                    </a:moveTo>
                    <a:lnTo>
                      <a:pt x="9796" y="0"/>
                    </a:lnTo>
                    <a:lnTo>
                      <a:pt x="19592" y="19545"/>
                    </a:lnTo>
                    <a:lnTo>
                      <a:pt x="9796" y="9545"/>
                    </a:lnTo>
                    <a:lnTo>
                      <a:pt x="0" y="19545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87"/>
              <p:cNvSpPr/>
              <p:nvPr/>
            </p:nvSpPr>
            <p:spPr>
              <a:xfrm>
                <a:off x="1865880" y="2548800"/>
                <a:ext cx="360" cy="330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2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5" name="Rectangle 88"/>
            <p:cNvSpPr/>
            <p:nvPr/>
          </p:nvSpPr>
          <p:spPr>
            <a:xfrm>
              <a:off x="2691360" y="2109960"/>
              <a:ext cx="360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Rectangle 89"/>
            <p:cNvSpPr/>
            <p:nvPr/>
          </p:nvSpPr>
          <p:spPr>
            <a:xfrm>
              <a:off x="1355040" y="2725200"/>
              <a:ext cx="4773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Rectangle 90"/>
            <p:cNvSpPr/>
            <p:nvPr/>
          </p:nvSpPr>
          <p:spPr>
            <a:xfrm>
              <a:off x="3155400" y="2509920"/>
              <a:ext cx="286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Rectangle 91"/>
            <p:cNvSpPr/>
            <p:nvPr/>
          </p:nvSpPr>
          <p:spPr>
            <a:xfrm>
              <a:off x="993600" y="2001600"/>
              <a:ext cx="338760" cy="2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Rectangle 92"/>
            <p:cNvSpPr/>
            <p:nvPr/>
          </p:nvSpPr>
          <p:spPr>
            <a:xfrm>
              <a:off x="1537560" y="1281600"/>
              <a:ext cx="3610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Rectangle 93"/>
            <p:cNvSpPr/>
            <p:nvPr/>
          </p:nvSpPr>
          <p:spPr>
            <a:xfrm>
              <a:off x="2207520" y="1006560"/>
              <a:ext cx="194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Line 94"/>
            <p:cNvSpPr/>
            <p:nvPr/>
          </p:nvSpPr>
          <p:spPr>
            <a:xfrm>
              <a:off x="2827800" y="2038320"/>
              <a:ext cx="1134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Line 95"/>
            <p:cNvSpPr/>
            <p:nvPr/>
          </p:nvSpPr>
          <p:spPr>
            <a:xfrm>
              <a:off x="1608840" y="1178640"/>
              <a:ext cx="1134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Rectangle 96"/>
            <p:cNvSpPr/>
            <p:nvPr/>
          </p:nvSpPr>
          <p:spPr>
            <a:xfrm>
              <a:off x="987480" y="1271880"/>
              <a:ext cx="19728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97"/>
            <p:cNvSpPr/>
            <p:nvPr/>
          </p:nvSpPr>
          <p:spPr>
            <a:xfrm>
              <a:off x="3174840" y="2138760"/>
              <a:ext cx="23796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98"/>
            <p:cNvSpPr/>
            <p:nvPr/>
          </p:nvSpPr>
          <p:spPr>
            <a:xfrm>
              <a:off x="2243160" y="2612160"/>
              <a:ext cx="193320" cy="35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181"/>
                  </a:lnTo>
                  <a:lnTo>
                    <a:pt x="5770" y="433"/>
                  </a:lnTo>
                  <a:lnTo>
                    <a:pt x="7672" y="794"/>
                  </a:lnTo>
                  <a:lnTo>
                    <a:pt x="9377" y="1155"/>
                  </a:lnTo>
                  <a:lnTo>
                    <a:pt x="11082" y="1661"/>
                  </a:lnTo>
                  <a:lnTo>
                    <a:pt x="12656" y="2238"/>
                  </a:lnTo>
                  <a:lnTo>
                    <a:pt x="14033" y="2924"/>
                  </a:lnTo>
                  <a:lnTo>
                    <a:pt x="15475" y="3682"/>
                  </a:lnTo>
                  <a:lnTo>
                    <a:pt x="16525" y="4440"/>
                  </a:lnTo>
                  <a:lnTo>
                    <a:pt x="17574" y="5307"/>
                  </a:lnTo>
                  <a:lnTo>
                    <a:pt x="18426" y="6173"/>
                  </a:lnTo>
                  <a:lnTo>
                    <a:pt x="19082" y="7076"/>
                  </a:lnTo>
                  <a:lnTo>
                    <a:pt x="19541" y="8051"/>
                  </a:lnTo>
                  <a:lnTo>
                    <a:pt x="19803" y="9025"/>
                  </a:lnTo>
                  <a:lnTo>
                    <a:pt x="19934" y="10000"/>
                  </a:lnTo>
                  <a:lnTo>
                    <a:pt x="19803" y="10975"/>
                  </a:lnTo>
                  <a:lnTo>
                    <a:pt x="19541" y="11949"/>
                  </a:lnTo>
                  <a:lnTo>
                    <a:pt x="19082" y="12888"/>
                  </a:lnTo>
                  <a:lnTo>
                    <a:pt x="18426" y="13791"/>
                  </a:lnTo>
                  <a:lnTo>
                    <a:pt x="17574" y="14657"/>
                  </a:lnTo>
                  <a:lnTo>
                    <a:pt x="16525" y="15523"/>
                  </a:lnTo>
                  <a:lnTo>
                    <a:pt x="15475" y="16318"/>
                  </a:lnTo>
                  <a:lnTo>
                    <a:pt x="14033" y="17040"/>
                  </a:lnTo>
                  <a:lnTo>
                    <a:pt x="12656" y="17726"/>
                  </a:lnTo>
                  <a:lnTo>
                    <a:pt x="11082" y="18303"/>
                  </a:lnTo>
                  <a:lnTo>
                    <a:pt x="9377" y="18809"/>
                  </a:lnTo>
                  <a:lnTo>
                    <a:pt x="7672" y="19170"/>
                  </a:lnTo>
                  <a:lnTo>
                    <a:pt x="5770" y="19531"/>
                  </a:lnTo>
                  <a:lnTo>
                    <a:pt x="3869" y="19783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99"/>
            <p:cNvSpPr/>
            <p:nvPr/>
          </p:nvSpPr>
          <p:spPr>
            <a:xfrm>
              <a:off x="2243160" y="2730600"/>
              <a:ext cx="193320" cy="351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181"/>
                  </a:lnTo>
                  <a:lnTo>
                    <a:pt x="5770" y="434"/>
                  </a:lnTo>
                  <a:lnTo>
                    <a:pt x="7672" y="796"/>
                  </a:lnTo>
                  <a:lnTo>
                    <a:pt x="9377" y="1157"/>
                  </a:lnTo>
                  <a:lnTo>
                    <a:pt x="11082" y="1664"/>
                  </a:lnTo>
                  <a:lnTo>
                    <a:pt x="12656" y="2242"/>
                  </a:lnTo>
                  <a:lnTo>
                    <a:pt x="14033" y="2929"/>
                  </a:lnTo>
                  <a:lnTo>
                    <a:pt x="15475" y="3689"/>
                  </a:lnTo>
                  <a:lnTo>
                    <a:pt x="16525" y="4448"/>
                  </a:lnTo>
                  <a:lnTo>
                    <a:pt x="17574" y="5280"/>
                  </a:lnTo>
                  <a:lnTo>
                    <a:pt x="18426" y="6184"/>
                  </a:lnTo>
                  <a:lnTo>
                    <a:pt x="19082" y="7089"/>
                  </a:lnTo>
                  <a:lnTo>
                    <a:pt x="19541" y="8029"/>
                  </a:lnTo>
                  <a:lnTo>
                    <a:pt x="19803" y="9005"/>
                  </a:lnTo>
                  <a:lnTo>
                    <a:pt x="19934" y="9982"/>
                  </a:lnTo>
                  <a:lnTo>
                    <a:pt x="19803" y="10958"/>
                  </a:lnTo>
                  <a:lnTo>
                    <a:pt x="19541" y="11935"/>
                  </a:lnTo>
                  <a:lnTo>
                    <a:pt x="19082" y="12875"/>
                  </a:lnTo>
                  <a:lnTo>
                    <a:pt x="18426" y="13816"/>
                  </a:lnTo>
                  <a:lnTo>
                    <a:pt x="17574" y="14684"/>
                  </a:lnTo>
                  <a:lnTo>
                    <a:pt x="16525" y="15552"/>
                  </a:lnTo>
                  <a:lnTo>
                    <a:pt x="15475" y="16311"/>
                  </a:lnTo>
                  <a:lnTo>
                    <a:pt x="14033" y="17034"/>
                  </a:lnTo>
                  <a:lnTo>
                    <a:pt x="12656" y="17758"/>
                  </a:lnTo>
                  <a:lnTo>
                    <a:pt x="11082" y="18300"/>
                  </a:lnTo>
                  <a:lnTo>
                    <a:pt x="9377" y="18807"/>
                  </a:lnTo>
                  <a:lnTo>
                    <a:pt x="7672" y="19204"/>
                  </a:lnTo>
                  <a:lnTo>
                    <a:pt x="5770" y="19530"/>
                  </a:lnTo>
                  <a:lnTo>
                    <a:pt x="3869" y="19783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100"/>
            <p:cNvSpPr/>
            <p:nvPr/>
          </p:nvSpPr>
          <p:spPr>
            <a:xfrm>
              <a:off x="2051280" y="2730600"/>
              <a:ext cx="193320" cy="23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4" y="0"/>
                  </a:moveTo>
                  <a:lnTo>
                    <a:pt x="17967" y="108"/>
                  </a:lnTo>
                  <a:lnTo>
                    <a:pt x="15934" y="217"/>
                  </a:lnTo>
                  <a:lnTo>
                    <a:pt x="13967" y="434"/>
                  </a:lnTo>
                  <a:lnTo>
                    <a:pt x="12066" y="813"/>
                  </a:lnTo>
                  <a:lnTo>
                    <a:pt x="10295" y="1247"/>
                  </a:lnTo>
                  <a:lnTo>
                    <a:pt x="8525" y="1734"/>
                  </a:lnTo>
                  <a:lnTo>
                    <a:pt x="7016" y="2385"/>
                  </a:lnTo>
                  <a:lnTo>
                    <a:pt x="5508" y="3089"/>
                  </a:lnTo>
                  <a:lnTo>
                    <a:pt x="4197" y="3848"/>
                  </a:lnTo>
                  <a:lnTo>
                    <a:pt x="3016" y="4661"/>
                  </a:lnTo>
                  <a:lnTo>
                    <a:pt x="2033" y="5583"/>
                  </a:lnTo>
                  <a:lnTo>
                    <a:pt x="1246" y="6504"/>
                  </a:lnTo>
                  <a:lnTo>
                    <a:pt x="590" y="7480"/>
                  </a:lnTo>
                  <a:lnTo>
                    <a:pt x="197" y="8455"/>
                  </a:lnTo>
                  <a:lnTo>
                    <a:pt x="0" y="9431"/>
                  </a:lnTo>
                  <a:lnTo>
                    <a:pt x="0" y="10461"/>
                  </a:lnTo>
                  <a:lnTo>
                    <a:pt x="197" y="11545"/>
                  </a:lnTo>
                  <a:lnTo>
                    <a:pt x="590" y="12466"/>
                  </a:lnTo>
                  <a:lnTo>
                    <a:pt x="1246" y="13388"/>
                  </a:lnTo>
                  <a:lnTo>
                    <a:pt x="2033" y="14363"/>
                  </a:lnTo>
                  <a:lnTo>
                    <a:pt x="3016" y="15230"/>
                  </a:lnTo>
                  <a:lnTo>
                    <a:pt x="4197" y="16043"/>
                  </a:lnTo>
                  <a:lnTo>
                    <a:pt x="5508" y="16856"/>
                  </a:lnTo>
                  <a:lnTo>
                    <a:pt x="7016" y="17507"/>
                  </a:lnTo>
                  <a:lnTo>
                    <a:pt x="8525" y="18157"/>
                  </a:lnTo>
                  <a:lnTo>
                    <a:pt x="10295" y="18699"/>
                  </a:lnTo>
                  <a:lnTo>
                    <a:pt x="12066" y="19133"/>
                  </a:lnTo>
                  <a:lnTo>
                    <a:pt x="13967" y="19512"/>
                  </a:lnTo>
                  <a:lnTo>
                    <a:pt x="15934" y="19729"/>
                  </a:lnTo>
                  <a:lnTo>
                    <a:pt x="17967" y="19892"/>
                  </a:lnTo>
                  <a:lnTo>
                    <a:pt x="19934" y="199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101"/>
            <p:cNvSpPr/>
            <p:nvPr/>
          </p:nvSpPr>
          <p:spPr>
            <a:xfrm>
              <a:off x="1104480" y="3169440"/>
              <a:ext cx="11394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9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02"/>
            <p:cNvSpPr/>
            <p:nvPr/>
          </p:nvSpPr>
          <p:spPr>
            <a:xfrm>
              <a:off x="2244240" y="3083040"/>
              <a:ext cx="360" cy="86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8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03"/>
            <p:cNvSpPr/>
            <p:nvPr/>
          </p:nvSpPr>
          <p:spPr>
            <a:xfrm>
              <a:off x="2224440" y="3152160"/>
              <a:ext cx="39240" cy="3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7" y="9818"/>
                  </a:moveTo>
                  <a:lnTo>
                    <a:pt x="19032" y="12727"/>
                  </a:lnTo>
                  <a:lnTo>
                    <a:pt x="17742" y="16000"/>
                  </a:lnTo>
                  <a:lnTo>
                    <a:pt x="15806" y="17818"/>
                  </a:lnTo>
                  <a:lnTo>
                    <a:pt x="12903" y="19273"/>
                  </a:lnTo>
                  <a:lnTo>
                    <a:pt x="10000" y="19636"/>
                  </a:lnTo>
                  <a:lnTo>
                    <a:pt x="6774" y="19273"/>
                  </a:lnTo>
                  <a:lnTo>
                    <a:pt x="4194" y="17818"/>
                  </a:lnTo>
                  <a:lnTo>
                    <a:pt x="1935" y="16000"/>
                  </a:lnTo>
                  <a:lnTo>
                    <a:pt x="645" y="12727"/>
                  </a:lnTo>
                  <a:lnTo>
                    <a:pt x="0" y="9818"/>
                  </a:lnTo>
                  <a:lnTo>
                    <a:pt x="645" y="6909"/>
                  </a:lnTo>
                  <a:lnTo>
                    <a:pt x="1935" y="4000"/>
                  </a:lnTo>
                  <a:lnTo>
                    <a:pt x="4194" y="1818"/>
                  </a:lnTo>
                  <a:lnTo>
                    <a:pt x="6774" y="727"/>
                  </a:lnTo>
                  <a:lnTo>
                    <a:pt x="10000" y="0"/>
                  </a:lnTo>
                  <a:lnTo>
                    <a:pt x="12903" y="727"/>
                  </a:lnTo>
                  <a:lnTo>
                    <a:pt x="15806" y="1818"/>
                  </a:lnTo>
                  <a:lnTo>
                    <a:pt x="17742" y="4000"/>
                  </a:lnTo>
                  <a:lnTo>
                    <a:pt x="19032" y="6909"/>
                  </a:lnTo>
                  <a:lnTo>
                    <a:pt x="19677" y="98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04"/>
            <p:cNvSpPr/>
            <p:nvPr/>
          </p:nvSpPr>
          <p:spPr>
            <a:xfrm>
              <a:off x="2224440" y="3152160"/>
              <a:ext cx="39240" cy="3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7" y="9818"/>
                  </a:moveTo>
                  <a:lnTo>
                    <a:pt x="19032" y="12727"/>
                  </a:lnTo>
                  <a:lnTo>
                    <a:pt x="17742" y="16000"/>
                  </a:lnTo>
                  <a:lnTo>
                    <a:pt x="15806" y="17818"/>
                  </a:lnTo>
                  <a:lnTo>
                    <a:pt x="12903" y="19273"/>
                  </a:lnTo>
                  <a:lnTo>
                    <a:pt x="10000" y="19636"/>
                  </a:lnTo>
                  <a:lnTo>
                    <a:pt x="6774" y="19273"/>
                  </a:lnTo>
                  <a:lnTo>
                    <a:pt x="4194" y="17818"/>
                  </a:lnTo>
                  <a:lnTo>
                    <a:pt x="1935" y="16000"/>
                  </a:lnTo>
                  <a:lnTo>
                    <a:pt x="645" y="12727"/>
                  </a:lnTo>
                  <a:lnTo>
                    <a:pt x="0" y="9818"/>
                  </a:lnTo>
                  <a:lnTo>
                    <a:pt x="645" y="6909"/>
                  </a:lnTo>
                  <a:lnTo>
                    <a:pt x="1935" y="4000"/>
                  </a:lnTo>
                  <a:lnTo>
                    <a:pt x="4194" y="1818"/>
                  </a:lnTo>
                  <a:lnTo>
                    <a:pt x="6774" y="727"/>
                  </a:lnTo>
                  <a:lnTo>
                    <a:pt x="10000" y="0"/>
                  </a:lnTo>
                  <a:lnTo>
                    <a:pt x="12903" y="727"/>
                  </a:lnTo>
                  <a:lnTo>
                    <a:pt x="15806" y="1818"/>
                  </a:lnTo>
                  <a:lnTo>
                    <a:pt x="17742" y="4000"/>
                  </a:lnTo>
                  <a:lnTo>
                    <a:pt x="19032" y="6909"/>
                  </a:lnTo>
                  <a:lnTo>
                    <a:pt x="19677" y="981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05"/>
            <p:cNvSpPr/>
            <p:nvPr/>
          </p:nvSpPr>
          <p:spPr>
            <a:xfrm>
              <a:off x="2244240" y="3169440"/>
              <a:ext cx="9471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8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106"/>
            <p:cNvSpPr/>
            <p:nvPr/>
          </p:nvSpPr>
          <p:spPr>
            <a:xfrm>
              <a:off x="3191040" y="3152160"/>
              <a:ext cx="38520" cy="3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2" y="9818"/>
                  </a:moveTo>
                  <a:lnTo>
                    <a:pt x="19344" y="12727"/>
                  </a:lnTo>
                  <a:lnTo>
                    <a:pt x="17705" y="16000"/>
                  </a:lnTo>
                  <a:lnTo>
                    <a:pt x="15738" y="17818"/>
                  </a:lnTo>
                  <a:lnTo>
                    <a:pt x="12787" y="19273"/>
                  </a:lnTo>
                  <a:lnTo>
                    <a:pt x="10164" y="19636"/>
                  </a:lnTo>
                  <a:lnTo>
                    <a:pt x="6885" y="19273"/>
                  </a:lnTo>
                  <a:lnTo>
                    <a:pt x="3934" y="17818"/>
                  </a:lnTo>
                  <a:lnTo>
                    <a:pt x="1967" y="16000"/>
                  </a:lnTo>
                  <a:lnTo>
                    <a:pt x="328" y="12727"/>
                  </a:lnTo>
                  <a:lnTo>
                    <a:pt x="0" y="9818"/>
                  </a:lnTo>
                  <a:lnTo>
                    <a:pt x="328" y="6909"/>
                  </a:lnTo>
                  <a:lnTo>
                    <a:pt x="1967" y="4000"/>
                  </a:lnTo>
                  <a:lnTo>
                    <a:pt x="3934" y="1818"/>
                  </a:lnTo>
                  <a:lnTo>
                    <a:pt x="6885" y="727"/>
                  </a:lnTo>
                  <a:lnTo>
                    <a:pt x="10164" y="0"/>
                  </a:lnTo>
                  <a:lnTo>
                    <a:pt x="12787" y="727"/>
                  </a:lnTo>
                  <a:lnTo>
                    <a:pt x="15738" y="1818"/>
                  </a:lnTo>
                  <a:lnTo>
                    <a:pt x="17705" y="4000"/>
                  </a:lnTo>
                  <a:lnTo>
                    <a:pt x="19344" y="6909"/>
                  </a:lnTo>
                  <a:lnTo>
                    <a:pt x="19672" y="98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Rectangle 107"/>
            <p:cNvSpPr/>
            <p:nvPr/>
          </p:nvSpPr>
          <p:spPr>
            <a:xfrm>
              <a:off x="2205720" y="3273480"/>
              <a:ext cx="194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Rectangle 108"/>
            <p:cNvSpPr/>
            <p:nvPr/>
          </p:nvSpPr>
          <p:spPr>
            <a:xfrm>
              <a:off x="1002960" y="2911320"/>
              <a:ext cx="20988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Rectangle 109"/>
            <p:cNvSpPr/>
            <p:nvPr/>
          </p:nvSpPr>
          <p:spPr>
            <a:xfrm>
              <a:off x="3191040" y="2962800"/>
              <a:ext cx="1742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110"/>
            <p:cNvSpPr/>
            <p:nvPr/>
          </p:nvSpPr>
          <p:spPr>
            <a:xfrm>
              <a:off x="1091880" y="3158640"/>
              <a:ext cx="38520" cy="3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2" y="9818"/>
                  </a:moveTo>
                  <a:lnTo>
                    <a:pt x="19344" y="12727"/>
                  </a:lnTo>
                  <a:lnTo>
                    <a:pt x="17705" y="16000"/>
                  </a:lnTo>
                  <a:lnTo>
                    <a:pt x="15738" y="17818"/>
                  </a:lnTo>
                  <a:lnTo>
                    <a:pt x="12787" y="19273"/>
                  </a:lnTo>
                  <a:lnTo>
                    <a:pt x="10164" y="19636"/>
                  </a:lnTo>
                  <a:lnTo>
                    <a:pt x="6885" y="19273"/>
                  </a:lnTo>
                  <a:lnTo>
                    <a:pt x="3934" y="17818"/>
                  </a:lnTo>
                  <a:lnTo>
                    <a:pt x="1967" y="16000"/>
                  </a:lnTo>
                  <a:lnTo>
                    <a:pt x="328" y="12727"/>
                  </a:lnTo>
                  <a:lnTo>
                    <a:pt x="0" y="9818"/>
                  </a:lnTo>
                  <a:lnTo>
                    <a:pt x="328" y="6909"/>
                  </a:lnTo>
                  <a:lnTo>
                    <a:pt x="1967" y="4000"/>
                  </a:lnTo>
                  <a:lnTo>
                    <a:pt x="3934" y="1818"/>
                  </a:lnTo>
                  <a:lnTo>
                    <a:pt x="6885" y="727"/>
                  </a:lnTo>
                  <a:lnTo>
                    <a:pt x="10164" y="0"/>
                  </a:lnTo>
                  <a:lnTo>
                    <a:pt x="12787" y="727"/>
                  </a:lnTo>
                  <a:lnTo>
                    <a:pt x="15738" y="1818"/>
                  </a:lnTo>
                  <a:lnTo>
                    <a:pt x="17705" y="4000"/>
                  </a:lnTo>
                  <a:lnTo>
                    <a:pt x="19344" y="6909"/>
                  </a:lnTo>
                  <a:lnTo>
                    <a:pt x="19672" y="98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111"/>
            <p:cNvSpPr/>
            <p:nvPr/>
          </p:nvSpPr>
          <p:spPr>
            <a:xfrm>
              <a:off x="3199320" y="2019240"/>
              <a:ext cx="38520" cy="3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2" y="9818"/>
                  </a:moveTo>
                  <a:lnTo>
                    <a:pt x="19344" y="12727"/>
                  </a:lnTo>
                  <a:lnTo>
                    <a:pt x="17705" y="16000"/>
                  </a:lnTo>
                  <a:lnTo>
                    <a:pt x="15738" y="17818"/>
                  </a:lnTo>
                  <a:lnTo>
                    <a:pt x="12787" y="19273"/>
                  </a:lnTo>
                  <a:lnTo>
                    <a:pt x="10164" y="19636"/>
                  </a:lnTo>
                  <a:lnTo>
                    <a:pt x="6885" y="19273"/>
                  </a:lnTo>
                  <a:lnTo>
                    <a:pt x="3934" y="17818"/>
                  </a:lnTo>
                  <a:lnTo>
                    <a:pt x="1967" y="16000"/>
                  </a:lnTo>
                  <a:lnTo>
                    <a:pt x="328" y="12727"/>
                  </a:lnTo>
                  <a:lnTo>
                    <a:pt x="0" y="9818"/>
                  </a:lnTo>
                  <a:lnTo>
                    <a:pt x="328" y="6909"/>
                  </a:lnTo>
                  <a:lnTo>
                    <a:pt x="1967" y="4000"/>
                  </a:lnTo>
                  <a:lnTo>
                    <a:pt x="3934" y="1818"/>
                  </a:lnTo>
                  <a:lnTo>
                    <a:pt x="6885" y="727"/>
                  </a:lnTo>
                  <a:lnTo>
                    <a:pt x="10164" y="0"/>
                  </a:lnTo>
                  <a:lnTo>
                    <a:pt x="12787" y="727"/>
                  </a:lnTo>
                  <a:lnTo>
                    <a:pt x="15738" y="1818"/>
                  </a:lnTo>
                  <a:lnTo>
                    <a:pt x="17705" y="4000"/>
                  </a:lnTo>
                  <a:lnTo>
                    <a:pt x="19344" y="6909"/>
                  </a:lnTo>
                  <a:lnTo>
                    <a:pt x="19672" y="98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9" name="Rectangle 113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114"/>
          <p:cNvSpPr/>
          <p:nvPr/>
        </p:nvSpPr>
        <p:spPr>
          <a:xfrm>
            <a:off x="2232000" y="3629160"/>
            <a:ext cx="23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rasformatore voltmetrico 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costruito in modo da rendere  trascurabili le perdite nel rame, nel funzionamento a vuo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1" name="Group 115"/>
          <p:cNvGrpSpPr/>
          <p:nvPr/>
        </p:nvGrpSpPr>
        <p:grpSpPr>
          <a:xfrm>
            <a:off x="720720" y="3720960"/>
            <a:ext cx="1166760" cy="2317680"/>
            <a:chOff x="720720" y="3720960"/>
            <a:chExt cx="1166760" cy="2317680"/>
          </a:xfrm>
        </p:grpSpPr>
        <p:grpSp>
          <p:nvGrpSpPr>
            <p:cNvPr id="2052" name="Group 116"/>
            <p:cNvGrpSpPr/>
            <p:nvPr/>
          </p:nvGrpSpPr>
          <p:grpSpPr>
            <a:xfrm>
              <a:off x="975240" y="3720960"/>
              <a:ext cx="912240" cy="2058480"/>
              <a:chOff x="975240" y="3720960"/>
              <a:chExt cx="912240" cy="2058480"/>
            </a:xfrm>
          </p:grpSpPr>
          <p:sp>
            <p:nvSpPr>
              <p:cNvPr id="2053" name="Freeform 117"/>
              <p:cNvSpPr/>
              <p:nvPr/>
            </p:nvSpPr>
            <p:spPr>
              <a:xfrm>
                <a:off x="975240" y="3720960"/>
                <a:ext cx="91224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8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18"/>
              <p:cNvSpPr/>
              <p:nvPr/>
            </p:nvSpPr>
            <p:spPr>
              <a:xfrm>
                <a:off x="975240" y="3949560"/>
                <a:ext cx="91224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8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19"/>
              <p:cNvSpPr/>
              <p:nvPr/>
            </p:nvSpPr>
            <p:spPr>
              <a:xfrm>
                <a:off x="1567800" y="3949560"/>
                <a:ext cx="114120" cy="503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5"/>
                    </a:moveTo>
                    <a:lnTo>
                      <a:pt x="19889" y="13619"/>
                    </a:lnTo>
                    <a:lnTo>
                      <a:pt x="1988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20"/>
              <p:cNvSpPr/>
              <p:nvPr/>
            </p:nvSpPr>
            <p:spPr>
              <a:xfrm>
                <a:off x="1180440" y="3720960"/>
                <a:ext cx="114120" cy="731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89" y="19983"/>
                    </a:moveTo>
                    <a:lnTo>
                      <a:pt x="0" y="1561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21"/>
              <p:cNvSpPr/>
              <p:nvPr/>
            </p:nvSpPr>
            <p:spPr>
              <a:xfrm>
                <a:off x="1180440" y="5046840"/>
                <a:ext cx="114120" cy="504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89" y="0"/>
                    </a:moveTo>
                    <a:lnTo>
                      <a:pt x="0" y="6348"/>
                    </a:lnTo>
                    <a:lnTo>
                      <a:pt x="0" y="199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22"/>
              <p:cNvSpPr/>
              <p:nvPr/>
            </p:nvSpPr>
            <p:spPr>
              <a:xfrm>
                <a:off x="1567800" y="5046840"/>
                <a:ext cx="91440" cy="732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861" y="4367"/>
                    </a:lnTo>
                    <a:lnTo>
                      <a:pt x="19861" y="1998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9" name="Group 123"/>
            <p:cNvGrpSpPr/>
            <p:nvPr/>
          </p:nvGrpSpPr>
          <p:grpSpPr>
            <a:xfrm>
              <a:off x="1202760" y="4406760"/>
              <a:ext cx="456480" cy="686160"/>
              <a:chOff x="1202760" y="4406760"/>
              <a:chExt cx="456480" cy="686160"/>
            </a:xfrm>
          </p:grpSpPr>
          <p:sp>
            <p:nvSpPr>
              <p:cNvPr id="2060" name="Freeform 124"/>
              <p:cNvSpPr/>
              <p:nvPr/>
            </p:nvSpPr>
            <p:spPr>
              <a:xfrm>
                <a:off x="1202760" y="4635360"/>
                <a:ext cx="456480" cy="457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93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96" y="17143"/>
                    </a:lnTo>
                    <a:lnTo>
                      <a:pt x="16245" y="17781"/>
                    </a:lnTo>
                    <a:lnTo>
                      <a:pt x="15438" y="18391"/>
                    </a:lnTo>
                    <a:lnTo>
                      <a:pt x="14548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61" y="19723"/>
                    </a:lnTo>
                    <a:lnTo>
                      <a:pt x="6815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70" y="16782"/>
                    </a:lnTo>
                    <a:lnTo>
                      <a:pt x="2058" y="16033"/>
                    </a:lnTo>
                    <a:lnTo>
                      <a:pt x="1474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74" y="4799"/>
                    </a:lnTo>
                    <a:lnTo>
                      <a:pt x="2058" y="3967"/>
                    </a:lnTo>
                    <a:lnTo>
                      <a:pt x="2670" y="3218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815" y="499"/>
                    </a:lnTo>
                    <a:lnTo>
                      <a:pt x="7761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48" y="1110"/>
                    </a:lnTo>
                    <a:lnTo>
                      <a:pt x="15438" y="1609"/>
                    </a:lnTo>
                    <a:lnTo>
                      <a:pt x="16245" y="2219"/>
                    </a:lnTo>
                    <a:lnTo>
                      <a:pt x="16996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215"/>
                    </a:lnTo>
                    <a:lnTo>
                      <a:pt x="19193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25"/>
              <p:cNvSpPr/>
              <p:nvPr/>
            </p:nvSpPr>
            <p:spPr>
              <a:xfrm>
                <a:off x="1202760" y="4406760"/>
                <a:ext cx="456480" cy="457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93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96" y="17143"/>
                    </a:lnTo>
                    <a:lnTo>
                      <a:pt x="16245" y="17781"/>
                    </a:lnTo>
                    <a:lnTo>
                      <a:pt x="15438" y="18391"/>
                    </a:lnTo>
                    <a:lnTo>
                      <a:pt x="14548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61" y="19723"/>
                    </a:lnTo>
                    <a:lnTo>
                      <a:pt x="6815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70" y="16782"/>
                    </a:lnTo>
                    <a:lnTo>
                      <a:pt x="2058" y="16033"/>
                    </a:lnTo>
                    <a:lnTo>
                      <a:pt x="1474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74" y="4799"/>
                    </a:lnTo>
                    <a:lnTo>
                      <a:pt x="2058" y="3939"/>
                    </a:lnTo>
                    <a:lnTo>
                      <a:pt x="2670" y="3190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815" y="499"/>
                    </a:lnTo>
                    <a:lnTo>
                      <a:pt x="7761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48" y="1110"/>
                    </a:lnTo>
                    <a:lnTo>
                      <a:pt x="15438" y="1609"/>
                    </a:lnTo>
                    <a:lnTo>
                      <a:pt x="16245" y="2191"/>
                    </a:lnTo>
                    <a:lnTo>
                      <a:pt x="16996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187"/>
                    </a:lnTo>
                    <a:lnTo>
                      <a:pt x="19193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2" name="Rectangle 126"/>
            <p:cNvSpPr/>
            <p:nvPr/>
          </p:nvSpPr>
          <p:spPr>
            <a:xfrm>
              <a:off x="720720" y="3723480"/>
              <a:ext cx="20052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Rectangle 127"/>
            <p:cNvSpPr/>
            <p:nvPr/>
          </p:nvSpPr>
          <p:spPr>
            <a:xfrm>
              <a:off x="1362960" y="5344920"/>
              <a:ext cx="20052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4" name="Group 128"/>
            <p:cNvGrpSpPr/>
            <p:nvPr/>
          </p:nvGrpSpPr>
          <p:grpSpPr>
            <a:xfrm>
              <a:off x="1180440" y="5550120"/>
              <a:ext cx="478800" cy="343080"/>
              <a:chOff x="1180440" y="5550120"/>
              <a:chExt cx="478800" cy="343080"/>
            </a:xfrm>
          </p:grpSpPr>
          <p:sp>
            <p:nvSpPr>
              <p:cNvPr id="2065" name="Freeform 129"/>
              <p:cNvSpPr/>
              <p:nvPr/>
            </p:nvSpPr>
            <p:spPr>
              <a:xfrm>
                <a:off x="1294200" y="5664240"/>
                <a:ext cx="2286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9972"/>
                    </a:moveTo>
                    <a:lnTo>
                      <a:pt x="19833" y="11357"/>
                    </a:lnTo>
                    <a:lnTo>
                      <a:pt x="19556" y="12742"/>
                    </a:lnTo>
                    <a:lnTo>
                      <a:pt x="19056" y="14127"/>
                    </a:lnTo>
                    <a:lnTo>
                      <a:pt x="18333" y="15346"/>
                    </a:lnTo>
                    <a:lnTo>
                      <a:pt x="17556" y="16454"/>
                    </a:lnTo>
                    <a:lnTo>
                      <a:pt x="16444" y="17562"/>
                    </a:lnTo>
                    <a:lnTo>
                      <a:pt x="15333" y="18338"/>
                    </a:lnTo>
                    <a:lnTo>
                      <a:pt x="14167" y="19058"/>
                    </a:lnTo>
                    <a:lnTo>
                      <a:pt x="12778" y="19557"/>
                    </a:lnTo>
                    <a:lnTo>
                      <a:pt x="11389" y="19834"/>
                    </a:lnTo>
                    <a:lnTo>
                      <a:pt x="9944" y="19945"/>
                    </a:lnTo>
                    <a:lnTo>
                      <a:pt x="8556" y="19834"/>
                    </a:lnTo>
                    <a:lnTo>
                      <a:pt x="7167" y="19557"/>
                    </a:lnTo>
                    <a:lnTo>
                      <a:pt x="5778" y="19058"/>
                    </a:lnTo>
                    <a:lnTo>
                      <a:pt x="4611" y="18338"/>
                    </a:lnTo>
                    <a:lnTo>
                      <a:pt x="3500" y="17562"/>
                    </a:lnTo>
                    <a:lnTo>
                      <a:pt x="2389" y="16454"/>
                    </a:lnTo>
                    <a:lnTo>
                      <a:pt x="1611" y="15346"/>
                    </a:lnTo>
                    <a:lnTo>
                      <a:pt x="889" y="14127"/>
                    </a:lnTo>
                    <a:lnTo>
                      <a:pt x="389" y="12742"/>
                    </a:lnTo>
                    <a:lnTo>
                      <a:pt x="111" y="11357"/>
                    </a:lnTo>
                    <a:lnTo>
                      <a:pt x="0" y="9972"/>
                    </a:lnTo>
                    <a:lnTo>
                      <a:pt x="111" y="8532"/>
                    </a:lnTo>
                    <a:lnTo>
                      <a:pt x="389" y="7147"/>
                    </a:lnTo>
                    <a:lnTo>
                      <a:pt x="889" y="5762"/>
                    </a:lnTo>
                    <a:lnTo>
                      <a:pt x="1611" y="4543"/>
                    </a:lnTo>
                    <a:lnTo>
                      <a:pt x="2389" y="3490"/>
                    </a:lnTo>
                    <a:lnTo>
                      <a:pt x="3500" y="2382"/>
                    </a:lnTo>
                    <a:lnTo>
                      <a:pt x="4611" y="1551"/>
                    </a:lnTo>
                    <a:lnTo>
                      <a:pt x="5778" y="886"/>
                    </a:lnTo>
                    <a:lnTo>
                      <a:pt x="7167" y="388"/>
                    </a:lnTo>
                    <a:lnTo>
                      <a:pt x="8556" y="55"/>
                    </a:lnTo>
                    <a:lnTo>
                      <a:pt x="9944" y="0"/>
                    </a:lnTo>
                    <a:lnTo>
                      <a:pt x="11389" y="55"/>
                    </a:lnTo>
                    <a:lnTo>
                      <a:pt x="12778" y="388"/>
                    </a:lnTo>
                    <a:lnTo>
                      <a:pt x="14167" y="886"/>
                    </a:lnTo>
                    <a:lnTo>
                      <a:pt x="15333" y="1551"/>
                    </a:lnTo>
                    <a:lnTo>
                      <a:pt x="16444" y="2382"/>
                    </a:lnTo>
                    <a:lnTo>
                      <a:pt x="17556" y="3490"/>
                    </a:lnTo>
                    <a:lnTo>
                      <a:pt x="18333" y="4543"/>
                    </a:lnTo>
                    <a:lnTo>
                      <a:pt x="19056" y="5762"/>
                    </a:lnTo>
                    <a:lnTo>
                      <a:pt x="19556" y="7147"/>
                    </a:lnTo>
                    <a:lnTo>
                      <a:pt x="19833" y="8532"/>
                    </a:lnTo>
                    <a:lnTo>
                      <a:pt x="19944" y="9972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0"/>
              <p:cNvSpPr/>
              <p:nvPr/>
            </p:nvSpPr>
            <p:spPr>
              <a:xfrm>
                <a:off x="1180440" y="5550120"/>
                <a:ext cx="36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4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1"/>
              <p:cNvSpPr/>
              <p:nvPr/>
            </p:nvSpPr>
            <p:spPr>
              <a:xfrm>
                <a:off x="1180440" y="5778360"/>
                <a:ext cx="11412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88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2"/>
              <p:cNvSpPr/>
              <p:nvPr/>
            </p:nvSpPr>
            <p:spPr>
              <a:xfrm>
                <a:off x="1522080" y="5778360"/>
                <a:ext cx="1371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0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9" name="Rectangle 133"/>
            <p:cNvSpPr/>
            <p:nvPr/>
          </p:nvSpPr>
          <p:spPr>
            <a:xfrm>
              <a:off x="1362960" y="5710680"/>
              <a:ext cx="219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Line 134"/>
            <p:cNvSpPr/>
            <p:nvPr/>
          </p:nvSpPr>
          <p:spPr>
            <a:xfrm>
              <a:off x="1177920" y="5785200"/>
              <a:ext cx="360" cy="21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Line 135"/>
            <p:cNvSpPr/>
            <p:nvPr/>
          </p:nvSpPr>
          <p:spPr>
            <a:xfrm flipV="1">
              <a:off x="1098000" y="6001920"/>
              <a:ext cx="17964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Line 136"/>
            <p:cNvSpPr/>
            <p:nvPr/>
          </p:nvSpPr>
          <p:spPr>
            <a:xfrm>
              <a:off x="1124640" y="6021360"/>
              <a:ext cx="1072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Line 137"/>
            <p:cNvSpPr/>
            <p:nvPr/>
          </p:nvSpPr>
          <p:spPr>
            <a:xfrm flipV="1">
              <a:off x="1158840" y="6036120"/>
              <a:ext cx="540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Line 138"/>
            <p:cNvSpPr/>
            <p:nvPr/>
          </p:nvSpPr>
          <p:spPr>
            <a:xfrm flipV="1">
              <a:off x="945360" y="3727800"/>
              <a:ext cx="360" cy="1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Line 139"/>
            <p:cNvSpPr/>
            <p:nvPr/>
          </p:nvSpPr>
          <p:spPr>
            <a:xfrm>
              <a:off x="1212120" y="5556600"/>
              <a:ext cx="41004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76" name="Object 140"/>
              <p:cNvSpPr txBox="1"/>
              <p:nvPr/>
            </p:nvSpPr>
            <p:spPr>
              <a:xfrm>
                <a:off x="2336760" y="6076800"/>
                <a:ext cx="1168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077" name="Group 141"/>
          <p:cNvGrpSpPr/>
          <p:nvPr/>
        </p:nvGrpSpPr>
        <p:grpSpPr>
          <a:xfrm>
            <a:off x="4748040" y="3614760"/>
            <a:ext cx="1117800" cy="1407960"/>
            <a:chOff x="4748040" y="3614760"/>
            <a:chExt cx="1117800" cy="1407960"/>
          </a:xfrm>
        </p:grpSpPr>
        <p:sp>
          <p:nvSpPr>
            <p:cNvPr id="2078" name="Freeform 142"/>
            <p:cNvSpPr/>
            <p:nvPr/>
          </p:nvSpPr>
          <p:spPr>
            <a:xfrm>
              <a:off x="5067360" y="4322160"/>
              <a:ext cx="114120" cy="503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889" y="0"/>
                  </a:moveTo>
                  <a:lnTo>
                    <a:pt x="0" y="6348"/>
                  </a:lnTo>
                  <a:lnTo>
                    <a:pt x="0" y="1997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9" name="Group 143"/>
            <p:cNvGrpSpPr/>
            <p:nvPr/>
          </p:nvGrpSpPr>
          <p:grpSpPr>
            <a:xfrm>
              <a:off x="5089680" y="3682440"/>
              <a:ext cx="456480" cy="1257480"/>
              <a:chOff x="5089680" y="3682440"/>
              <a:chExt cx="456480" cy="1257480"/>
            </a:xfrm>
          </p:grpSpPr>
          <p:sp>
            <p:nvSpPr>
              <p:cNvPr id="2080" name="Freeform 144"/>
              <p:cNvSpPr/>
              <p:nvPr/>
            </p:nvSpPr>
            <p:spPr>
              <a:xfrm>
                <a:off x="5089680" y="3910680"/>
                <a:ext cx="4564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93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96" y="17143"/>
                    </a:lnTo>
                    <a:lnTo>
                      <a:pt x="16245" y="17781"/>
                    </a:lnTo>
                    <a:lnTo>
                      <a:pt x="15438" y="18391"/>
                    </a:lnTo>
                    <a:lnTo>
                      <a:pt x="14548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61" y="19723"/>
                    </a:lnTo>
                    <a:lnTo>
                      <a:pt x="6815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70" y="16782"/>
                    </a:lnTo>
                    <a:lnTo>
                      <a:pt x="2058" y="16033"/>
                    </a:lnTo>
                    <a:lnTo>
                      <a:pt x="1474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74" y="4799"/>
                    </a:lnTo>
                    <a:lnTo>
                      <a:pt x="2058" y="3967"/>
                    </a:lnTo>
                    <a:lnTo>
                      <a:pt x="2670" y="3218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815" y="499"/>
                    </a:lnTo>
                    <a:lnTo>
                      <a:pt x="7761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48" y="1110"/>
                    </a:lnTo>
                    <a:lnTo>
                      <a:pt x="15438" y="1609"/>
                    </a:lnTo>
                    <a:lnTo>
                      <a:pt x="16245" y="2219"/>
                    </a:lnTo>
                    <a:lnTo>
                      <a:pt x="16996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215"/>
                    </a:lnTo>
                    <a:lnTo>
                      <a:pt x="19193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45"/>
              <p:cNvSpPr/>
              <p:nvPr/>
            </p:nvSpPr>
            <p:spPr>
              <a:xfrm>
                <a:off x="5089680" y="3682440"/>
                <a:ext cx="4564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93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96" y="17143"/>
                    </a:lnTo>
                    <a:lnTo>
                      <a:pt x="16245" y="17781"/>
                    </a:lnTo>
                    <a:lnTo>
                      <a:pt x="15438" y="18391"/>
                    </a:lnTo>
                    <a:lnTo>
                      <a:pt x="14548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61" y="19723"/>
                    </a:lnTo>
                    <a:lnTo>
                      <a:pt x="6815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70" y="16782"/>
                    </a:lnTo>
                    <a:lnTo>
                      <a:pt x="2058" y="16033"/>
                    </a:lnTo>
                    <a:lnTo>
                      <a:pt x="1474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74" y="4799"/>
                    </a:lnTo>
                    <a:lnTo>
                      <a:pt x="2058" y="3939"/>
                    </a:lnTo>
                    <a:lnTo>
                      <a:pt x="2670" y="3190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815" y="499"/>
                    </a:lnTo>
                    <a:lnTo>
                      <a:pt x="7761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48" y="1110"/>
                    </a:lnTo>
                    <a:lnTo>
                      <a:pt x="15438" y="1609"/>
                    </a:lnTo>
                    <a:lnTo>
                      <a:pt x="16245" y="2191"/>
                    </a:lnTo>
                    <a:lnTo>
                      <a:pt x="16996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187"/>
                    </a:lnTo>
                    <a:lnTo>
                      <a:pt x="19193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46"/>
              <p:cNvSpPr/>
              <p:nvPr/>
            </p:nvSpPr>
            <p:spPr>
              <a:xfrm>
                <a:off x="5203800" y="4710960"/>
                <a:ext cx="2286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9972"/>
                    </a:moveTo>
                    <a:lnTo>
                      <a:pt x="19833" y="11357"/>
                    </a:lnTo>
                    <a:lnTo>
                      <a:pt x="19556" y="12742"/>
                    </a:lnTo>
                    <a:lnTo>
                      <a:pt x="19056" y="14127"/>
                    </a:lnTo>
                    <a:lnTo>
                      <a:pt x="18333" y="15346"/>
                    </a:lnTo>
                    <a:lnTo>
                      <a:pt x="17556" y="16454"/>
                    </a:lnTo>
                    <a:lnTo>
                      <a:pt x="16444" y="17507"/>
                    </a:lnTo>
                    <a:lnTo>
                      <a:pt x="15333" y="18338"/>
                    </a:lnTo>
                    <a:lnTo>
                      <a:pt x="14167" y="19003"/>
                    </a:lnTo>
                    <a:lnTo>
                      <a:pt x="12778" y="19501"/>
                    </a:lnTo>
                    <a:lnTo>
                      <a:pt x="11333" y="19834"/>
                    </a:lnTo>
                    <a:lnTo>
                      <a:pt x="9944" y="19945"/>
                    </a:lnTo>
                    <a:lnTo>
                      <a:pt x="8556" y="19834"/>
                    </a:lnTo>
                    <a:lnTo>
                      <a:pt x="7167" y="19501"/>
                    </a:lnTo>
                    <a:lnTo>
                      <a:pt x="5778" y="19003"/>
                    </a:lnTo>
                    <a:lnTo>
                      <a:pt x="4556" y="18338"/>
                    </a:lnTo>
                    <a:lnTo>
                      <a:pt x="3500" y="17507"/>
                    </a:lnTo>
                    <a:lnTo>
                      <a:pt x="2389" y="16454"/>
                    </a:lnTo>
                    <a:lnTo>
                      <a:pt x="1611" y="15346"/>
                    </a:lnTo>
                    <a:lnTo>
                      <a:pt x="889" y="14127"/>
                    </a:lnTo>
                    <a:lnTo>
                      <a:pt x="389" y="12742"/>
                    </a:lnTo>
                    <a:lnTo>
                      <a:pt x="111" y="11357"/>
                    </a:lnTo>
                    <a:lnTo>
                      <a:pt x="0" y="9972"/>
                    </a:lnTo>
                    <a:lnTo>
                      <a:pt x="111" y="8532"/>
                    </a:lnTo>
                    <a:lnTo>
                      <a:pt x="389" y="7147"/>
                    </a:lnTo>
                    <a:lnTo>
                      <a:pt x="889" y="5762"/>
                    </a:lnTo>
                    <a:lnTo>
                      <a:pt x="1611" y="4543"/>
                    </a:lnTo>
                    <a:lnTo>
                      <a:pt x="2389" y="3490"/>
                    </a:lnTo>
                    <a:lnTo>
                      <a:pt x="3500" y="2382"/>
                    </a:lnTo>
                    <a:lnTo>
                      <a:pt x="4556" y="1551"/>
                    </a:lnTo>
                    <a:lnTo>
                      <a:pt x="5778" y="886"/>
                    </a:lnTo>
                    <a:lnTo>
                      <a:pt x="7167" y="388"/>
                    </a:lnTo>
                    <a:lnTo>
                      <a:pt x="8556" y="55"/>
                    </a:lnTo>
                    <a:lnTo>
                      <a:pt x="9944" y="0"/>
                    </a:lnTo>
                    <a:lnTo>
                      <a:pt x="11333" y="55"/>
                    </a:lnTo>
                    <a:lnTo>
                      <a:pt x="12778" y="388"/>
                    </a:lnTo>
                    <a:lnTo>
                      <a:pt x="14167" y="886"/>
                    </a:lnTo>
                    <a:lnTo>
                      <a:pt x="15333" y="1551"/>
                    </a:lnTo>
                    <a:lnTo>
                      <a:pt x="16444" y="2382"/>
                    </a:lnTo>
                    <a:lnTo>
                      <a:pt x="17556" y="3490"/>
                    </a:lnTo>
                    <a:lnTo>
                      <a:pt x="18333" y="4543"/>
                    </a:lnTo>
                    <a:lnTo>
                      <a:pt x="19056" y="5762"/>
                    </a:lnTo>
                    <a:lnTo>
                      <a:pt x="19556" y="7147"/>
                    </a:lnTo>
                    <a:lnTo>
                      <a:pt x="19833" y="8532"/>
                    </a:lnTo>
                    <a:lnTo>
                      <a:pt x="19944" y="9972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3" name="Rectangle 147"/>
            <p:cNvSpPr/>
            <p:nvPr/>
          </p:nvSpPr>
          <p:spPr>
            <a:xfrm>
              <a:off x="5272560" y="4757400"/>
              <a:ext cx="219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4" name="Group 148"/>
            <p:cNvGrpSpPr/>
            <p:nvPr/>
          </p:nvGrpSpPr>
          <p:grpSpPr>
            <a:xfrm>
              <a:off x="4748040" y="3911040"/>
              <a:ext cx="1117800" cy="915120"/>
              <a:chOff x="4748040" y="3911040"/>
              <a:chExt cx="1117800" cy="915120"/>
            </a:xfrm>
          </p:grpSpPr>
          <p:sp>
            <p:nvSpPr>
              <p:cNvPr id="2085" name="Freeform 149"/>
              <p:cNvSpPr/>
              <p:nvPr/>
            </p:nvSpPr>
            <p:spPr>
              <a:xfrm>
                <a:off x="5455080" y="4322160"/>
                <a:ext cx="114120" cy="504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889" y="6348"/>
                    </a:lnTo>
                    <a:lnTo>
                      <a:pt x="19889" y="199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50"/>
              <p:cNvSpPr/>
              <p:nvPr/>
            </p:nvSpPr>
            <p:spPr>
              <a:xfrm>
                <a:off x="5067360" y="4825800"/>
                <a:ext cx="1371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0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51"/>
              <p:cNvSpPr/>
              <p:nvPr/>
            </p:nvSpPr>
            <p:spPr>
              <a:xfrm>
                <a:off x="5432040" y="4825800"/>
                <a:ext cx="1371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0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52"/>
              <p:cNvSpPr/>
              <p:nvPr/>
            </p:nvSpPr>
            <p:spPr>
              <a:xfrm>
                <a:off x="4748040" y="3911040"/>
                <a:ext cx="342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6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53"/>
              <p:cNvSpPr/>
              <p:nvPr/>
            </p:nvSpPr>
            <p:spPr>
              <a:xfrm>
                <a:off x="5545800" y="3911040"/>
                <a:ext cx="32004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6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0" name="Rectangle 154"/>
            <p:cNvSpPr/>
            <p:nvPr/>
          </p:nvSpPr>
          <p:spPr>
            <a:xfrm>
              <a:off x="4839480" y="3614760"/>
              <a:ext cx="16236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55"/>
            <p:cNvSpPr/>
            <p:nvPr/>
          </p:nvSpPr>
          <p:spPr>
            <a:xfrm>
              <a:off x="4862160" y="4551840"/>
              <a:ext cx="16236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Line 156"/>
            <p:cNvSpPr/>
            <p:nvPr/>
          </p:nvSpPr>
          <p:spPr>
            <a:xfrm>
              <a:off x="4975200" y="4984200"/>
              <a:ext cx="1911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Line 157"/>
            <p:cNvSpPr/>
            <p:nvPr/>
          </p:nvSpPr>
          <p:spPr>
            <a:xfrm>
              <a:off x="5074560" y="4827960"/>
              <a:ext cx="36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Line 158"/>
            <p:cNvSpPr/>
            <p:nvPr/>
          </p:nvSpPr>
          <p:spPr>
            <a:xfrm>
              <a:off x="5019120" y="5002920"/>
              <a:ext cx="1008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Line 159"/>
            <p:cNvSpPr/>
            <p:nvPr/>
          </p:nvSpPr>
          <p:spPr>
            <a:xfrm>
              <a:off x="5042160" y="5022360"/>
              <a:ext cx="435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Line 160"/>
            <p:cNvSpPr/>
            <p:nvPr/>
          </p:nvSpPr>
          <p:spPr>
            <a:xfrm>
              <a:off x="4861080" y="3908520"/>
              <a:ext cx="1339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Line 161"/>
            <p:cNvSpPr/>
            <p:nvPr/>
          </p:nvSpPr>
          <p:spPr>
            <a:xfrm>
              <a:off x="5070600" y="4555440"/>
              <a:ext cx="720" cy="1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8" name="Rectangle 162"/>
          <p:cNvSpPr/>
          <p:nvPr/>
        </p:nvSpPr>
        <p:spPr>
          <a:xfrm>
            <a:off x="6245280" y="3616560"/>
            <a:ext cx="23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rasformatore amperometrico 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costruito in modo da rendere  trascurabili le perdite nel ferro, nel funzionamento in corto-circui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9" name="Object 163"/>
              <p:cNvSpPr txBox="1"/>
              <p:nvPr/>
            </p:nvSpPr>
            <p:spPr>
              <a:xfrm>
                <a:off x="6692760" y="5861160"/>
                <a:ext cx="8636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685800" y="10666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133720" y="4572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219320" y="304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ARATTERISTICHE COSTRUT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63"/>
          <p:cNvGrpSpPr/>
          <p:nvPr/>
        </p:nvGrpSpPr>
        <p:grpSpPr>
          <a:xfrm>
            <a:off x="860400" y="965160"/>
            <a:ext cx="2606400" cy="2187720"/>
            <a:chOff x="860400" y="965160"/>
            <a:chExt cx="2606400" cy="2187720"/>
          </a:xfrm>
        </p:grpSpPr>
        <p:sp>
          <p:nvSpPr>
            <p:cNvPr id="112" name="Rectangle 64"/>
            <p:cNvSpPr/>
            <p:nvPr/>
          </p:nvSpPr>
          <p:spPr>
            <a:xfrm>
              <a:off x="1309680" y="1660320"/>
              <a:ext cx="270000" cy="84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65"/>
            <p:cNvSpPr/>
            <p:nvPr/>
          </p:nvSpPr>
          <p:spPr>
            <a:xfrm flipV="1">
              <a:off x="1848600" y="1245240"/>
              <a:ext cx="9072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66"/>
            <p:cNvSpPr/>
            <p:nvPr/>
          </p:nvSpPr>
          <p:spPr>
            <a:xfrm flipH="1" flipV="1">
              <a:off x="2041200" y="1256760"/>
              <a:ext cx="141840" cy="13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7"/>
            <p:cNvSpPr/>
            <p:nvPr/>
          </p:nvSpPr>
          <p:spPr>
            <a:xfrm>
              <a:off x="1733040" y="965160"/>
              <a:ext cx="539640" cy="2138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giogh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8"/>
            <p:cNvSpPr/>
            <p:nvPr/>
          </p:nvSpPr>
          <p:spPr>
            <a:xfrm>
              <a:off x="1303560" y="1429920"/>
              <a:ext cx="1508760" cy="23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69"/>
            <p:cNvSpPr/>
            <p:nvPr/>
          </p:nvSpPr>
          <p:spPr>
            <a:xfrm>
              <a:off x="2541960" y="1660320"/>
              <a:ext cx="270000" cy="84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70"/>
            <p:cNvSpPr/>
            <p:nvPr/>
          </p:nvSpPr>
          <p:spPr>
            <a:xfrm>
              <a:off x="1309680" y="2506680"/>
              <a:ext cx="1496880" cy="23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1"/>
            <p:cNvSpPr/>
            <p:nvPr/>
          </p:nvSpPr>
          <p:spPr>
            <a:xfrm>
              <a:off x="2619000" y="2041560"/>
              <a:ext cx="847800" cy="987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80" y="19985"/>
                  </a:lnTo>
                  <a:lnTo>
                    <a:pt x="3108" y="199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2"/>
            <p:cNvSpPr/>
            <p:nvPr/>
          </p:nvSpPr>
          <p:spPr>
            <a:xfrm>
              <a:off x="860400" y="2019240"/>
              <a:ext cx="912240" cy="1010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409" y="0"/>
                  </a:moveTo>
                  <a:lnTo>
                    <a:pt x="0" y="19985"/>
                  </a:lnTo>
                  <a:lnTo>
                    <a:pt x="19981" y="199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73"/>
            <p:cNvSpPr/>
            <p:nvPr/>
          </p:nvSpPr>
          <p:spPr>
            <a:xfrm>
              <a:off x="1925640" y="2916720"/>
              <a:ext cx="732600" cy="236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colo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4"/>
            <p:cNvSpPr/>
            <p:nvPr/>
          </p:nvSpPr>
          <p:spPr>
            <a:xfrm>
              <a:off x="1181160" y="1783800"/>
              <a:ext cx="90360" cy="65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5"/>
            <p:cNvSpPr/>
            <p:nvPr/>
          </p:nvSpPr>
          <p:spPr>
            <a:xfrm>
              <a:off x="1630440" y="1794960"/>
              <a:ext cx="90360" cy="65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76"/>
            <p:cNvSpPr/>
            <p:nvPr/>
          </p:nvSpPr>
          <p:spPr>
            <a:xfrm>
              <a:off x="2413800" y="1772640"/>
              <a:ext cx="90360" cy="65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77"/>
            <p:cNvSpPr/>
            <p:nvPr/>
          </p:nvSpPr>
          <p:spPr>
            <a:xfrm>
              <a:off x="2850120" y="1783800"/>
              <a:ext cx="90360" cy="65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78"/>
            <p:cNvSpPr/>
            <p:nvPr/>
          </p:nvSpPr>
          <p:spPr>
            <a:xfrm>
              <a:off x="1014480" y="1794960"/>
              <a:ext cx="115920" cy="628920"/>
            </a:xfrm>
            <a:prstGeom prst="rect">
              <a:avLst/>
            </a:prstGeom>
            <a:solidFill>
              <a:srgbClr val="4c4c4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79"/>
            <p:cNvSpPr/>
            <p:nvPr/>
          </p:nvSpPr>
          <p:spPr>
            <a:xfrm>
              <a:off x="1771560" y="1806120"/>
              <a:ext cx="116280" cy="628920"/>
            </a:xfrm>
            <a:prstGeom prst="rect">
              <a:avLst/>
            </a:prstGeom>
            <a:solidFill>
              <a:srgbClr val="4c4c4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80"/>
            <p:cNvSpPr/>
            <p:nvPr/>
          </p:nvSpPr>
          <p:spPr>
            <a:xfrm>
              <a:off x="2246760" y="1783800"/>
              <a:ext cx="115920" cy="628920"/>
            </a:xfrm>
            <a:prstGeom prst="rect">
              <a:avLst/>
            </a:prstGeom>
            <a:solidFill>
              <a:srgbClr val="4c4c4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81"/>
            <p:cNvSpPr/>
            <p:nvPr/>
          </p:nvSpPr>
          <p:spPr>
            <a:xfrm>
              <a:off x="2991240" y="1783800"/>
              <a:ext cx="116280" cy="628920"/>
            </a:xfrm>
            <a:prstGeom prst="rect">
              <a:avLst/>
            </a:prstGeom>
            <a:solidFill>
              <a:srgbClr val="4c4c4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82"/>
          <p:cNvGrpSpPr/>
          <p:nvPr/>
        </p:nvGrpSpPr>
        <p:grpSpPr>
          <a:xfrm>
            <a:off x="5608800" y="1195560"/>
            <a:ext cx="2122200" cy="1698480"/>
            <a:chOff x="5608800" y="1195560"/>
            <a:chExt cx="2122200" cy="1698480"/>
          </a:xfrm>
        </p:grpSpPr>
        <p:sp>
          <p:nvSpPr>
            <p:cNvPr id="131" name="Rectangle 83"/>
            <p:cNvSpPr/>
            <p:nvPr/>
          </p:nvSpPr>
          <p:spPr>
            <a:xfrm>
              <a:off x="5615280" y="1493280"/>
              <a:ext cx="298800" cy="108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84"/>
            <p:cNvSpPr/>
            <p:nvPr/>
          </p:nvSpPr>
          <p:spPr>
            <a:xfrm>
              <a:off x="5608800" y="1195560"/>
              <a:ext cx="2122200" cy="30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5"/>
            <p:cNvSpPr/>
            <p:nvPr/>
          </p:nvSpPr>
          <p:spPr>
            <a:xfrm>
              <a:off x="6537600" y="1493280"/>
              <a:ext cx="298800" cy="108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86"/>
            <p:cNvSpPr/>
            <p:nvPr/>
          </p:nvSpPr>
          <p:spPr>
            <a:xfrm>
              <a:off x="5615280" y="2588400"/>
              <a:ext cx="2115360" cy="30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87"/>
            <p:cNvSpPr/>
            <p:nvPr/>
          </p:nvSpPr>
          <p:spPr>
            <a:xfrm>
              <a:off x="7432200" y="1493280"/>
              <a:ext cx="298800" cy="108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88"/>
            <p:cNvSpPr/>
            <p:nvPr/>
          </p:nvSpPr>
          <p:spPr>
            <a:xfrm>
              <a:off x="6353280" y="1667520"/>
              <a:ext cx="142560" cy="74088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89"/>
            <p:cNvSpPr/>
            <p:nvPr/>
          </p:nvSpPr>
          <p:spPr>
            <a:xfrm>
              <a:off x="6878520" y="1681920"/>
              <a:ext cx="142560" cy="74088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0"/>
            <p:cNvSpPr/>
            <p:nvPr/>
          </p:nvSpPr>
          <p:spPr>
            <a:xfrm>
              <a:off x="6097680" y="1667520"/>
              <a:ext cx="199440" cy="740880"/>
            </a:xfrm>
            <a:prstGeom prst="rect">
              <a:avLst/>
            </a:prstGeom>
            <a:solidFill>
              <a:srgbClr val="4c4c4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1"/>
            <p:cNvSpPr/>
            <p:nvPr/>
          </p:nvSpPr>
          <p:spPr>
            <a:xfrm>
              <a:off x="7091280" y="1667520"/>
              <a:ext cx="199440" cy="740880"/>
            </a:xfrm>
            <a:prstGeom prst="rect">
              <a:avLst/>
            </a:prstGeom>
            <a:solidFill>
              <a:srgbClr val="4c4c4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92"/>
          <p:cNvSpPr/>
          <p:nvPr/>
        </p:nvSpPr>
        <p:spPr>
          <a:xfrm>
            <a:off x="293760" y="329256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sformatore con nucleo a col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3"/>
          <p:cNvSpPr/>
          <p:nvPr/>
        </p:nvSpPr>
        <p:spPr>
          <a:xfrm>
            <a:off x="4764240" y="329256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sformatore con nucleo a mant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4"/>
          <p:cNvGrpSpPr/>
          <p:nvPr/>
        </p:nvGrpSpPr>
        <p:grpSpPr>
          <a:xfrm>
            <a:off x="533520" y="3906720"/>
            <a:ext cx="2892240" cy="1925640"/>
            <a:chOff x="533520" y="3906720"/>
            <a:chExt cx="2892240" cy="1925640"/>
          </a:xfrm>
        </p:grpSpPr>
        <p:sp>
          <p:nvSpPr>
            <p:cNvPr id="143" name="Rectangle 95"/>
            <p:cNvSpPr/>
            <p:nvPr/>
          </p:nvSpPr>
          <p:spPr>
            <a:xfrm>
              <a:off x="1947240" y="4285440"/>
              <a:ext cx="489240" cy="154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96"/>
            <p:cNvGrpSpPr/>
            <p:nvPr/>
          </p:nvGrpSpPr>
          <p:grpSpPr>
            <a:xfrm>
              <a:off x="1536120" y="4438440"/>
              <a:ext cx="334800" cy="1240560"/>
              <a:chOff x="1536120" y="4438440"/>
              <a:chExt cx="334800" cy="1240560"/>
            </a:xfrm>
          </p:grpSpPr>
          <p:grpSp>
            <p:nvGrpSpPr>
              <p:cNvPr id="145" name="Group 97"/>
              <p:cNvGrpSpPr/>
              <p:nvPr/>
            </p:nvGrpSpPr>
            <p:grpSpPr>
              <a:xfrm>
                <a:off x="1767240" y="4480200"/>
                <a:ext cx="90720" cy="1142640"/>
                <a:chOff x="1767240" y="4480200"/>
                <a:chExt cx="90720" cy="1142640"/>
              </a:xfrm>
            </p:grpSpPr>
            <p:grpSp>
              <p:nvGrpSpPr>
                <p:cNvPr id="146" name="Group 98"/>
                <p:cNvGrpSpPr/>
                <p:nvPr/>
              </p:nvGrpSpPr>
              <p:grpSpPr>
                <a:xfrm>
                  <a:off x="1767240" y="4480200"/>
                  <a:ext cx="90720" cy="543600"/>
                  <a:chOff x="1767240" y="4480200"/>
                  <a:chExt cx="90720" cy="543600"/>
                </a:xfrm>
              </p:grpSpPr>
              <p:grpSp>
                <p:nvGrpSpPr>
                  <p:cNvPr id="147" name="Group 99"/>
                  <p:cNvGrpSpPr/>
                  <p:nvPr/>
                </p:nvGrpSpPr>
                <p:grpSpPr>
                  <a:xfrm>
                    <a:off x="1767240" y="4480200"/>
                    <a:ext cx="90720" cy="237600"/>
                    <a:chOff x="1767240" y="4480200"/>
                    <a:chExt cx="90720" cy="237600"/>
                  </a:xfrm>
                </p:grpSpPr>
                <p:sp>
                  <p:nvSpPr>
                    <p:cNvPr id="148" name="Rectangle 100"/>
                    <p:cNvSpPr/>
                    <p:nvPr/>
                  </p:nvSpPr>
                  <p:spPr>
                    <a:xfrm>
                      <a:off x="1767240" y="4480200"/>
                      <a:ext cx="90720" cy="842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Rectangle 101"/>
                    <p:cNvSpPr/>
                    <p:nvPr/>
                  </p:nvSpPr>
                  <p:spPr>
                    <a:xfrm>
                      <a:off x="1767240" y="4633200"/>
                      <a:ext cx="90720" cy="846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Group 102"/>
                  <p:cNvGrpSpPr/>
                  <p:nvPr/>
                </p:nvGrpSpPr>
                <p:grpSpPr>
                  <a:xfrm>
                    <a:off x="1767240" y="4786560"/>
                    <a:ext cx="90720" cy="237240"/>
                    <a:chOff x="1767240" y="4786560"/>
                    <a:chExt cx="90720" cy="237240"/>
                  </a:xfrm>
                </p:grpSpPr>
                <p:sp>
                  <p:nvSpPr>
                    <p:cNvPr id="151" name="Rectangle 103"/>
                    <p:cNvSpPr/>
                    <p:nvPr/>
                  </p:nvSpPr>
                  <p:spPr>
                    <a:xfrm>
                      <a:off x="1767240" y="4786560"/>
                      <a:ext cx="90720" cy="842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Rectangle 104"/>
                    <p:cNvSpPr/>
                    <p:nvPr/>
                  </p:nvSpPr>
                  <p:spPr>
                    <a:xfrm>
                      <a:off x="1767240" y="4939560"/>
                      <a:ext cx="90720" cy="842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3" name="Group 105"/>
                <p:cNvGrpSpPr/>
                <p:nvPr/>
              </p:nvGrpSpPr>
              <p:grpSpPr>
                <a:xfrm>
                  <a:off x="1767240" y="5079240"/>
                  <a:ext cx="90720" cy="543600"/>
                  <a:chOff x="1767240" y="5079240"/>
                  <a:chExt cx="90720" cy="543600"/>
                </a:xfrm>
              </p:grpSpPr>
              <p:grpSp>
                <p:nvGrpSpPr>
                  <p:cNvPr id="154" name="Group 106"/>
                  <p:cNvGrpSpPr/>
                  <p:nvPr/>
                </p:nvGrpSpPr>
                <p:grpSpPr>
                  <a:xfrm>
                    <a:off x="1767240" y="5079240"/>
                    <a:ext cx="90720" cy="237240"/>
                    <a:chOff x="1767240" y="5079240"/>
                    <a:chExt cx="90720" cy="237240"/>
                  </a:xfrm>
                </p:grpSpPr>
                <p:sp>
                  <p:nvSpPr>
                    <p:cNvPr id="155" name="Rectangle 107"/>
                    <p:cNvSpPr/>
                    <p:nvPr/>
                  </p:nvSpPr>
                  <p:spPr>
                    <a:xfrm>
                      <a:off x="1767240" y="5079240"/>
                      <a:ext cx="90720" cy="842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Rectangle 108"/>
                    <p:cNvSpPr/>
                    <p:nvPr/>
                  </p:nvSpPr>
                  <p:spPr>
                    <a:xfrm>
                      <a:off x="1767240" y="5232240"/>
                      <a:ext cx="90720" cy="842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7" name="Group 109"/>
                  <p:cNvGrpSpPr/>
                  <p:nvPr/>
                </p:nvGrpSpPr>
                <p:grpSpPr>
                  <a:xfrm>
                    <a:off x="1767240" y="5385600"/>
                    <a:ext cx="90720" cy="237240"/>
                    <a:chOff x="1767240" y="5385600"/>
                    <a:chExt cx="90720" cy="237240"/>
                  </a:xfrm>
                </p:grpSpPr>
                <p:sp>
                  <p:nvSpPr>
                    <p:cNvPr id="158" name="Rectangle 110"/>
                    <p:cNvSpPr/>
                    <p:nvPr/>
                  </p:nvSpPr>
                  <p:spPr>
                    <a:xfrm>
                      <a:off x="1767240" y="5385600"/>
                      <a:ext cx="90720" cy="846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Rectangle 111"/>
                    <p:cNvSpPr/>
                    <p:nvPr/>
                  </p:nvSpPr>
                  <p:spPr>
                    <a:xfrm>
                      <a:off x="1767240" y="5538600"/>
                      <a:ext cx="90720" cy="842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60" name="Rectangle 112"/>
              <p:cNvSpPr/>
              <p:nvPr/>
            </p:nvSpPr>
            <p:spPr>
              <a:xfrm>
                <a:off x="1716120" y="4438440"/>
                <a:ext cx="154800" cy="124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Group 113"/>
              <p:cNvGrpSpPr/>
              <p:nvPr/>
            </p:nvGrpSpPr>
            <p:grpSpPr>
              <a:xfrm>
                <a:off x="1536120" y="4507920"/>
                <a:ext cx="116280" cy="320760"/>
                <a:chOff x="1536120" y="4507920"/>
                <a:chExt cx="116280" cy="320760"/>
              </a:xfrm>
            </p:grpSpPr>
            <p:sp>
              <p:nvSpPr>
                <p:cNvPr id="162" name="Rectangle 114"/>
                <p:cNvSpPr/>
                <p:nvPr/>
              </p:nvSpPr>
              <p:spPr>
                <a:xfrm>
                  <a:off x="1536120" y="450792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115"/>
                <p:cNvSpPr/>
                <p:nvPr/>
              </p:nvSpPr>
              <p:spPr>
                <a:xfrm>
                  <a:off x="1536120" y="470268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Group 116"/>
              <p:cNvGrpSpPr/>
              <p:nvPr/>
            </p:nvGrpSpPr>
            <p:grpSpPr>
              <a:xfrm>
                <a:off x="1536120" y="4898160"/>
                <a:ext cx="116280" cy="320760"/>
                <a:chOff x="1536120" y="4898160"/>
                <a:chExt cx="116280" cy="320760"/>
              </a:xfrm>
            </p:grpSpPr>
            <p:sp>
              <p:nvSpPr>
                <p:cNvPr id="165" name="Rectangle 117"/>
                <p:cNvSpPr/>
                <p:nvPr/>
              </p:nvSpPr>
              <p:spPr>
                <a:xfrm>
                  <a:off x="1536120" y="489816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118"/>
                <p:cNvSpPr/>
                <p:nvPr/>
              </p:nvSpPr>
              <p:spPr>
                <a:xfrm>
                  <a:off x="1536120" y="509292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119"/>
              <p:cNvGrpSpPr/>
              <p:nvPr/>
            </p:nvGrpSpPr>
            <p:grpSpPr>
              <a:xfrm>
                <a:off x="1536120" y="5288040"/>
                <a:ext cx="116280" cy="320760"/>
                <a:chOff x="1536120" y="5288040"/>
                <a:chExt cx="116280" cy="320760"/>
              </a:xfrm>
            </p:grpSpPr>
            <p:sp>
              <p:nvSpPr>
                <p:cNvPr id="168" name="Rectangle 120"/>
                <p:cNvSpPr/>
                <p:nvPr/>
              </p:nvSpPr>
              <p:spPr>
                <a:xfrm>
                  <a:off x="1536120" y="528804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Rectangle 121"/>
                <p:cNvSpPr/>
                <p:nvPr/>
              </p:nvSpPr>
              <p:spPr>
                <a:xfrm>
                  <a:off x="1536120" y="548280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Group 122"/>
            <p:cNvGrpSpPr/>
            <p:nvPr/>
          </p:nvGrpSpPr>
          <p:grpSpPr>
            <a:xfrm>
              <a:off x="2487600" y="4466520"/>
              <a:ext cx="334800" cy="1240200"/>
              <a:chOff x="2487600" y="4466520"/>
              <a:chExt cx="334800" cy="1240200"/>
            </a:xfrm>
          </p:grpSpPr>
          <p:grpSp>
            <p:nvGrpSpPr>
              <p:cNvPr id="171" name="Group 123"/>
              <p:cNvGrpSpPr/>
              <p:nvPr/>
            </p:nvGrpSpPr>
            <p:grpSpPr>
              <a:xfrm>
                <a:off x="2500200" y="4508280"/>
                <a:ext cx="90720" cy="1142640"/>
                <a:chOff x="2500200" y="4508280"/>
                <a:chExt cx="90720" cy="1142640"/>
              </a:xfrm>
            </p:grpSpPr>
            <p:grpSp>
              <p:nvGrpSpPr>
                <p:cNvPr id="172" name="Group 124"/>
                <p:cNvGrpSpPr/>
                <p:nvPr/>
              </p:nvGrpSpPr>
              <p:grpSpPr>
                <a:xfrm>
                  <a:off x="2500200" y="4508280"/>
                  <a:ext cx="90720" cy="543600"/>
                  <a:chOff x="2500200" y="4508280"/>
                  <a:chExt cx="90720" cy="543600"/>
                </a:xfrm>
              </p:grpSpPr>
              <p:grpSp>
                <p:nvGrpSpPr>
                  <p:cNvPr id="173" name="Group 125"/>
                  <p:cNvGrpSpPr/>
                  <p:nvPr/>
                </p:nvGrpSpPr>
                <p:grpSpPr>
                  <a:xfrm>
                    <a:off x="2500200" y="4508280"/>
                    <a:ext cx="90720" cy="237240"/>
                    <a:chOff x="2500200" y="4508280"/>
                    <a:chExt cx="90720" cy="237240"/>
                  </a:xfrm>
                </p:grpSpPr>
                <p:sp>
                  <p:nvSpPr>
                    <p:cNvPr id="174" name="Rectangle 126"/>
                    <p:cNvSpPr/>
                    <p:nvPr/>
                  </p:nvSpPr>
                  <p:spPr>
                    <a:xfrm>
                      <a:off x="2500200" y="4508280"/>
                      <a:ext cx="90720" cy="842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Rectangle 127"/>
                    <p:cNvSpPr/>
                    <p:nvPr/>
                  </p:nvSpPr>
                  <p:spPr>
                    <a:xfrm>
                      <a:off x="2500200" y="4661280"/>
                      <a:ext cx="90720" cy="842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Group 128"/>
                  <p:cNvGrpSpPr/>
                  <p:nvPr/>
                </p:nvGrpSpPr>
                <p:grpSpPr>
                  <a:xfrm>
                    <a:off x="2500200" y="4814640"/>
                    <a:ext cx="90720" cy="237240"/>
                    <a:chOff x="2500200" y="4814640"/>
                    <a:chExt cx="90720" cy="237240"/>
                  </a:xfrm>
                </p:grpSpPr>
                <p:sp>
                  <p:nvSpPr>
                    <p:cNvPr id="177" name="Rectangle 129"/>
                    <p:cNvSpPr/>
                    <p:nvPr/>
                  </p:nvSpPr>
                  <p:spPr>
                    <a:xfrm>
                      <a:off x="2500200" y="4814640"/>
                      <a:ext cx="90720" cy="846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Rectangle 130"/>
                    <p:cNvSpPr/>
                    <p:nvPr/>
                  </p:nvSpPr>
                  <p:spPr>
                    <a:xfrm>
                      <a:off x="2500200" y="4967640"/>
                      <a:ext cx="90720" cy="842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9" name="Group 131"/>
                <p:cNvGrpSpPr/>
                <p:nvPr/>
              </p:nvGrpSpPr>
              <p:grpSpPr>
                <a:xfrm>
                  <a:off x="2500200" y="5106960"/>
                  <a:ext cx="90720" cy="543960"/>
                  <a:chOff x="2500200" y="5106960"/>
                  <a:chExt cx="90720" cy="543960"/>
                </a:xfrm>
              </p:grpSpPr>
              <p:grpSp>
                <p:nvGrpSpPr>
                  <p:cNvPr id="180" name="Group 132"/>
                  <p:cNvGrpSpPr/>
                  <p:nvPr/>
                </p:nvGrpSpPr>
                <p:grpSpPr>
                  <a:xfrm>
                    <a:off x="2500200" y="5106960"/>
                    <a:ext cx="90720" cy="237240"/>
                    <a:chOff x="2500200" y="5106960"/>
                    <a:chExt cx="90720" cy="237240"/>
                  </a:xfrm>
                </p:grpSpPr>
                <p:sp>
                  <p:nvSpPr>
                    <p:cNvPr id="181" name="Rectangle 133"/>
                    <p:cNvSpPr/>
                    <p:nvPr/>
                  </p:nvSpPr>
                  <p:spPr>
                    <a:xfrm>
                      <a:off x="2500200" y="5106960"/>
                      <a:ext cx="90720" cy="846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Rectangle 134"/>
                    <p:cNvSpPr/>
                    <p:nvPr/>
                  </p:nvSpPr>
                  <p:spPr>
                    <a:xfrm>
                      <a:off x="2500200" y="5259960"/>
                      <a:ext cx="90720" cy="842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" name="Group 135"/>
                  <p:cNvGrpSpPr/>
                  <p:nvPr/>
                </p:nvGrpSpPr>
                <p:grpSpPr>
                  <a:xfrm>
                    <a:off x="2500200" y="5413320"/>
                    <a:ext cx="90720" cy="237600"/>
                    <a:chOff x="2500200" y="5413320"/>
                    <a:chExt cx="90720" cy="237600"/>
                  </a:xfrm>
                </p:grpSpPr>
                <p:sp>
                  <p:nvSpPr>
                    <p:cNvPr id="184" name="Rectangle 136"/>
                    <p:cNvSpPr/>
                    <p:nvPr/>
                  </p:nvSpPr>
                  <p:spPr>
                    <a:xfrm>
                      <a:off x="2500200" y="5413320"/>
                      <a:ext cx="90720" cy="842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Rectangle 137"/>
                    <p:cNvSpPr/>
                    <p:nvPr/>
                  </p:nvSpPr>
                  <p:spPr>
                    <a:xfrm>
                      <a:off x="2500200" y="5566320"/>
                      <a:ext cx="90720" cy="846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6" name="Rectangle 138"/>
              <p:cNvSpPr/>
              <p:nvPr/>
            </p:nvSpPr>
            <p:spPr>
              <a:xfrm>
                <a:off x="2487600" y="4466520"/>
                <a:ext cx="154800" cy="1240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Group 139"/>
              <p:cNvGrpSpPr/>
              <p:nvPr/>
            </p:nvGrpSpPr>
            <p:grpSpPr>
              <a:xfrm>
                <a:off x="2706120" y="4536000"/>
                <a:ext cx="116280" cy="321120"/>
                <a:chOff x="2706120" y="4536000"/>
                <a:chExt cx="116280" cy="321120"/>
              </a:xfrm>
            </p:grpSpPr>
            <p:sp>
              <p:nvSpPr>
                <p:cNvPr id="188" name="Rectangle 140"/>
                <p:cNvSpPr/>
                <p:nvPr/>
              </p:nvSpPr>
              <p:spPr>
                <a:xfrm>
                  <a:off x="2706120" y="453600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141"/>
                <p:cNvSpPr/>
                <p:nvPr/>
              </p:nvSpPr>
              <p:spPr>
                <a:xfrm>
                  <a:off x="2706120" y="473112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42"/>
              <p:cNvGrpSpPr/>
              <p:nvPr/>
            </p:nvGrpSpPr>
            <p:grpSpPr>
              <a:xfrm>
                <a:off x="2706120" y="4925880"/>
                <a:ext cx="116280" cy="320760"/>
                <a:chOff x="2706120" y="4925880"/>
                <a:chExt cx="116280" cy="320760"/>
              </a:xfrm>
            </p:grpSpPr>
            <p:sp>
              <p:nvSpPr>
                <p:cNvPr id="191" name="Rectangle 143"/>
                <p:cNvSpPr/>
                <p:nvPr/>
              </p:nvSpPr>
              <p:spPr>
                <a:xfrm>
                  <a:off x="2706120" y="492588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144"/>
                <p:cNvSpPr/>
                <p:nvPr/>
              </p:nvSpPr>
              <p:spPr>
                <a:xfrm>
                  <a:off x="2706120" y="512064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145"/>
              <p:cNvGrpSpPr/>
              <p:nvPr/>
            </p:nvGrpSpPr>
            <p:grpSpPr>
              <a:xfrm>
                <a:off x="2706120" y="5316120"/>
                <a:ext cx="116280" cy="320760"/>
                <a:chOff x="2706120" y="5316120"/>
                <a:chExt cx="116280" cy="320760"/>
              </a:xfrm>
            </p:grpSpPr>
            <p:sp>
              <p:nvSpPr>
                <p:cNvPr id="194" name="Rectangle 146"/>
                <p:cNvSpPr/>
                <p:nvPr/>
              </p:nvSpPr>
              <p:spPr>
                <a:xfrm>
                  <a:off x="2706120" y="531612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147"/>
                <p:cNvSpPr/>
                <p:nvPr/>
              </p:nvSpPr>
              <p:spPr>
                <a:xfrm>
                  <a:off x="2706120" y="551088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6" name="AutoShape 148"/>
            <p:cNvSpPr/>
            <p:nvPr/>
          </p:nvSpPr>
          <p:spPr>
            <a:xfrm>
              <a:off x="3039120" y="3906720"/>
              <a:ext cx="296280" cy="25344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49"/>
            <p:cNvSpPr/>
            <p:nvPr/>
          </p:nvSpPr>
          <p:spPr>
            <a:xfrm>
              <a:off x="3116520" y="4602960"/>
              <a:ext cx="309240" cy="23940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50"/>
            <p:cNvSpPr/>
            <p:nvPr/>
          </p:nvSpPr>
          <p:spPr>
            <a:xfrm>
              <a:off x="533520" y="4173840"/>
              <a:ext cx="952200" cy="25056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tubi isola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208"/>
          <p:cNvSpPr/>
          <p:nvPr/>
        </p:nvSpPr>
        <p:spPr>
          <a:xfrm>
            <a:off x="763560" y="611028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olgimenti concentr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09"/>
          <p:cNvSpPr/>
          <p:nvPr/>
        </p:nvSpPr>
        <p:spPr>
          <a:xfrm>
            <a:off x="5259240" y="6033960"/>
            <a:ext cx="34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olgimenti a bobine alter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11"/>
          <p:cNvSpPr/>
          <p:nvPr/>
        </p:nvSpPr>
        <p:spPr>
          <a:xfrm>
            <a:off x="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212"/>
          <p:cNvGrpSpPr/>
          <p:nvPr/>
        </p:nvGrpSpPr>
        <p:grpSpPr>
          <a:xfrm>
            <a:off x="5823000" y="4281480"/>
            <a:ext cx="2489040" cy="1322280"/>
            <a:chOff x="5823000" y="4281480"/>
            <a:chExt cx="2489040" cy="1322280"/>
          </a:xfrm>
        </p:grpSpPr>
        <p:sp>
          <p:nvSpPr>
            <p:cNvPr id="203" name="Rectangle 213"/>
            <p:cNvSpPr/>
            <p:nvPr/>
          </p:nvSpPr>
          <p:spPr>
            <a:xfrm>
              <a:off x="6281280" y="4389840"/>
              <a:ext cx="623160" cy="12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214"/>
            <p:cNvGrpSpPr/>
            <p:nvPr/>
          </p:nvGrpSpPr>
          <p:grpSpPr>
            <a:xfrm>
              <a:off x="5823000" y="4566240"/>
              <a:ext cx="443160" cy="931320"/>
              <a:chOff x="5823000" y="4566240"/>
              <a:chExt cx="443160" cy="931320"/>
            </a:xfrm>
          </p:grpSpPr>
          <p:grpSp>
            <p:nvGrpSpPr>
              <p:cNvPr id="205" name="Group 215"/>
              <p:cNvGrpSpPr/>
              <p:nvPr/>
            </p:nvGrpSpPr>
            <p:grpSpPr>
              <a:xfrm>
                <a:off x="5823000" y="4566240"/>
                <a:ext cx="443160" cy="271800"/>
                <a:chOff x="5823000" y="4566240"/>
                <a:chExt cx="443160" cy="271800"/>
              </a:xfrm>
            </p:grpSpPr>
            <p:sp>
              <p:nvSpPr>
                <p:cNvPr id="206" name="Rectangle 216"/>
                <p:cNvSpPr/>
                <p:nvPr/>
              </p:nvSpPr>
              <p:spPr>
                <a:xfrm>
                  <a:off x="5888520" y="4566240"/>
                  <a:ext cx="279360" cy="478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17"/>
                <p:cNvSpPr/>
                <p:nvPr/>
              </p:nvSpPr>
              <p:spPr>
                <a:xfrm>
                  <a:off x="5823000" y="4660200"/>
                  <a:ext cx="443160" cy="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Rectangle 218"/>
                <p:cNvSpPr/>
                <p:nvPr/>
              </p:nvSpPr>
              <p:spPr>
                <a:xfrm>
                  <a:off x="5904720" y="4719240"/>
                  <a:ext cx="262800" cy="7128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219"/>
                <p:cNvSpPr/>
                <p:nvPr/>
              </p:nvSpPr>
              <p:spPr>
                <a:xfrm>
                  <a:off x="5823000" y="4837320"/>
                  <a:ext cx="443160" cy="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Group 220"/>
              <p:cNvGrpSpPr/>
              <p:nvPr/>
            </p:nvGrpSpPr>
            <p:grpSpPr>
              <a:xfrm>
                <a:off x="5823000" y="4931280"/>
                <a:ext cx="443160" cy="271440"/>
                <a:chOff x="5823000" y="4931280"/>
                <a:chExt cx="443160" cy="271440"/>
              </a:xfrm>
            </p:grpSpPr>
            <p:sp>
              <p:nvSpPr>
                <p:cNvPr id="211" name="Rectangle 221"/>
                <p:cNvSpPr/>
                <p:nvPr/>
              </p:nvSpPr>
              <p:spPr>
                <a:xfrm>
                  <a:off x="5888520" y="4931280"/>
                  <a:ext cx="279360" cy="478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Line 222"/>
                <p:cNvSpPr/>
                <p:nvPr/>
              </p:nvSpPr>
              <p:spPr>
                <a:xfrm>
                  <a:off x="5823000" y="5025600"/>
                  <a:ext cx="443160" cy="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223"/>
                <p:cNvSpPr/>
                <p:nvPr/>
              </p:nvSpPr>
              <p:spPr>
                <a:xfrm>
                  <a:off x="5904720" y="5084280"/>
                  <a:ext cx="262800" cy="7164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224"/>
                <p:cNvSpPr/>
                <p:nvPr/>
              </p:nvSpPr>
              <p:spPr>
                <a:xfrm>
                  <a:off x="5823000" y="5202360"/>
                  <a:ext cx="443160" cy="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Rectangle 225"/>
              <p:cNvSpPr/>
              <p:nvPr/>
            </p:nvSpPr>
            <p:spPr>
              <a:xfrm>
                <a:off x="5888520" y="5272920"/>
                <a:ext cx="279360" cy="478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226"/>
              <p:cNvSpPr/>
              <p:nvPr/>
            </p:nvSpPr>
            <p:spPr>
              <a:xfrm>
                <a:off x="5823000" y="5367240"/>
                <a:ext cx="44316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227"/>
              <p:cNvSpPr/>
              <p:nvPr/>
            </p:nvSpPr>
            <p:spPr>
              <a:xfrm>
                <a:off x="5904720" y="5426280"/>
                <a:ext cx="263160" cy="71280"/>
              </a:xfrm>
              <a:prstGeom prst="rect">
                <a:avLst/>
              </a:prstGeom>
              <a:solidFill>
                <a:srgbClr val="4c4c4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228"/>
            <p:cNvGrpSpPr/>
            <p:nvPr/>
          </p:nvGrpSpPr>
          <p:grpSpPr>
            <a:xfrm>
              <a:off x="6936120" y="4566240"/>
              <a:ext cx="443160" cy="931320"/>
              <a:chOff x="6936120" y="4566240"/>
              <a:chExt cx="443160" cy="931320"/>
            </a:xfrm>
          </p:grpSpPr>
          <p:grpSp>
            <p:nvGrpSpPr>
              <p:cNvPr id="219" name="Group 229"/>
              <p:cNvGrpSpPr/>
              <p:nvPr/>
            </p:nvGrpSpPr>
            <p:grpSpPr>
              <a:xfrm>
                <a:off x="6936120" y="4566240"/>
                <a:ext cx="443160" cy="271800"/>
                <a:chOff x="6936120" y="4566240"/>
                <a:chExt cx="443160" cy="271800"/>
              </a:xfrm>
            </p:grpSpPr>
            <p:sp>
              <p:nvSpPr>
                <p:cNvPr id="220" name="Rectangle 230"/>
                <p:cNvSpPr/>
                <p:nvPr/>
              </p:nvSpPr>
              <p:spPr>
                <a:xfrm>
                  <a:off x="7034400" y="4566240"/>
                  <a:ext cx="279360" cy="478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31"/>
                <p:cNvSpPr/>
                <p:nvPr/>
              </p:nvSpPr>
              <p:spPr>
                <a:xfrm flipH="1">
                  <a:off x="6936120" y="4660200"/>
                  <a:ext cx="443160" cy="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Rectangle 232"/>
                <p:cNvSpPr/>
                <p:nvPr/>
              </p:nvSpPr>
              <p:spPr>
                <a:xfrm>
                  <a:off x="7034400" y="4719240"/>
                  <a:ext cx="262800" cy="7128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233"/>
                <p:cNvSpPr/>
                <p:nvPr/>
              </p:nvSpPr>
              <p:spPr>
                <a:xfrm flipH="1">
                  <a:off x="6936120" y="4837320"/>
                  <a:ext cx="443160" cy="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234"/>
              <p:cNvGrpSpPr/>
              <p:nvPr/>
            </p:nvGrpSpPr>
            <p:grpSpPr>
              <a:xfrm>
                <a:off x="6936120" y="4931280"/>
                <a:ext cx="443160" cy="271440"/>
                <a:chOff x="6936120" y="4931280"/>
                <a:chExt cx="443160" cy="271440"/>
              </a:xfrm>
            </p:grpSpPr>
            <p:sp>
              <p:nvSpPr>
                <p:cNvPr id="225" name="Rectangle 235"/>
                <p:cNvSpPr/>
                <p:nvPr/>
              </p:nvSpPr>
              <p:spPr>
                <a:xfrm>
                  <a:off x="7034400" y="4931280"/>
                  <a:ext cx="279360" cy="478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236"/>
                <p:cNvSpPr/>
                <p:nvPr/>
              </p:nvSpPr>
              <p:spPr>
                <a:xfrm flipH="1">
                  <a:off x="6936120" y="5025600"/>
                  <a:ext cx="443160" cy="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37"/>
                <p:cNvSpPr/>
                <p:nvPr/>
              </p:nvSpPr>
              <p:spPr>
                <a:xfrm>
                  <a:off x="7034400" y="5084280"/>
                  <a:ext cx="262800" cy="7164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238"/>
                <p:cNvSpPr/>
                <p:nvPr/>
              </p:nvSpPr>
              <p:spPr>
                <a:xfrm flipH="1">
                  <a:off x="6936120" y="5202360"/>
                  <a:ext cx="443160" cy="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Rectangle 239"/>
              <p:cNvSpPr/>
              <p:nvPr/>
            </p:nvSpPr>
            <p:spPr>
              <a:xfrm>
                <a:off x="7034760" y="5272920"/>
                <a:ext cx="279360" cy="478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240"/>
              <p:cNvSpPr/>
              <p:nvPr/>
            </p:nvSpPr>
            <p:spPr>
              <a:xfrm flipH="1">
                <a:off x="6936120" y="5367240"/>
                <a:ext cx="44316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241"/>
              <p:cNvSpPr/>
              <p:nvPr/>
            </p:nvSpPr>
            <p:spPr>
              <a:xfrm>
                <a:off x="7034760" y="5426280"/>
                <a:ext cx="263160" cy="71280"/>
              </a:xfrm>
              <a:prstGeom prst="rect">
                <a:avLst/>
              </a:prstGeom>
              <a:solidFill>
                <a:srgbClr val="4c4c4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AutoShape 242"/>
            <p:cNvSpPr/>
            <p:nvPr/>
          </p:nvSpPr>
          <p:spPr>
            <a:xfrm>
              <a:off x="7918200" y="4281480"/>
              <a:ext cx="361080" cy="20232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243"/>
            <p:cNvSpPr/>
            <p:nvPr/>
          </p:nvSpPr>
          <p:spPr>
            <a:xfrm>
              <a:off x="7901640" y="4681800"/>
              <a:ext cx="410400" cy="20232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685800" y="10666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2133720" y="4572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219320" y="304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ARATTERISTICHE COSTRUT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4"/>
          <p:cNvSpPr/>
          <p:nvPr/>
        </p:nvSpPr>
        <p:spPr>
          <a:xfrm>
            <a:off x="636480" y="1362240"/>
            <a:ext cx="39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zione di una colonna del nucleo magn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0"/>
          <p:cNvSpPr/>
          <p:nvPr/>
        </p:nvSpPr>
        <p:spPr>
          <a:xfrm>
            <a:off x="585720" y="3011400"/>
            <a:ext cx="36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Fenomeni di perdita nel fer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152"/>
          <p:cNvGrpSpPr/>
          <p:nvPr/>
        </p:nvGrpSpPr>
        <p:grpSpPr>
          <a:xfrm>
            <a:off x="4432320" y="896760"/>
            <a:ext cx="3933360" cy="2036880"/>
            <a:chOff x="4432320" y="896760"/>
            <a:chExt cx="3933360" cy="2036880"/>
          </a:xfrm>
        </p:grpSpPr>
        <p:sp>
          <p:nvSpPr>
            <p:cNvPr id="240" name="Oval 153"/>
            <p:cNvSpPr/>
            <p:nvPr/>
          </p:nvSpPr>
          <p:spPr>
            <a:xfrm>
              <a:off x="5838480" y="1527120"/>
              <a:ext cx="1075680" cy="98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154"/>
            <p:cNvGrpSpPr/>
            <p:nvPr/>
          </p:nvGrpSpPr>
          <p:grpSpPr>
            <a:xfrm>
              <a:off x="5895360" y="1824480"/>
              <a:ext cx="961560" cy="411480"/>
              <a:chOff x="5895360" y="1824480"/>
              <a:chExt cx="961560" cy="411480"/>
            </a:xfrm>
          </p:grpSpPr>
          <p:grpSp>
            <p:nvGrpSpPr>
              <p:cNvPr id="242" name="Group 155"/>
              <p:cNvGrpSpPr/>
              <p:nvPr/>
            </p:nvGrpSpPr>
            <p:grpSpPr>
              <a:xfrm>
                <a:off x="5895360" y="2098440"/>
                <a:ext cx="961560" cy="137520"/>
                <a:chOff x="5895360" y="2098440"/>
                <a:chExt cx="961560" cy="137520"/>
              </a:xfrm>
            </p:grpSpPr>
            <p:sp>
              <p:nvSpPr>
                <p:cNvPr id="243" name="Rectangle 156"/>
                <p:cNvSpPr/>
                <p:nvPr/>
              </p:nvSpPr>
              <p:spPr>
                <a:xfrm>
                  <a:off x="5895360" y="2098440"/>
                  <a:ext cx="961560" cy="34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157"/>
                <p:cNvSpPr/>
                <p:nvPr/>
              </p:nvSpPr>
              <p:spPr>
                <a:xfrm>
                  <a:off x="5895360" y="2132640"/>
                  <a:ext cx="961560" cy="34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158"/>
                <p:cNvSpPr/>
                <p:nvPr/>
              </p:nvSpPr>
              <p:spPr>
                <a:xfrm>
                  <a:off x="5895360" y="2166840"/>
                  <a:ext cx="961560" cy="34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159"/>
                <p:cNvSpPr/>
                <p:nvPr/>
              </p:nvSpPr>
              <p:spPr>
                <a:xfrm>
                  <a:off x="5895360" y="2201040"/>
                  <a:ext cx="961560" cy="34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160"/>
              <p:cNvGrpSpPr/>
              <p:nvPr/>
            </p:nvGrpSpPr>
            <p:grpSpPr>
              <a:xfrm>
                <a:off x="5895360" y="1824480"/>
                <a:ext cx="961560" cy="274680"/>
                <a:chOff x="5895360" y="1824480"/>
                <a:chExt cx="961560" cy="274680"/>
              </a:xfrm>
            </p:grpSpPr>
            <p:grpSp>
              <p:nvGrpSpPr>
                <p:cNvPr id="248" name="Group 161"/>
                <p:cNvGrpSpPr/>
                <p:nvPr/>
              </p:nvGrpSpPr>
              <p:grpSpPr>
                <a:xfrm>
                  <a:off x="5895360" y="1824480"/>
                  <a:ext cx="961560" cy="137880"/>
                  <a:chOff x="5895360" y="1824480"/>
                  <a:chExt cx="961560" cy="137880"/>
                </a:xfrm>
              </p:grpSpPr>
              <p:sp>
                <p:nvSpPr>
                  <p:cNvPr id="249" name="Rectangle 162"/>
                  <p:cNvSpPr/>
                  <p:nvPr/>
                </p:nvSpPr>
                <p:spPr>
                  <a:xfrm>
                    <a:off x="5895360" y="1824480"/>
                    <a:ext cx="961560" cy="34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Rectangle 163"/>
                  <p:cNvSpPr/>
                  <p:nvPr/>
                </p:nvSpPr>
                <p:spPr>
                  <a:xfrm>
                    <a:off x="5895360" y="1858680"/>
                    <a:ext cx="961560" cy="34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Rectangle 164"/>
                  <p:cNvSpPr/>
                  <p:nvPr/>
                </p:nvSpPr>
                <p:spPr>
                  <a:xfrm>
                    <a:off x="5895360" y="1892880"/>
                    <a:ext cx="961560" cy="34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Rectangle 165"/>
                  <p:cNvSpPr/>
                  <p:nvPr/>
                </p:nvSpPr>
                <p:spPr>
                  <a:xfrm>
                    <a:off x="5895360" y="1927440"/>
                    <a:ext cx="961560" cy="34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166"/>
                <p:cNvGrpSpPr/>
                <p:nvPr/>
              </p:nvGrpSpPr>
              <p:grpSpPr>
                <a:xfrm>
                  <a:off x="5895360" y="1961640"/>
                  <a:ext cx="961560" cy="137520"/>
                  <a:chOff x="5895360" y="1961640"/>
                  <a:chExt cx="961560" cy="137520"/>
                </a:xfrm>
              </p:grpSpPr>
              <p:sp>
                <p:nvSpPr>
                  <p:cNvPr id="254" name="Rectangle 167"/>
                  <p:cNvSpPr/>
                  <p:nvPr/>
                </p:nvSpPr>
                <p:spPr>
                  <a:xfrm>
                    <a:off x="5895360" y="1961640"/>
                    <a:ext cx="961560" cy="34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Rectangle 168"/>
                  <p:cNvSpPr/>
                  <p:nvPr/>
                </p:nvSpPr>
                <p:spPr>
                  <a:xfrm>
                    <a:off x="5895360" y="1995840"/>
                    <a:ext cx="961560" cy="34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Rectangle 169"/>
                  <p:cNvSpPr/>
                  <p:nvPr/>
                </p:nvSpPr>
                <p:spPr>
                  <a:xfrm>
                    <a:off x="5895360" y="2030040"/>
                    <a:ext cx="961560" cy="34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Rectangle 170"/>
                  <p:cNvSpPr/>
                  <p:nvPr/>
                </p:nvSpPr>
                <p:spPr>
                  <a:xfrm>
                    <a:off x="5895360" y="2064240"/>
                    <a:ext cx="961560" cy="34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8" name="Group 171"/>
            <p:cNvGrpSpPr/>
            <p:nvPr/>
          </p:nvGrpSpPr>
          <p:grpSpPr>
            <a:xfrm>
              <a:off x="6078600" y="1630080"/>
              <a:ext cx="606600" cy="194760"/>
              <a:chOff x="6078600" y="1630080"/>
              <a:chExt cx="606600" cy="194760"/>
            </a:xfrm>
          </p:grpSpPr>
          <p:sp>
            <p:nvSpPr>
              <p:cNvPr id="259" name="Rectangle 172"/>
              <p:cNvSpPr/>
              <p:nvPr/>
            </p:nvSpPr>
            <p:spPr>
              <a:xfrm>
                <a:off x="6078600" y="1668600"/>
                <a:ext cx="606600" cy="3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73"/>
              <p:cNvSpPr/>
              <p:nvPr/>
            </p:nvSpPr>
            <p:spPr>
              <a:xfrm>
                <a:off x="6078600" y="1707480"/>
                <a:ext cx="606600" cy="3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74"/>
              <p:cNvSpPr/>
              <p:nvPr/>
            </p:nvSpPr>
            <p:spPr>
              <a:xfrm>
                <a:off x="6078600" y="1746360"/>
                <a:ext cx="606600" cy="3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75"/>
              <p:cNvSpPr/>
              <p:nvPr/>
            </p:nvSpPr>
            <p:spPr>
              <a:xfrm>
                <a:off x="6078600" y="1785240"/>
                <a:ext cx="606600" cy="3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76"/>
              <p:cNvSpPr/>
              <p:nvPr/>
            </p:nvSpPr>
            <p:spPr>
              <a:xfrm>
                <a:off x="6078600" y="1630080"/>
                <a:ext cx="606600" cy="3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77"/>
            <p:cNvGrpSpPr/>
            <p:nvPr/>
          </p:nvGrpSpPr>
          <p:grpSpPr>
            <a:xfrm>
              <a:off x="6078600" y="2235600"/>
              <a:ext cx="595440" cy="183600"/>
              <a:chOff x="6078600" y="2235600"/>
              <a:chExt cx="595440" cy="183600"/>
            </a:xfrm>
          </p:grpSpPr>
          <p:sp>
            <p:nvSpPr>
              <p:cNvPr id="265" name="Rectangle 178"/>
              <p:cNvSpPr/>
              <p:nvPr/>
            </p:nvSpPr>
            <p:spPr>
              <a:xfrm>
                <a:off x="6078600" y="2271960"/>
                <a:ext cx="595440" cy="37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79"/>
              <p:cNvSpPr/>
              <p:nvPr/>
            </p:nvSpPr>
            <p:spPr>
              <a:xfrm>
                <a:off x="6078600" y="2308680"/>
                <a:ext cx="595440" cy="37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180"/>
              <p:cNvSpPr/>
              <p:nvPr/>
            </p:nvSpPr>
            <p:spPr>
              <a:xfrm>
                <a:off x="6078600" y="2345400"/>
                <a:ext cx="595440" cy="37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181"/>
              <p:cNvSpPr/>
              <p:nvPr/>
            </p:nvSpPr>
            <p:spPr>
              <a:xfrm>
                <a:off x="6078600" y="2382120"/>
                <a:ext cx="595440" cy="37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182"/>
              <p:cNvSpPr/>
              <p:nvPr/>
            </p:nvSpPr>
            <p:spPr>
              <a:xfrm>
                <a:off x="6078600" y="2235600"/>
                <a:ext cx="595440" cy="37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183"/>
            <p:cNvSpPr/>
            <p:nvPr/>
          </p:nvSpPr>
          <p:spPr>
            <a:xfrm>
              <a:off x="5724000" y="1390320"/>
              <a:ext cx="1327320" cy="124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84"/>
            <p:cNvSpPr/>
            <p:nvPr/>
          </p:nvSpPr>
          <p:spPr>
            <a:xfrm>
              <a:off x="5655240" y="1333080"/>
              <a:ext cx="1476000" cy="1383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85"/>
            <p:cNvSpPr/>
            <p:nvPr/>
          </p:nvSpPr>
          <p:spPr>
            <a:xfrm>
              <a:off x="5574960" y="1264680"/>
              <a:ext cx="1636200" cy="1520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86"/>
            <p:cNvSpPr/>
            <p:nvPr/>
          </p:nvSpPr>
          <p:spPr>
            <a:xfrm>
              <a:off x="5426280" y="1127520"/>
              <a:ext cx="1922040" cy="1806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87"/>
            <p:cNvSpPr/>
            <p:nvPr/>
          </p:nvSpPr>
          <p:spPr>
            <a:xfrm>
              <a:off x="7358760" y="896760"/>
              <a:ext cx="1006920" cy="39060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vvolgi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assa tensi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88"/>
            <p:cNvSpPr/>
            <p:nvPr/>
          </p:nvSpPr>
          <p:spPr>
            <a:xfrm>
              <a:off x="4432320" y="898920"/>
              <a:ext cx="1098000" cy="38844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vvolgi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lta tensi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89"/>
          <p:cNvGrpSpPr/>
          <p:nvPr/>
        </p:nvGrpSpPr>
        <p:grpSpPr>
          <a:xfrm>
            <a:off x="442800" y="3465360"/>
            <a:ext cx="2279520" cy="2947680"/>
            <a:chOff x="442800" y="3465360"/>
            <a:chExt cx="2279520" cy="2947680"/>
          </a:xfrm>
        </p:grpSpPr>
        <p:grpSp>
          <p:nvGrpSpPr>
            <p:cNvPr id="277" name="Group 190"/>
            <p:cNvGrpSpPr/>
            <p:nvPr/>
          </p:nvGrpSpPr>
          <p:grpSpPr>
            <a:xfrm>
              <a:off x="442800" y="3899520"/>
              <a:ext cx="1823760" cy="2513520"/>
              <a:chOff x="442800" y="3899520"/>
              <a:chExt cx="1823760" cy="2513520"/>
            </a:xfrm>
          </p:grpSpPr>
          <p:sp>
            <p:nvSpPr>
              <p:cNvPr id="278" name="Freeform 191"/>
              <p:cNvSpPr/>
              <p:nvPr/>
            </p:nvSpPr>
            <p:spPr>
              <a:xfrm>
                <a:off x="442800" y="5269320"/>
                <a:ext cx="360" cy="1143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2"/>
              <p:cNvSpPr/>
              <p:nvPr/>
            </p:nvSpPr>
            <p:spPr>
              <a:xfrm>
                <a:off x="897840" y="5269320"/>
                <a:ext cx="360" cy="1143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93"/>
              <p:cNvSpPr/>
              <p:nvPr/>
            </p:nvSpPr>
            <p:spPr>
              <a:xfrm>
                <a:off x="2266200" y="3899520"/>
                <a:ext cx="360" cy="1141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Freeform 194"/>
            <p:cNvSpPr/>
            <p:nvPr/>
          </p:nvSpPr>
          <p:spPr>
            <a:xfrm>
              <a:off x="442800" y="3899520"/>
              <a:ext cx="1823760" cy="1370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993" y="0"/>
                  </a:moveTo>
                  <a:lnTo>
                    <a:pt x="0" y="19991"/>
                  </a:lnTo>
                  <a:lnTo>
                    <a:pt x="4993" y="19991"/>
                  </a:lnTo>
                  <a:lnTo>
                    <a:pt x="19993" y="0"/>
                  </a:lnTo>
                  <a:lnTo>
                    <a:pt x="1499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95"/>
            <p:cNvSpPr/>
            <p:nvPr/>
          </p:nvSpPr>
          <p:spPr>
            <a:xfrm>
              <a:off x="1819080" y="4519440"/>
              <a:ext cx="37440" cy="37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661" y="9831"/>
                  </a:lnTo>
                  <a:lnTo>
                    <a:pt x="0" y="19661"/>
                  </a:lnTo>
                  <a:lnTo>
                    <a:pt x="9831" y="98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Group 196"/>
            <p:cNvGrpSpPr/>
            <p:nvPr/>
          </p:nvGrpSpPr>
          <p:grpSpPr>
            <a:xfrm>
              <a:off x="1399680" y="4519440"/>
              <a:ext cx="456480" cy="37080"/>
              <a:chOff x="1399680" y="4519440"/>
              <a:chExt cx="456480" cy="37080"/>
            </a:xfrm>
          </p:grpSpPr>
          <p:sp>
            <p:nvSpPr>
              <p:cNvPr id="284" name="Freeform 197"/>
              <p:cNvSpPr/>
              <p:nvPr/>
            </p:nvSpPr>
            <p:spPr>
              <a:xfrm>
                <a:off x="1818720" y="4519440"/>
                <a:ext cx="37440" cy="37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661" y="9831"/>
                    </a:lnTo>
                    <a:lnTo>
                      <a:pt x="0" y="19661"/>
                    </a:lnTo>
                    <a:lnTo>
                      <a:pt x="9831" y="983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98"/>
              <p:cNvSpPr/>
              <p:nvPr/>
            </p:nvSpPr>
            <p:spPr>
              <a:xfrm>
                <a:off x="1399680" y="4537800"/>
                <a:ext cx="43812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Freeform 199"/>
            <p:cNvSpPr/>
            <p:nvPr/>
          </p:nvSpPr>
          <p:spPr>
            <a:xfrm>
              <a:off x="1381320" y="4080960"/>
              <a:ext cx="37440" cy="37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661"/>
                  </a:moveTo>
                  <a:lnTo>
                    <a:pt x="9831" y="0"/>
                  </a:lnTo>
                  <a:lnTo>
                    <a:pt x="19661" y="19661"/>
                  </a:lnTo>
                  <a:lnTo>
                    <a:pt x="9831" y="9831"/>
                  </a:lnTo>
                  <a:lnTo>
                    <a:pt x="0" y="196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200"/>
            <p:cNvGrpSpPr/>
            <p:nvPr/>
          </p:nvGrpSpPr>
          <p:grpSpPr>
            <a:xfrm>
              <a:off x="1381320" y="4080960"/>
              <a:ext cx="37440" cy="457560"/>
              <a:chOff x="1381320" y="4080960"/>
              <a:chExt cx="37440" cy="457560"/>
            </a:xfrm>
          </p:grpSpPr>
          <p:sp>
            <p:nvSpPr>
              <p:cNvPr id="288" name="Freeform 201"/>
              <p:cNvSpPr/>
              <p:nvPr/>
            </p:nvSpPr>
            <p:spPr>
              <a:xfrm>
                <a:off x="1381320" y="4080960"/>
                <a:ext cx="37440" cy="37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661"/>
                    </a:moveTo>
                    <a:lnTo>
                      <a:pt x="9831" y="0"/>
                    </a:lnTo>
                    <a:lnTo>
                      <a:pt x="19661" y="19661"/>
                    </a:lnTo>
                    <a:lnTo>
                      <a:pt x="9831" y="9831"/>
                    </a:lnTo>
                    <a:lnTo>
                      <a:pt x="0" y="19661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02"/>
              <p:cNvSpPr/>
              <p:nvPr/>
            </p:nvSpPr>
            <p:spPr>
              <a:xfrm>
                <a:off x="1399680" y="4099320"/>
                <a:ext cx="360" cy="439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Freeform 203"/>
            <p:cNvSpPr/>
            <p:nvPr/>
          </p:nvSpPr>
          <p:spPr>
            <a:xfrm>
              <a:off x="1589040" y="4309560"/>
              <a:ext cx="39240" cy="3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6452"/>
                  </a:moveTo>
                  <a:lnTo>
                    <a:pt x="19677" y="0"/>
                  </a:lnTo>
                  <a:lnTo>
                    <a:pt x="13226" y="19677"/>
                  </a:lnTo>
                  <a:lnTo>
                    <a:pt x="13226" y="6452"/>
                  </a:lnTo>
                  <a:lnTo>
                    <a:pt x="0" y="64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204"/>
            <p:cNvGrpSpPr/>
            <p:nvPr/>
          </p:nvGrpSpPr>
          <p:grpSpPr>
            <a:xfrm>
              <a:off x="1399680" y="4309560"/>
              <a:ext cx="228600" cy="228960"/>
              <a:chOff x="1399680" y="4309560"/>
              <a:chExt cx="228600" cy="228960"/>
            </a:xfrm>
          </p:grpSpPr>
          <p:sp>
            <p:nvSpPr>
              <p:cNvPr id="292" name="Freeform 205"/>
              <p:cNvSpPr/>
              <p:nvPr/>
            </p:nvSpPr>
            <p:spPr>
              <a:xfrm>
                <a:off x="1589040" y="4309560"/>
                <a:ext cx="39240" cy="39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6452"/>
                    </a:moveTo>
                    <a:lnTo>
                      <a:pt x="19677" y="0"/>
                    </a:lnTo>
                    <a:lnTo>
                      <a:pt x="13226" y="19677"/>
                    </a:lnTo>
                    <a:lnTo>
                      <a:pt x="13226" y="6452"/>
                    </a:lnTo>
                    <a:lnTo>
                      <a:pt x="0" y="6452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06"/>
              <p:cNvSpPr/>
              <p:nvPr/>
            </p:nvSpPr>
            <p:spPr>
              <a:xfrm>
                <a:off x="1399680" y="4322160"/>
                <a:ext cx="216000" cy="216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41"/>
                    </a:moveTo>
                    <a:lnTo>
                      <a:pt x="1994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Rectangle 207"/>
            <p:cNvSpPr/>
            <p:nvPr/>
          </p:nvSpPr>
          <p:spPr>
            <a:xfrm>
              <a:off x="1878480" y="4447800"/>
              <a:ext cx="2005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208"/>
            <p:cNvSpPr/>
            <p:nvPr/>
          </p:nvSpPr>
          <p:spPr>
            <a:xfrm>
              <a:off x="1650600" y="4105080"/>
              <a:ext cx="2005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09"/>
            <p:cNvSpPr/>
            <p:nvPr/>
          </p:nvSpPr>
          <p:spPr>
            <a:xfrm>
              <a:off x="1353960" y="3899520"/>
              <a:ext cx="19080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10"/>
            <p:cNvSpPr/>
            <p:nvPr/>
          </p:nvSpPr>
          <p:spPr>
            <a:xfrm>
              <a:off x="1353960" y="5230800"/>
              <a:ext cx="39240" cy="3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7" y="13548"/>
                  </a:moveTo>
                  <a:lnTo>
                    <a:pt x="0" y="19677"/>
                  </a:lnTo>
                  <a:lnTo>
                    <a:pt x="6452" y="0"/>
                  </a:lnTo>
                  <a:lnTo>
                    <a:pt x="6452" y="13548"/>
                  </a:lnTo>
                  <a:lnTo>
                    <a:pt x="19677" y="135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11"/>
            <p:cNvSpPr/>
            <p:nvPr/>
          </p:nvSpPr>
          <p:spPr>
            <a:xfrm>
              <a:off x="1353960" y="5230800"/>
              <a:ext cx="39240" cy="3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7" y="13548"/>
                  </a:moveTo>
                  <a:lnTo>
                    <a:pt x="0" y="19677"/>
                  </a:lnTo>
                  <a:lnTo>
                    <a:pt x="6452" y="0"/>
                  </a:lnTo>
                  <a:lnTo>
                    <a:pt x="6452" y="13548"/>
                  </a:lnTo>
                  <a:lnTo>
                    <a:pt x="19677" y="1354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12"/>
            <p:cNvSpPr/>
            <p:nvPr/>
          </p:nvSpPr>
          <p:spPr>
            <a:xfrm>
              <a:off x="2683080" y="3898080"/>
              <a:ext cx="39240" cy="3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6452"/>
                  </a:moveTo>
                  <a:lnTo>
                    <a:pt x="19677" y="0"/>
                  </a:lnTo>
                  <a:lnTo>
                    <a:pt x="13226" y="19677"/>
                  </a:lnTo>
                  <a:lnTo>
                    <a:pt x="13226" y="6452"/>
                  </a:lnTo>
                  <a:lnTo>
                    <a:pt x="0" y="64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13"/>
            <p:cNvSpPr/>
            <p:nvPr/>
          </p:nvSpPr>
          <p:spPr>
            <a:xfrm>
              <a:off x="2683080" y="3898080"/>
              <a:ext cx="39240" cy="3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6452"/>
                  </a:moveTo>
                  <a:lnTo>
                    <a:pt x="19677" y="0"/>
                  </a:lnTo>
                  <a:lnTo>
                    <a:pt x="13226" y="19677"/>
                  </a:lnTo>
                  <a:lnTo>
                    <a:pt x="13226" y="6452"/>
                  </a:lnTo>
                  <a:lnTo>
                    <a:pt x="0" y="645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14"/>
            <p:cNvSpPr/>
            <p:nvPr/>
          </p:nvSpPr>
          <p:spPr>
            <a:xfrm>
              <a:off x="1366560" y="3910680"/>
              <a:ext cx="1343160" cy="1347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91"/>
                  </a:moveTo>
                  <a:lnTo>
                    <a:pt x="1999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15"/>
            <p:cNvSpPr/>
            <p:nvPr/>
          </p:nvSpPr>
          <p:spPr>
            <a:xfrm>
              <a:off x="2037960" y="3651120"/>
              <a:ext cx="38160" cy="37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67" y="19661"/>
                  </a:moveTo>
                  <a:lnTo>
                    <a:pt x="0" y="9831"/>
                  </a:lnTo>
                  <a:lnTo>
                    <a:pt x="19667" y="0"/>
                  </a:lnTo>
                  <a:lnTo>
                    <a:pt x="9667" y="9831"/>
                  </a:lnTo>
                  <a:lnTo>
                    <a:pt x="19667" y="196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16"/>
            <p:cNvSpPr/>
            <p:nvPr/>
          </p:nvSpPr>
          <p:spPr>
            <a:xfrm>
              <a:off x="2037960" y="3651120"/>
              <a:ext cx="38160" cy="37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67" y="19661"/>
                  </a:moveTo>
                  <a:lnTo>
                    <a:pt x="0" y="9831"/>
                  </a:lnTo>
                  <a:lnTo>
                    <a:pt x="19667" y="0"/>
                  </a:lnTo>
                  <a:lnTo>
                    <a:pt x="9667" y="9831"/>
                  </a:lnTo>
                  <a:lnTo>
                    <a:pt x="19667" y="1966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7"/>
            <p:cNvSpPr/>
            <p:nvPr/>
          </p:nvSpPr>
          <p:spPr>
            <a:xfrm>
              <a:off x="2457360" y="3651120"/>
              <a:ext cx="37440" cy="37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661" y="9831"/>
                  </a:lnTo>
                  <a:lnTo>
                    <a:pt x="0" y="19661"/>
                  </a:lnTo>
                  <a:lnTo>
                    <a:pt x="9831" y="98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218"/>
            <p:cNvGrpSpPr/>
            <p:nvPr/>
          </p:nvGrpSpPr>
          <p:grpSpPr>
            <a:xfrm>
              <a:off x="2056320" y="3651120"/>
              <a:ext cx="438120" cy="37080"/>
              <a:chOff x="2056320" y="3651120"/>
              <a:chExt cx="438120" cy="37080"/>
            </a:xfrm>
          </p:grpSpPr>
          <p:sp>
            <p:nvSpPr>
              <p:cNvPr id="306" name="Freeform 219"/>
              <p:cNvSpPr/>
              <p:nvPr/>
            </p:nvSpPr>
            <p:spPr>
              <a:xfrm>
                <a:off x="2457000" y="3651120"/>
                <a:ext cx="37440" cy="37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661" y="9831"/>
                    </a:lnTo>
                    <a:lnTo>
                      <a:pt x="0" y="19661"/>
                    </a:lnTo>
                    <a:lnTo>
                      <a:pt x="9831" y="983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220"/>
              <p:cNvSpPr/>
              <p:nvPr/>
            </p:nvSpPr>
            <p:spPr>
              <a:xfrm>
                <a:off x="2056320" y="3669480"/>
                <a:ext cx="4197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221"/>
            <p:cNvGrpSpPr/>
            <p:nvPr/>
          </p:nvGrpSpPr>
          <p:grpSpPr>
            <a:xfrm>
              <a:off x="898200" y="3669480"/>
              <a:ext cx="1801440" cy="1600200"/>
              <a:chOff x="898200" y="3669480"/>
              <a:chExt cx="1801440" cy="1600200"/>
            </a:xfrm>
          </p:grpSpPr>
          <p:sp>
            <p:nvSpPr>
              <p:cNvPr id="309" name="Freeform 222"/>
              <p:cNvSpPr/>
              <p:nvPr/>
            </p:nvSpPr>
            <p:spPr>
              <a:xfrm>
                <a:off x="898200" y="5269320"/>
                <a:ext cx="45648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223"/>
              <p:cNvSpPr/>
              <p:nvPr/>
            </p:nvSpPr>
            <p:spPr>
              <a:xfrm>
                <a:off x="2266200" y="3897720"/>
                <a:ext cx="43344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224"/>
              <p:cNvSpPr/>
              <p:nvPr/>
            </p:nvSpPr>
            <p:spPr>
              <a:xfrm>
                <a:off x="1810080" y="3669480"/>
                <a:ext cx="2286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45"/>
                    </a:moveTo>
                    <a:lnTo>
                      <a:pt x="1994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225"/>
              <p:cNvSpPr/>
              <p:nvPr/>
            </p:nvSpPr>
            <p:spPr>
              <a:xfrm>
                <a:off x="2266200" y="3669480"/>
                <a:ext cx="2286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45"/>
                    </a:moveTo>
                    <a:lnTo>
                      <a:pt x="1994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Rectangle 226"/>
            <p:cNvSpPr/>
            <p:nvPr/>
          </p:nvSpPr>
          <p:spPr>
            <a:xfrm>
              <a:off x="2151720" y="4516560"/>
              <a:ext cx="1720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27"/>
            <p:cNvSpPr/>
            <p:nvPr/>
          </p:nvSpPr>
          <p:spPr>
            <a:xfrm>
              <a:off x="2243160" y="3465360"/>
              <a:ext cx="2005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28"/>
            <p:cNvSpPr/>
            <p:nvPr/>
          </p:nvSpPr>
          <p:spPr>
            <a:xfrm>
              <a:off x="880200" y="3921120"/>
              <a:ext cx="36720" cy="37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661"/>
                  </a:moveTo>
                  <a:lnTo>
                    <a:pt x="9655" y="0"/>
                  </a:lnTo>
                  <a:lnTo>
                    <a:pt x="19655" y="19661"/>
                  </a:lnTo>
                  <a:lnTo>
                    <a:pt x="9655" y="9831"/>
                  </a:lnTo>
                  <a:lnTo>
                    <a:pt x="0" y="196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229"/>
            <p:cNvGrpSpPr/>
            <p:nvPr/>
          </p:nvGrpSpPr>
          <p:grpSpPr>
            <a:xfrm>
              <a:off x="880200" y="3921120"/>
              <a:ext cx="36720" cy="663120"/>
              <a:chOff x="880200" y="3921120"/>
              <a:chExt cx="36720" cy="663120"/>
            </a:xfrm>
          </p:grpSpPr>
          <p:sp>
            <p:nvSpPr>
              <p:cNvPr id="317" name="Freeform 230"/>
              <p:cNvSpPr/>
              <p:nvPr/>
            </p:nvSpPr>
            <p:spPr>
              <a:xfrm>
                <a:off x="880200" y="3921120"/>
                <a:ext cx="36720" cy="37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661"/>
                    </a:moveTo>
                    <a:lnTo>
                      <a:pt x="9655" y="0"/>
                    </a:lnTo>
                    <a:lnTo>
                      <a:pt x="19655" y="19661"/>
                    </a:lnTo>
                    <a:lnTo>
                      <a:pt x="9655" y="9831"/>
                    </a:lnTo>
                    <a:lnTo>
                      <a:pt x="0" y="19661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31"/>
              <p:cNvSpPr/>
              <p:nvPr/>
            </p:nvSpPr>
            <p:spPr>
              <a:xfrm>
                <a:off x="897840" y="3939480"/>
                <a:ext cx="360" cy="644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0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Rectangle 232"/>
            <p:cNvSpPr/>
            <p:nvPr/>
          </p:nvSpPr>
          <p:spPr>
            <a:xfrm>
              <a:off x="966600" y="4173480"/>
              <a:ext cx="3909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233"/>
          <p:cNvGrpSpPr/>
          <p:nvPr/>
        </p:nvGrpSpPr>
        <p:grpSpPr>
          <a:xfrm>
            <a:off x="2022480" y="3689280"/>
            <a:ext cx="2013120" cy="2652840"/>
            <a:chOff x="2022480" y="3689280"/>
            <a:chExt cx="2013120" cy="2652840"/>
          </a:xfrm>
        </p:grpSpPr>
        <p:sp>
          <p:nvSpPr>
            <p:cNvPr id="321" name="Rectangle 234"/>
            <p:cNvSpPr/>
            <p:nvPr/>
          </p:nvSpPr>
          <p:spPr>
            <a:xfrm>
              <a:off x="2022480" y="3689280"/>
              <a:ext cx="2013120" cy="2652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Group 235"/>
            <p:cNvGrpSpPr/>
            <p:nvPr/>
          </p:nvGrpSpPr>
          <p:grpSpPr>
            <a:xfrm>
              <a:off x="2124720" y="3755880"/>
              <a:ext cx="1824480" cy="2514960"/>
              <a:chOff x="2124720" y="3755880"/>
              <a:chExt cx="1824480" cy="2514960"/>
            </a:xfrm>
          </p:grpSpPr>
          <p:sp>
            <p:nvSpPr>
              <p:cNvPr id="323" name="Freeform 236"/>
              <p:cNvSpPr/>
              <p:nvPr/>
            </p:nvSpPr>
            <p:spPr>
              <a:xfrm>
                <a:off x="2124720" y="5126400"/>
                <a:ext cx="360" cy="1144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37"/>
              <p:cNvSpPr/>
              <p:nvPr/>
            </p:nvSpPr>
            <p:spPr>
              <a:xfrm>
                <a:off x="2580120" y="5126400"/>
                <a:ext cx="360" cy="1144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38"/>
              <p:cNvSpPr/>
              <p:nvPr/>
            </p:nvSpPr>
            <p:spPr>
              <a:xfrm>
                <a:off x="3948840" y="3755880"/>
                <a:ext cx="360" cy="1142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Freeform 239"/>
            <p:cNvSpPr/>
            <p:nvPr/>
          </p:nvSpPr>
          <p:spPr>
            <a:xfrm>
              <a:off x="2124720" y="3755880"/>
              <a:ext cx="1824480" cy="1371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993" y="0"/>
                  </a:moveTo>
                  <a:lnTo>
                    <a:pt x="0" y="19991"/>
                  </a:lnTo>
                  <a:lnTo>
                    <a:pt x="4993" y="19991"/>
                  </a:lnTo>
                  <a:lnTo>
                    <a:pt x="19993" y="0"/>
                  </a:lnTo>
                  <a:lnTo>
                    <a:pt x="1499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40"/>
            <p:cNvSpPr/>
            <p:nvPr/>
          </p:nvSpPr>
          <p:spPr>
            <a:xfrm>
              <a:off x="3740760" y="3742920"/>
              <a:ext cx="39240" cy="36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7419" y="19649"/>
                  </a:moveTo>
                  <a:lnTo>
                    <a:pt x="0" y="7018"/>
                  </a:lnTo>
                  <a:lnTo>
                    <a:pt x="19677" y="0"/>
                  </a:lnTo>
                  <a:lnTo>
                    <a:pt x="9355" y="8070"/>
                  </a:lnTo>
                  <a:lnTo>
                    <a:pt x="17419" y="19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241"/>
            <p:cNvGrpSpPr/>
            <p:nvPr/>
          </p:nvGrpSpPr>
          <p:grpSpPr>
            <a:xfrm>
              <a:off x="3482280" y="3742920"/>
              <a:ext cx="300240" cy="471960"/>
              <a:chOff x="3482280" y="3742920"/>
              <a:chExt cx="300240" cy="471960"/>
            </a:xfrm>
          </p:grpSpPr>
          <p:sp>
            <p:nvSpPr>
              <p:cNvPr id="329" name="Freeform 242"/>
              <p:cNvSpPr/>
              <p:nvPr/>
            </p:nvSpPr>
            <p:spPr>
              <a:xfrm>
                <a:off x="3740760" y="3742920"/>
                <a:ext cx="39240" cy="36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7419" y="19649"/>
                    </a:moveTo>
                    <a:lnTo>
                      <a:pt x="0" y="7018"/>
                    </a:lnTo>
                    <a:lnTo>
                      <a:pt x="19677" y="0"/>
                    </a:lnTo>
                    <a:lnTo>
                      <a:pt x="9355" y="8070"/>
                    </a:lnTo>
                    <a:lnTo>
                      <a:pt x="17419" y="19649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43"/>
              <p:cNvSpPr/>
              <p:nvPr/>
            </p:nvSpPr>
            <p:spPr>
              <a:xfrm>
                <a:off x="3482280" y="3757320"/>
                <a:ext cx="300240" cy="457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2"/>
                    </a:moveTo>
                    <a:lnTo>
                      <a:pt x="3044" y="17917"/>
                    </a:lnTo>
                    <a:lnTo>
                      <a:pt x="5835" y="15917"/>
                    </a:lnTo>
                    <a:lnTo>
                      <a:pt x="8414" y="13972"/>
                    </a:lnTo>
                    <a:lnTo>
                      <a:pt x="10782" y="12167"/>
                    </a:lnTo>
                    <a:lnTo>
                      <a:pt x="12812" y="10417"/>
                    </a:lnTo>
                    <a:lnTo>
                      <a:pt x="14715" y="8750"/>
                    </a:lnTo>
                    <a:lnTo>
                      <a:pt x="16321" y="7222"/>
                    </a:lnTo>
                    <a:lnTo>
                      <a:pt x="17590" y="5750"/>
                    </a:lnTo>
                    <a:lnTo>
                      <a:pt x="18562" y="4472"/>
                    </a:lnTo>
                    <a:lnTo>
                      <a:pt x="19323" y="3306"/>
                    </a:lnTo>
                    <a:lnTo>
                      <a:pt x="19789" y="2306"/>
                    </a:lnTo>
                    <a:lnTo>
                      <a:pt x="19958" y="1472"/>
                    </a:lnTo>
                    <a:lnTo>
                      <a:pt x="19704" y="806"/>
                    </a:lnTo>
                    <a:lnTo>
                      <a:pt x="19197" y="306"/>
                    </a:lnTo>
                    <a:lnTo>
                      <a:pt x="18351" y="0"/>
                    </a:lnTo>
                    <a:lnTo>
                      <a:pt x="1843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Freeform 244"/>
            <p:cNvSpPr/>
            <p:nvPr/>
          </p:nvSpPr>
          <p:spPr>
            <a:xfrm>
              <a:off x="3086640" y="4175640"/>
              <a:ext cx="39240" cy="3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7" y="13226"/>
                  </a:moveTo>
                  <a:lnTo>
                    <a:pt x="0" y="19677"/>
                  </a:lnTo>
                  <a:lnTo>
                    <a:pt x="6452" y="0"/>
                  </a:lnTo>
                  <a:lnTo>
                    <a:pt x="6452" y="13226"/>
                  </a:lnTo>
                  <a:lnTo>
                    <a:pt x="19677" y="13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245"/>
            <p:cNvGrpSpPr/>
            <p:nvPr/>
          </p:nvGrpSpPr>
          <p:grpSpPr>
            <a:xfrm>
              <a:off x="3086640" y="3755880"/>
              <a:ext cx="654840" cy="459000"/>
              <a:chOff x="3086640" y="3755880"/>
              <a:chExt cx="654840" cy="459000"/>
            </a:xfrm>
          </p:grpSpPr>
          <p:sp>
            <p:nvSpPr>
              <p:cNvPr id="333" name="Freeform 246"/>
              <p:cNvSpPr/>
              <p:nvPr/>
            </p:nvSpPr>
            <p:spPr>
              <a:xfrm>
                <a:off x="3086640" y="4175640"/>
                <a:ext cx="39240" cy="39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677" y="13226"/>
                    </a:moveTo>
                    <a:lnTo>
                      <a:pt x="0" y="19677"/>
                    </a:lnTo>
                    <a:lnTo>
                      <a:pt x="6452" y="0"/>
                    </a:lnTo>
                    <a:lnTo>
                      <a:pt x="6452" y="13226"/>
                    </a:lnTo>
                    <a:lnTo>
                      <a:pt x="19677" y="1322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47"/>
              <p:cNvSpPr/>
              <p:nvPr/>
            </p:nvSpPr>
            <p:spPr>
              <a:xfrm>
                <a:off x="3099240" y="3755880"/>
                <a:ext cx="642240" cy="446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0" y="0"/>
                    </a:moveTo>
                    <a:lnTo>
                      <a:pt x="19268" y="85"/>
                    </a:lnTo>
                    <a:lnTo>
                      <a:pt x="18457" y="398"/>
                    </a:lnTo>
                    <a:lnTo>
                      <a:pt x="17507" y="910"/>
                    </a:lnTo>
                    <a:lnTo>
                      <a:pt x="16459" y="1593"/>
                    </a:lnTo>
                    <a:lnTo>
                      <a:pt x="15331" y="2447"/>
                    </a:lnTo>
                    <a:lnTo>
                      <a:pt x="14085" y="3471"/>
                    </a:lnTo>
                    <a:lnTo>
                      <a:pt x="12819" y="4666"/>
                    </a:lnTo>
                    <a:lnTo>
                      <a:pt x="11454" y="5974"/>
                    </a:lnTo>
                    <a:lnTo>
                      <a:pt x="10049" y="7482"/>
                    </a:lnTo>
                    <a:lnTo>
                      <a:pt x="8586" y="9047"/>
                    </a:lnTo>
                    <a:lnTo>
                      <a:pt x="7102" y="10754"/>
                    </a:lnTo>
                    <a:lnTo>
                      <a:pt x="5598" y="12546"/>
                    </a:lnTo>
                    <a:lnTo>
                      <a:pt x="4075" y="14395"/>
                    </a:lnTo>
                    <a:lnTo>
                      <a:pt x="2591" y="16387"/>
                    </a:lnTo>
                    <a:lnTo>
                      <a:pt x="1068" y="18435"/>
                    </a:lnTo>
                    <a:lnTo>
                      <a:pt x="0" y="199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248"/>
            <p:cNvGrpSpPr/>
            <p:nvPr/>
          </p:nvGrpSpPr>
          <p:grpSpPr>
            <a:xfrm>
              <a:off x="3085200" y="4213080"/>
              <a:ext cx="398880" cy="2880"/>
              <a:chOff x="3085200" y="4213080"/>
              <a:chExt cx="398880" cy="2880"/>
            </a:xfrm>
          </p:grpSpPr>
          <p:sp>
            <p:nvSpPr>
              <p:cNvPr id="336" name="Freeform 249"/>
              <p:cNvSpPr/>
              <p:nvPr/>
            </p:nvSpPr>
            <p:spPr>
              <a:xfrm>
                <a:off x="3481200" y="4213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000" y="16000"/>
                    </a:moveTo>
                    <a:lnTo>
                      <a:pt x="16000" y="16000"/>
                    </a:lnTo>
                    <a:lnTo>
                      <a:pt x="8000" y="16000"/>
                    </a:lnTo>
                    <a:lnTo>
                      <a:pt x="0" y="16000"/>
                    </a:lnTo>
                    <a:lnTo>
                      <a:pt x="0" y="8000"/>
                    </a:lnTo>
                    <a:lnTo>
                      <a:pt x="0" y="0"/>
                    </a:lnTo>
                    <a:lnTo>
                      <a:pt x="16000" y="160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50"/>
              <p:cNvSpPr/>
              <p:nvPr/>
            </p:nvSpPr>
            <p:spPr>
              <a:xfrm>
                <a:off x="3085200" y="4213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000" y="16000"/>
                    </a:moveTo>
                    <a:lnTo>
                      <a:pt x="16000" y="16000"/>
                    </a:lnTo>
                    <a:lnTo>
                      <a:pt x="8000" y="16000"/>
                    </a:lnTo>
                    <a:lnTo>
                      <a:pt x="0" y="16000"/>
                    </a:lnTo>
                    <a:lnTo>
                      <a:pt x="0" y="8000"/>
                    </a:lnTo>
                    <a:lnTo>
                      <a:pt x="0" y="0"/>
                    </a:lnTo>
                    <a:lnTo>
                      <a:pt x="16000" y="160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Freeform 251"/>
            <p:cNvSpPr/>
            <p:nvPr/>
          </p:nvSpPr>
          <p:spPr>
            <a:xfrm>
              <a:off x="3625920" y="3855960"/>
              <a:ext cx="39240" cy="37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065" y="19661"/>
                  </a:moveTo>
                  <a:lnTo>
                    <a:pt x="0" y="8136"/>
                  </a:lnTo>
                  <a:lnTo>
                    <a:pt x="19677" y="0"/>
                  </a:lnTo>
                  <a:lnTo>
                    <a:pt x="9355" y="8475"/>
                  </a:lnTo>
                  <a:lnTo>
                    <a:pt x="18065" y="196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Group 252"/>
            <p:cNvGrpSpPr/>
            <p:nvPr/>
          </p:nvGrpSpPr>
          <p:grpSpPr>
            <a:xfrm>
              <a:off x="3435480" y="3855960"/>
              <a:ext cx="229680" cy="358920"/>
              <a:chOff x="3435480" y="3855960"/>
              <a:chExt cx="229680" cy="358920"/>
            </a:xfrm>
          </p:grpSpPr>
          <p:sp>
            <p:nvSpPr>
              <p:cNvPr id="340" name="Freeform 253"/>
              <p:cNvSpPr/>
              <p:nvPr/>
            </p:nvSpPr>
            <p:spPr>
              <a:xfrm>
                <a:off x="3625920" y="3855960"/>
                <a:ext cx="39240" cy="37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8065" y="19661"/>
                    </a:moveTo>
                    <a:lnTo>
                      <a:pt x="0" y="8136"/>
                    </a:lnTo>
                    <a:lnTo>
                      <a:pt x="19677" y="0"/>
                    </a:lnTo>
                    <a:lnTo>
                      <a:pt x="9355" y="8475"/>
                    </a:lnTo>
                    <a:lnTo>
                      <a:pt x="18065" y="19661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54"/>
              <p:cNvSpPr/>
              <p:nvPr/>
            </p:nvSpPr>
            <p:spPr>
              <a:xfrm>
                <a:off x="3435480" y="3871800"/>
                <a:ext cx="221760" cy="343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3"/>
                    </a:moveTo>
                    <a:lnTo>
                      <a:pt x="2980" y="17889"/>
                    </a:lnTo>
                    <a:lnTo>
                      <a:pt x="5903" y="15889"/>
                    </a:lnTo>
                    <a:lnTo>
                      <a:pt x="8424" y="14000"/>
                    </a:lnTo>
                    <a:lnTo>
                      <a:pt x="10831" y="12148"/>
                    </a:lnTo>
                    <a:lnTo>
                      <a:pt x="12951" y="10407"/>
                    </a:lnTo>
                    <a:lnTo>
                      <a:pt x="14842" y="8741"/>
                    </a:lnTo>
                    <a:lnTo>
                      <a:pt x="16447" y="7222"/>
                    </a:lnTo>
                    <a:lnTo>
                      <a:pt x="17708" y="5815"/>
                    </a:lnTo>
                    <a:lnTo>
                      <a:pt x="18739" y="4481"/>
                    </a:lnTo>
                    <a:lnTo>
                      <a:pt x="19427" y="3333"/>
                    </a:lnTo>
                    <a:lnTo>
                      <a:pt x="19885" y="2333"/>
                    </a:lnTo>
                    <a:lnTo>
                      <a:pt x="19943" y="1481"/>
                    </a:lnTo>
                    <a:lnTo>
                      <a:pt x="19771" y="815"/>
                    </a:lnTo>
                    <a:lnTo>
                      <a:pt x="19255" y="333"/>
                    </a:lnTo>
                    <a:lnTo>
                      <a:pt x="18338" y="0"/>
                    </a:lnTo>
                    <a:lnTo>
                      <a:pt x="1885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Freeform 255"/>
            <p:cNvSpPr/>
            <p:nvPr/>
          </p:nvSpPr>
          <p:spPr>
            <a:xfrm>
              <a:off x="3133440" y="4175640"/>
              <a:ext cx="39240" cy="3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7" y="13226"/>
                  </a:moveTo>
                  <a:lnTo>
                    <a:pt x="0" y="19677"/>
                  </a:lnTo>
                  <a:lnTo>
                    <a:pt x="6129" y="0"/>
                  </a:lnTo>
                  <a:lnTo>
                    <a:pt x="6129" y="13226"/>
                  </a:lnTo>
                  <a:lnTo>
                    <a:pt x="19677" y="13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256"/>
            <p:cNvGrpSpPr/>
            <p:nvPr/>
          </p:nvGrpSpPr>
          <p:grpSpPr>
            <a:xfrm>
              <a:off x="3133440" y="3871440"/>
              <a:ext cx="492840" cy="343440"/>
              <a:chOff x="3133440" y="3871440"/>
              <a:chExt cx="492840" cy="343440"/>
            </a:xfrm>
          </p:grpSpPr>
          <p:sp>
            <p:nvSpPr>
              <p:cNvPr id="344" name="Freeform 257"/>
              <p:cNvSpPr/>
              <p:nvPr/>
            </p:nvSpPr>
            <p:spPr>
              <a:xfrm>
                <a:off x="3133440" y="4175640"/>
                <a:ext cx="39240" cy="39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677" y="13226"/>
                    </a:moveTo>
                    <a:lnTo>
                      <a:pt x="0" y="19677"/>
                    </a:lnTo>
                    <a:lnTo>
                      <a:pt x="6129" y="0"/>
                    </a:lnTo>
                    <a:lnTo>
                      <a:pt x="6129" y="13226"/>
                    </a:lnTo>
                    <a:lnTo>
                      <a:pt x="19677" y="1322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58"/>
              <p:cNvSpPr/>
              <p:nvPr/>
            </p:nvSpPr>
            <p:spPr>
              <a:xfrm>
                <a:off x="3145320" y="3871440"/>
                <a:ext cx="480960" cy="330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4" y="0"/>
                    </a:moveTo>
                    <a:lnTo>
                      <a:pt x="19260" y="38"/>
                    </a:lnTo>
                    <a:lnTo>
                      <a:pt x="18415" y="384"/>
                    </a:lnTo>
                    <a:lnTo>
                      <a:pt x="17464" y="883"/>
                    </a:lnTo>
                    <a:lnTo>
                      <a:pt x="16407" y="1574"/>
                    </a:lnTo>
                    <a:lnTo>
                      <a:pt x="15271" y="2457"/>
                    </a:lnTo>
                    <a:lnTo>
                      <a:pt x="14055" y="3493"/>
                    </a:lnTo>
                    <a:lnTo>
                      <a:pt x="12708" y="4683"/>
                    </a:lnTo>
                    <a:lnTo>
                      <a:pt x="11334" y="6065"/>
                    </a:lnTo>
                    <a:lnTo>
                      <a:pt x="9908" y="7524"/>
                    </a:lnTo>
                    <a:lnTo>
                      <a:pt x="8507" y="9098"/>
                    </a:lnTo>
                    <a:lnTo>
                      <a:pt x="6975" y="10825"/>
                    </a:lnTo>
                    <a:lnTo>
                      <a:pt x="5469" y="12630"/>
                    </a:lnTo>
                    <a:lnTo>
                      <a:pt x="3937" y="14549"/>
                    </a:lnTo>
                    <a:lnTo>
                      <a:pt x="2431" y="16507"/>
                    </a:lnTo>
                    <a:lnTo>
                      <a:pt x="951" y="18580"/>
                    </a:lnTo>
                    <a:lnTo>
                      <a:pt x="0" y="1996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259"/>
            <p:cNvGrpSpPr/>
            <p:nvPr/>
          </p:nvGrpSpPr>
          <p:grpSpPr>
            <a:xfrm>
              <a:off x="3132360" y="4213080"/>
              <a:ext cx="304920" cy="2880"/>
              <a:chOff x="3132360" y="4213080"/>
              <a:chExt cx="304920" cy="2880"/>
            </a:xfrm>
          </p:grpSpPr>
          <p:sp>
            <p:nvSpPr>
              <p:cNvPr id="347" name="Freeform 260"/>
              <p:cNvSpPr/>
              <p:nvPr/>
            </p:nvSpPr>
            <p:spPr>
              <a:xfrm>
                <a:off x="3434400" y="4213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000" y="16000"/>
                    </a:moveTo>
                    <a:lnTo>
                      <a:pt x="16000" y="16000"/>
                    </a:lnTo>
                    <a:lnTo>
                      <a:pt x="8000" y="16000"/>
                    </a:lnTo>
                    <a:lnTo>
                      <a:pt x="0" y="16000"/>
                    </a:lnTo>
                    <a:lnTo>
                      <a:pt x="0" y="8000"/>
                    </a:lnTo>
                    <a:lnTo>
                      <a:pt x="0" y="0"/>
                    </a:lnTo>
                    <a:lnTo>
                      <a:pt x="16000" y="160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261"/>
              <p:cNvSpPr/>
              <p:nvPr/>
            </p:nvSpPr>
            <p:spPr>
              <a:xfrm>
                <a:off x="3132360" y="42130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5000" y="16000"/>
                    </a:moveTo>
                    <a:lnTo>
                      <a:pt x="15000" y="16000"/>
                    </a:lnTo>
                    <a:lnTo>
                      <a:pt x="10000" y="16000"/>
                    </a:lnTo>
                    <a:lnTo>
                      <a:pt x="0" y="16000"/>
                    </a:lnTo>
                    <a:lnTo>
                      <a:pt x="0" y="8000"/>
                    </a:lnTo>
                    <a:lnTo>
                      <a:pt x="0" y="0"/>
                    </a:lnTo>
                    <a:lnTo>
                      <a:pt x="15000" y="160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Freeform 262"/>
            <p:cNvSpPr/>
            <p:nvPr/>
          </p:nvSpPr>
          <p:spPr>
            <a:xfrm>
              <a:off x="3513960" y="3969000"/>
              <a:ext cx="39240" cy="37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7419" y="19661"/>
                  </a:moveTo>
                  <a:lnTo>
                    <a:pt x="0" y="7458"/>
                  </a:lnTo>
                  <a:lnTo>
                    <a:pt x="19677" y="0"/>
                  </a:lnTo>
                  <a:lnTo>
                    <a:pt x="9355" y="8814"/>
                  </a:lnTo>
                  <a:lnTo>
                    <a:pt x="17419" y="196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263"/>
            <p:cNvGrpSpPr/>
            <p:nvPr/>
          </p:nvGrpSpPr>
          <p:grpSpPr>
            <a:xfrm>
              <a:off x="3387600" y="3969000"/>
              <a:ext cx="165600" cy="245520"/>
              <a:chOff x="3387600" y="3969000"/>
              <a:chExt cx="165600" cy="245520"/>
            </a:xfrm>
          </p:grpSpPr>
          <p:sp>
            <p:nvSpPr>
              <p:cNvPr id="351" name="Freeform 264"/>
              <p:cNvSpPr/>
              <p:nvPr/>
            </p:nvSpPr>
            <p:spPr>
              <a:xfrm>
                <a:off x="3513960" y="3969000"/>
                <a:ext cx="39240" cy="37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7419" y="19661"/>
                    </a:moveTo>
                    <a:lnTo>
                      <a:pt x="0" y="7458"/>
                    </a:lnTo>
                    <a:lnTo>
                      <a:pt x="19677" y="0"/>
                    </a:lnTo>
                    <a:lnTo>
                      <a:pt x="9355" y="8814"/>
                    </a:lnTo>
                    <a:lnTo>
                      <a:pt x="17419" y="19661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265"/>
              <p:cNvSpPr/>
              <p:nvPr/>
            </p:nvSpPr>
            <p:spPr>
              <a:xfrm>
                <a:off x="3387600" y="3984120"/>
                <a:ext cx="147240" cy="230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45"/>
                    </a:moveTo>
                    <a:lnTo>
                      <a:pt x="2931" y="17851"/>
                    </a:lnTo>
                    <a:lnTo>
                      <a:pt x="5862" y="15868"/>
                    </a:lnTo>
                    <a:lnTo>
                      <a:pt x="8534" y="13994"/>
                    </a:lnTo>
                    <a:lnTo>
                      <a:pt x="10776" y="12176"/>
                    </a:lnTo>
                    <a:lnTo>
                      <a:pt x="13017" y="10413"/>
                    </a:lnTo>
                    <a:lnTo>
                      <a:pt x="14828" y="8705"/>
                    </a:lnTo>
                    <a:lnTo>
                      <a:pt x="16379" y="7218"/>
                    </a:lnTo>
                    <a:lnTo>
                      <a:pt x="17759" y="5730"/>
                    </a:lnTo>
                    <a:lnTo>
                      <a:pt x="18707" y="4463"/>
                    </a:lnTo>
                    <a:lnTo>
                      <a:pt x="19483" y="3251"/>
                    </a:lnTo>
                    <a:lnTo>
                      <a:pt x="19914" y="2259"/>
                    </a:lnTo>
                    <a:lnTo>
                      <a:pt x="19914" y="1488"/>
                    </a:lnTo>
                    <a:lnTo>
                      <a:pt x="19828" y="771"/>
                    </a:lnTo>
                    <a:lnTo>
                      <a:pt x="19138" y="275"/>
                    </a:lnTo>
                    <a:lnTo>
                      <a:pt x="18362" y="0"/>
                    </a:lnTo>
                    <a:lnTo>
                      <a:pt x="19655" y="1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Freeform 266"/>
            <p:cNvSpPr/>
            <p:nvPr/>
          </p:nvSpPr>
          <p:spPr>
            <a:xfrm>
              <a:off x="3179880" y="4174200"/>
              <a:ext cx="39240" cy="40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7" y="12813"/>
                  </a:moveTo>
                  <a:lnTo>
                    <a:pt x="0" y="19688"/>
                  </a:lnTo>
                  <a:lnTo>
                    <a:pt x="5806" y="0"/>
                  </a:lnTo>
                  <a:lnTo>
                    <a:pt x="6452" y="13438"/>
                  </a:lnTo>
                  <a:lnTo>
                    <a:pt x="19677" y="128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Group 267"/>
            <p:cNvGrpSpPr/>
            <p:nvPr/>
          </p:nvGrpSpPr>
          <p:grpSpPr>
            <a:xfrm>
              <a:off x="3179880" y="3983040"/>
              <a:ext cx="334800" cy="231840"/>
              <a:chOff x="3179880" y="3983040"/>
              <a:chExt cx="334800" cy="231840"/>
            </a:xfrm>
          </p:grpSpPr>
          <p:sp>
            <p:nvSpPr>
              <p:cNvPr id="355" name="Freeform 268"/>
              <p:cNvSpPr/>
              <p:nvPr/>
            </p:nvSpPr>
            <p:spPr>
              <a:xfrm>
                <a:off x="3179880" y="4174200"/>
                <a:ext cx="39240" cy="40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677" y="12813"/>
                    </a:moveTo>
                    <a:lnTo>
                      <a:pt x="0" y="19688"/>
                    </a:lnTo>
                    <a:lnTo>
                      <a:pt x="5806" y="0"/>
                    </a:lnTo>
                    <a:lnTo>
                      <a:pt x="6452" y="13438"/>
                    </a:lnTo>
                    <a:lnTo>
                      <a:pt x="19677" y="12813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269"/>
              <p:cNvSpPr/>
              <p:nvPr/>
            </p:nvSpPr>
            <p:spPr>
              <a:xfrm>
                <a:off x="3192480" y="3983040"/>
                <a:ext cx="322200" cy="219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1" y="0"/>
                    </a:moveTo>
                    <a:lnTo>
                      <a:pt x="19172" y="116"/>
                    </a:lnTo>
                    <a:lnTo>
                      <a:pt x="18343" y="406"/>
                    </a:lnTo>
                    <a:lnTo>
                      <a:pt x="17357" y="928"/>
                    </a:lnTo>
                    <a:lnTo>
                      <a:pt x="16292" y="1681"/>
                    </a:lnTo>
                    <a:lnTo>
                      <a:pt x="15148" y="2493"/>
                    </a:lnTo>
                    <a:lnTo>
                      <a:pt x="13886" y="3536"/>
                    </a:lnTo>
                    <a:lnTo>
                      <a:pt x="12544" y="4812"/>
                    </a:lnTo>
                    <a:lnTo>
                      <a:pt x="11203" y="6145"/>
                    </a:lnTo>
                    <a:lnTo>
                      <a:pt x="9704" y="7710"/>
                    </a:lnTo>
                    <a:lnTo>
                      <a:pt x="8205" y="9275"/>
                    </a:lnTo>
                    <a:lnTo>
                      <a:pt x="6706" y="11072"/>
                    </a:lnTo>
                    <a:lnTo>
                      <a:pt x="5247" y="12928"/>
                    </a:lnTo>
                    <a:lnTo>
                      <a:pt x="3669" y="14841"/>
                    </a:lnTo>
                    <a:lnTo>
                      <a:pt x="2209" y="16812"/>
                    </a:lnTo>
                    <a:lnTo>
                      <a:pt x="631" y="18899"/>
                    </a:lnTo>
                    <a:lnTo>
                      <a:pt x="0" y="1994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70"/>
            <p:cNvGrpSpPr/>
            <p:nvPr/>
          </p:nvGrpSpPr>
          <p:grpSpPr>
            <a:xfrm>
              <a:off x="3178440" y="4213080"/>
              <a:ext cx="210600" cy="2880"/>
              <a:chOff x="3178440" y="4213080"/>
              <a:chExt cx="210600" cy="2880"/>
            </a:xfrm>
          </p:grpSpPr>
          <p:sp>
            <p:nvSpPr>
              <p:cNvPr id="358" name="Freeform 271"/>
              <p:cNvSpPr/>
              <p:nvPr/>
            </p:nvSpPr>
            <p:spPr>
              <a:xfrm>
                <a:off x="3386160" y="4213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000" y="16000"/>
                    </a:moveTo>
                    <a:lnTo>
                      <a:pt x="16000" y="16000"/>
                    </a:lnTo>
                    <a:lnTo>
                      <a:pt x="8000" y="16000"/>
                    </a:lnTo>
                    <a:lnTo>
                      <a:pt x="0" y="16000"/>
                    </a:lnTo>
                    <a:lnTo>
                      <a:pt x="0" y="8000"/>
                    </a:lnTo>
                    <a:lnTo>
                      <a:pt x="0" y="0"/>
                    </a:lnTo>
                    <a:lnTo>
                      <a:pt x="16000" y="160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72"/>
              <p:cNvSpPr/>
              <p:nvPr/>
            </p:nvSpPr>
            <p:spPr>
              <a:xfrm>
                <a:off x="3178440" y="4213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000" y="16000"/>
                    </a:moveTo>
                    <a:lnTo>
                      <a:pt x="16000" y="16000"/>
                    </a:lnTo>
                    <a:lnTo>
                      <a:pt x="8000" y="16000"/>
                    </a:lnTo>
                    <a:lnTo>
                      <a:pt x="0" y="16000"/>
                    </a:lnTo>
                    <a:lnTo>
                      <a:pt x="0" y="8000"/>
                    </a:lnTo>
                    <a:lnTo>
                      <a:pt x="0" y="0"/>
                    </a:lnTo>
                    <a:lnTo>
                      <a:pt x="16000" y="160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Freeform 273"/>
            <p:cNvSpPr/>
            <p:nvPr/>
          </p:nvSpPr>
          <p:spPr>
            <a:xfrm>
              <a:off x="3397680" y="4080240"/>
              <a:ext cx="38160" cy="37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67" y="19661"/>
                  </a:moveTo>
                  <a:lnTo>
                    <a:pt x="0" y="9831"/>
                  </a:lnTo>
                  <a:lnTo>
                    <a:pt x="19667" y="0"/>
                  </a:lnTo>
                  <a:lnTo>
                    <a:pt x="9667" y="9831"/>
                  </a:lnTo>
                  <a:lnTo>
                    <a:pt x="19667" y="196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Group 274"/>
            <p:cNvGrpSpPr/>
            <p:nvPr/>
          </p:nvGrpSpPr>
          <p:grpSpPr>
            <a:xfrm>
              <a:off x="3339360" y="4080240"/>
              <a:ext cx="96480" cy="134640"/>
              <a:chOff x="3339360" y="4080240"/>
              <a:chExt cx="96480" cy="134640"/>
            </a:xfrm>
          </p:grpSpPr>
          <p:sp>
            <p:nvSpPr>
              <p:cNvPr id="362" name="Freeform 275"/>
              <p:cNvSpPr/>
              <p:nvPr/>
            </p:nvSpPr>
            <p:spPr>
              <a:xfrm>
                <a:off x="3397680" y="4080240"/>
                <a:ext cx="38160" cy="37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667" y="19661"/>
                    </a:moveTo>
                    <a:lnTo>
                      <a:pt x="0" y="9831"/>
                    </a:lnTo>
                    <a:lnTo>
                      <a:pt x="19667" y="0"/>
                    </a:lnTo>
                    <a:lnTo>
                      <a:pt x="9667" y="9831"/>
                    </a:lnTo>
                    <a:lnTo>
                      <a:pt x="19667" y="19661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76"/>
              <p:cNvSpPr/>
              <p:nvPr/>
            </p:nvSpPr>
            <p:spPr>
              <a:xfrm>
                <a:off x="3339360" y="4098600"/>
                <a:ext cx="77400" cy="116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891"/>
                    </a:moveTo>
                    <a:lnTo>
                      <a:pt x="2787" y="17705"/>
                    </a:lnTo>
                    <a:lnTo>
                      <a:pt x="5738" y="15738"/>
                    </a:lnTo>
                    <a:lnTo>
                      <a:pt x="8033" y="13989"/>
                    </a:lnTo>
                    <a:lnTo>
                      <a:pt x="10164" y="12240"/>
                    </a:lnTo>
                    <a:lnTo>
                      <a:pt x="12131" y="10383"/>
                    </a:lnTo>
                    <a:lnTo>
                      <a:pt x="13934" y="8634"/>
                    </a:lnTo>
                    <a:lnTo>
                      <a:pt x="15410" y="7322"/>
                    </a:lnTo>
                    <a:lnTo>
                      <a:pt x="16557" y="5683"/>
                    </a:lnTo>
                    <a:lnTo>
                      <a:pt x="17377" y="4481"/>
                    </a:lnTo>
                    <a:lnTo>
                      <a:pt x="18033" y="3279"/>
                    </a:lnTo>
                    <a:lnTo>
                      <a:pt x="18361" y="2295"/>
                    </a:lnTo>
                    <a:lnTo>
                      <a:pt x="18361" y="1530"/>
                    </a:lnTo>
                    <a:lnTo>
                      <a:pt x="18033" y="765"/>
                    </a:lnTo>
                    <a:lnTo>
                      <a:pt x="17213" y="328"/>
                    </a:lnTo>
                    <a:lnTo>
                      <a:pt x="16230" y="0"/>
                    </a:lnTo>
                    <a:lnTo>
                      <a:pt x="1983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Freeform 277"/>
            <p:cNvSpPr/>
            <p:nvPr/>
          </p:nvSpPr>
          <p:spPr>
            <a:xfrm>
              <a:off x="3226680" y="4174200"/>
              <a:ext cx="39240" cy="40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7" y="12188"/>
                  </a:moveTo>
                  <a:lnTo>
                    <a:pt x="0" y="19688"/>
                  </a:lnTo>
                  <a:lnTo>
                    <a:pt x="5161" y="0"/>
                  </a:lnTo>
                  <a:lnTo>
                    <a:pt x="6452" y="12813"/>
                  </a:lnTo>
                  <a:lnTo>
                    <a:pt x="19677" y="121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278"/>
            <p:cNvGrpSpPr/>
            <p:nvPr/>
          </p:nvGrpSpPr>
          <p:grpSpPr>
            <a:xfrm>
              <a:off x="3226680" y="4098600"/>
              <a:ext cx="171360" cy="115920"/>
              <a:chOff x="3226680" y="4098600"/>
              <a:chExt cx="171360" cy="115920"/>
            </a:xfrm>
          </p:grpSpPr>
          <p:sp>
            <p:nvSpPr>
              <p:cNvPr id="366" name="Freeform 279"/>
              <p:cNvSpPr/>
              <p:nvPr/>
            </p:nvSpPr>
            <p:spPr>
              <a:xfrm>
                <a:off x="3226680" y="4174200"/>
                <a:ext cx="39240" cy="40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677" y="12188"/>
                    </a:moveTo>
                    <a:lnTo>
                      <a:pt x="0" y="19688"/>
                    </a:lnTo>
                    <a:lnTo>
                      <a:pt x="5161" y="0"/>
                    </a:lnTo>
                    <a:lnTo>
                      <a:pt x="6452" y="12813"/>
                    </a:lnTo>
                    <a:lnTo>
                      <a:pt x="19677" y="12188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80"/>
              <p:cNvSpPr/>
              <p:nvPr/>
            </p:nvSpPr>
            <p:spPr>
              <a:xfrm>
                <a:off x="3237840" y="4098600"/>
                <a:ext cx="160200" cy="103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21" y="0"/>
                    </a:moveTo>
                    <a:lnTo>
                      <a:pt x="19048" y="0"/>
                    </a:lnTo>
                    <a:lnTo>
                      <a:pt x="18175" y="368"/>
                    </a:lnTo>
                    <a:lnTo>
                      <a:pt x="17063" y="859"/>
                    </a:lnTo>
                    <a:lnTo>
                      <a:pt x="15952" y="1718"/>
                    </a:lnTo>
                    <a:lnTo>
                      <a:pt x="14762" y="2577"/>
                    </a:lnTo>
                    <a:lnTo>
                      <a:pt x="13492" y="3681"/>
                    </a:lnTo>
                    <a:lnTo>
                      <a:pt x="12063" y="5031"/>
                    </a:lnTo>
                    <a:lnTo>
                      <a:pt x="10635" y="6380"/>
                    </a:lnTo>
                    <a:lnTo>
                      <a:pt x="9206" y="8221"/>
                    </a:lnTo>
                    <a:lnTo>
                      <a:pt x="7698" y="9693"/>
                    </a:lnTo>
                    <a:lnTo>
                      <a:pt x="6111" y="11656"/>
                    </a:lnTo>
                    <a:lnTo>
                      <a:pt x="4524" y="13742"/>
                    </a:lnTo>
                    <a:lnTo>
                      <a:pt x="2937" y="15706"/>
                    </a:lnTo>
                    <a:lnTo>
                      <a:pt x="1587" y="17669"/>
                    </a:lnTo>
                    <a:lnTo>
                      <a:pt x="0" y="19877"/>
                    </a:lnTo>
                    <a:lnTo>
                      <a:pt x="159" y="196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281"/>
            <p:cNvGrpSpPr/>
            <p:nvPr/>
          </p:nvGrpSpPr>
          <p:grpSpPr>
            <a:xfrm>
              <a:off x="3225600" y="4213080"/>
              <a:ext cx="115560" cy="2880"/>
              <a:chOff x="3225600" y="4213080"/>
              <a:chExt cx="115560" cy="2880"/>
            </a:xfrm>
          </p:grpSpPr>
          <p:sp>
            <p:nvSpPr>
              <p:cNvPr id="369" name="Freeform 282"/>
              <p:cNvSpPr/>
              <p:nvPr/>
            </p:nvSpPr>
            <p:spPr>
              <a:xfrm>
                <a:off x="3338640" y="42130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5000" y="16000"/>
                    </a:moveTo>
                    <a:lnTo>
                      <a:pt x="15000" y="16000"/>
                    </a:lnTo>
                    <a:lnTo>
                      <a:pt x="5000" y="16000"/>
                    </a:lnTo>
                    <a:lnTo>
                      <a:pt x="0" y="16000"/>
                    </a:lnTo>
                    <a:lnTo>
                      <a:pt x="0" y="8000"/>
                    </a:lnTo>
                    <a:lnTo>
                      <a:pt x="0" y="0"/>
                    </a:lnTo>
                    <a:lnTo>
                      <a:pt x="15000" y="160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83"/>
              <p:cNvSpPr/>
              <p:nvPr/>
            </p:nvSpPr>
            <p:spPr>
              <a:xfrm>
                <a:off x="3225600" y="4213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000" y="16000"/>
                    </a:moveTo>
                    <a:lnTo>
                      <a:pt x="16000" y="16000"/>
                    </a:lnTo>
                    <a:lnTo>
                      <a:pt x="8000" y="16000"/>
                    </a:lnTo>
                    <a:lnTo>
                      <a:pt x="0" y="16000"/>
                    </a:lnTo>
                    <a:lnTo>
                      <a:pt x="0" y="8000"/>
                    </a:lnTo>
                    <a:lnTo>
                      <a:pt x="0" y="0"/>
                    </a:lnTo>
                    <a:lnTo>
                      <a:pt x="16000" y="160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284"/>
            <p:cNvGrpSpPr/>
            <p:nvPr/>
          </p:nvGrpSpPr>
          <p:grpSpPr>
            <a:xfrm>
              <a:off x="2626920" y="4214160"/>
              <a:ext cx="851760" cy="455400"/>
              <a:chOff x="2626920" y="4214160"/>
              <a:chExt cx="851760" cy="455400"/>
            </a:xfrm>
          </p:grpSpPr>
          <p:sp>
            <p:nvSpPr>
              <p:cNvPr id="372" name="Freeform 285"/>
              <p:cNvSpPr/>
              <p:nvPr/>
            </p:nvSpPr>
            <p:spPr>
              <a:xfrm>
                <a:off x="2626920" y="4214160"/>
                <a:ext cx="454320" cy="455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0" y="199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86"/>
              <p:cNvSpPr/>
              <p:nvPr/>
            </p:nvSpPr>
            <p:spPr>
              <a:xfrm>
                <a:off x="2673720" y="4214160"/>
                <a:ext cx="454320" cy="455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0" y="199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87"/>
              <p:cNvSpPr/>
              <p:nvPr/>
            </p:nvSpPr>
            <p:spPr>
              <a:xfrm>
                <a:off x="2720160" y="4214160"/>
                <a:ext cx="454320" cy="455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0" y="199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88"/>
              <p:cNvSpPr/>
              <p:nvPr/>
            </p:nvSpPr>
            <p:spPr>
              <a:xfrm>
                <a:off x="2767320" y="4214160"/>
                <a:ext cx="454320" cy="455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0" y="199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89"/>
              <p:cNvSpPr/>
              <p:nvPr/>
            </p:nvSpPr>
            <p:spPr>
              <a:xfrm>
                <a:off x="2883960" y="4214160"/>
                <a:ext cx="454680" cy="455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0" y="199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90"/>
              <p:cNvSpPr/>
              <p:nvPr/>
            </p:nvSpPr>
            <p:spPr>
              <a:xfrm>
                <a:off x="2929680" y="4214160"/>
                <a:ext cx="454320" cy="455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0" y="199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91"/>
              <p:cNvSpPr/>
              <p:nvPr/>
            </p:nvSpPr>
            <p:spPr>
              <a:xfrm>
                <a:off x="2978280" y="4214160"/>
                <a:ext cx="454320" cy="455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0" y="199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92"/>
              <p:cNvSpPr/>
              <p:nvPr/>
            </p:nvSpPr>
            <p:spPr>
              <a:xfrm>
                <a:off x="3024360" y="4214160"/>
                <a:ext cx="454320" cy="455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0" y="199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Freeform 293"/>
            <p:cNvSpPr/>
            <p:nvPr/>
          </p:nvSpPr>
          <p:spPr>
            <a:xfrm>
              <a:off x="2981520" y="4669200"/>
              <a:ext cx="40320" cy="39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5714"/>
                  </a:moveTo>
                  <a:lnTo>
                    <a:pt x="19688" y="0"/>
                  </a:lnTo>
                  <a:lnTo>
                    <a:pt x="12813" y="19683"/>
                  </a:lnTo>
                  <a:lnTo>
                    <a:pt x="13438" y="6349"/>
                  </a:lnTo>
                  <a:lnTo>
                    <a:pt x="0" y="57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294"/>
            <p:cNvGrpSpPr/>
            <p:nvPr/>
          </p:nvGrpSpPr>
          <p:grpSpPr>
            <a:xfrm>
              <a:off x="2367360" y="4669200"/>
              <a:ext cx="654480" cy="457560"/>
              <a:chOff x="2367360" y="4669200"/>
              <a:chExt cx="654480" cy="457560"/>
            </a:xfrm>
          </p:grpSpPr>
          <p:sp>
            <p:nvSpPr>
              <p:cNvPr id="382" name="Freeform 295"/>
              <p:cNvSpPr/>
              <p:nvPr/>
            </p:nvSpPr>
            <p:spPr>
              <a:xfrm>
                <a:off x="2981520" y="4669200"/>
                <a:ext cx="40320" cy="39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5714"/>
                    </a:moveTo>
                    <a:lnTo>
                      <a:pt x="19688" y="0"/>
                    </a:lnTo>
                    <a:lnTo>
                      <a:pt x="12813" y="19683"/>
                    </a:lnTo>
                    <a:lnTo>
                      <a:pt x="13438" y="6349"/>
                    </a:lnTo>
                    <a:lnTo>
                      <a:pt x="0" y="5714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96"/>
              <p:cNvSpPr/>
              <p:nvPr/>
            </p:nvSpPr>
            <p:spPr>
              <a:xfrm>
                <a:off x="2367360" y="4681800"/>
                <a:ext cx="642240" cy="444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0" y="0"/>
                    </a:moveTo>
                    <a:lnTo>
                      <a:pt x="18872" y="1484"/>
                    </a:lnTo>
                    <a:lnTo>
                      <a:pt x="17349" y="3538"/>
                    </a:lnTo>
                    <a:lnTo>
                      <a:pt x="15865" y="5506"/>
                    </a:lnTo>
                    <a:lnTo>
                      <a:pt x="14342" y="7389"/>
                    </a:lnTo>
                    <a:lnTo>
                      <a:pt x="12839" y="9187"/>
                    </a:lnTo>
                    <a:lnTo>
                      <a:pt x="11355" y="10899"/>
                    </a:lnTo>
                    <a:lnTo>
                      <a:pt x="9891" y="12496"/>
                    </a:lnTo>
                    <a:lnTo>
                      <a:pt x="8487" y="13923"/>
                    </a:lnTo>
                    <a:lnTo>
                      <a:pt x="7122" y="15264"/>
                    </a:lnTo>
                    <a:lnTo>
                      <a:pt x="5856" y="16434"/>
                    </a:lnTo>
                    <a:lnTo>
                      <a:pt x="4609" y="17461"/>
                    </a:lnTo>
                    <a:lnTo>
                      <a:pt x="3482" y="18345"/>
                    </a:lnTo>
                    <a:lnTo>
                      <a:pt x="2453" y="19058"/>
                    </a:lnTo>
                    <a:lnTo>
                      <a:pt x="1484" y="19515"/>
                    </a:lnTo>
                    <a:lnTo>
                      <a:pt x="673" y="19829"/>
                    </a:lnTo>
                    <a:lnTo>
                      <a:pt x="0" y="1997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Freeform 297"/>
            <p:cNvSpPr/>
            <p:nvPr/>
          </p:nvSpPr>
          <p:spPr>
            <a:xfrm>
              <a:off x="2327400" y="5101560"/>
              <a:ext cx="40320" cy="36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3438" y="0"/>
                  </a:moveTo>
                  <a:lnTo>
                    <a:pt x="19688" y="13448"/>
                  </a:lnTo>
                  <a:lnTo>
                    <a:pt x="0" y="19655"/>
                  </a:lnTo>
                  <a:lnTo>
                    <a:pt x="10625" y="11724"/>
                  </a:lnTo>
                  <a:lnTo>
                    <a:pt x="343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Group 298"/>
            <p:cNvGrpSpPr/>
            <p:nvPr/>
          </p:nvGrpSpPr>
          <p:grpSpPr>
            <a:xfrm>
              <a:off x="2325960" y="4669200"/>
              <a:ext cx="301680" cy="469080"/>
              <a:chOff x="2325960" y="4669200"/>
              <a:chExt cx="301680" cy="469080"/>
            </a:xfrm>
          </p:grpSpPr>
          <p:sp>
            <p:nvSpPr>
              <p:cNvPr id="386" name="Freeform 299"/>
              <p:cNvSpPr/>
              <p:nvPr/>
            </p:nvSpPr>
            <p:spPr>
              <a:xfrm>
                <a:off x="2327040" y="5101560"/>
                <a:ext cx="40680" cy="36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3438" y="0"/>
                    </a:moveTo>
                    <a:lnTo>
                      <a:pt x="19688" y="13448"/>
                    </a:lnTo>
                    <a:lnTo>
                      <a:pt x="0" y="19655"/>
                    </a:lnTo>
                    <a:lnTo>
                      <a:pt x="10625" y="11724"/>
                    </a:lnTo>
                    <a:lnTo>
                      <a:pt x="3438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00"/>
              <p:cNvSpPr/>
              <p:nvPr/>
            </p:nvSpPr>
            <p:spPr>
              <a:xfrm>
                <a:off x="2325960" y="4669200"/>
                <a:ext cx="301680" cy="454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516" y="19972"/>
                    </a:moveTo>
                    <a:lnTo>
                      <a:pt x="1516" y="19972"/>
                    </a:lnTo>
                    <a:lnTo>
                      <a:pt x="674" y="19665"/>
                    </a:lnTo>
                    <a:lnTo>
                      <a:pt x="168" y="19218"/>
                    </a:lnTo>
                    <a:lnTo>
                      <a:pt x="0" y="18520"/>
                    </a:lnTo>
                    <a:lnTo>
                      <a:pt x="168" y="17654"/>
                    </a:lnTo>
                    <a:lnTo>
                      <a:pt x="632" y="16648"/>
                    </a:lnTo>
                    <a:lnTo>
                      <a:pt x="1305" y="15503"/>
                    </a:lnTo>
                    <a:lnTo>
                      <a:pt x="2358" y="14190"/>
                    </a:lnTo>
                    <a:lnTo>
                      <a:pt x="3621" y="12793"/>
                    </a:lnTo>
                    <a:lnTo>
                      <a:pt x="5221" y="11229"/>
                    </a:lnTo>
                    <a:lnTo>
                      <a:pt x="7116" y="9553"/>
                    </a:lnTo>
                    <a:lnTo>
                      <a:pt x="9137" y="7793"/>
                    </a:lnTo>
                    <a:lnTo>
                      <a:pt x="11495" y="5950"/>
                    </a:lnTo>
                    <a:lnTo>
                      <a:pt x="14063" y="4022"/>
                    </a:lnTo>
                    <a:lnTo>
                      <a:pt x="16842" y="2011"/>
                    </a:lnTo>
                    <a:lnTo>
                      <a:pt x="1995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301"/>
            <p:cNvGrpSpPr/>
            <p:nvPr/>
          </p:nvGrpSpPr>
          <p:grpSpPr>
            <a:xfrm>
              <a:off x="2625840" y="4667760"/>
              <a:ext cx="397440" cy="2880"/>
              <a:chOff x="2625840" y="4667760"/>
              <a:chExt cx="397440" cy="2880"/>
            </a:xfrm>
          </p:grpSpPr>
          <p:sp>
            <p:nvSpPr>
              <p:cNvPr id="389" name="Freeform 302"/>
              <p:cNvSpPr/>
              <p:nvPr/>
            </p:nvSpPr>
            <p:spPr>
              <a:xfrm>
                <a:off x="3020400" y="4667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0"/>
                    </a:lnTo>
                    <a:lnTo>
                      <a:pt x="8000" y="0"/>
                    </a:lnTo>
                    <a:lnTo>
                      <a:pt x="16000" y="0"/>
                    </a:lnTo>
                    <a:lnTo>
                      <a:pt x="16000" y="8000"/>
                    </a:lnTo>
                    <a:lnTo>
                      <a:pt x="16000" y="160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303"/>
              <p:cNvSpPr/>
              <p:nvPr/>
            </p:nvSpPr>
            <p:spPr>
              <a:xfrm>
                <a:off x="2625840" y="4667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0"/>
                    </a:lnTo>
                    <a:lnTo>
                      <a:pt x="8000" y="0"/>
                    </a:lnTo>
                    <a:lnTo>
                      <a:pt x="16000" y="0"/>
                    </a:lnTo>
                    <a:lnTo>
                      <a:pt x="16000" y="8000"/>
                    </a:lnTo>
                    <a:lnTo>
                      <a:pt x="16000" y="160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Freeform 304"/>
            <p:cNvSpPr/>
            <p:nvPr/>
          </p:nvSpPr>
          <p:spPr>
            <a:xfrm>
              <a:off x="2934720" y="4669200"/>
              <a:ext cx="40320" cy="39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5714"/>
                  </a:moveTo>
                  <a:lnTo>
                    <a:pt x="19688" y="0"/>
                  </a:lnTo>
                  <a:lnTo>
                    <a:pt x="13125" y="19683"/>
                  </a:lnTo>
                  <a:lnTo>
                    <a:pt x="13750" y="6349"/>
                  </a:lnTo>
                  <a:lnTo>
                    <a:pt x="0" y="57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305"/>
            <p:cNvGrpSpPr/>
            <p:nvPr/>
          </p:nvGrpSpPr>
          <p:grpSpPr>
            <a:xfrm>
              <a:off x="2482200" y="4669200"/>
              <a:ext cx="492480" cy="343440"/>
              <a:chOff x="2482200" y="4669200"/>
              <a:chExt cx="492480" cy="343440"/>
            </a:xfrm>
          </p:grpSpPr>
          <p:sp>
            <p:nvSpPr>
              <p:cNvPr id="393" name="Freeform 306"/>
              <p:cNvSpPr/>
              <p:nvPr/>
            </p:nvSpPr>
            <p:spPr>
              <a:xfrm>
                <a:off x="2934360" y="4669200"/>
                <a:ext cx="40320" cy="39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5714"/>
                    </a:moveTo>
                    <a:lnTo>
                      <a:pt x="19688" y="0"/>
                    </a:lnTo>
                    <a:lnTo>
                      <a:pt x="13125" y="19683"/>
                    </a:lnTo>
                    <a:lnTo>
                      <a:pt x="13750" y="6349"/>
                    </a:lnTo>
                    <a:lnTo>
                      <a:pt x="0" y="5714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307"/>
              <p:cNvSpPr/>
              <p:nvPr/>
            </p:nvSpPr>
            <p:spPr>
              <a:xfrm>
                <a:off x="2482200" y="4681800"/>
                <a:ext cx="480960" cy="330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4" y="0"/>
                    </a:moveTo>
                    <a:lnTo>
                      <a:pt x="18970" y="1305"/>
                    </a:lnTo>
                    <a:lnTo>
                      <a:pt x="17490" y="3378"/>
                    </a:lnTo>
                    <a:lnTo>
                      <a:pt x="15984" y="5336"/>
                    </a:lnTo>
                    <a:lnTo>
                      <a:pt x="14452" y="7255"/>
                    </a:lnTo>
                    <a:lnTo>
                      <a:pt x="12946" y="9060"/>
                    </a:lnTo>
                    <a:lnTo>
                      <a:pt x="11466" y="10787"/>
                    </a:lnTo>
                    <a:lnTo>
                      <a:pt x="10013" y="12361"/>
                    </a:lnTo>
                    <a:lnTo>
                      <a:pt x="8587" y="13820"/>
                    </a:lnTo>
                    <a:lnTo>
                      <a:pt x="7213" y="15202"/>
                    </a:lnTo>
                    <a:lnTo>
                      <a:pt x="5918" y="16392"/>
                    </a:lnTo>
                    <a:lnTo>
                      <a:pt x="4703" y="17428"/>
                    </a:lnTo>
                    <a:lnTo>
                      <a:pt x="3567" y="18311"/>
                    </a:lnTo>
                    <a:lnTo>
                      <a:pt x="2457" y="19002"/>
                    </a:lnTo>
                    <a:lnTo>
                      <a:pt x="1506" y="19501"/>
                    </a:lnTo>
                    <a:lnTo>
                      <a:pt x="713" y="19846"/>
                    </a:lnTo>
                    <a:lnTo>
                      <a:pt x="0" y="1996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Freeform 308"/>
            <p:cNvSpPr/>
            <p:nvPr/>
          </p:nvSpPr>
          <p:spPr>
            <a:xfrm>
              <a:off x="2442240" y="4988520"/>
              <a:ext cx="40320" cy="35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3438" y="0"/>
                  </a:moveTo>
                  <a:lnTo>
                    <a:pt x="19688" y="13214"/>
                  </a:lnTo>
                  <a:lnTo>
                    <a:pt x="0" y="19643"/>
                  </a:lnTo>
                  <a:lnTo>
                    <a:pt x="10625" y="12143"/>
                  </a:lnTo>
                  <a:lnTo>
                    <a:pt x="343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309"/>
            <p:cNvGrpSpPr/>
            <p:nvPr/>
          </p:nvGrpSpPr>
          <p:grpSpPr>
            <a:xfrm>
              <a:off x="2442240" y="4669200"/>
              <a:ext cx="232200" cy="354960"/>
              <a:chOff x="2442240" y="4669200"/>
              <a:chExt cx="232200" cy="354960"/>
            </a:xfrm>
          </p:grpSpPr>
          <p:sp>
            <p:nvSpPr>
              <p:cNvPr id="397" name="Freeform 310"/>
              <p:cNvSpPr/>
              <p:nvPr/>
            </p:nvSpPr>
            <p:spPr>
              <a:xfrm>
                <a:off x="2442240" y="4988880"/>
                <a:ext cx="40320" cy="35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3438" y="0"/>
                    </a:moveTo>
                    <a:lnTo>
                      <a:pt x="19688" y="13214"/>
                    </a:lnTo>
                    <a:lnTo>
                      <a:pt x="0" y="19643"/>
                    </a:lnTo>
                    <a:lnTo>
                      <a:pt x="10625" y="12143"/>
                    </a:lnTo>
                    <a:lnTo>
                      <a:pt x="3438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311"/>
              <p:cNvSpPr/>
              <p:nvPr/>
            </p:nvSpPr>
            <p:spPr>
              <a:xfrm>
                <a:off x="2450160" y="4669200"/>
                <a:ext cx="224280" cy="341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190" y="19963"/>
                    </a:moveTo>
                    <a:lnTo>
                      <a:pt x="1586" y="19963"/>
                    </a:lnTo>
                    <a:lnTo>
                      <a:pt x="680" y="19628"/>
                    </a:lnTo>
                    <a:lnTo>
                      <a:pt x="170" y="19145"/>
                    </a:lnTo>
                    <a:lnTo>
                      <a:pt x="0" y="18476"/>
                    </a:lnTo>
                    <a:lnTo>
                      <a:pt x="113" y="17621"/>
                    </a:lnTo>
                    <a:lnTo>
                      <a:pt x="510" y="16617"/>
                    </a:lnTo>
                    <a:lnTo>
                      <a:pt x="1190" y="15465"/>
                    </a:lnTo>
                    <a:lnTo>
                      <a:pt x="2210" y="14126"/>
                    </a:lnTo>
                    <a:lnTo>
                      <a:pt x="3569" y="12714"/>
                    </a:lnTo>
                    <a:lnTo>
                      <a:pt x="5156" y="11190"/>
                    </a:lnTo>
                    <a:lnTo>
                      <a:pt x="7025" y="9517"/>
                    </a:lnTo>
                    <a:lnTo>
                      <a:pt x="9008" y="7770"/>
                    </a:lnTo>
                    <a:lnTo>
                      <a:pt x="11388" y="5911"/>
                    </a:lnTo>
                    <a:lnTo>
                      <a:pt x="13994" y="4015"/>
                    </a:lnTo>
                    <a:lnTo>
                      <a:pt x="16884" y="2007"/>
                    </a:lnTo>
                    <a:lnTo>
                      <a:pt x="1994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312"/>
            <p:cNvGrpSpPr/>
            <p:nvPr/>
          </p:nvGrpSpPr>
          <p:grpSpPr>
            <a:xfrm>
              <a:off x="2673000" y="4667760"/>
              <a:ext cx="303480" cy="2880"/>
              <a:chOff x="2673000" y="4667760"/>
              <a:chExt cx="303480" cy="2880"/>
            </a:xfrm>
          </p:grpSpPr>
          <p:sp>
            <p:nvSpPr>
              <p:cNvPr id="400" name="Freeform 313"/>
              <p:cNvSpPr/>
              <p:nvPr/>
            </p:nvSpPr>
            <p:spPr>
              <a:xfrm>
                <a:off x="2973600" y="4667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0"/>
                    </a:lnTo>
                    <a:lnTo>
                      <a:pt x="8000" y="0"/>
                    </a:lnTo>
                    <a:lnTo>
                      <a:pt x="16000" y="0"/>
                    </a:lnTo>
                    <a:lnTo>
                      <a:pt x="16000" y="8000"/>
                    </a:lnTo>
                    <a:lnTo>
                      <a:pt x="16000" y="160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314"/>
              <p:cNvSpPr/>
              <p:nvPr/>
            </p:nvSpPr>
            <p:spPr>
              <a:xfrm>
                <a:off x="2673000" y="46677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0"/>
                    </a:lnTo>
                    <a:lnTo>
                      <a:pt x="10000" y="0"/>
                    </a:lnTo>
                    <a:lnTo>
                      <a:pt x="15000" y="0"/>
                    </a:lnTo>
                    <a:lnTo>
                      <a:pt x="15000" y="8000"/>
                    </a:lnTo>
                    <a:lnTo>
                      <a:pt x="15000" y="160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315"/>
            <p:cNvSpPr/>
            <p:nvPr/>
          </p:nvSpPr>
          <p:spPr>
            <a:xfrm>
              <a:off x="2886840" y="4669200"/>
              <a:ext cx="40320" cy="39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5079"/>
                  </a:moveTo>
                  <a:lnTo>
                    <a:pt x="19688" y="0"/>
                  </a:lnTo>
                  <a:lnTo>
                    <a:pt x="12500" y="19683"/>
                  </a:lnTo>
                  <a:lnTo>
                    <a:pt x="12813" y="6349"/>
                  </a:lnTo>
                  <a:lnTo>
                    <a:pt x="0" y="50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Group 316"/>
            <p:cNvGrpSpPr/>
            <p:nvPr/>
          </p:nvGrpSpPr>
          <p:grpSpPr>
            <a:xfrm>
              <a:off x="2594160" y="4669200"/>
              <a:ext cx="333360" cy="231480"/>
              <a:chOff x="2594160" y="4669200"/>
              <a:chExt cx="333360" cy="231480"/>
            </a:xfrm>
          </p:grpSpPr>
          <p:sp>
            <p:nvSpPr>
              <p:cNvPr id="404" name="Freeform 317"/>
              <p:cNvSpPr/>
              <p:nvPr/>
            </p:nvSpPr>
            <p:spPr>
              <a:xfrm>
                <a:off x="2886840" y="4669200"/>
                <a:ext cx="40680" cy="39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5079"/>
                    </a:moveTo>
                    <a:lnTo>
                      <a:pt x="19688" y="0"/>
                    </a:lnTo>
                    <a:lnTo>
                      <a:pt x="12500" y="19683"/>
                    </a:lnTo>
                    <a:lnTo>
                      <a:pt x="12813" y="6349"/>
                    </a:lnTo>
                    <a:lnTo>
                      <a:pt x="0" y="5079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18"/>
              <p:cNvSpPr/>
              <p:nvPr/>
            </p:nvSpPr>
            <p:spPr>
              <a:xfrm>
                <a:off x="2594160" y="4681800"/>
                <a:ext cx="319680" cy="218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0" y="0"/>
                    </a:moveTo>
                    <a:lnTo>
                      <a:pt x="19245" y="928"/>
                    </a:lnTo>
                    <a:lnTo>
                      <a:pt x="17773" y="3014"/>
                    </a:lnTo>
                    <a:lnTo>
                      <a:pt x="16262" y="5043"/>
                    </a:lnTo>
                    <a:lnTo>
                      <a:pt x="14712" y="7014"/>
                    </a:lnTo>
                    <a:lnTo>
                      <a:pt x="13121" y="8870"/>
                    </a:lnTo>
                    <a:lnTo>
                      <a:pt x="11610" y="10551"/>
                    </a:lnTo>
                    <a:lnTo>
                      <a:pt x="10139" y="12232"/>
                    </a:lnTo>
                    <a:lnTo>
                      <a:pt x="8708" y="13681"/>
                    </a:lnTo>
                    <a:lnTo>
                      <a:pt x="7356" y="15014"/>
                    </a:lnTo>
                    <a:lnTo>
                      <a:pt x="6004" y="16290"/>
                    </a:lnTo>
                    <a:lnTo>
                      <a:pt x="4771" y="17333"/>
                    </a:lnTo>
                    <a:lnTo>
                      <a:pt x="3579" y="18261"/>
                    </a:lnTo>
                    <a:lnTo>
                      <a:pt x="2505" y="18899"/>
                    </a:lnTo>
                    <a:lnTo>
                      <a:pt x="1551" y="19420"/>
                    </a:lnTo>
                    <a:lnTo>
                      <a:pt x="716" y="19710"/>
                    </a:lnTo>
                    <a:lnTo>
                      <a:pt x="0" y="1994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Freeform 319"/>
            <p:cNvSpPr/>
            <p:nvPr/>
          </p:nvSpPr>
          <p:spPr>
            <a:xfrm>
              <a:off x="2554200" y="4874400"/>
              <a:ext cx="40320" cy="35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4063" y="0"/>
                  </a:moveTo>
                  <a:lnTo>
                    <a:pt x="19688" y="14643"/>
                  </a:lnTo>
                  <a:lnTo>
                    <a:pt x="0" y="19643"/>
                  </a:lnTo>
                  <a:lnTo>
                    <a:pt x="11250" y="12857"/>
                  </a:lnTo>
                  <a:lnTo>
                    <a:pt x="406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320"/>
            <p:cNvGrpSpPr/>
            <p:nvPr/>
          </p:nvGrpSpPr>
          <p:grpSpPr>
            <a:xfrm>
              <a:off x="2554200" y="4669200"/>
              <a:ext cx="167040" cy="240480"/>
              <a:chOff x="2554200" y="4669200"/>
              <a:chExt cx="167040" cy="240480"/>
            </a:xfrm>
          </p:grpSpPr>
          <p:sp>
            <p:nvSpPr>
              <p:cNvPr id="408" name="Freeform 321"/>
              <p:cNvSpPr/>
              <p:nvPr/>
            </p:nvSpPr>
            <p:spPr>
              <a:xfrm>
                <a:off x="2554200" y="4874400"/>
                <a:ext cx="40680" cy="35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4063" y="0"/>
                    </a:moveTo>
                    <a:lnTo>
                      <a:pt x="19688" y="14643"/>
                    </a:lnTo>
                    <a:lnTo>
                      <a:pt x="0" y="19643"/>
                    </a:lnTo>
                    <a:lnTo>
                      <a:pt x="11250" y="12857"/>
                    </a:lnTo>
                    <a:lnTo>
                      <a:pt x="4063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322"/>
              <p:cNvSpPr/>
              <p:nvPr/>
            </p:nvSpPr>
            <p:spPr>
              <a:xfrm>
                <a:off x="2571120" y="4669200"/>
                <a:ext cx="150120" cy="229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763" y="19889"/>
                    </a:moveTo>
                    <a:lnTo>
                      <a:pt x="1695" y="19945"/>
                    </a:lnTo>
                    <a:lnTo>
                      <a:pt x="763" y="19668"/>
                    </a:lnTo>
                    <a:lnTo>
                      <a:pt x="339" y="19169"/>
                    </a:lnTo>
                    <a:lnTo>
                      <a:pt x="0" y="18560"/>
                    </a:lnTo>
                    <a:lnTo>
                      <a:pt x="169" y="17673"/>
                    </a:lnTo>
                    <a:lnTo>
                      <a:pt x="424" y="16676"/>
                    </a:lnTo>
                    <a:lnTo>
                      <a:pt x="1186" y="15457"/>
                    </a:lnTo>
                    <a:lnTo>
                      <a:pt x="2288" y="14183"/>
                    </a:lnTo>
                    <a:lnTo>
                      <a:pt x="3475" y="12798"/>
                    </a:lnTo>
                    <a:lnTo>
                      <a:pt x="5000" y="11191"/>
                    </a:lnTo>
                    <a:lnTo>
                      <a:pt x="6864" y="9584"/>
                    </a:lnTo>
                    <a:lnTo>
                      <a:pt x="8983" y="7812"/>
                    </a:lnTo>
                    <a:lnTo>
                      <a:pt x="11441" y="5928"/>
                    </a:lnTo>
                    <a:lnTo>
                      <a:pt x="13983" y="3989"/>
                    </a:lnTo>
                    <a:lnTo>
                      <a:pt x="16695" y="1994"/>
                    </a:lnTo>
                    <a:lnTo>
                      <a:pt x="1991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323"/>
            <p:cNvGrpSpPr/>
            <p:nvPr/>
          </p:nvGrpSpPr>
          <p:grpSpPr>
            <a:xfrm>
              <a:off x="2719440" y="4667760"/>
              <a:ext cx="209520" cy="2880"/>
              <a:chOff x="2719440" y="4667760"/>
              <a:chExt cx="209520" cy="2880"/>
            </a:xfrm>
          </p:grpSpPr>
          <p:sp>
            <p:nvSpPr>
              <p:cNvPr id="411" name="Freeform 324"/>
              <p:cNvSpPr/>
              <p:nvPr/>
            </p:nvSpPr>
            <p:spPr>
              <a:xfrm>
                <a:off x="2926080" y="4667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0"/>
                    </a:lnTo>
                    <a:lnTo>
                      <a:pt x="8000" y="0"/>
                    </a:lnTo>
                    <a:lnTo>
                      <a:pt x="16000" y="0"/>
                    </a:lnTo>
                    <a:lnTo>
                      <a:pt x="16000" y="8000"/>
                    </a:lnTo>
                    <a:lnTo>
                      <a:pt x="16000" y="160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25"/>
              <p:cNvSpPr/>
              <p:nvPr/>
            </p:nvSpPr>
            <p:spPr>
              <a:xfrm>
                <a:off x="2719440" y="4667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0"/>
                    </a:lnTo>
                    <a:lnTo>
                      <a:pt x="8000" y="0"/>
                    </a:lnTo>
                    <a:lnTo>
                      <a:pt x="16000" y="0"/>
                    </a:lnTo>
                    <a:lnTo>
                      <a:pt x="16000" y="8000"/>
                    </a:lnTo>
                    <a:lnTo>
                      <a:pt x="16000" y="160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Freeform 326"/>
            <p:cNvSpPr/>
            <p:nvPr/>
          </p:nvSpPr>
          <p:spPr>
            <a:xfrm>
              <a:off x="2839320" y="4669200"/>
              <a:ext cx="40320" cy="39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5079"/>
                  </a:moveTo>
                  <a:lnTo>
                    <a:pt x="19688" y="0"/>
                  </a:lnTo>
                  <a:lnTo>
                    <a:pt x="12188" y="19683"/>
                  </a:lnTo>
                  <a:lnTo>
                    <a:pt x="12813" y="6349"/>
                  </a:lnTo>
                  <a:lnTo>
                    <a:pt x="0" y="50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327"/>
            <p:cNvGrpSpPr/>
            <p:nvPr/>
          </p:nvGrpSpPr>
          <p:grpSpPr>
            <a:xfrm>
              <a:off x="2707920" y="4669200"/>
              <a:ext cx="172080" cy="115920"/>
              <a:chOff x="2707920" y="4669200"/>
              <a:chExt cx="172080" cy="115920"/>
            </a:xfrm>
          </p:grpSpPr>
          <p:sp>
            <p:nvSpPr>
              <p:cNvPr id="415" name="Freeform 328"/>
              <p:cNvSpPr/>
              <p:nvPr/>
            </p:nvSpPr>
            <p:spPr>
              <a:xfrm>
                <a:off x="2839320" y="4669200"/>
                <a:ext cx="40680" cy="39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5079"/>
                    </a:moveTo>
                    <a:lnTo>
                      <a:pt x="19688" y="0"/>
                    </a:lnTo>
                    <a:lnTo>
                      <a:pt x="12188" y="19683"/>
                    </a:lnTo>
                    <a:lnTo>
                      <a:pt x="12813" y="6349"/>
                    </a:lnTo>
                    <a:lnTo>
                      <a:pt x="0" y="5079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29"/>
              <p:cNvSpPr/>
              <p:nvPr/>
            </p:nvSpPr>
            <p:spPr>
              <a:xfrm>
                <a:off x="2707920" y="4680360"/>
                <a:ext cx="159480" cy="104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761" y="242"/>
                    </a:moveTo>
                    <a:lnTo>
                      <a:pt x="19920" y="0"/>
                    </a:lnTo>
                    <a:lnTo>
                      <a:pt x="18486" y="1939"/>
                    </a:lnTo>
                    <a:lnTo>
                      <a:pt x="16892" y="4242"/>
                    </a:lnTo>
                    <a:lnTo>
                      <a:pt x="15299" y="6182"/>
                    </a:lnTo>
                    <a:lnTo>
                      <a:pt x="13785" y="8121"/>
                    </a:lnTo>
                    <a:lnTo>
                      <a:pt x="12191" y="9818"/>
                    </a:lnTo>
                    <a:lnTo>
                      <a:pt x="10757" y="11636"/>
                    </a:lnTo>
                    <a:lnTo>
                      <a:pt x="9163" y="13091"/>
                    </a:lnTo>
                    <a:lnTo>
                      <a:pt x="7729" y="14667"/>
                    </a:lnTo>
                    <a:lnTo>
                      <a:pt x="6454" y="16000"/>
                    </a:lnTo>
                    <a:lnTo>
                      <a:pt x="5020" y="17091"/>
                    </a:lnTo>
                    <a:lnTo>
                      <a:pt x="3904" y="17939"/>
                    </a:lnTo>
                    <a:lnTo>
                      <a:pt x="2709" y="18788"/>
                    </a:lnTo>
                    <a:lnTo>
                      <a:pt x="1594" y="19273"/>
                    </a:lnTo>
                    <a:lnTo>
                      <a:pt x="717" y="19636"/>
                    </a:lnTo>
                    <a:lnTo>
                      <a:pt x="0" y="1987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Freeform 330"/>
            <p:cNvSpPr/>
            <p:nvPr/>
          </p:nvSpPr>
          <p:spPr>
            <a:xfrm>
              <a:off x="2668320" y="4759920"/>
              <a:ext cx="39960" cy="35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3810" y="0"/>
                  </a:moveTo>
                  <a:lnTo>
                    <a:pt x="19683" y="13929"/>
                  </a:lnTo>
                  <a:lnTo>
                    <a:pt x="0" y="19643"/>
                  </a:lnTo>
                  <a:lnTo>
                    <a:pt x="10794" y="12143"/>
                  </a:lnTo>
                  <a:lnTo>
                    <a:pt x="38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331"/>
            <p:cNvGrpSpPr/>
            <p:nvPr/>
          </p:nvGrpSpPr>
          <p:grpSpPr>
            <a:xfrm>
              <a:off x="2668320" y="4669200"/>
              <a:ext cx="99360" cy="126000"/>
              <a:chOff x="2668320" y="4669200"/>
              <a:chExt cx="99360" cy="126000"/>
            </a:xfrm>
          </p:grpSpPr>
          <p:sp>
            <p:nvSpPr>
              <p:cNvPr id="419" name="Freeform 332"/>
              <p:cNvSpPr/>
              <p:nvPr/>
            </p:nvSpPr>
            <p:spPr>
              <a:xfrm>
                <a:off x="2668320" y="4759920"/>
                <a:ext cx="39960" cy="35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3810" y="0"/>
                    </a:moveTo>
                    <a:lnTo>
                      <a:pt x="19683" y="13929"/>
                    </a:lnTo>
                    <a:lnTo>
                      <a:pt x="0" y="19643"/>
                    </a:lnTo>
                    <a:lnTo>
                      <a:pt x="10794" y="12143"/>
                    </a:lnTo>
                    <a:lnTo>
                      <a:pt x="381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33"/>
              <p:cNvSpPr/>
              <p:nvPr/>
            </p:nvSpPr>
            <p:spPr>
              <a:xfrm>
                <a:off x="2689560" y="4669200"/>
                <a:ext cx="78120" cy="114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558"/>
                    </a:moveTo>
                    <a:lnTo>
                      <a:pt x="3089" y="19890"/>
                    </a:lnTo>
                    <a:lnTo>
                      <a:pt x="2276" y="19558"/>
                    </a:lnTo>
                    <a:lnTo>
                      <a:pt x="1626" y="19116"/>
                    </a:lnTo>
                    <a:lnTo>
                      <a:pt x="1463" y="18343"/>
                    </a:lnTo>
                    <a:lnTo>
                      <a:pt x="1463" y="17569"/>
                    </a:lnTo>
                    <a:lnTo>
                      <a:pt x="1626" y="16575"/>
                    </a:lnTo>
                    <a:lnTo>
                      <a:pt x="2276" y="15359"/>
                    </a:lnTo>
                    <a:lnTo>
                      <a:pt x="3415" y="13923"/>
                    </a:lnTo>
                    <a:lnTo>
                      <a:pt x="4553" y="12597"/>
                    </a:lnTo>
                    <a:lnTo>
                      <a:pt x="5854" y="10939"/>
                    </a:lnTo>
                    <a:lnTo>
                      <a:pt x="7480" y="9392"/>
                    </a:lnTo>
                    <a:lnTo>
                      <a:pt x="9593" y="7624"/>
                    </a:lnTo>
                    <a:lnTo>
                      <a:pt x="11545" y="5856"/>
                    </a:lnTo>
                    <a:lnTo>
                      <a:pt x="14309" y="3757"/>
                    </a:lnTo>
                    <a:lnTo>
                      <a:pt x="16911" y="1989"/>
                    </a:lnTo>
                    <a:lnTo>
                      <a:pt x="1983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334"/>
            <p:cNvGrpSpPr/>
            <p:nvPr/>
          </p:nvGrpSpPr>
          <p:grpSpPr>
            <a:xfrm>
              <a:off x="2766240" y="4667760"/>
              <a:ext cx="114120" cy="2880"/>
              <a:chOff x="2766240" y="4667760"/>
              <a:chExt cx="114120" cy="2880"/>
            </a:xfrm>
          </p:grpSpPr>
          <p:sp>
            <p:nvSpPr>
              <p:cNvPr id="422" name="Freeform 335"/>
              <p:cNvSpPr/>
              <p:nvPr/>
            </p:nvSpPr>
            <p:spPr>
              <a:xfrm>
                <a:off x="2877840" y="46677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0"/>
                    </a:lnTo>
                    <a:lnTo>
                      <a:pt x="10000" y="0"/>
                    </a:lnTo>
                    <a:lnTo>
                      <a:pt x="15000" y="0"/>
                    </a:lnTo>
                    <a:lnTo>
                      <a:pt x="15000" y="8000"/>
                    </a:lnTo>
                    <a:lnTo>
                      <a:pt x="15000" y="160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36"/>
              <p:cNvSpPr/>
              <p:nvPr/>
            </p:nvSpPr>
            <p:spPr>
              <a:xfrm>
                <a:off x="2766240" y="46677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0"/>
                    </a:lnTo>
                    <a:lnTo>
                      <a:pt x="10000" y="0"/>
                    </a:lnTo>
                    <a:lnTo>
                      <a:pt x="15000" y="0"/>
                    </a:lnTo>
                    <a:lnTo>
                      <a:pt x="15000" y="8000"/>
                    </a:lnTo>
                    <a:lnTo>
                      <a:pt x="15000" y="160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4" name="Rectangle 33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337"/>
              <p:cNvSpPr txBox="1"/>
              <p:nvPr/>
            </p:nvSpPr>
            <p:spPr>
              <a:xfrm>
                <a:off x="4495680" y="4363920"/>
                <a:ext cx="2735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B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339"/>
              <p:cNvSpPr txBox="1"/>
              <p:nvPr/>
            </p:nvSpPr>
            <p:spPr>
              <a:xfrm>
                <a:off x="3505320" y="5595840"/>
                <a:ext cx="47876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t</m:t>
                        </m:r>
                      </m:sub>
                    </m:sSub>
                    <m:sSub>
                      <m:e>
                        <m:r>
                          <m:t xml:space="preserve">fB</m:t>
                        </m:r>
                      </m:e>
                      <m:sub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r>
                      <m:t xml:space="preserve">k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B</m:t>
                        </m:r>
                      </m:e>
                      <m:sub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wat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7" name="Text Box 341"/>
          <p:cNvSpPr/>
          <p:nvPr/>
        </p:nvSpPr>
        <p:spPr>
          <a:xfrm>
            <a:off x="4103640" y="3025800"/>
            <a:ext cx="393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125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teresi magne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125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rrenti parassite (di Foca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685800" y="10666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1219320" y="304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QUAZIONI DEL TRASFORM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21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123"/>
          <p:cNvGrpSpPr/>
          <p:nvPr/>
        </p:nvGrpSpPr>
        <p:grpSpPr>
          <a:xfrm>
            <a:off x="717480" y="1206360"/>
            <a:ext cx="3269880" cy="2084040"/>
            <a:chOff x="717480" y="1206360"/>
            <a:chExt cx="3269880" cy="2084040"/>
          </a:xfrm>
        </p:grpSpPr>
        <p:sp>
          <p:nvSpPr>
            <p:cNvPr id="432" name="Rectangle 124"/>
            <p:cNvSpPr/>
            <p:nvPr/>
          </p:nvSpPr>
          <p:spPr>
            <a:xfrm>
              <a:off x="1448280" y="1206360"/>
              <a:ext cx="1755000" cy="177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25"/>
            <p:cNvSpPr/>
            <p:nvPr/>
          </p:nvSpPr>
          <p:spPr>
            <a:xfrm>
              <a:off x="1740600" y="1503720"/>
              <a:ext cx="1196640" cy="1161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26"/>
            <p:cNvSpPr/>
            <p:nvPr/>
          </p:nvSpPr>
          <p:spPr>
            <a:xfrm>
              <a:off x="1208880" y="1726920"/>
              <a:ext cx="1202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27"/>
            <p:cNvSpPr/>
            <p:nvPr/>
          </p:nvSpPr>
          <p:spPr>
            <a:xfrm>
              <a:off x="1089360" y="1964880"/>
              <a:ext cx="333000" cy="3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28"/>
            <p:cNvSpPr/>
            <p:nvPr/>
          </p:nvSpPr>
          <p:spPr>
            <a:xfrm>
              <a:off x="3282480" y="1964880"/>
              <a:ext cx="333000" cy="357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29"/>
            <p:cNvSpPr/>
            <p:nvPr/>
          </p:nvSpPr>
          <p:spPr>
            <a:xfrm>
              <a:off x="1222200" y="1235880"/>
              <a:ext cx="333000" cy="357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30"/>
            <p:cNvSpPr/>
            <p:nvPr/>
          </p:nvSpPr>
          <p:spPr>
            <a:xfrm>
              <a:off x="3242520" y="1295280"/>
              <a:ext cx="333000" cy="357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31"/>
            <p:cNvSpPr/>
            <p:nvPr/>
          </p:nvSpPr>
          <p:spPr>
            <a:xfrm>
              <a:off x="717480" y="1577880"/>
              <a:ext cx="279720" cy="967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32"/>
            <p:cNvSpPr/>
            <p:nvPr/>
          </p:nvSpPr>
          <p:spPr>
            <a:xfrm>
              <a:off x="3707640" y="1622520"/>
              <a:ext cx="279720" cy="967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33"/>
            <p:cNvSpPr/>
            <p:nvPr/>
          </p:nvSpPr>
          <p:spPr>
            <a:xfrm>
              <a:off x="1707840" y="1890360"/>
              <a:ext cx="272520" cy="610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34"/>
            <p:cNvSpPr/>
            <p:nvPr/>
          </p:nvSpPr>
          <p:spPr>
            <a:xfrm>
              <a:off x="1978200" y="2180880"/>
              <a:ext cx="72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35"/>
            <p:cNvSpPr/>
            <p:nvPr/>
          </p:nvSpPr>
          <p:spPr>
            <a:xfrm>
              <a:off x="2716920" y="1935000"/>
              <a:ext cx="294120" cy="6105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36"/>
            <p:cNvSpPr/>
            <p:nvPr/>
          </p:nvSpPr>
          <p:spPr>
            <a:xfrm flipV="1">
              <a:off x="2710800" y="2195280"/>
              <a:ext cx="72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137"/>
            <p:cNvSpPr/>
            <p:nvPr/>
          </p:nvSpPr>
          <p:spPr>
            <a:xfrm>
              <a:off x="1980000" y="2366280"/>
              <a:ext cx="1202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38"/>
            <p:cNvSpPr/>
            <p:nvPr/>
          </p:nvSpPr>
          <p:spPr>
            <a:xfrm>
              <a:off x="2551320" y="2381400"/>
              <a:ext cx="1202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39"/>
            <p:cNvSpPr/>
            <p:nvPr/>
          </p:nvSpPr>
          <p:spPr>
            <a:xfrm flipH="1">
              <a:off x="2298960" y="2836440"/>
              <a:ext cx="66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40"/>
            <p:cNvSpPr/>
            <p:nvPr/>
          </p:nvSpPr>
          <p:spPr>
            <a:xfrm>
              <a:off x="2439000" y="3006000"/>
              <a:ext cx="1202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41"/>
            <p:cNvSpPr/>
            <p:nvPr/>
          </p:nvSpPr>
          <p:spPr>
            <a:xfrm>
              <a:off x="1980000" y="2984040"/>
              <a:ext cx="1735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42"/>
            <p:cNvSpPr/>
            <p:nvPr/>
          </p:nvSpPr>
          <p:spPr>
            <a:xfrm>
              <a:off x="1913400" y="1681920"/>
              <a:ext cx="3196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43"/>
            <p:cNvSpPr/>
            <p:nvPr/>
          </p:nvSpPr>
          <p:spPr>
            <a:xfrm>
              <a:off x="2445120" y="1697040"/>
              <a:ext cx="3196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4"/>
            <p:cNvSpPr/>
            <p:nvPr/>
          </p:nvSpPr>
          <p:spPr>
            <a:xfrm>
              <a:off x="1022760" y="1681920"/>
              <a:ext cx="540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45"/>
            <p:cNvSpPr/>
            <p:nvPr/>
          </p:nvSpPr>
          <p:spPr>
            <a:xfrm>
              <a:off x="3614760" y="1711800"/>
              <a:ext cx="536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46"/>
            <p:cNvSpPr/>
            <p:nvPr/>
          </p:nvSpPr>
          <p:spPr>
            <a:xfrm>
              <a:off x="3588120" y="2514960"/>
              <a:ext cx="540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47"/>
            <p:cNvSpPr/>
            <p:nvPr/>
          </p:nvSpPr>
          <p:spPr>
            <a:xfrm>
              <a:off x="1009800" y="2514960"/>
              <a:ext cx="540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48"/>
            <p:cNvSpPr/>
            <p:nvPr/>
          </p:nvSpPr>
          <p:spPr>
            <a:xfrm>
              <a:off x="876600" y="1354680"/>
              <a:ext cx="2534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49"/>
            <p:cNvSpPr/>
            <p:nvPr/>
          </p:nvSpPr>
          <p:spPr>
            <a:xfrm>
              <a:off x="863280" y="2619360"/>
              <a:ext cx="25308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150"/>
            <p:cNvSpPr/>
            <p:nvPr/>
          </p:nvSpPr>
          <p:spPr>
            <a:xfrm>
              <a:off x="3601440" y="1339920"/>
              <a:ext cx="2534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51"/>
            <p:cNvSpPr/>
            <p:nvPr/>
          </p:nvSpPr>
          <p:spPr>
            <a:xfrm>
              <a:off x="3601440" y="2649240"/>
              <a:ext cx="2534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52"/>
            <p:cNvSpPr/>
            <p:nvPr/>
          </p:nvSpPr>
          <p:spPr>
            <a:xfrm>
              <a:off x="3202560" y="2544840"/>
              <a:ext cx="4125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53"/>
            <p:cNvSpPr/>
            <p:nvPr/>
          </p:nvSpPr>
          <p:spPr>
            <a:xfrm>
              <a:off x="3428640" y="1756440"/>
              <a:ext cx="1072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rc 154"/>
            <p:cNvSpPr/>
            <p:nvPr/>
          </p:nvSpPr>
          <p:spPr>
            <a:xfrm flipH="1" flipV="1">
              <a:off x="1621080" y="2671200"/>
              <a:ext cx="154080" cy="156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55"/>
            <p:cNvSpPr/>
            <p:nvPr/>
          </p:nvSpPr>
          <p:spPr>
            <a:xfrm>
              <a:off x="1767240" y="2827440"/>
              <a:ext cx="1183680" cy="10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56"/>
            <p:cNvSpPr/>
            <p:nvPr/>
          </p:nvSpPr>
          <p:spPr>
            <a:xfrm>
              <a:off x="1753920" y="1347840"/>
              <a:ext cx="1183680" cy="10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rc 157"/>
            <p:cNvSpPr/>
            <p:nvPr/>
          </p:nvSpPr>
          <p:spPr>
            <a:xfrm flipH="1">
              <a:off x="1614960" y="1347840"/>
              <a:ext cx="139680" cy="172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58"/>
            <p:cNvSpPr/>
            <p:nvPr/>
          </p:nvSpPr>
          <p:spPr>
            <a:xfrm>
              <a:off x="1614960" y="1548360"/>
              <a:ext cx="720" cy="109476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59"/>
            <p:cNvSpPr/>
            <p:nvPr/>
          </p:nvSpPr>
          <p:spPr>
            <a:xfrm>
              <a:off x="3083040" y="1556280"/>
              <a:ext cx="720" cy="109476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rc 160"/>
            <p:cNvSpPr/>
            <p:nvPr/>
          </p:nvSpPr>
          <p:spPr>
            <a:xfrm>
              <a:off x="2930760" y="1355760"/>
              <a:ext cx="154080" cy="156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rc 161"/>
            <p:cNvSpPr/>
            <p:nvPr/>
          </p:nvSpPr>
          <p:spPr>
            <a:xfrm flipV="1">
              <a:off x="2970720" y="2663280"/>
              <a:ext cx="113040" cy="157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62"/>
            <p:cNvSpPr/>
            <p:nvPr/>
          </p:nvSpPr>
          <p:spPr>
            <a:xfrm>
              <a:off x="1036080" y="2544840"/>
              <a:ext cx="4125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rc 163"/>
            <p:cNvSpPr/>
            <p:nvPr/>
          </p:nvSpPr>
          <p:spPr>
            <a:xfrm flipV="1">
              <a:off x="1747800" y="1812960"/>
              <a:ext cx="73440" cy="41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rc 164"/>
            <p:cNvSpPr/>
            <p:nvPr/>
          </p:nvSpPr>
          <p:spPr>
            <a:xfrm>
              <a:off x="1083240" y="1719720"/>
              <a:ext cx="738000" cy="694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65"/>
            <p:cNvGrpSpPr/>
            <p:nvPr/>
          </p:nvGrpSpPr>
          <p:grpSpPr>
            <a:xfrm>
              <a:off x="1362240" y="1972440"/>
              <a:ext cx="464760" cy="482760"/>
              <a:chOff x="1362240" y="1972440"/>
              <a:chExt cx="464760" cy="482760"/>
            </a:xfrm>
          </p:grpSpPr>
          <p:grpSp>
            <p:nvGrpSpPr>
              <p:cNvPr id="474" name="Group 166"/>
              <p:cNvGrpSpPr/>
              <p:nvPr/>
            </p:nvGrpSpPr>
            <p:grpSpPr>
              <a:xfrm>
                <a:off x="1362240" y="1972440"/>
                <a:ext cx="458640" cy="178560"/>
                <a:chOff x="1362240" y="1972440"/>
                <a:chExt cx="458640" cy="178560"/>
              </a:xfrm>
            </p:grpSpPr>
            <p:grpSp>
              <p:nvGrpSpPr>
                <p:cNvPr id="475" name="Group 167"/>
                <p:cNvGrpSpPr/>
                <p:nvPr/>
              </p:nvGrpSpPr>
              <p:grpSpPr>
                <a:xfrm>
                  <a:off x="1362240" y="1972440"/>
                  <a:ext cx="226800" cy="90720"/>
                  <a:chOff x="1362240" y="1972440"/>
                  <a:chExt cx="226800" cy="90720"/>
                </a:xfrm>
              </p:grpSpPr>
              <p:sp>
                <p:nvSpPr>
                  <p:cNvPr id="476" name="Arc 168"/>
                  <p:cNvSpPr/>
                  <p:nvPr/>
                </p:nvSpPr>
                <p:spPr>
                  <a:xfrm flipH="1">
                    <a:off x="1362240" y="1972440"/>
                    <a:ext cx="82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Arc 169"/>
                  <p:cNvSpPr/>
                  <p:nvPr/>
                </p:nvSpPr>
                <p:spPr>
                  <a:xfrm flipH="1" flipV="1">
                    <a:off x="1362240" y="2022840"/>
                    <a:ext cx="22680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Group 170"/>
                <p:cNvGrpSpPr/>
                <p:nvPr/>
              </p:nvGrpSpPr>
              <p:grpSpPr>
                <a:xfrm>
                  <a:off x="1594080" y="2062800"/>
                  <a:ext cx="226800" cy="88200"/>
                  <a:chOff x="1594080" y="2062800"/>
                  <a:chExt cx="226800" cy="88200"/>
                </a:xfrm>
              </p:grpSpPr>
              <p:sp>
                <p:nvSpPr>
                  <p:cNvPr id="479" name="Arc 171"/>
                  <p:cNvSpPr/>
                  <p:nvPr/>
                </p:nvSpPr>
                <p:spPr>
                  <a:xfrm flipV="1">
                    <a:off x="1738440" y="2114280"/>
                    <a:ext cx="82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Arc 172"/>
                  <p:cNvSpPr/>
                  <p:nvPr/>
                </p:nvSpPr>
                <p:spPr>
                  <a:xfrm>
                    <a:off x="1594080" y="2062800"/>
                    <a:ext cx="22680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1" name="Group 173"/>
              <p:cNvGrpSpPr/>
              <p:nvPr/>
            </p:nvGrpSpPr>
            <p:grpSpPr>
              <a:xfrm>
                <a:off x="1368360" y="2277000"/>
                <a:ext cx="458640" cy="178200"/>
                <a:chOff x="1368360" y="2277000"/>
                <a:chExt cx="458640" cy="178200"/>
              </a:xfrm>
            </p:grpSpPr>
            <p:grpSp>
              <p:nvGrpSpPr>
                <p:cNvPr id="482" name="Group 174"/>
                <p:cNvGrpSpPr/>
                <p:nvPr/>
              </p:nvGrpSpPr>
              <p:grpSpPr>
                <a:xfrm>
                  <a:off x="1368360" y="2277000"/>
                  <a:ext cx="226800" cy="90720"/>
                  <a:chOff x="1368360" y="2277000"/>
                  <a:chExt cx="226800" cy="90720"/>
                </a:xfrm>
              </p:grpSpPr>
              <p:sp>
                <p:nvSpPr>
                  <p:cNvPr id="483" name="Arc 175"/>
                  <p:cNvSpPr/>
                  <p:nvPr/>
                </p:nvSpPr>
                <p:spPr>
                  <a:xfrm flipH="1">
                    <a:off x="1368360" y="2277000"/>
                    <a:ext cx="82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Arc 176"/>
                  <p:cNvSpPr/>
                  <p:nvPr/>
                </p:nvSpPr>
                <p:spPr>
                  <a:xfrm flipH="1" flipV="1">
                    <a:off x="1368360" y="2327400"/>
                    <a:ext cx="22680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Group 177"/>
                <p:cNvGrpSpPr/>
                <p:nvPr/>
              </p:nvGrpSpPr>
              <p:grpSpPr>
                <a:xfrm>
                  <a:off x="1600200" y="2367000"/>
                  <a:ext cx="226800" cy="88200"/>
                  <a:chOff x="1600200" y="2367000"/>
                  <a:chExt cx="226800" cy="88200"/>
                </a:xfrm>
              </p:grpSpPr>
              <p:sp>
                <p:nvSpPr>
                  <p:cNvPr id="486" name="Arc 178"/>
                  <p:cNvSpPr/>
                  <p:nvPr/>
                </p:nvSpPr>
                <p:spPr>
                  <a:xfrm flipV="1">
                    <a:off x="1744560" y="2418480"/>
                    <a:ext cx="82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Arc 179"/>
                  <p:cNvSpPr/>
                  <p:nvPr/>
                </p:nvSpPr>
                <p:spPr>
                  <a:xfrm>
                    <a:off x="1600200" y="2367000"/>
                    <a:ext cx="22680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88" name="Group 180"/>
            <p:cNvGrpSpPr/>
            <p:nvPr/>
          </p:nvGrpSpPr>
          <p:grpSpPr>
            <a:xfrm>
              <a:off x="2837520" y="1965600"/>
              <a:ext cx="464760" cy="483120"/>
              <a:chOff x="2837520" y="1965600"/>
              <a:chExt cx="464760" cy="483120"/>
            </a:xfrm>
          </p:grpSpPr>
          <p:grpSp>
            <p:nvGrpSpPr>
              <p:cNvPr id="489" name="Group 181"/>
              <p:cNvGrpSpPr/>
              <p:nvPr/>
            </p:nvGrpSpPr>
            <p:grpSpPr>
              <a:xfrm>
                <a:off x="2843640" y="1965600"/>
                <a:ext cx="458640" cy="178920"/>
                <a:chOff x="2843640" y="1965600"/>
                <a:chExt cx="458640" cy="178920"/>
              </a:xfrm>
            </p:grpSpPr>
            <p:grpSp>
              <p:nvGrpSpPr>
                <p:cNvPr id="490" name="Group 182"/>
                <p:cNvGrpSpPr/>
                <p:nvPr/>
              </p:nvGrpSpPr>
              <p:grpSpPr>
                <a:xfrm>
                  <a:off x="3075480" y="1965600"/>
                  <a:ext cx="226800" cy="90720"/>
                  <a:chOff x="3075480" y="1965600"/>
                  <a:chExt cx="226800" cy="90720"/>
                </a:xfrm>
              </p:grpSpPr>
              <p:sp>
                <p:nvSpPr>
                  <p:cNvPr id="491" name="Arc 183"/>
                  <p:cNvSpPr/>
                  <p:nvPr/>
                </p:nvSpPr>
                <p:spPr>
                  <a:xfrm>
                    <a:off x="3219840" y="1965600"/>
                    <a:ext cx="820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Arc 184"/>
                  <p:cNvSpPr/>
                  <p:nvPr/>
                </p:nvSpPr>
                <p:spPr>
                  <a:xfrm flipV="1">
                    <a:off x="3075480" y="2016000"/>
                    <a:ext cx="22680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185"/>
                <p:cNvGrpSpPr/>
                <p:nvPr/>
              </p:nvGrpSpPr>
              <p:grpSpPr>
                <a:xfrm>
                  <a:off x="2843640" y="2055600"/>
                  <a:ext cx="226800" cy="88920"/>
                  <a:chOff x="2843640" y="2055600"/>
                  <a:chExt cx="226800" cy="88920"/>
                </a:xfrm>
              </p:grpSpPr>
              <p:sp>
                <p:nvSpPr>
                  <p:cNvPr id="494" name="Arc 186"/>
                  <p:cNvSpPr/>
                  <p:nvPr/>
                </p:nvSpPr>
                <p:spPr>
                  <a:xfrm flipH="1" flipV="1">
                    <a:off x="2843640" y="2107800"/>
                    <a:ext cx="820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Arc 187"/>
                  <p:cNvSpPr/>
                  <p:nvPr/>
                </p:nvSpPr>
                <p:spPr>
                  <a:xfrm flipH="1">
                    <a:off x="2843640" y="2055600"/>
                    <a:ext cx="22680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6" name="Group 188"/>
              <p:cNvGrpSpPr/>
              <p:nvPr/>
            </p:nvGrpSpPr>
            <p:grpSpPr>
              <a:xfrm>
                <a:off x="2837520" y="2270160"/>
                <a:ext cx="458640" cy="178560"/>
                <a:chOff x="2837520" y="2270160"/>
                <a:chExt cx="458640" cy="178560"/>
              </a:xfrm>
            </p:grpSpPr>
            <p:grpSp>
              <p:nvGrpSpPr>
                <p:cNvPr id="497" name="Group 189"/>
                <p:cNvGrpSpPr/>
                <p:nvPr/>
              </p:nvGrpSpPr>
              <p:grpSpPr>
                <a:xfrm>
                  <a:off x="3069720" y="2270160"/>
                  <a:ext cx="226440" cy="90720"/>
                  <a:chOff x="3069720" y="2270160"/>
                  <a:chExt cx="226440" cy="90720"/>
                </a:xfrm>
              </p:grpSpPr>
              <p:sp>
                <p:nvSpPr>
                  <p:cNvPr id="498" name="Arc 190"/>
                  <p:cNvSpPr/>
                  <p:nvPr/>
                </p:nvSpPr>
                <p:spPr>
                  <a:xfrm>
                    <a:off x="3213720" y="2270160"/>
                    <a:ext cx="82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Arc 191"/>
                  <p:cNvSpPr/>
                  <p:nvPr/>
                </p:nvSpPr>
                <p:spPr>
                  <a:xfrm flipV="1">
                    <a:off x="3069720" y="2320560"/>
                    <a:ext cx="22644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Group 192"/>
                <p:cNvGrpSpPr/>
                <p:nvPr/>
              </p:nvGrpSpPr>
              <p:grpSpPr>
                <a:xfrm>
                  <a:off x="2837520" y="2360520"/>
                  <a:ext cx="226800" cy="88200"/>
                  <a:chOff x="2837520" y="2360520"/>
                  <a:chExt cx="226800" cy="88200"/>
                </a:xfrm>
              </p:grpSpPr>
              <p:sp>
                <p:nvSpPr>
                  <p:cNvPr id="501" name="Arc 193"/>
                  <p:cNvSpPr/>
                  <p:nvPr/>
                </p:nvSpPr>
                <p:spPr>
                  <a:xfrm flipH="1" flipV="1">
                    <a:off x="2837520" y="2412000"/>
                    <a:ext cx="82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Arc 194"/>
                  <p:cNvSpPr/>
                  <p:nvPr/>
                </p:nvSpPr>
                <p:spPr>
                  <a:xfrm flipH="1">
                    <a:off x="2837520" y="2360520"/>
                    <a:ext cx="22680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03" name="Group 195"/>
            <p:cNvGrpSpPr/>
            <p:nvPr/>
          </p:nvGrpSpPr>
          <p:grpSpPr>
            <a:xfrm>
              <a:off x="2850480" y="1757520"/>
              <a:ext cx="765000" cy="134280"/>
              <a:chOff x="2850480" y="1757520"/>
              <a:chExt cx="765000" cy="134280"/>
            </a:xfrm>
          </p:grpSpPr>
          <p:sp>
            <p:nvSpPr>
              <p:cNvPr id="504" name="Arc 196"/>
              <p:cNvSpPr/>
              <p:nvPr/>
            </p:nvSpPr>
            <p:spPr>
              <a:xfrm flipH="1" flipV="1">
                <a:off x="2850120" y="1850040"/>
                <a:ext cx="75960" cy="41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Arc 197"/>
              <p:cNvSpPr/>
              <p:nvPr/>
            </p:nvSpPr>
            <p:spPr>
              <a:xfrm flipH="1">
                <a:off x="2850840" y="1757520"/>
                <a:ext cx="764640" cy="69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6" name="Rectangle 198"/>
          <p:cNvSpPr/>
          <p:nvPr/>
        </p:nvSpPr>
        <p:spPr>
          <a:xfrm>
            <a:off x="4095720" y="1501560"/>
            <a:ext cx="41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ndamento qualitativo delle linee di campo della induzione magnetica in un trasformatore monof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99"/>
          <p:cNvSpPr/>
          <p:nvPr/>
        </p:nvSpPr>
        <p:spPr>
          <a:xfrm>
            <a:off x="311040" y="3198600"/>
            <a:ext cx="849636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a linea di campo della induzione magnetica è necessariamente chiusa e si concatena con almeno uno dei due avvolgimenti del trasformat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 sono linee che, a causa dell’elevato valore della permeabilità magnetica dei lamierini di cui è costituito il nucleo, si sviluppano completamente all’interno di quest’ultimo e si concatenano quindi con entrambi i circuiti ed altre linee invece che si sviluppano in parte al di fuori del nucleo e perciò si concatenano solo con uno dei due avvolgimen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 flusso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ttraverso una sezione normale del nucleo magnetico, dovuto alle linee del tipo c, si dà il nome di flusso “principal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i simboli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d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d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i indicano i flussi “dispersi” concatenati con l’intero avvolgimento 1 e l’intero avvolgimento 2 rispettivamente, cioè i flussi dovuti alle linee di campo del tipo a e del tipo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685800" y="10666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1244520" y="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QUAZIONI DEL TRASFORM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83"/>
              <p:cNvSpPr txBox="1"/>
              <p:nvPr/>
            </p:nvSpPr>
            <p:spPr>
              <a:xfrm>
                <a:off x="412920" y="3079800"/>
                <a:ext cx="16635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Φ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85"/>
              <p:cNvSpPr txBox="1"/>
              <p:nvPr/>
            </p:nvSpPr>
            <p:spPr>
              <a:xfrm>
                <a:off x="254160" y="3676680"/>
                <a:ext cx="40147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ria</m:t>
                        </m:r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ame</m:t>
                        </m:r>
                      </m:sub>
                      <m: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ϕ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86"/>
              <p:cNvSpPr txBox="1"/>
              <p:nvPr/>
            </p:nvSpPr>
            <p:spPr>
              <a:xfrm>
                <a:off x="4195800" y="4565520"/>
                <a:ext cx="33685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ria</m:t>
                        </m:r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≃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87"/>
              <p:cNvSpPr txBox="1"/>
              <p:nvPr/>
            </p:nvSpPr>
            <p:spPr>
              <a:xfrm>
                <a:off x="4183200" y="5278320"/>
                <a:ext cx="47196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ame</m:t>
                        </m:r>
                      </m:sub>
                      <m: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sub>
                        </m:sSub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u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89"/>
              <p:cNvSpPr txBox="1"/>
              <p:nvPr/>
            </p:nvSpPr>
            <p:spPr>
              <a:xfrm>
                <a:off x="4827600" y="1009800"/>
                <a:ext cx="14065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94"/>
              <p:cNvSpPr txBox="1"/>
              <p:nvPr/>
            </p:nvSpPr>
            <p:spPr>
              <a:xfrm>
                <a:off x="4851360" y="1676520"/>
                <a:ext cx="11430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Rectangle 97"/>
          <p:cNvSpPr/>
          <p:nvPr/>
        </p:nvSpPr>
        <p:spPr>
          <a:xfrm>
            <a:off x="5353200" y="56448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Modello ca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98"/>
          <p:cNvSpPr/>
          <p:nvPr/>
        </p:nvSpPr>
        <p:spPr>
          <a:xfrm>
            <a:off x="6597720" y="170748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i fili di 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03"/>
          <p:cNvSpPr/>
          <p:nvPr/>
        </p:nvSpPr>
        <p:spPr>
          <a:xfrm>
            <a:off x="5327640" y="216468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Modello circui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04"/>
          <p:cNvSpPr/>
          <p:nvPr/>
        </p:nvSpPr>
        <p:spPr>
          <a:xfrm>
            <a:off x="4210200" y="2563920"/>
            <a:ext cx="4622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erivata temporale del vettore induzione magnetica è trascurabile in tutto lo spazio all’esterno del trasformatore, ne segue che in tale regione (a connessione lineare semplice) il campo elettrico è conserva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106"/>
              <p:cNvSpPr txBox="1"/>
              <p:nvPr/>
            </p:nvSpPr>
            <p:spPr>
              <a:xfrm>
                <a:off x="4430880" y="6170760"/>
                <a:ext cx="1196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107"/>
              <p:cNvSpPr txBox="1"/>
              <p:nvPr/>
            </p:nvSpPr>
            <p:spPr>
              <a:xfrm>
                <a:off x="289080" y="4695840"/>
                <a:ext cx="318132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108"/>
              <p:cNvSpPr txBox="1"/>
              <p:nvPr/>
            </p:nvSpPr>
            <p:spPr>
              <a:xfrm>
                <a:off x="210960" y="5813280"/>
                <a:ext cx="35910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523" name="AutoShape 109"/>
          <p:cNvCxnSpPr/>
          <p:nvPr/>
        </p:nvCxnSpPr>
        <p:spPr>
          <a:xfrm rot="10800000">
            <a:off x="3567960" y="5117400"/>
            <a:ext cx="551520" cy="465840"/>
          </a:xfrm>
          <a:prstGeom prst="curvedConnector5">
            <a:avLst>
              <a:gd name="adj1" fmla="val 49836"/>
              <a:gd name="adj2" fmla="val 49961"/>
              <a:gd name="adj3" fmla="val 49836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24" name="AutoShape 110"/>
          <p:cNvSpPr/>
          <p:nvPr/>
        </p:nvSpPr>
        <p:spPr>
          <a:xfrm>
            <a:off x="4165560" y="4749840"/>
            <a:ext cx="88920" cy="1663560"/>
          </a:xfrm>
          <a:custGeom>
            <a:avLst/>
            <a:gdLst>
              <a:gd name="textAreaLeft" fmla="*/ 56880 w 88920"/>
              <a:gd name="textAreaRight" fmla="*/ 89280 w 88920"/>
              <a:gd name="textAreaTop" fmla="*/ 43200 h 1663560"/>
              <a:gd name="textAreaBottom" fmla="*/ 1620360 h 166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12"/>
          <p:cNvSpPr/>
          <p:nvPr/>
        </p:nvSpPr>
        <p:spPr>
          <a:xfrm>
            <a:off x="2108160" y="4280040"/>
            <a:ext cx="12600" cy="330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13"/>
          <p:cNvSpPr/>
          <p:nvPr/>
        </p:nvSpPr>
        <p:spPr>
          <a:xfrm>
            <a:off x="247680" y="544284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alog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114"/>
          <p:cNvGrpSpPr/>
          <p:nvPr/>
        </p:nvGrpSpPr>
        <p:grpSpPr>
          <a:xfrm>
            <a:off x="187200" y="425520"/>
            <a:ext cx="3851280" cy="2647800"/>
            <a:chOff x="187200" y="425520"/>
            <a:chExt cx="3851280" cy="2647800"/>
          </a:xfrm>
        </p:grpSpPr>
        <p:grpSp>
          <p:nvGrpSpPr>
            <p:cNvPr id="528" name="Group 115"/>
            <p:cNvGrpSpPr/>
            <p:nvPr/>
          </p:nvGrpSpPr>
          <p:grpSpPr>
            <a:xfrm>
              <a:off x="527040" y="977760"/>
              <a:ext cx="3511440" cy="2084400"/>
              <a:chOff x="527040" y="977760"/>
              <a:chExt cx="3511440" cy="2084400"/>
            </a:xfrm>
          </p:grpSpPr>
          <p:sp>
            <p:nvSpPr>
              <p:cNvPr id="529" name="Rectangle 116"/>
              <p:cNvSpPr/>
              <p:nvPr/>
            </p:nvSpPr>
            <p:spPr>
              <a:xfrm>
                <a:off x="1359000" y="977760"/>
                <a:ext cx="1755720" cy="177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117"/>
              <p:cNvSpPr/>
              <p:nvPr/>
            </p:nvSpPr>
            <p:spPr>
              <a:xfrm>
                <a:off x="1652400" y="1274760"/>
                <a:ext cx="1197000" cy="1162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118"/>
              <p:cNvSpPr/>
              <p:nvPr/>
            </p:nvSpPr>
            <p:spPr>
              <a:xfrm>
                <a:off x="1120680" y="1498680"/>
                <a:ext cx="120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19"/>
              <p:cNvSpPr/>
              <p:nvPr/>
            </p:nvSpPr>
            <p:spPr>
              <a:xfrm>
                <a:off x="1000080" y="1736640"/>
                <a:ext cx="33336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120"/>
              <p:cNvSpPr/>
              <p:nvPr/>
            </p:nvSpPr>
            <p:spPr>
              <a:xfrm>
                <a:off x="3193920" y="1736640"/>
                <a:ext cx="333360" cy="357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121"/>
              <p:cNvSpPr/>
              <p:nvPr/>
            </p:nvSpPr>
            <p:spPr>
              <a:xfrm>
                <a:off x="1133280" y="1008000"/>
                <a:ext cx="333720" cy="357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122"/>
              <p:cNvSpPr/>
              <p:nvPr/>
            </p:nvSpPr>
            <p:spPr>
              <a:xfrm>
                <a:off x="3154320" y="1066680"/>
                <a:ext cx="331920" cy="3589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123"/>
              <p:cNvSpPr/>
              <p:nvPr/>
            </p:nvSpPr>
            <p:spPr>
              <a:xfrm>
                <a:off x="527040" y="1349280"/>
                <a:ext cx="279360" cy="96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124"/>
              <p:cNvSpPr/>
              <p:nvPr/>
            </p:nvSpPr>
            <p:spPr>
              <a:xfrm>
                <a:off x="3822840" y="1406520"/>
                <a:ext cx="215640" cy="96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Oval 125"/>
              <p:cNvSpPr/>
              <p:nvPr/>
            </p:nvSpPr>
            <p:spPr>
              <a:xfrm>
                <a:off x="1619280" y="1662120"/>
                <a:ext cx="272880" cy="61128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126"/>
              <p:cNvSpPr/>
              <p:nvPr/>
            </p:nvSpPr>
            <p:spPr>
              <a:xfrm>
                <a:off x="1889280" y="1952640"/>
                <a:ext cx="144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127"/>
              <p:cNvSpPr/>
              <p:nvPr/>
            </p:nvSpPr>
            <p:spPr>
              <a:xfrm>
                <a:off x="2628720" y="1706400"/>
                <a:ext cx="293760" cy="61128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128"/>
              <p:cNvSpPr/>
              <p:nvPr/>
            </p:nvSpPr>
            <p:spPr>
              <a:xfrm flipV="1">
                <a:off x="2622600" y="196668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129"/>
              <p:cNvSpPr/>
              <p:nvPr/>
            </p:nvSpPr>
            <p:spPr>
              <a:xfrm>
                <a:off x="1890720" y="2138400"/>
                <a:ext cx="12060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130"/>
              <p:cNvSpPr/>
              <p:nvPr/>
            </p:nvSpPr>
            <p:spPr>
              <a:xfrm>
                <a:off x="2462040" y="2152800"/>
                <a:ext cx="12096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131"/>
              <p:cNvSpPr/>
              <p:nvPr/>
            </p:nvSpPr>
            <p:spPr>
              <a:xfrm flipH="1">
                <a:off x="2209680" y="2608200"/>
                <a:ext cx="68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132"/>
              <p:cNvSpPr/>
              <p:nvPr/>
            </p:nvSpPr>
            <p:spPr>
              <a:xfrm>
                <a:off x="2349360" y="2778120"/>
                <a:ext cx="1206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133"/>
              <p:cNvSpPr/>
              <p:nvPr/>
            </p:nvSpPr>
            <p:spPr>
              <a:xfrm>
                <a:off x="1890720" y="2755800"/>
                <a:ext cx="174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134"/>
              <p:cNvSpPr/>
              <p:nvPr/>
            </p:nvSpPr>
            <p:spPr>
              <a:xfrm>
                <a:off x="1824120" y="1454040"/>
                <a:ext cx="32040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135"/>
              <p:cNvSpPr/>
              <p:nvPr/>
            </p:nvSpPr>
            <p:spPr>
              <a:xfrm>
                <a:off x="2355840" y="1468440"/>
                <a:ext cx="32076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136"/>
              <p:cNvSpPr/>
              <p:nvPr/>
            </p:nvSpPr>
            <p:spPr>
              <a:xfrm>
                <a:off x="934920" y="145404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137"/>
              <p:cNvSpPr/>
              <p:nvPr/>
            </p:nvSpPr>
            <p:spPr>
              <a:xfrm>
                <a:off x="3525840" y="148428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138"/>
              <p:cNvSpPr/>
              <p:nvPr/>
            </p:nvSpPr>
            <p:spPr>
              <a:xfrm>
                <a:off x="3498840" y="228744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Oval 139"/>
              <p:cNvSpPr/>
              <p:nvPr/>
            </p:nvSpPr>
            <p:spPr>
              <a:xfrm>
                <a:off x="920880" y="228744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140"/>
              <p:cNvSpPr/>
              <p:nvPr/>
            </p:nvSpPr>
            <p:spPr>
              <a:xfrm>
                <a:off x="787320" y="1127160"/>
                <a:ext cx="2541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41"/>
              <p:cNvSpPr/>
              <p:nvPr/>
            </p:nvSpPr>
            <p:spPr>
              <a:xfrm>
                <a:off x="774720" y="2390760"/>
                <a:ext cx="25380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142"/>
              <p:cNvSpPr/>
              <p:nvPr/>
            </p:nvSpPr>
            <p:spPr>
              <a:xfrm>
                <a:off x="3513240" y="1111320"/>
                <a:ext cx="25236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143"/>
              <p:cNvSpPr/>
              <p:nvPr/>
            </p:nvSpPr>
            <p:spPr>
              <a:xfrm>
                <a:off x="3513240" y="2421000"/>
                <a:ext cx="2523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144"/>
              <p:cNvSpPr/>
              <p:nvPr/>
            </p:nvSpPr>
            <p:spPr>
              <a:xfrm>
                <a:off x="3114720" y="2316240"/>
                <a:ext cx="412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145"/>
              <p:cNvSpPr/>
              <p:nvPr/>
            </p:nvSpPr>
            <p:spPr>
              <a:xfrm>
                <a:off x="3340080" y="1528920"/>
                <a:ext cx="106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Arc 146"/>
              <p:cNvSpPr/>
              <p:nvPr/>
            </p:nvSpPr>
            <p:spPr>
              <a:xfrm flipH="1" flipV="1">
                <a:off x="1531800" y="2443320"/>
                <a:ext cx="154080" cy="156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147"/>
              <p:cNvSpPr/>
              <p:nvPr/>
            </p:nvSpPr>
            <p:spPr>
              <a:xfrm>
                <a:off x="1677960" y="2598840"/>
                <a:ext cx="1184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48"/>
              <p:cNvSpPr/>
              <p:nvPr/>
            </p:nvSpPr>
            <p:spPr>
              <a:xfrm>
                <a:off x="1665360" y="1119240"/>
                <a:ext cx="1184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Arc 149"/>
              <p:cNvSpPr/>
              <p:nvPr/>
            </p:nvSpPr>
            <p:spPr>
              <a:xfrm flipH="1">
                <a:off x="1525680" y="1119240"/>
                <a:ext cx="141120" cy="1731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150"/>
              <p:cNvSpPr/>
              <p:nvPr/>
            </p:nvSpPr>
            <p:spPr>
              <a:xfrm>
                <a:off x="1525680" y="1320840"/>
                <a:ext cx="1440" cy="109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151"/>
              <p:cNvSpPr/>
              <p:nvPr/>
            </p:nvSpPr>
            <p:spPr>
              <a:xfrm>
                <a:off x="2994120" y="1327320"/>
                <a:ext cx="1440" cy="109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Arc 152"/>
              <p:cNvSpPr/>
              <p:nvPr/>
            </p:nvSpPr>
            <p:spPr>
              <a:xfrm>
                <a:off x="2841480" y="1127160"/>
                <a:ext cx="154080" cy="156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Arc 153"/>
              <p:cNvSpPr/>
              <p:nvPr/>
            </p:nvSpPr>
            <p:spPr>
              <a:xfrm flipV="1">
                <a:off x="2881440" y="2435400"/>
                <a:ext cx="114120" cy="158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54"/>
              <p:cNvSpPr/>
              <p:nvPr/>
            </p:nvSpPr>
            <p:spPr>
              <a:xfrm>
                <a:off x="947880" y="2316240"/>
                <a:ext cx="412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Arc 155"/>
              <p:cNvSpPr/>
              <p:nvPr/>
            </p:nvSpPr>
            <p:spPr>
              <a:xfrm flipV="1">
                <a:off x="1658880" y="1583640"/>
                <a:ext cx="73080" cy="4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Arc 156"/>
              <p:cNvSpPr/>
              <p:nvPr/>
            </p:nvSpPr>
            <p:spPr>
              <a:xfrm>
                <a:off x="995400" y="1492200"/>
                <a:ext cx="736560" cy="68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0" name="Group 157"/>
              <p:cNvGrpSpPr/>
              <p:nvPr/>
            </p:nvGrpSpPr>
            <p:grpSpPr>
              <a:xfrm>
                <a:off x="1273320" y="1744560"/>
                <a:ext cx="464760" cy="483120"/>
                <a:chOff x="1273320" y="1744560"/>
                <a:chExt cx="464760" cy="483120"/>
              </a:xfrm>
            </p:grpSpPr>
            <p:grpSp>
              <p:nvGrpSpPr>
                <p:cNvPr id="571" name="Group 158"/>
                <p:cNvGrpSpPr/>
                <p:nvPr/>
              </p:nvGrpSpPr>
              <p:grpSpPr>
                <a:xfrm>
                  <a:off x="1273320" y="1744560"/>
                  <a:ext cx="458640" cy="178560"/>
                  <a:chOff x="1273320" y="1744560"/>
                  <a:chExt cx="458640" cy="178560"/>
                </a:xfrm>
              </p:grpSpPr>
              <p:grpSp>
                <p:nvGrpSpPr>
                  <p:cNvPr id="572" name="Group 159"/>
                  <p:cNvGrpSpPr/>
                  <p:nvPr/>
                </p:nvGrpSpPr>
                <p:grpSpPr>
                  <a:xfrm>
                    <a:off x="1273320" y="1744560"/>
                    <a:ext cx="226800" cy="90720"/>
                    <a:chOff x="1273320" y="1744560"/>
                    <a:chExt cx="226800" cy="90720"/>
                  </a:xfrm>
                </p:grpSpPr>
                <p:sp>
                  <p:nvSpPr>
                    <p:cNvPr id="573" name="Arc 160"/>
                    <p:cNvSpPr/>
                    <p:nvPr/>
                  </p:nvSpPr>
                  <p:spPr>
                    <a:xfrm flipH="1">
                      <a:off x="1273320" y="174456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Arc 161"/>
                    <p:cNvSpPr/>
                    <p:nvPr/>
                  </p:nvSpPr>
                  <p:spPr>
                    <a:xfrm flipH="1" flipV="1">
                      <a:off x="1273320" y="179424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Group 162"/>
                  <p:cNvGrpSpPr/>
                  <p:nvPr/>
                </p:nvGrpSpPr>
                <p:grpSpPr>
                  <a:xfrm>
                    <a:off x="1505160" y="1834920"/>
                    <a:ext cx="226800" cy="88200"/>
                    <a:chOff x="1505160" y="1834920"/>
                    <a:chExt cx="226800" cy="88200"/>
                  </a:xfrm>
                </p:grpSpPr>
                <p:sp>
                  <p:nvSpPr>
                    <p:cNvPr id="576" name="Arc 163"/>
                    <p:cNvSpPr/>
                    <p:nvPr/>
                  </p:nvSpPr>
                  <p:spPr>
                    <a:xfrm flipV="1">
                      <a:off x="1649520" y="1886400"/>
                      <a:ext cx="820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Arc 164"/>
                    <p:cNvSpPr/>
                    <p:nvPr/>
                  </p:nvSpPr>
                  <p:spPr>
                    <a:xfrm>
                      <a:off x="1505160" y="1834920"/>
                      <a:ext cx="2268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78" name="Group 165"/>
                <p:cNvGrpSpPr/>
                <p:nvPr/>
              </p:nvGrpSpPr>
              <p:grpSpPr>
                <a:xfrm>
                  <a:off x="1279440" y="2049120"/>
                  <a:ext cx="458640" cy="178560"/>
                  <a:chOff x="1279440" y="2049120"/>
                  <a:chExt cx="458640" cy="178560"/>
                </a:xfrm>
              </p:grpSpPr>
              <p:grpSp>
                <p:nvGrpSpPr>
                  <p:cNvPr id="579" name="Group 166"/>
                  <p:cNvGrpSpPr/>
                  <p:nvPr/>
                </p:nvGrpSpPr>
                <p:grpSpPr>
                  <a:xfrm>
                    <a:off x="1279440" y="2049120"/>
                    <a:ext cx="226800" cy="90720"/>
                    <a:chOff x="1279440" y="2049120"/>
                    <a:chExt cx="226800" cy="90720"/>
                  </a:xfrm>
                </p:grpSpPr>
                <p:sp>
                  <p:nvSpPr>
                    <p:cNvPr id="580" name="Arc 167"/>
                    <p:cNvSpPr/>
                    <p:nvPr/>
                  </p:nvSpPr>
                  <p:spPr>
                    <a:xfrm flipH="1">
                      <a:off x="1279440" y="204912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Arc 168"/>
                    <p:cNvSpPr/>
                    <p:nvPr/>
                  </p:nvSpPr>
                  <p:spPr>
                    <a:xfrm flipH="1" flipV="1">
                      <a:off x="1279440" y="209880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2" name="Group 169"/>
                  <p:cNvGrpSpPr/>
                  <p:nvPr/>
                </p:nvGrpSpPr>
                <p:grpSpPr>
                  <a:xfrm>
                    <a:off x="1511280" y="2139120"/>
                    <a:ext cx="226800" cy="88560"/>
                    <a:chOff x="1511280" y="2139120"/>
                    <a:chExt cx="226800" cy="88560"/>
                  </a:xfrm>
                </p:grpSpPr>
                <p:sp>
                  <p:nvSpPr>
                    <p:cNvPr id="583" name="Arc 170"/>
                    <p:cNvSpPr/>
                    <p:nvPr/>
                  </p:nvSpPr>
                  <p:spPr>
                    <a:xfrm flipV="1">
                      <a:off x="1655640" y="2190960"/>
                      <a:ext cx="820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Arc 171"/>
                    <p:cNvSpPr/>
                    <p:nvPr/>
                  </p:nvSpPr>
                  <p:spPr>
                    <a:xfrm>
                      <a:off x="1511280" y="213912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85" name="Group 172"/>
              <p:cNvGrpSpPr/>
              <p:nvPr/>
            </p:nvGrpSpPr>
            <p:grpSpPr>
              <a:xfrm>
                <a:off x="2749680" y="1736640"/>
                <a:ext cx="464760" cy="483120"/>
                <a:chOff x="2749680" y="1736640"/>
                <a:chExt cx="464760" cy="483120"/>
              </a:xfrm>
            </p:grpSpPr>
            <p:grpSp>
              <p:nvGrpSpPr>
                <p:cNvPr id="586" name="Group 173"/>
                <p:cNvGrpSpPr/>
                <p:nvPr/>
              </p:nvGrpSpPr>
              <p:grpSpPr>
                <a:xfrm>
                  <a:off x="2755800" y="1736640"/>
                  <a:ext cx="458640" cy="179280"/>
                  <a:chOff x="2755800" y="1736640"/>
                  <a:chExt cx="458640" cy="179280"/>
                </a:xfrm>
              </p:grpSpPr>
              <p:grpSp>
                <p:nvGrpSpPr>
                  <p:cNvPr id="587" name="Group 174"/>
                  <p:cNvGrpSpPr/>
                  <p:nvPr/>
                </p:nvGrpSpPr>
                <p:grpSpPr>
                  <a:xfrm>
                    <a:off x="2987640" y="1736640"/>
                    <a:ext cx="226800" cy="90720"/>
                    <a:chOff x="2987640" y="1736640"/>
                    <a:chExt cx="226800" cy="90720"/>
                  </a:xfrm>
                </p:grpSpPr>
                <p:sp>
                  <p:nvSpPr>
                    <p:cNvPr id="588" name="Arc 175"/>
                    <p:cNvSpPr/>
                    <p:nvPr/>
                  </p:nvSpPr>
                  <p:spPr>
                    <a:xfrm>
                      <a:off x="3132000" y="173664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Arc 176"/>
                    <p:cNvSpPr/>
                    <p:nvPr/>
                  </p:nvSpPr>
                  <p:spPr>
                    <a:xfrm flipV="1">
                      <a:off x="2987640" y="1787040"/>
                      <a:ext cx="2268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Group 177"/>
                  <p:cNvGrpSpPr/>
                  <p:nvPr/>
                </p:nvGrpSpPr>
                <p:grpSpPr>
                  <a:xfrm>
                    <a:off x="2755800" y="1827000"/>
                    <a:ext cx="226800" cy="88920"/>
                    <a:chOff x="2755800" y="1827000"/>
                    <a:chExt cx="226800" cy="88920"/>
                  </a:xfrm>
                </p:grpSpPr>
                <p:sp>
                  <p:nvSpPr>
                    <p:cNvPr id="591" name="Arc 178"/>
                    <p:cNvSpPr/>
                    <p:nvPr/>
                  </p:nvSpPr>
                  <p:spPr>
                    <a:xfrm flipH="1" flipV="1">
                      <a:off x="2755800" y="187920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Arc 179"/>
                    <p:cNvSpPr/>
                    <p:nvPr/>
                  </p:nvSpPr>
                  <p:spPr>
                    <a:xfrm flipH="1">
                      <a:off x="2755800" y="182700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93" name="Group 180"/>
                <p:cNvGrpSpPr/>
                <p:nvPr/>
              </p:nvGrpSpPr>
              <p:grpSpPr>
                <a:xfrm>
                  <a:off x="2749680" y="2041200"/>
                  <a:ext cx="458640" cy="178560"/>
                  <a:chOff x="2749680" y="2041200"/>
                  <a:chExt cx="458640" cy="178560"/>
                </a:xfrm>
              </p:grpSpPr>
              <p:grpSp>
                <p:nvGrpSpPr>
                  <p:cNvPr id="594" name="Group 181"/>
                  <p:cNvGrpSpPr/>
                  <p:nvPr/>
                </p:nvGrpSpPr>
                <p:grpSpPr>
                  <a:xfrm>
                    <a:off x="2981880" y="2041200"/>
                    <a:ext cx="226440" cy="90720"/>
                    <a:chOff x="2981880" y="2041200"/>
                    <a:chExt cx="226440" cy="90720"/>
                  </a:xfrm>
                </p:grpSpPr>
                <p:sp>
                  <p:nvSpPr>
                    <p:cNvPr id="595" name="Arc 182"/>
                    <p:cNvSpPr/>
                    <p:nvPr/>
                  </p:nvSpPr>
                  <p:spPr>
                    <a:xfrm>
                      <a:off x="3125880" y="204120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Arc 183"/>
                    <p:cNvSpPr/>
                    <p:nvPr/>
                  </p:nvSpPr>
                  <p:spPr>
                    <a:xfrm flipV="1">
                      <a:off x="2981880" y="2090880"/>
                      <a:ext cx="22644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7" name="Group 184"/>
                  <p:cNvGrpSpPr/>
                  <p:nvPr/>
                </p:nvGrpSpPr>
                <p:grpSpPr>
                  <a:xfrm>
                    <a:off x="2749680" y="2131560"/>
                    <a:ext cx="226800" cy="88200"/>
                    <a:chOff x="2749680" y="2131560"/>
                    <a:chExt cx="226800" cy="88200"/>
                  </a:xfrm>
                </p:grpSpPr>
                <p:sp>
                  <p:nvSpPr>
                    <p:cNvPr id="598" name="Arc 185"/>
                    <p:cNvSpPr/>
                    <p:nvPr/>
                  </p:nvSpPr>
                  <p:spPr>
                    <a:xfrm flipH="1" flipV="1">
                      <a:off x="2749680" y="2183040"/>
                      <a:ext cx="820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Arc 186"/>
                    <p:cNvSpPr/>
                    <p:nvPr/>
                  </p:nvSpPr>
                  <p:spPr>
                    <a:xfrm flipH="1">
                      <a:off x="2749680" y="2131560"/>
                      <a:ext cx="2268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00" name="Group 187"/>
              <p:cNvGrpSpPr/>
              <p:nvPr/>
            </p:nvGrpSpPr>
            <p:grpSpPr>
              <a:xfrm>
                <a:off x="2761920" y="1528920"/>
                <a:ext cx="765000" cy="134280"/>
                <a:chOff x="2761920" y="1528920"/>
                <a:chExt cx="765000" cy="134280"/>
              </a:xfrm>
            </p:grpSpPr>
            <p:sp>
              <p:nvSpPr>
                <p:cNvPr id="601" name="Arc 188"/>
                <p:cNvSpPr/>
                <p:nvPr/>
              </p:nvSpPr>
              <p:spPr>
                <a:xfrm flipH="1" flipV="1">
                  <a:off x="2761560" y="1621440"/>
                  <a:ext cx="75960" cy="414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Arc 189"/>
                <p:cNvSpPr/>
                <p:nvPr/>
              </p:nvSpPr>
              <p:spPr>
                <a:xfrm flipH="1">
                  <a:off x="2761560" y="1528920"/>
                  <a:ext cx="765000" cy="694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Freeform 190"/>
              <p:cNvSpPr/>
              <p:nvPr/>
            </p:nvSpPr>
            <p:spPr>
              <a:xfrm>
                <a:off x="789120" y="1486080"/>
                <a:ext cx="163440" cy="838080"/>
              </a:xfrm>
              <a:custGeom>
                <a:avLst/>
                <a:gdLst/>
                <a:ahLst/>
                <a:rect l="l" t="t" r="r" b="b"/>
                <a:pathLst>
                  <a:path w="103" h="528">
                    <a:moveTo>
                      <a:pt x="95" y="528"/>
                    </a:moveTo>
                    <a:cubicBezTo>
                      <a:pt x="61" y="468"/>
                      <a:pt x="28" y="409"/>
                      <a:pt x="15" y="344"/>
                    </a:cubicBezTo>
                    <a:cubicBezTo>
                      <a:pt x="2" y="279"/>
                      <a:pt x="0" y="193"/>
                      <a:pt x="15" y="136"/>
                    </a:cubicBezTo>
                    <a:cubicBezTo>
                      <a:pt x="30" y="79"/>
                      <a:pt x="66" y="39"/>
                      <a:pt x="10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191"/>
              <p:cNvSpPr/>
              <p:nvPr/>
            </p:nvSpPr>
            <p:spPr>
              <a:xfrm>
                <a:off x="3556080" y="1523880"/>
                <a:ext cx="228600" cy="774720"/>
              </a:xfrm>
              <a:custGeom>
                <a:avLst/>
                <a:gdLst/>
                <a:ahLst/>
                <a:rect l="l" t="t" r="r" b="b"/>
                <a:pathLst>
                  <a:path w="144" h="488">
                    <a:moveTo>
                      <a:pt x="0" y="488"/>
                    </a:moveTo>
                    <a:cubicBezTo>
                      <a:pt x="45" y="454"/>
                      <a:pt x="91" y="420"/>
                      <a:pt x="112" y="360"/>
                    </a:cubicBezTo>
                    <a:cubicBezTo>
                      <a:pt x="133" y="300"/>
                      <a:pt x="144" y="188"/>
                      <a:pt x="128" y="128"/>
                    </a:cubicBezTo>
                    <a:cubicBezTo>
                      <a:pt x="112" y="68"/>
                      <a:pt x="64" y="34"/>
                      <a:pt x="1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05" name="Object 192"/>
                <p:cNvSpPr txBox="1"/>
                <p:nvPr/>
              </p:nvSpPr>
              <p:spPr>
                <a:xfrm>
                  <a:off x="187200" y="425520"/>
                  <a:ext cx="80640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≃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6" name="Object 193"/>
                <p:cNvSpPr txBox="1"/>
                <p:nvPr/>
              </p:nvSpPr>
              <p:spPr>
                <a:xfrm>
                  <a:off x="1419120" y="704880"/>
                  <a:ext cx="80640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≠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7" name="Rectangle 194"/>
            <p:cNvSpPr/>
            <p:nvPr/>
          </p:nvSpPr>
          <p:spPr>
            <a:xfrm>
              <a:off x="1092240" y="673200"/>
              <a:ext cx="2260440" cy="240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8" name="Object 195"/>
                <p:cNvSpPr txBox="1"/>
                <p:nvPr/>
              </p:nvSpPr>
              <p:spPr>
                <a:xfrm>
                  <a:off x="2394000" y="704880"/>
                  <a:ext cx="78588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D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≃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3"/>
          <p:cNvSpPr/>
          <p:nvPr/>
        </p:nvSpPr>
        <p:spPr>
          <a:xfrm>
            <a:off x="1219320" y="1522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QUAZIONI DEL TRASFORM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4"/>
              <p:cNvSpPr txBox="1"/>
              <p:nvPr/>
            </p:nvSpPr>
            <p:spPr>
              <a:xfrm>
                <a:off x="817560" y="4424400"/>
                <a:ext cx="21510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11" name="Group 175"/>
          <p:cNvGrpSpPr/>
          <p:nvPr/>
        </p:nvGrpSpPr>
        <p:grpSpPr>
          <a:xfrm>
            <a:off x="4863960" y="1200240"/>
            <a:ext cx="1612800" cy="641160"/>
            <a:chOff x="4863960" y="1200240"/>
            <a:chExt cx="1612800" cy="641160"/>
          </a:xfrm>
        </p:grpSpPr>
        <mc:AlternateContent>
          <mc:Choice xmlns:a14="http://schemas.microsoft.com/office/drawing/2010/main" Requires="a14">
            <p:sp>
              <p:nvSpPr>
                <p:cNvPr id="612" name="Object 9"/>
                <p:cNvSpPr txBox="1"/>
                <p:nvPr/>
              </p:nvSpPr>
              <p:spPr>
                <a:xfrm>
                  <a:off x="4863960" y="1200240"/>
                  <a:ext cx="161280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∇</m:t>
                      </m:r>
                      <m:r>
                        <m:t xml:space="preserve">×</m:t>
                      </m:r>
                      <m:r>
                        <m:t xml:space="preserve">H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D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613" name="Group 11"/>
            <p:cNvGrpSpPr/>
            <p:nvPr/>
          </p:nvGrpSpPr>
          <p:grpSpPr>
            <a:xfrm>
              <a:off x="6146280" y="1219320"/>
              <a:ext cx="292320" cy="622080"/>
              <a:chOff x="6146280" y="1219320"/>
              <a:chExt cx="292320" cy="622080"/>
            </a:xfrm>
          </p:grpSpPr>
          <p:sp>
            <p:nvSpPr>
              <p:cNvPr id="614" name="Line 12"/>
              <p:cNvSpPr/>
              <p:nvPr/>
            </p:nvSpPr>
            <p:spPr>
              <a:xfrm flipH="1">
                <a:off x="6146280" y="1219320"/>
                <a:ext cx="291960" cy="622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13"/>
              <p:cNvSpPr/>
              <p:nvPr/>
            </p:nvSpPr>
            <p:spPr>
              <a:xfrm>
                <a:off x="6146640" y="1219320"/>
                <a:ext cx="291960" cy="622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Rectangle 174"/>
          <p:cNvSpPr/>
          <p:nvPr/>
        </p:nvSpPr>
        <p:spPr>
          <a:xfrm>
            <a:off x="5289480" y="78048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Modello ca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76"/>
          <p:cNvSpPr/>
          <p:nvPr/>
        </p:nvSpPr>
        <p:spPr>
          <a:xfrm>
            <a:off x="5213520" y="297756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Modello circui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77"/>
          <p:cNvSpPr/>
          <p:nvPr/>
        </p:nvSpPr>
        <p:spPr>
          <a:xfrm>
            <a:off x="4197240" y="3441240"/>
            <a:ext cx="46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fenomeni legati alla densità di corrente di spostamento sono trascura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183"/>
          <p:cNvGrpSpPr/>
          <p:nvPr/>
        </p:nvGrpSpPr>
        <p:grpSpPr>
          <a:xfrm>
            <a:off x="187200" y="654120"/>
            <a:ext cx="3851280" cy="2647800"/>
            <a:chOff x="187200" y="654120"/>
            <a:chExt cx="3851280" cy="2647800"/>
          </a:xfrm>
        </p:grpSpPr>
        <p:grpSp>
          <p:nvGrpSpPr>
            <p:cNvPr id="620" name="Group 94"/>
            <p:cNvGrpSpPr/>
            <p:nvPr/>
          </p:nvGrpSpPr>
          <p:grpSpPr>
            <a:xfrm>
              <a:off x="527040" y="1206360"/>
              <a:ext cx="3511440" cy="2084400"/>
              <a:chOff x="527040" y="1206360"/>
              <a:chExt cx="3511440" cy="2084400"/>
            </a:xfrm>
          </p:grpSpPr>
          <p:sp>
            <p:nvSpPr>
              <p:cNvPr id="621" name="Rectangle 95"/>
              <p:cNvSpPr/>
              <p:nvPr/>
            </p:nvSpPr>
            <p:spPr>
              <a:xfrm>
                <a:off x="1359000" y="1206360"/>
                <a:ext cx="1755720" cy="177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Rectangle 96"/>
              <p:cNvSpPr/>
              <p:nvPr/>
            </p:nvSpPr>
            <p:spPr>
              <a:xfrm>
                <a:off x="1652400" y="1503360"/>
                <a:ext cx="1197000" cy="1162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97"/>
              <p:cNvSpPr/>
              <p:nvPr/>
            </p:nvSpPr>
            <p:spPr>
              <a:xfrm>
                <a:off x="1120680" y="1727280"/>
                <a:ext cx="120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98"/>
              <p:cNvSpPr/>
              <p:nvPr/>
            </p:nvSpPr>
            <p:spPr>
              <a:xfrm>
                <a:off x="1000080" y="1965240"/>
                <a:ext cx="33336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99"/>
              <p:cNvSpPr/>
              <p:nvPr/>
            </p:nvSpPr>
            <p:spPr>
              <a:xfrm>
                <a:off x="3193920" y="1965240"/>
                <a:ext cx="333360" cy="357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100"/>
              <p:cNvSpPr/>
              <p:nvPr/>
            </p:nvSpPr>
            <p:spPr>
              <a:xfrm>
                <a:off x="1133280" y="1236600"/>
                <a:ext cx="333720" cy="357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Rectangle 101"/>
              <p:cNvSpPr/>
              <p:nvPr/>
            </p:nvSpPr>
            <p:spPr>
              <a:xfrm>
                <a:off x="3154320" y="1295280"/>
                <a:ext cx="331920" cy="3589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102"/>
              <p:cNvSpPr/>
              <p:nvPr/>
            </p:nvSpPr>
            <p:spPr>
              <a:xfrm>
                <a:off x="527040" y="1577880"/>
                <a:ext cx="279360" cy="96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03"/>
              <p:cNvSpPr/>
              <p:nvPr/>
            </p:nvSpPr>
            <p:spPr>
              <a:xfrm>
                <a:off x="3822840" y="1635120"/>
                <a:ext cx="215640" cy="96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Oval 104"/>
              <p:cNvSpPr/>
              <p:nvPr/>
            </p:nvSpPr>
            <p:spPr>
              <a:xfrm>
                <a:off x="1619280" y="1890720"/>
                <a:ext cx="272880" cy="61128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105"/>
              <p:cNvSpPr/>
              <p:nvPr/>
            </p:nvSpPr>
            <p:spPr>
              <a:xfrm>
                <a:off x="1889280" y="2181240"/>
                <a:ext cx="144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Oval 106"/>
              <p:cNvSpPr/>
              <p:nvPr/>
            </p:nvSpPr>
            <p:spPr>
              <a:xfrm>
                <a:off x="2628720" y="1935000"/>
                <a:ext cx="293760" cy="61128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107"/>
              <p:cNvSpPr/>
              <p:nvPr/>
            </p:nvSpPr>
            <p:spPr>
              <a:xfrm flipV="1">
                <a:off x="2622600" y="219528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108"/>
              <p:cNvSpPr/>
              <p:nvPr/>
            </p:nvSpPr>
            <p:spPr>
              <a:xfrm>
                <a:off x="1890720" y="2367000"/>
                <a:ext cx="12060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109"/>
              <p:cNvSpPr/>
              <p:nvPr/>
            </p:nvSpPr>
            <p:spPr>
              <a:xfrm>
                <a:off x="2462040" y="2381400"/>
                <a:ext cx="12096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10"/>
              <p:cNvSpPr/>
              <p:nvPr/>
            </p:nvSpPr>
            <p:spPr>
              <a:xfrm flipH="1">
                <a:off x="2209680" y="2836800"/>
                <a:ext cx="68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Rectangle 111"/>
              <p:cNvSpPr/>
              <p:nvPr/>
            </p:nvSpPr>
            <p:spPr>
              <a:xfrm>
                <a:off x="2349360" y="3006720"/>
                <a:ext cx="1206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Rectangle 112"/>
              <p:cNvSpPr/>
              <p:nvPr/>
            </p:nvSpPr>
            <p:spPr>
              <a:xfrm>
                <a:off x="1890720" y="2984400"/>
                <a:ext cx="174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Rectangle 113"/>
              <p:cNvSpPr/>
              <p:nvPr/>
            </p:nvSpPr>
            <p:spPr>
              <a:xfrm>
                <a:off x="1824120" y="1682640"/>
                <a:ext cx="32040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114"/>
              <p:cNvSpPr/>
              <p:nvPr/>
            </p:nvSpPr>
            <p:spPr>
              <a:xfrm>
                <a:off x="2355840" y="1697040"/>
                <a:ext cx="32076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Oval 115"/>
              <p:cNvSpPr/>
              <p:nvPr/>
            </p:nvSpPr>
            <p:spPr>
              <a:xfrm>
                <a:off x="934920" y="168264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Oval 116"/>
              <p:cNvSpPr/>
              <p:nvPr/>
            </p:nvSpPr>
            <p:spPr>
              <a:xfrm>
                <a:off x="3525840" y="171288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Oval 117"/>
              <p:cNvSpPr/>
              <p:nvPr/>
            </p:nvSpPr>
            <p:spPr>
              <a:xfrm>
                <a:off x="3498840" y="251604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Oval 118"/>
              <p:cNvSpPr/>
              <p:nvPr/>
            </p:nvSpPr>
            <p:spPr>
              <a:xfrm>
                <a:off x="920880" y="251604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119"/>
              <p:cNvSpPr/>
              <p:nvPr/>
            </p:nvSpPr>
            <p:spPr>
              <a:xfrm>
                <a:off x="787320" y="1355760"/>
                <a:ext cx="2541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120"/>
              <p:cNvSpPr/>
              <p:nvPr/>
            </p:nvSpPr>
            <p:spPr>
              <a:xfrm>
                <a:off x="774720" y="2619360"/>
                <a:ext cx="25380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121"/>
              <p:cNvSpPr/>
              <p:nvPr/>
            </p:nvSpPr>
            <p:spPr>
              <a:xfrm>
                <a:off x="3513240" y="1339920"/>
                <a:ext cx="25236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122"/>
              <p:cNvSpPr/>
              <p:nvPr/>
            </p:nvSpPr>
            <p:spPr>
              <a:xfrm>
                <a:off x="3513240" y="2649600"/>
                <a:ext cx="2523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123"/>
              <p:cNvSpPr/>
              <p:nvPr/>
            </p:nvSpPr>
            <p:spPr>
              <a:xfrm>
                <a:off x="3114720" y="2544840"/>
                <a:ext cx="412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124"/>
              <p:cNvSpPr/>
              <p:nvPr/>
            </p:nvSpPr>
            <p:spPr>
              <a:xfrm>
                <a:off x="3340080" y="1757520"/>
                <a:ext cx="106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Arc 125"/>
              <p:cNvSpPr/>
              <p:nvPr/>
            </p:nvSpPr>
            <p:spPr>
              <a:xfrm flipH="1" flipV="1">
                <a:off x="1531800" y="2671920"/>
                <a:ext cx="154080" cy="156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126"/>
              <p:cNvSpPr/>
              <p:nvPr/>
            </p:nvSpPr>
            <p:spPr>
              <a:xfrm>
                <a:off x="1677960" y="2827440"/>
                <a:ext cx="1184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127"/>
              <p:cNvSpPr/>
              <p:nvPr/>
            </p:nvSpPr>
            <p:spPr>
              <a:xfrm>
                <a:off x="1665360" y="1347840"/>
                <a:ext cx="1184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Arc 128"/>
              <p:cNvSpPr/>
              <p:nvPr/>
            </p:nvSpPr>
            <p:spPr>
              <a:xfrm flipH="1">
                <a:off x="1525680" y="1347840"/>
                <a:ext cx="141120" cy="1731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129"/>
              <p:cNvSpPr/>
              <p:nvPr/>
            </p:nvSpPr>
            <p:spPr>
              <a:xfrm>
                <a:off x="1525680" y="1549440"/>
                <a:ext cx="1440" cy="109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130"/>
              <p:cNvSpPr/>
              <p:nvPr/>
            </p:nvSpPr>
            <p:spPr>
              <a:xfrm>
                <a:off x="2994120" y="1555920"/>
                <a:ext cx="1440" cy="109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Arc 131"/>
              <p:cNvSpPr/>
              <p:nvPr/>
            </p:nvSpPr>
            <p:spPr>
              <a:xfrm>
                <a:off x="2841480" y="1355760"/>
                <a:ext cx="154080" cy="156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Arc 132"/>
              <p:cNvSpPr/>
              <p:nvPr/>
            </p:nvSpPr>
            <p:spPr>
              <a:xfrm flipV="1">
                <a:off x="2881440" y="2664000"/>
                <a:ext cx="114120" cy="158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133"/>
              <p:cNvSpPr/>
              <p:nvPr/>
            </p:nvSpPr>
            <p:spPr>
              <a:xfrm>
                <a:off x="947880" y="2544840"/>
                <a:ext cx="412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rc 134"/>
              <p:cNvSpPr/>
              <p:nvPr/>
            </p:nvSpPr>
            <p:spPr>
              <a:xfrm flipV="1">
                <a:off x="1658880" y="1812240"/>
                <a:ext cx="73080" cy="4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Arc 135"/>
              <p:cNvSpPr/>
              <p:nvPr/>
            </p:nvSpPr>
            <p:spPr>
              <a:xfrm>
                <a:off x="995400" y="1720800"/>
                <a:ext cx="736560" cy="68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2" name="Group 136"/>
              <p:cNvGrpSpPr/>
              <p:nvPr/>
            </p:nvGrpSpPr>
            <p:grpSpPr>
              <a:xfrm>
                <a:off x="1273320" y="1973160"/>
                <a:ext cx="464760" cy="483120"/>
                <a:chOff x="1273320" y="1973160"/>
                <a:chExt cx="464760" cy="483120"/>
              </a:xfrm>
            </p:grpSpPr>
            <p:grpSp>
              <p:nvGrpSpPr>
                <p:cNvPr id="663" name="Group 137"/>
                <p:cNvGrpSpPr/>
                <p:nvPr/>
              </p:nvGrpSpPr>
              <p:grpSpPr>
                <a:xfrm>
                  <a:off x="1273320" y="1973160"/>
                  <a:ext cx="458640" cy="178560"/>
                  <a:chOff x="1273320" y="1973160"/>
                  <a:chExt cx="458640" cy="178560"/>
                </a:xfrm>
              </p:grpSpPr>
              <p:grpSp>
                <p:nvGrpSpPr>
                  <p:cNvPr id="664" name="Group 138"/>
                  <p:cNvGrpSpPr/>
                  <p:nvPr/>
                </p:nvGrpSpPr>
                <p:grpSpPr>
                  <a:xfrm>
                    <a:off x="1273320" y="1973160"/>
                    <a:ext cx="226800" cy="90720"/>
                    <a:chOff x="1273320" y="1973160"/>
                    <a:chExt cx="226800" cy="90720"/>
                  </a:xfrm>
                </p:grpSpPr>
                <p:sp>
                  <p:nvSpPr>
                    <p:cNvPr id="665" name="Arc 139"/>
                    <p:cNvSpPr/>
                    <p:nvPr/>
                  </p:nvSpPr>
                  <p:spPr>
                    <a:xfrm flipH="1">
                      <a:off x="1273320" y="197316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Arc 140"/>
                    <p:cNvSpPr/>
                    <p:nvPr/>
                  </p:nvSpPr>
                  <p:spPr>
                    <a:xfrm flipH="1" flipV="1">
                      <a:off x="1273320" y="202284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Group 141"/>
                  <p:cNvGrpSpPr/>
                  <p:nvPr/>
                </p:nvGrpSpPr>
                <p:grpSpPr>
                  <a:xfrm>
                    <a:off x="1505160" y="2063520"/>
                    <a:ext cx="226800" cy="88200"/>
                    <a:chOff x="1505160" y="2063520"/>
                    <a:chExt cx="226800" cy="88200"/>
                  </a:xfrm>
                </p:grpSpPr>
                <p:sp>
                  <p:nvSpPr>
                    <p:cNvPr id="668" name="Arc 142"/>
                    <p:cNvSpPr/>
                    <p:nvPr/>
                  </p:nvSpPr>
                  <p:spPr>
                    <a:xfrm flipV="1">
                      <a:off x="1649520" y="2115000"/>
                      <a:ext cx="820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Arc 143"/>
                    <p:cNvSpPr/>
                    <p:nvPr/>
                  </p:nvSpPr>
                  <p:spPr>
                    <a:xfrm>
                      <a:off x="1505160" y="2063520"/>
                      <a:ext cx="2268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70" name="Group 144"/>
                <p:cNvGrpSpPr/>
                <p:nvPr/>
              </p:nvGrpSpPr>
              <p:grpSpPr>
                <a:xfrm>
                  <a:off x="1279440" y="2277720"/>
                  <a:ext cx="458640" cy="178560"/>
                  <a:chOff x="1279440" y="2277720"/>
                  <a:chExt cx="458640" cy="178560"/>
                </a:xfrm>
              </p:grpSpPr>
              <p:grpSp>
                <p:nvGrpSpPr>
                  <p:cNvPr id="671" name="Group 145"/>
                  <p:cNvGrpSpPr/>
                  <p:nvPr/>
                </p:nvGrpSpPr>
                <p:grpSpPr>
                  <a:xfrm>
                    <a:off x="1279440" y="2277720"/>
                    <a:ext cx="226800" cy="90720"/>
                    <a:chOff x="1279440" y="2277720"/>
                    <a:chExt cx="226800" cy="90720"/>
                  </a:xfrm>
                </p:grpSpPr>
                <p:sp>
                  <p:nvSpPr>
                    <p:cNvPr id="672" name="Arc 146"/>
                    <p:cNvSpPr/>
                    <p:nvPr/>
                  </p:nvSpPr>
                  <p:spPr>
                    <a:xfrm flipH="1">
                      <a:off x="1279440" y="227772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Arc 147"/>
                    <p:cNvSpPr/>
                    <p:nvPr/>
                  </p:nvSpPr>
                  <p:spPr>
                    <a:xfrm flipH="1" flipV="1">
                      <a:off x="1279440" y="232740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4" name="Group 148"/>
                  <p:cNvGrpSpPr/>
                  <p:nvPr/>
                </p:nvGrpSpPr>
                <p:grpSpPr>
                  <a:xfrm>
                    <a:off x="1511280" y="2367720"/>
                    <a:ext cx="226800" cy="88560"/>
                    <a:chOff x="1511280" y="2367720"/>
                    <a:chExt cx="226800" cy="88560"/>
                  </a:xfrm>
                </p:grpSpPr>
                <p:sp>
                  <p:nvSpPr>
                    <p:cNvPr id="675" name="Arc 149"/>
                    <p:cNvSpPr/>
                    <p:nvPr/>
                  </p:nvSpPr>
                  <p:spPr>
                    <a:xfrm flipV="1">
                      <a:off x="1655640" y="2419560"/>
                      <a:ext cx="820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Arc 150"/>
                    <p:cNvSpPr/>
                    <p:nvPr/>
                  </p:nvSpPr>
                  <p:spPr>
                    <a:xfrm>
                      <a:off x="1511280" y="236772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7" name="Group 151"/>
              <p:cNvGrpSpPr/>
              <p:nvPr/>
            </p:nvGrpSpPr>
            <p:grpSpPr>
              <a:xfrm>
                <a:off x="2749680" y="1965240"/>
                <a:ext cx="464760" cy="483120"/>
                <a:chOff x="2749680" y="1965240"/>
                <a:chExt cx="464760" cy="483120"/>
              </a:xfrm>
            </p:grpSpPr>
            <p:grpSp>
              <p:nvGrpSpPr>
                <p:cNvPr id="678" name="Group 152"/>
                <p:cNvGrpSpPr/>
                <p:nvPr/>
              </p:nvGrpSpPr>
              <p:grpSpPr>
                <a:xfrm>
                  <a:off x="2755800" y="1965240"/>
                  <a:ext cx="458640" cy="179280"/>
                  <a:chOff x="2755800" y="1965240"/>
                  <a:chExt cx="458640" cy="179280"/>
                </a:xfrm>
              </p:grpSpPr>
              <p:grpSp>
                <p:nvGrpSpPr>
                  <p:cNvPr id="679" name="Group 153"/>
                  <p:cNvGrpSpPr/>
                  <p:nvPr/>
                </p:nvGrpSpPr>
                <p:grpSpPr>
                  <a:xfrm>
                    <a:off x="2987640" y="1965240"/>
                    <a:ext cx="226800" cy="90720"/>
                    <a:chOff x="2987640" y="1965240"/>
                    <a:chExt cx="226800" cy="90720"/>
                  </a:xfrm>
                </p:grpSpPr>
                <p:sp>
                  <p:nvSpPr>
                    <p:cNvPr id="680" name="Arc 154"/>
                    <p:cNvSpPr/>
                    <p:nvPr/>
                  </p:nvSpPr>
                  <p:spPr>
                    <a:xfrm>
                      <a:off x="3132000" y="196524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Arc 155"/>
                    <p:cNvSpPr/>
                    <p:nvPr/>
                  </p:nvSpPr>
                  <p:spPr>
                    <a:xfrm flipV="1">
                      <a:off x="2987640" y="2015640"/>
                      <a:ext cx="2268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Group 156"/>
                  <p:cNvGrpSpPr/>
                  <p:nvPr/>
                </p:nvGrpSpPr>
                <p:grpSpPr>
                  <a:xfrm>
                    <a:off x="2755800" y="2055600"/>
                    <a:ext cx="226800" cy="88920"/>
                    <a:chOff x="2755800" y="2055600"/>
                    <a:chExt cx="226800" cy="88920"/>
                  </a:xfrm>
                </p:grpSpPr>
                <p:sp>
                  <p:nvSpPr>
                    <p:cNvPr id="683" name="Arc 157"/>
                    <p:cNvSpPr/>
                    <p:nvPr/>
                  </p:nvSpPr>
                  <p:spPr>
                    <a:xfrm flipH="1" flipV="1">
                      <a:off x="2755800" y="210780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Arc 158"/>
                    <p:cNvSpPr/>
                    <p:nvPr/>
                  </p:nvSpPr>
                  <p:spPr>
                    <a:xfrm flipH="1">
                      <a:off x="2755800" y="205560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85" name="Group 159"/>
                <p:cNvGrpSpPr/>
                <p:nvPr/>
              </p:nvGrpSpPr>
              <p:grpSpPr>
                <a:xfrm>
                  <a:off x="2749680" y="2269800"/>
                  <a:ext cx="458640" cy="178560"/>
                  <a:chOff x="2749680" y="2269800"/>
                  <a:chExt cx="458640" cy="178560"/>
                </a:xfrm>
              </p:grpSpPr>
              <p:grpSp>
                <p:nvGrpSpPr>
                  <p:cNvPr id="686" name="Group 160"/>
                  <p:cNvGrpSpPr/>
                  <p:nvPr/>
                </p:nvGrpSpPr>
                <p:grpSpPr>
                  <a:xfrm>
                    <a:off x="2981880" y="2269800"/>
                    <a:ext cx="226440" cy="90720"/>
                    <a:chOff x="2981880" y="2269800"/>
                    <a:chExt cx="226440" cy="90720"/>
                  </a:xfrm>
                </p:grpSpPr>
                <p:sp>
                  <p:nvSpPr>
                    <p:cNvPr id="687" name="Arc 161"/>
                    <p:cNvSpPr/>
                    <p:nvPr/>
                  </p:nvSpPr>
                  <p:spPr>
                    <a:xfrm>
                      <a:off x="3125880" y="226980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Arc 162"/>
                    <p:cNvSpPr/>
                    <p:nvPr/>
                  </p:nvSpPr>
                  <p:spPr>
                    <a:xfrm flipV="1">
                      <a:off x="2981880" y="2319480"/>
                      <a:ext cx="22644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Group 163"/>
                  <p:cNvGrpSpPr/>
                  <p:nvPr/>
                </p:nvGrpSpPr>
                <p:grpSpPr>
                  <a:xfrm>
                    <a:off x="2749680" y="2360160"/>
                    <a:ext cx="226800" cy="88200"/>
                    <a:chOff x="2749680" y="2360160"/>
                    <a:chExt cx="226800" cy="88200"/>
                  </a:xfrm>
                </p:grpSpPr>
                <p:sp>
                  <p:nvSpPr>
                    <p:cNvPr id="690" name="Arc 164"/>
                    <p:cNvSpPr/>
                    <p:nvPr/>
                  </p:nvSpPr>
                  <p:spPr>
                    <a:xfrm flipH="1" flipV="1">
                      <a:off x="2749680" y="2411640"/>
                      <a:ext cx="820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Arc 165"/>
                    <p:cNvSpPr/>
                    <p:nvPr/>
                  </p:nvSpPr>
                  <p:spPr>
                    <a:xfrm flipH="1">
                      <a:off x="2749680" y="2360160"/>
                      <a:ext cx="2268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2" name="Group 166"/>
              <p:cNvGrpSpPr/>
              <p:nvPr/>
            </p:nvGrpSpPr>
            <p:grpSpPr>
              <a:xfrm>
                <a:off x="2761920" y="1757520"/>
                <a:ext cx="765000" cy="134280"/>
                <a:chOff x="2761920" y="1757520"/>
                <a:chExt cx="765000" cy="134280"/>
              </a:xfrm>
            </p:grpSpPr>
            <p:sp>
              <p:nvSpPr>
                <p:cNvPr id="693" name="Arc 167"/>
                <p:cNvSpPr/>
                <p:nvPr/>
              </p:nvSpPr>
              <p:spPr>
                <a:xfrm flipH="1" flipV="1">
                  <a:off x="2761560" y="1850040"/>
                  <a:ext cx="75960" cy="414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Arc 168"/>
                <p:cNvSpPr/>
                <p:nvPr/>
              </p:nvSpPr>
              <p:spPr>
                <a:xfrm flipH="1">
                  <a:off x="2761560" y="1757520"/>
                  <a:ext cx="765000" cy="694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5" name="Freeform 169"/>
              <p:cNvSpPr/>
              <p:nvPr/>
            </p:nvSpPr>
            <p:spPr>
              <a:xfrm>
                <a:off x="789120" y="1714680"/>
                <a:ext cx="163440" cy="838080"/>
              </a:xfrm>
              <a:custGeom>
                <a:avLst/>
                <a:gdLst/>
                <a:ahLst/>
                <a:rect l="l" t="t" r="r" b="b"/>
                <a:pathLst>
                  <a:path w="103" h="528">
                    <a:moveTo>
                      <a:pt x="95" y="528"/>
                    </a:moveTo>
                    <a:cubicBezTo>
                      <a:pt x="61" y="468"/>
                      <a:pt x="28" y="409"/>
                      <a:pt x="15" y="344"/>
                    </a:cubicBezTo>
                    <a:cubicBezTo>
                      <a:pt x="2" y="279"/>
                      <a:pt x="0" y="193"/>
                      <a:pt x="15" y="136"/>
                    </a:cubicBezTo>
                    <a:cubicBezTo>
                      <a:pt x="30" y="79"/>
                      <a:pt x="66" y="39"/>
                      <a:pt x="10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70"/>
              <p:cNvSpPr/>
              <p:nvPr/>
            </p:nvSpPr>
            <p:spPr>
              <a:xfrm>
                <a:off x="3556080" y="1752480"/>
                <a:ext cx="228600" cy="774720"/>
              </a:xfrm>
              <a:custGeom>
                <a:avLst/>
                <a:gdLst/>
                <a:ahLst/>
                <a:rect l="l" t="t" r="r" b="b"/>
                <a:pathLst>
                  <a:path w="144" h="488">
                    <a:moveTo>
                      <a:pt x="0" y="488"/>
                    </a:moveTo>
                    <a:cubicBezTo>
                      <a:pt x="45" y="454"/>
                      <a:pt x="91" y="420"/>
                      <a:pt x="112" y="360"/>
                    </a:cubicBezTo>
                    <a:cubicBezTo>
                      <a:pt x="133" y="300"/>
                      <a:pt x="144" y="188"/>
                      <a:pt x="128" y="128"/>
                    </a:cubicBezTo>
                    <a:cubicBezTo>
                      <a:pt x="112" y="68"/>
                      <a:pt x="64" y="34"/>
                      <a:pt x="1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97" name="Object 171"/>
                <p:cNvSpPr txBox="1"/>
                <p:nvPr/>
              </p:nvSpPr>
              <p:spPr>
                <a:xfrm>
                  <a:off x="187200" y="654120"/>
                  <a:ext cx="80640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≃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8" name="Object 172"/>
                <p:cNvSpPr txBox="1"/>
                <p:nvPr/>
              </p:nvSpPr>
              <p:spPr>
                <a:xfrm>
                  <a:off x="1419120" y="933480"/>
                  <a:ext cx="80640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≠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99" name="Rectangle 173"/>
            <p:cNvSpPr/>
            <p:nvPr/>
          </p:nvSpPr>
          <p:spPr>
            <a:xfrm>
              <a:off x="1092240" y="901800"/>
              <a:ext cx="2260440" cy="240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0" name="Object 179"/>
                <p:cNvSpPr txBox="1"/>
                <p:nvPr/>
              </p:nvSpPr>
              <p:spPr>
                <a:xfrm>
                  <a:off x="2394000" y="933480"/>
                  <a:ext cx="78588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D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≃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1" name="Object 189"/>
              <p:cNvSpPr txBox="1"/>
              <p:nvPr/>
            </p:nvSpPr>
            <p:spPr>
              <a:xfrm>
                <a:off x="781200" y="3560760"/>
                <a:ext cx="2019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J</m:t>
                        </m:r>
                      </m:e>
                    </m:nary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190"/>
              <p:cNvSpPr txBox="1"/>
              <p:nvPr/>
            </p:nvSpPr>
            <p:spPr>
              <a:xfrm>
                <a:off x="3622680" y="4343400"/>
                <a:ext cx="55213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 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ℜ</m:t>
                    </m:r>
                    <m:r>
                      <m:t xml:space="preserve"> 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192"/>
              <p:cNvSpPr txBox="1"/>
              <p:nvPr/>
            </p:nvSpPr>
            <p:spPr>
              <a:xfrm>
                <a:off x="4902120" y="1952640"/>
                <a:ext cx="951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196"/>
              <p:cNvSpPr txBox="1"/>
              <p:nvPr/>
            </p:nvSpPr>
            <p:spPr>
              <a:xfrm>
                <a:off x="4940280" y="2476440"/>
                <a:ext cx="95076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5" name="Rectangle 197"/>
          <p:cNvSpPr/>
          <p:nvPr/>
        </p:nvSpPr>
        <p:spPr>
          <a:xfrm>
            <a:off x="6381720" y="2463120"/>
            <a:ext cx="24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 nucleo magn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6" name="Object 198"/>
              <p:cNvSpPr txBox="1"/>
              <p:nvPr/>
            </p:nvSpPr>
            <p:spPr>
              <a:xfrm>
                <a:off x="4334040" y="5402160"/>
                <a:ext cx="28872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7" name="Rectangle 200"/>
          <p:cNvSpPr/>
          <p:nvPr/>
        </p:nvSpPr>
        <p:spPr>
          <a:xfrm>
            <a:off x="4191120" y="5368320"/>
            <a:ext cx="46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riluttanza magnetica del nuc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01"/>
          <p:cNvSpPr/>
          <p:nvPr/>
        </p:nvSpPr>
        <p:spPr>
          <a:xfrm>
            <a:off x="1752480" y="4927680"/>
            <a:ext cx="0" cy="393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02"/>
          <p:cNvSpPr/>
          <p:nvPr/>
        </p:nvSpPr>
        <p:spPr>
          <a:xfrm flipH="1">
            <a:off x="2870280" y="5092560"/>
            <a:ext cx="673200" cy="266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203"/>
              <p:cNvSpPr txBox="1"/>
              <p:nvPr/>
            </p:nvSpPr>
            <p:spPr>
              <a:xfrm>
                <a:off x="1125360" y="5597640"/>
                <a:ext cx="18399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2"/>
          <p:cNvSpPr/>
          <p:nvPr/>
        </p:nvSpPr>
        <p:spPr>
          <a:xfrm>
            <a:off x="1219320" y="1522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QUAZIONI DEL TRASFORM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10"/>
          <p:cNvSpPr/>
          <p:nvPr/>
        </p:nvSpPr>
        <p:spPr>
          <a:xfrm>
            <a:off x="3600360" y="71676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Modello circui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Group 12"/>
          <p:cNvGrpSpPr/>
          <p:nvPr/>
        </p:nvGrpSpPr>
        <p:grpSpPr>
          <a:xfrm>
            <a:off x="250920" y="1251000"/>
            <a:ext cx="3851280" cy="2647800"/>
            <a:chOff x="250920" y="1251000"/>
            <a:chExt cx="3851280" cy="2647800"/>
          </a:xfrm>
        </p:grpSpPr>
        <p:grpSp>
          <p:nvGrpSpPr>
            <p:cNvPr id="714" name="Group 13"/>
            <p:cNvGrpSpPr/>
            <p:nvPr/>
          </p:nvGrpSpPr>
          <p:grpSpPr>
            <a:xfrm>
              <a:off x="590760" y="1803240"/>
              <a:ext cx="3511440" cy="2084400"/>
              <a:chOff x="590760" y="1803240"/>
              <a:chExt cx="3511440" cy="2084400"/>
            </a:xfrm>
          </p:grpSpPr>
          <p:sp>
            <p:nvSpPr>
              <p:cNvPr id="715" name="Rectangle 14"/>
              <p:cNvSpPr/>
              <p:nvPr/>
            </p:nvSpPr>
            <p:spPr>
              <a:xfrm>
                <a:off x="1422720" y="1803240"/>
                <a:ext cx="1755720" cy="177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15"/>
              <p:cNvSpPr/>
              <p:nvPr/>
            </p:nvSpPr>
            <p:spPr>
              <a:xfrm>
                <a:off x="1716120" y="2100240"/>
                <a:ext cx="1197000" cy="1162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16"/>
              <p:cNvSpPr/>
              <p:nvPr/>
            </p:nvSpPr>
            <p:spPr>
              <a:xfrm>
                <a:off x="1184400" y="2324160"/>
                <a:ext cx="120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17"/>
              <p:cNvSpPr/>
              <p:nvPr/>
            </p:nvSpPr>
            <p:spPr>
              <a:xfrm>
                <a:off x="1063800" y="2562120"/>
                <a:ext cx="33336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18"/>
              <p:cNvSpPr/>
              <p:nvPr/>
            </p:nvSpPr>
            <p:spPr>
              <a:xfrm>
                <a:off x="3257640" y="2562120"/>
                <a:ext cx="333360" cy="357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19"/>
              <p:cNvSpPr/>
              <p:nvPr/>
            </p:nvSpPr>
            <p:spPr>
              <a:xfrm>
                <a:off x="1197000" y="1833480"/>
                <a:ext cx="333720" cy="357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20"/>
              <p:cNvSpPr/>
              <p:nvPr/>
            </p:nvSpPr>
            <p:spPr>
              <a:xfrm>
                <a:off x="3218040" y="1892160"/>
                <a:ext cx="331920" cy="3589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21"/>
              <p:cNvSpPr/>
              <p:nvPr/>
            </p:nvSpPr>
            <p:spPr>
              <a:xfrm>
                <a:off x="590760" y="2174760"/>
                <a:ext cx="279360" cy="96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22"/>
              <p:cNvSpPr/>
              <p:nvPr/>
            </p:nvSpPr>
            <p:spPr>
              <a:xfrm>
                <a:off x="3886560" y="2232000"/>
                <a:ext cx="215640" cy="96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Oval 23"/>
              <p:cNvSpPr/>
              <p:nvPr/>
            </p:nvSpPr>
            <p:spPr>
              <a:xfrm>
                <a:off x="1683000" y="2487600"/>
                <a:ext cx="272880" cy="61128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Line 24"/>
              <p:cNvSpPr/>
              <p:nvPr/>
            </p:nvSpPr>
            <p:spPr>
              <a:xfrm>
                <a:off x="1953000" y="2778120"/>
                <a:ext cx="144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Oval 25"/>
              <p:cNvSpPr/>
              <p:nvPr/>
            </p:nvSpPr>
            <p:spPr>
              <a:xfrm>
                <a:off x="2692440" y="2531880"/>
                <a:ext cx="293760" cy="61128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26"/>
              <p:cNvSpPr/>
              <p:nvPr/>
            </p:nvSpPr>
            <p:spPr>
              <a:xfrm flipV="1">
                <a:off x="2686320" y="279216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Rectangle 27"/>
              <p:cNvSpPr/>
              <p:nvPr/>
            </p:nvSpPr>
            <p:spPr>
              <a:xfrm>
                <a:off x="1954440" y="2963880"/>
                <a:ext cx="12060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Rectangle 28"/>
              <p:cNvSpPr/>
              <p:nvPr/>
            </p:nvSpPr>
            <p:spPr>
              <a:xfrm>
                <a:off x="2525760" y="2978280"/>
                <a:ext cx="12096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29"/>
              <p:cNvSpPr/>
              <p:nvPr/>
            </p:nvSpPr>
            <p:spPr>
              <a:xfrm flipH="1">
                <a:off x="2273400" y="3433680"/>
                <a:ext cx="68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Rectangle 30"/>
              <p:cNvSpPr/>
              <p:nvPr/>
            </p:nvSpPr>
            <p:spPr>
              <a:xfrm>
                <a:off x="2413080" y="3603600"/>
                <a:ext cx="1206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Rectangle 31"/>
              <p:cNvSpPr/>
              <p:nvPr/>
            </p:nvSpPr>
            <p:spPr>
              <a:xfrm>
                <a:off x="1954440" y="3581280"/>
                <a:ext cx="174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Rectangle 32"/>
              <p:cNvSpPr/>
              <p:nvPr/>
            </p:nvSpPr>
            <p:spPr>
              <a:xfrm>
                <a:off x="1887840" y="2279520"/>
                <a:ext cx="32040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Rectangle 33"/>
              <p:cNvSpPr/>
              <p:nvPr/>
            </p:nvSpPr>
            <p:spPr>
              <a:xfrm>
                <a:off x="2419560" y="2293920"/>
                <a:ext cx="32076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Oval 34"/>
              <p:cNvSpPr/>
              <p:nvPr/>
            </p:nvSpPr>
            <p:spPr>
              <a:xfrm>
                <a:off x="998640" y="227952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Oval 35"/>
              <p:cNvSpPr/>
              <p:nvPr/>
            </p:nvSpPr>
            <p:spPr>
              <a:xfrm>
                <a:off x="3589560" y="230976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Oval 36"/>
              <p:cNvSpPr/>
              <p:nvPr/>
            </p:nvSpPr>
            <p:spPr>
              <a:xfrm>
                <a:off x="3562560" y="311292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Oval 37"/>
              <p:cNvSpPr/>
              <p:nvPr/>
            </p:nvSpPr>
            <p:spPr>
              <a:xfrm>
                <a:off x="984600" y="311292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38"/>
              <p:cNvSpPr/>
              <p:nvPr/>
            </p:nvSpPr>
            <p:spPr>
              <a:xfrm>
                <a:off x="851040" y="1952640"/>
                <a:ext cx="2541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Rectangle 39"/>
              <p:cNvSpPr/>
              <p:nvPr/>
            </p:nvSpPr>
            <p:spPr>
              <a:xfrm>
                <a:off x="838440" y="3216240"/>
                <a:ext cx="25380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Rectangle 40"/>
              <p:cNvSpPr/>
              <p:nvPr/>
            </p:nvSpPr>
            <p:spPr>
              <a:xfrm>
                <a:off x="3576960" y="1936800"/>
                <a:ext cx="25236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Rectangle 41"/>
              <p:cNvSpPr/>
              <p:nvPr/>
            </p:nvSpPr>
            <p:spPr>
              <a:xfrm>
                <a:off x="3576960" y="3246480"/>
                <a:ext cx="2523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42"/>
              <p:cNvSpPr/>
              <p:nvPr/>
            </p:nvSpPr>
            <p:spPr>
              <a:xfrm>
                <a:off x="3178440" y="3141720"/>
                <a:ext cx="412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43"/>
              <p:cNvSpPr/>
              <p:nvPr/>
            </p:nvSpPr>
            <p:spPr>
              <a:xfrm>
                <a:off x="3403800" y="2354400"/>
                <a:ext cx="106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rc 44"/>
              <p:cNvSpPr/>
              <p:nvPr/>
            </p:nvSpPr>
            <p:spPr>
              <a:xfrm flipH="1" flipV="1">
                <a:off x="1595520" y="3268800"/>
                <a:ext cx="154080" cy="156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45"/>
              <p:cNvSpPr/>
              <p:nvPr/>
            </p:nvSpPr>
            <p:spPr>
              <a:xfrm>
                <a:off x="1741680" y="3424320"/>
                <a:ext cx="1184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46"/>
              <p:cNvSpPr/>
              <p:nvPr/>
            </p:nvSpPr>
            <p:spPr>
              <a:xfrm>
                <a:off x="1729080" y="1944720"/>
                <a:ext cx="1184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rc 47"/>
              <p:cNvSpPr/>
              <p:nvPr/>
            </p:nvSpPr>
            <p:spPr>
              <a:xfrm flipH="1">
                <a:off x="1589400" y="1944720"/>
                <a:ext cx="141120" cy="1731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48"/>
              <p:cNvSpPr/>
              <p:nvPr/>
            </p:nvSpPr>
            <p:spPr>
              <a:xfrm>
                <a:off x="1589400" y="2146320"/>
                <a:ext cx="1440" cy="109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49"/>
              <p:cNvSpPr/>
              <p:nvPr/>
            </p:nvSpPr>
            <p:spPr>
              <a:xfrm>
                <a:off x="3057840" y="2152800"/>
                <a:ext cx="1440" cy="109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rc 50"/>
              <p:cNvSpPr/>
              <p:nvPr/>
            </p:nvSpPr>
            <p:spPr>
              <a:xfrm>
                <a:off x="2905200" y="1952640"/>
                <a:ext cx="154080" cy="156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Arc 51"/>
              <p:cNvSpPr/>
              <p:nvPr/>
            </p:nvSpPr>
            <p:spPr>
              <a:xfrm flipV="1">
                <a:off x="2945160" y="3260880"/>
                <a:ext cx="114120" cy="158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52"/>
              <p:cNvSpPr/>
              <p:nvPr/>
            </p:nvSpPr>
            <p:spPr>
              <a:xfrm>
                <a:off x="1011600" y="3141720"/>
                <a:ext cx="412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Arc 53"/>
              <p:cNvSpPr/>
              <p:nvPr/>
            </p:nvSpPr>
            <p:spPr>
              <a:xfrm flipV="1">
                <a:off x="1722600" y="2409120"/>
                <a:ext cx="73080" cy="4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Arc 54"/>
              <p:cNvSpPr/>
              <p:nvPr/>
            </p:nvSpPr>
            <p:spPr>
              <a:xfrm>
                <a:off x="1059120" y="2317680"/>
                <a:ext cx="736560" cy="68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6" name="Group 55"/>
              <p:cNvGrpSpPr/>
              <p:nvPr/>
            </p:nvGrpSpPr>
            <p:grpSpPr>
              <a:xfrm>
                <a:off x="1337040" y="2570040"/>
                <a:ext cx="464760" cy="483120"/>
                <a:chOff x="1337040" y="2570040"/>
                <a:chExt cx="464760" cy="483120"/>
              </a:xfrm>
            </p:grpSpPr>
            <p:grpSp>
              <p:nvGrpSpPr>
                <p:cNvPr id="757" name="Group 56"/>
                <p:cNvGrpSpPr/>
                <p:nvPr/>
              </p:nvGrpSpPr>
              <p:grpSpPr>
                <a:xfrm>
                  <a:off x="1337040" y="2570040"/>
                  <a:ext cx="458640" cy="178560"/>
                  <a:chOff x="1337040" y="2570040"/>
                  <a:chExt cx="458640" cy="178560"/>
                </a:xfrm>
              </p:grpSpPr>
              <p:grpSp>
                <p:nvGrpSpPr>
                  <p:cNvPr id="758" name="Group 57"/>
                  <p:cNvGrpSpPr/>
                  <p:nvPr/>
                </p:nvGrpSpPr>
                <p:grpSpPr>
                  <a:xfrm>
                    <a:off x="1337040" y="2570040"/>
                    <a:ext cx="226800" cy="90720"/>
                    <a:chOff x="1337040" y="2570040"/>
                    <a:chExt cx="226800" cy="90720"/>
                  </a:xfrm>
                </p:grpSpPr>
                <p:sp>
                  <p:nvSpPr>
                    <p:cNvPr id="759" name="Arc 58"/>
                    <p:cNvSpPr/>
                    <p:nvPr/>
                  </p:nvSpPr>
                  <p:spPr>
                    <a:xfrm flipH="1">
                      <a:off x="1337040" y="257004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Arc 59"/>
                    <p:cNvSpPr/>
                    <p:nvPr/>
                  </p:nvSpPr>
                  <p:spPr>
                    <a:xfrm flipH="1" flipV="1">
                      <a:off x="1337040" y="261972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Group 60"/>
                  <p:cNvGrpSpPr/>
                  <p:nvPr/>
                </p:nvGrpSpPr>
                <p:grpSpPr>
                  <a:xfrm>
                    <a:off x="1568880" y="2660400"/>
                    <a:ext cx="226800" cy="88200"/>
                    <a:chOff x="1568880" y="2660400"/>
                    <a:chExt cx="226800" cy="88200"/>
                  </a:xfrm>
                </p:grpSpPr>
                <p:sp>
                  <p:nvSpPr>
                    <p:cNvPr id="762" name="Arc 61"/>
                    <p:cNvSpPr/>
                    <p:nvPr/>
                  </p:nvSpPr>
                  <p:spPr>
                    <a:xfrm flipV="1">
                      <a:off x="1713240" y="2711880"/>
                      <a:ext cx="820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Arc 62"/>
                    <p:cNvSpPr/>
                    <p:nvPr/>
                  </p:nvSpPr>
                  <p:spPr>
                    <a:xfrm>
                      <a:off x="1568880" y="2660400"/>
                      <a:ext cx="2268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64" name="Group 63"/>
                <p:cNvGrpSpPr/>
                <p:nvPr/>
              </p:nvGrpSpPr>
              <p:grpSpPr>
                <a:xfrm>
                  <a:off x="1343160" y="2874600"/>
                  <a:ext cx="458640" cy="178560"/>
                  <a:chOff x="1343160" y="2874600"/>
                  <a:chExt cx="458640" cy="178560"/>
                </a:xfrm>
              </p:grpSpPr>
              <p:grpSp>
                <p:nvGrpSpPr>
                  <p:cNvPr id="765" name="Group 64"/>
                  <p:cNvGrpSpPr/>
                  <p:nvPr/>
                </p:nvGrpSpPr>
                <p:grpSpPr>
                  <a:xfrm>
                    <a:off x="1343160" y="2874600"/>
                    <a:ext cx="226800" cy="90720"/>
                    <a:chOff x="1343160" y="2874600"/>
                    <a:chExt cx="226800" cy="90720"/>
                  </a:xfrm>
                </p:grpSpPr>
                <p:sp>
                  <p:nvSpPr>
                    <p:cNvPr id="766" name="Arc 65"/>
                    <p:cNvSpPr/>
                    <p:nvPr/>
                  </p:nvSpPr>
                  <p:spPr>
                    <a:xfrm flipH="1">
                      <a:off x="1343160" y="287460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Arc 66"/>
                    <p:cNvSpPr/>
                    <p:nvPr/>
                  </p:nvSpPr>
                  <p:spPr>
                    <a:xfrm flipH="1" flipV="1">
                      <a:off x="1343160" y="292428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8" name="Group 67"/>
                  <p:cNvGrpSpPr/>
                  <p:nvPr/>
                </p:nvGrpSpPr>
                <p:grpSpPr>
                  <a:xfrm>
                    <a:off x="1575000" y="2964600"/>
                    <a:ext cx="226800" cy="88560"/>
                    <a:chOff x="1575000" y="2964600"/>
                    <a:chExt cx="226800" cy="88560"/>
                  </a:xfrm>
                </p:grpSpPr>
                <p:sp>
                  <p:nvSpPr>
                    <p:cNvPr id="769" name="Arc 68"/>
                    <p:cNvSpPr/>
                    <p:nvPr/>
                  </p:nvSpPr>
                  <p:spPr>
                    <a:xfrm flipV="1">
                      <a:off x="1719360" y="3016440"/>
                      <a:ext cx="820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Arc 69"/>
                    <p:cNvSpPr/>
                    <p:nvPr/>
                  </p:nvSpPr>
                  <p:spPr>
                    <a:xfrm>
                      <a:off x="1575000" y="296460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71" name="Group 70"/>
              <p:cNvGrpSpPr/>
              <p:nvPr/>
            </p:nvGrpSpPr>
            <p:grpSpPr>
              <a:xfrm>
                <a:off x="2813400" y="2562120"/>
                <a:ext cx="464760" cy="483120"/>
                <a:chOff x="2813400" y="2562120"/>
                <a:chExt cx="464760" cy="483120"/>
              </a:xfrm>
            </p:grpSpPr>
            <p:grpSp>
              <p:nvGrpSpPr>
                <p:cNvPr id="772" name="Group 71"/>
                <p:cNvGrpSpPr/>
                <p:nvPr/>
              </p:nvGrpSpPr>
              <p:grpSpPr>
                <a:xfrm>
                  <a:off x="2819520" y="2562120"/>
                  <a:ext cx="458640" cy="179280"/>
                  <a:chOff x="2819520" y="2562120"/>
                  <a:chExt cx="458640" cy="179280"/>
                </a:xfrm>
              </p:grpSpPr>
              <p:grpSp>
                <p:nvGrpSpPr>
                  <p:cNvPr id="773" name="Group 72"/>
                  <p:cNvGrpSpPr/>
                  <p:nvPr/>
                </p:nvGrpSpPr>
                <p:grpSpPr>
                  <a:xfrm>
                    <a:off x="3051360" y="2562120"/>
                    <a:ext cx="226800" cy="90720"/>
                    <a:chOff x="3051360" y="2562120"/>
                    <a:chExt cx="226800" cy="90720"/>
                  </a:xfrm>
                </p:grpSpPr>
                <p:sp>
                  <p:nvSpPr>
                    <p:cNvPr id="774" name="Arc 73"/>
                    <p:cNvSpPr/>
                    <p:nvPr/>
                  </p:nvSpPr>
                  <p:spPr>
                    <a:xfrm>
                      <a:off x="3195720" y="256212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Arc 74"/>
                    <p:cNvSpPr/>
                    <p:nvPr/>
                  </p:nvSpPr>
                  <p:spPr>
                    <a:xfrm flipV="1">
                      <a:off x="3051360" y="2612520"/>
                      <a:ext cx="2268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Group 75"/>
                  <p:cNvGrpSpPr/>
                  <p:nvPr/>
                </p:nvGrpSpPr>
                <p:grpSpPr>
                  <a:xfrm>
                    <a:off x="2819520" y="2652480"/>
                    <a:ext cx="226800" cy="88920"/>
                    <a:chOff x="2819520" y="2652480"/>
                    <a:chExt cx="226800" cy="88920"/>
                  </a:xfrm>
                </p:grpSpPr>
                <p:sp>
                  <p:nvSpPr>
                    <p:cNvPr id="777" name="Arc 76"/>
                    <p:cNvSpPr/>
                    <p:nvPr/>
                  </p:nvSpPr>
                  <p:spPr>
                    <a:xfrm flipH="1" flipV="1">
                      <a:off x="2819520" y="270468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Arc 77"/>
                    <p:cNvSpPr/>
                    <p:nvPr/>
                  </p:nvSpPr>
                  <p:spPr>
                    <a:xfrm flipH="1">
                      <a:off x="2819520" y="265248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79" name="Group 78"/>
                <p:cNvGrpSpPr/>
                <p:nvPr/>
              </p:nvGrpSpPr>
              <p:grpSpPr>
                <a:xfrm>
                  <a:off x="2813400" y="2866680"/>
                  <a:ext cx="458640" cy="178560"/>
                  <a:chOff x="2813400" y="2866680"/>
                  <a:chExt cx="458640" cy="178560"/>
                </a:xfrm>
              </p:grpSpPr>
              <p:grpSp>
                <p:nvGrpSpPr>
                  <p:cNvPr id="780" name="Group 79"/>
                  <p:cNvGrpSpPr/>
                  <p:nvPr/>
                </p:nvGrpSpPr>
                <p:grpSpPr>
                  <a:xfrm>
                    <a:off x="3045600" y="2866680"/>
                    <a:ext cx="226440" cy="90720"/>
                    <a:chOff x="3045600" y="2866680"/>
                    <a:chExt cx="226440" cy="90720"/>
                  </a:xfrm>
                </p:grpSpPr>
                <p:sp>
                  <p:nvSpPr>
                    <p:cNvPr id="781" name="Arc 80"/>
                    <p:cNvSpPr/>
                    <p:nvPr/>
                  </p:nvSpPr>
                  <p:spPr>
                    <a:xfrm>
                      <a:off x="3189600" y="286668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Arc 81"/>
                    <p:cNvSpPr/>
                    <p:nvPr/>
                  </p:nvSpPr>
                  <p:spPr>
                    <a:xfrm flipV="1">
                      <a:off x="3045600" y="2916360"/>
                      <a:ext cx="22644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3" name="Group 82"/>
                  <p:cNvGrpSpPr/>
                  <p:nvPr/>
                </p:nvGrpSpPr>
                <p:grpSpPr>
                  <a:xfrm>
                    <a:off x="2813400" y="2957040"/>
                    <a:ext cx="226800" cy="88200"/>
                    <a:chOff x="2813400" y="2957040"/>
                    <a:chExt cx="226800" cy="88200"/>
                  </a:xfrm>
                </p:grpSpPr>
                <p:sp>
                  <p:nvSpPr>
                    <p:cNvPr id="784" name="Arc 83"/>
                    <p:cNvSpPr/>
                    <p:nvPr/>
                  </p:nvSpPr>
                  <p:spPr>
                    <a:xfrm flipH="1" flipV="1">
                      <a:off x="2813400" y="3008520"/>
                      <a:ext cx="820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Arc 84"/>
                    <p:cNvSpPr/>
                    <p:nvPr/>
                  </p:nvSpPr>
                  <p:spPr>
                    <a:xfrm flipH="1">
                      <a:off x="2813400" y="2957040"/>
                      <a:ext cx="2268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86" name="Group 85"/>
              <p:cNvGrpSpPr/>
              <p:nvPr/>
            </p:nvGrpSpPr>
            <p:grpSpPr>
              <a:xfrm>
                <a:off x="2825640" y="2354400"/>
                <a:ext cx="765000" cy="134280"/>
                <a:chOff x="2825640" y="2354400"/>
                <a:chExt cx="765000" cy="134280"/>
              </a:xfrm>
            </p:grpSpPr>
            <p:sp>
              <p:nvSpPr>
                <p:cNvPr id="787" name="Arc 86"/>
                <p:cNvSpPr/>
                <p:nvPr/>
              </p:nvSpPr>
              <p:spPr>
                <a:xfrm flipH="1" flipV="1">
                  <a:off x="2825280" y="2446920"/>
                  <a:ext cx="75960" cy="414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Arc 87"/>
                <p:cNvSpPr/>
                <p:nvPr/>
              </p:nvSpPr>
              <p:spPr>
                <a:xfrm flipH="1">
                  <a:off x="2825280" y="2354400"/>
                  <a:ext cx="765000" cy="694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Freeform 88"/>
              <p:cNvSpPr/>
              <p:nvPr/>
            </p:nvSpPr>
            <p:spPr>
              <a:xfrm>
                <a:off x="852840" y="2311560"/>
                <a:ext cx="163440" cy="838080"/>
              </a:xfrm>
              <a:custGeom>
                <a:avLst/>
                <a:gdLst/>
                <a:ahLst/>
                <a:rect l="l" t="t" r="r" b="b"/>
                <a:pathLst>
                  <a:path w="103" h="528">
                    <a:moveTo>
                      <a:pt x="95" y="528"/>
                    </a:moveTo>
                    <a:cubicBezTo>
                      <a:pt x="61" y="468"/>
                      <a:pt x="28" y="409"/>
                      <a:pt x="15" y="344"/>
                    </a:cubicBezTo>
                    <a:cubicBezTo>
                      <a:pt x="2" y="279"/>
                      <a:pt x="0" y="193"/>
                      <a:pt x="15" y="136"/>
                    </a:cubicBezTo>
                    <a:cubicBezTo>
                      <a:pt x="30" y="79"/>
                      <a:pt x="66" y="39"/>
                      <a:pt x="10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89"/>
              <p:cNvSpPr/>
              <p:nvPr/>
            </p:nvSpPr>
            <p:spPr>
              <a:xfrm>
                <a:off x="3619800" y="2349360"/>
                <a:ext cx="228600" cy="774720"/>
              </a:xfrm>
              <a:custGeom>
                <a:avLst/>
                <a:gdLst/>
                <a:ahLst/>
                <a:rect l="l" t="t" r="r" b="b"/>
                <a:pathLst>
                  <a:path w="144" h="488">
                    <a:moveTo>
                      <a:pt x="0" y="488"/>
                    </a:moveTo>
                    <a:cubicBezTo>
                      <a:pt x="45" y="454"/>
                      <a:pt x="91" y="420"/>
                      <a:pt x="112" y="360"/>
                    </a:cubicBezTo>
                    <a:cubicBezTo>
                      <a:pt x="133" y="300"/>
                      <a:pt x="144" y="188"/>
                      <a:pt x="128" y="128"/>
                    </a:cubicBezTo>
                    <a:cubicBezTo>
                      <a:pt x="112" y="68"/>
                      <a:pt x="64" y="34"/>
                      <a:pt x="1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91" name="Object 90"/>
                <p:cNvSpPr txBox="1"/>
                <p:nvPr/>
              </p:nvSpPr>
              <p:spPr>
                <a:xfrm>
                  <a:off x="250920" y="1251000"/>
                  <a:ext cx="80640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≃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2" name="Object 91"/>
                <p:cNvSpPr txBox="1"/>
                <p:nvPr/>
              </p:nvSpPr>
              <p:spPr>
                <a:xfrm>
                  <a:off x="1482840" y="1530360"/>
                  <a:ext cx="80640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≠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3" name="Rectangle 92"/>
            <p:cNvSpPr/>
            <p:nvPr/>
          </p:nvSpPr>
          <p:spPr>
            <a:xfrm>
              <a:off x="1155960" y="1498680"/>
              <a:ext cx="2260440" cy="240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4" name="Object 93"/>
                <p:cNvSpPr txBox="1"/>
                <p:nvPr/>
              </p:nvSpPr>
              <p:spPr>
                <a:xfrm>
                  <a:off x="2457720" y="1530360"/>
                  <a:ext cx="78588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D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≃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5" name="Object 103"/>
              <p:cNvSpPr txBox="1"/>
              <p:nvPr/>
            </p:nvSpPr>
            <p:spPr>
              <a:xfrm>
                <a:off x="4465800" y="3133800"/>
                <a:ext cx="18396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Object 104"/>
              <p:cNvSpPr txBox="1"/>
              <p:nvPr/>
            </p:nvSpPr>
            <p:spPr>
              <a:xfrm>
                <a:off x="4505400" y="1419120"/>
                <a:ext cx="318132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Object 105"/>
              <p:cNvSpPr txBox="1"/>
              <p:nvPr/>
            </p:nvSpPr>
            <p:spPr>
              <a:xfrm>
                <a:off x="4503600" y="2181240"/>
                <a:ext cx="35910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8" name="Rectangle 106"/>
          <p:cNvSpPr/>
          <p:nvPr/>
        </p:nvSpPr>
        <p:spPr>
          <a:xfrm>
            <a:off x="539640" y="4082400"/>
            <a:ext cx="53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In regime di corrente alternata alla pulsazione </a:t>
            </a:r>
            <a:r>
              <a:rPr b="0" lang="it-IT" sz="1800" spc="-1" strike="noStrike">
                <a:solidFill>
                  <a:srgbClr val="0000cc"/>
                </a:solidFill>
                <a:latin typeface="Symbol"/>
                <a:ea typeface="Symbol"/>
              </a:rPr>
              <a:t>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Object 107"/>
              <p:cNvSpPr txBox="1"/>
              <p:nvPr/>
            </p:nvSpPr>
            <p:spPr>
              <a:xfrm>
                <a:off x="546120" y="5832360"/>
                <a:ext cx="2178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Φ</m:t>
                        </m:r>
                      </m:e>
                    </m:ba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Ι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Object 109"/>
              <p:cNvSpPr txBox="1"/>
              <p:nvPr/>
            </p:nvSpPr>
            <p:spPr>
              <a:xfrm>
                <a:off x="565200" y="4584600"/>
                <a:ext cx="3859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ω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Φ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Object 110"/>
              <p:cNvSpPr txBox="1"/>
              <p:nvPr/>
            </p:nvSpPr>
            <p:spPr>
              <a:xfrm>
                <a:off x="617400" y="5265720"/>
                <a:ext cx="4135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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ω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Φ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2"/>
          <p:cNvSpPr/>
          <p:nvPr/>
        </p:nvSpPr>
        <p:spPr>
          <a:xfrm>
            <a:off x="685800" y="10666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3"/>
          <p:cNvSpPr/>
          <p:nvPr/>
        </p:nvSpPr>
        <p:spPr>
          <a:xfrm>
            <a:off x="1219320" y="1778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IRCUITO ELETTRICO EQUI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4"/>
          <p:cNvSpPr/>
          <p:nvPr/>
        </p:nvSpPr>
        <p:spPr>
          <a:xfrm>
            <a:off x="2546280" y="620496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23960" indent="-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rrente magnetizzante riferita a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137"/>
              <p:cNvSpPr txBox="1"/>
              <p:nvPr/>
            </p:nvSpPr>
            <p:spPr>
              <a:xfrm>
                <a:off x="6097680" y="3429000"/>
                <a:ext cx="10731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Ι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Object 140"/>
              <p:cNvSpPr txBox="1"/>
              <p:nvPr/>
            </p:nvSpPr>
            <p:spPr>
              <a:xfrm>
                <a:off x="754200" y="4724280"/>
                <a:ext cx="12492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Object 141"/>
              <p:cNvSpPr txBox="1"/>
              <p:nvPr/>
            </p:nvSpPr>
            <p:spPr>
              <a:xfrm>
                <a:off x="770040" y="5557680"/>
                <a:ext cx="10890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ℜ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8" name="Group 154"/>
          <p:cNvGrpSpPr/>
          <p:nvPr/>
        </p:nvGrpSpPr>
        <p:grpSpPr>
          <a:xfrm>
            <a:off x="1758960" y="654120"/>
            <a:ext cx="5499000" cy="2441520"/>
            <a:chOff x="1758960" y="654120"/>
            <a:chExt cx="5499000" cy="2441520"/>
          </a:xfrm>
        </p:grpSpPr>
        <p:grpSp>
          <p:nvGrpSpPr>
            <p:cNvPr id="809" name="Group 136"/>
            <p:cNvGrpSpPr/>
            <p:nvPr/>
          </p:nvGrpSpPr>
          <p:grpSpPr>
            <a:xfrm>
              <a:off x="1758960" y="654120"/>
              <a:ext cx="5499000" cy="2441520"/>
              <a:chOff x="1758960" y="654120"/>
              <a:chExt cx="5499000" cy="2441520"/>
            </a:xfrm>
          </p:grpSpPr>
          <p:grpSp>
            <p:nvGrpSpPr>
              <p:cNvPr id="810" name="Group 8"/>
              <p:cNvGrpSpPr/>
              <p:nvPr/>
            </p:nvGrpSpPr>
            <p:grpSpPr>
              <a:xfrm>
                <a:off x="3755880" y="1615680"/>
                <a:ext cx="236520" cy="654120"/>
                <a:chOff x="3755880" y="1615680"/>
                <a:chExt cx="236520" cy="654120"/>
              </a:xfrm>
            </p:grpSpPr>
            <p:sp>
              <p:nvSpPr>
                <p:cNvPr id="811" name="Arc 9"/>
                <p:cNvSpPr/>
                <p:nvPr/>
              </p:nvSpPr>
              <p:spPr>
                <a:xfrm>
                  <a:off x="3909960" y="1712880"/>
                  <a:ext cx="82440" cy="64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2" name="Group 10"/>
                <p:cNvGrpSpPr/>
                <p:nvPr/>
              </p:nvGrpSpPr>
              <p:grpSpPr>
                <a:xfrm>
                  <a:off x="3760920" y="1755000"/>
                  <a:ext cx="231480" cy="128520"/>
                  <a:chOff x="3760920" y="1755000"/>
                  <a:chExt cx="231480" cy="128520"/>
                </a:xfrm>
              </p:grpSpPr>
              <p:sp>
                <p:nvSpPr>
                  <p:cNvPr id="813" name="Arc 11"/>
                  <p:cNvSpPr/>
                  <p:nvPr/>
                </p:nvSpPr>
                <p:spPr>
                  <a:xfrm flipV="1">
                    <a:off x="3902040" y="1782360"/>
                    <a:ext cx="9036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Arc 12"/>
                  <p:cNvSpPr/>
                  <p:nvPr/>
                </p:nvSpPr>
                <p:spPr>
                  <a:xfrm flipH="1" flipV="1">
                    <a:off x="3767040" y="1791360"/>
                    <a:ext cx="12024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Arc 13"/>
                  <p:cNvSpPr/>
                  <p:nvPr/>
                </p:nvSpPr>
                <p:spPr>
                  <a:xfrm flipH="1">
                    <a:off x="3760920" y="1755000"/>
                    <a:ext cx="792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Arc 14"/>
                  <p:cNvSpPr/>
                  <p:nvPr/>
                </p:nvSpPr>
                <p:spPr>
                  <a:xfrm>
                    <a:off x="3840120" y="1755000"/>
                    <a:ext cx="15228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7" name="Group 15"/>
                <p:cNvGrpSpPr/>
                <p:nvPr/>
              </p:nvGrpSpPr>
              <p:grpSpPr>
                <a:xfrm>
                  <a:off x="3758760" y="1867680"/>
                  <a:ext cx="230400" cy="128520"/>
                  <a:chOff x="3758760" y="1867680"/>
                  <a:chExt cx="230400" cy="128520"/>
                </a:xfrm>
              </p:grpSpPr>
              <p:sp>
                <p:nvSpPr>
                  <p:cNvPr id="818" name="Arc 16"/>
                  <p:cNvSpPr/>
                  <p:nvPr/>
                </p:nvSpPr>
                <p:spPr>
                  <a:xfrm flipV="1">
                    <a:off x="3898440" y="1893960"/>
                    <a:ext cx="9072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Arc 17"/>
                  <p:cNvSpPr/>
                  <p:nvPr/>
                </p:nvSpPr>
                <p:spPr>
                  <a:xfrm flipH="1" flipV="1">
                    <a:off x="3764160" y="1904760"/>
                    <a:ext cx="12024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Arc 18"/>
                  <p:cNvSpPr/>
                  <p:nvPr/>
                </p:nvSpPr>
                <p:spPr>
                  <a:xfrm flipH="1">
                    <a:off x="3758760" y="1867680"/>
                    <a:ext cx="792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Arc 19"/>
                  <p:cNvSpPr/>
                  <p:nvPr/>
                </p:nvSpPr>
                <p:spPr>
                  <a:xfrm>
                    <a:off x="3836880" y="1867680"/>
                    <a:ext cx="15228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2" name="Group 20"/>
                <p:cNvGrpSpPr/>
                <p:nvPr/>
              </p:nvGrpSpPr>
              <p:grpSpPr>
                <a:xfrm>
                  <a:off x="3755880" y="1985400"/>
                  <a:ext cx="231120" cy="128520"/>
                  <a:chOff x="3755880" y="1985400"/>
                  <a:chExt cx="231120" cy="128520"/>
                </a:xfrm>
              </p:grpSpPr>
              <p:sp>
                <p:nvSpPr>
                  <p:cNvPr id="823" name="Arc 21"/>
                  <p:cNvSpPr/>
                  <p:nvPr/>
                </p:nvSpPr>
                <p:spPr>
                  <a:xfrm flipV="1">
                    <a:off x="3896280" y="2012400"/>
                    <a:ext cx="9072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Arc 22"/>
                  <p:cNvSpPr/>
                  <p:nvPr/>
                </p:nvSpPr>
                <p:spPr>
                  <a:xfrm flipH="1" flipV="1">
                    <a:off x="3761280" y="2023200"/>
                    <a:ext cx="12024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Arc 23"/>
                  <p:cNvSpPr/>
                  <p:nvPr/>
                </p:nvSpPr>
                <p:spPr>
                  <a:xfrm flipH="1">
                    <a:off x="3755880" y="1985400"/>
                    <a:ext cx="792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Arc 24"/>
                  <p:cNvSpPr/>
                  <p:nvPr/>
                </p:nvSpPr>
                <p:spPr>
                  <a:xfrm>
                    <a:off x="3834720" y="1985400"/>
                    <a:ext cx="15228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7" name="Arc 25"/>
                <p:cNvSpPr/>
                <p:nvPr/>
              </p:nvSpPr>
              <p:spPr>
                <a:xfrm flipV="1">
                  <a:off x="3913920" y="2109240"/>
                  <a:ext cx="73080" cy="58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Line 26"/>
                <p:cNvSpPr/>
                <p:nvPr/>
              </p:nvSpPr>
              <p:spPr>
                <a:xfrm flipV="1">
                  <a:off x="3909960" y="1615680"/>
                  <a:ext cx="36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Line 27"/>
                <p:cNvSpPr/>
                <p:nvPr/>
              </p:nvSpPr>
              <p:spPr>
                <a:xfrm flipV="1">
                  <a:off x="3909960" y="2178000"/>
                  <a:ext cx="36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Group 124"/>
              <p:cNvGrpSpPr/>
              <p:nvPr/>
            </p:nvGrpSpPr>
            <p:grpSpPr>
              <a:xfrm>
                <a:off x="2409840" y="944640"/>
                <a:ext cx="1179000" cy="314280"/>
                <a:chOff x="2409840" y="944640"/>
                <a:chExt cx="1179000" cy="314280"/>
              </a:xfrm>
            </p:grpSpPr>
            <p:sp>
              <p:nvSpPr>
                <p:cNvPr id="831" name="Freeform 29"/>
                <p:cNvSpPr/>
                <p:nvPr/>
              </p:nvSpPr>
              <p:spPr>
                <a:xfrm>
                  <a:off x="2409840" y="944640"/>
                  <a:ext cx="595080" cy="2491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0693"/>
                      </a:moveTo>
                      <a:lnTo>
                        <a:pt x="5137" y="10693"/>
                      </a:lnTo>
                      <a:lnTo>
                        <a:pt x="6490" y="0"/>
                      </a:lnTo>
                      <a:lnTo>
                        <a:pt x="8097" y="19945"/>
                      </a:lnTo>
                      <a:lnTo>
                        <a:pt x="9450" y="720"/>
                      </a:lnTo>
                      <a:lnTo>
                        <a:pt x="11332" y="19945"/>
                      </a:lnTo>
                      <a:lnTo>
                        <a:pt x="12685" y="0"/>
                      </a:lnTo>
                      <a:lnTo>
                        <a:pt x="14841" y="19945"/>
                      </a:lnTo>
                      <a:lnTo>
                        <a:pt x="15941" y="10693"/>
                      </a:lnTo>
                      <a:lnTo>
                        <a:pt x="19979" y="10693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2" name="Group 30"/>
                <p:cNvGrpSpPr/>
                <p:nvPr/>
              </p:nvGrpSpPr>
              <p:grpSpPr>
                <a:xfrm>
                  <a:off x="2993760" y="998640"/>
                  <a:ext cx="595080" cy="260280"/>
                  <a:chOff x="2993760" y="998640"/>
                  <a:chExt cx="595080" cy="260280"/>
                </a:xfrm>
              </p:grpSpPr>
              <p:sp>
                <p:nvSpPr>
                  <p:cNvPr id="833" name="Arc 31"/>
                  <p:cNvSpPr/>
                  <p:nvPr/>
                </p:nvSpPr>
                <p:spPr>
                  <a:xfrm flipH="1">
                    <a:off x="3081600" y="998640"/>
                    <a:ext cx="583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34" name="Group 32"/>
                  <p:cNvGrpSpPr/>
                  <p:nvPr/>
                </p:nvGrpSpPr>
                <p:grpSpPr>
                  <a:xfrm>
                    <a:off x="3119760" y="998640"/>
                    <a:ext cx="117000" cy="254880"/>
                    <a:chOff x="3119760" y="998640"/>
                    <a:chExt cx="117000" cy="254880"/>
                  </a:xfrm>
                </p:grpSpPr>
                <p:sp>
                  <p:nvSpPr>
                    <p:cNvPr id="835" name="Arc 33"/>
                    <p:cNvSpPr/>
                    <p:nvPr/>
                  </p:nvSpPr>
                  <p:spPr>
                    <a:xfrm>
                      <a:off x="3145320" y="998640"/>
                      <a:ext cx="4536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Arc 34"/>
                    <p:cNvSpPr/>
                    <p:nvPr/>
                  </p:nvSpPr>
                  <p:spPr>
                    <a:xfrm flipV="1">
                      <a:off x="3153960" y="1113480"/>
                      <a:ext cx="33840" cy="13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Arc 35"/>
                    <p:cNvSpPr/>
                    <p:nvPr/>
                  </p:nvSpPr>
                  <p:spPr>
                    <a:xfrm flipH="1" flipV="1">
                      <a:off x="3120120" y="1166400"/>
                      <a:ext cx="38880" cy="8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Arc 36"/>
                    <p:cNvSpPr/>
                    <p:nvPr/>
                  </p:nvSpPr>
                  <p:spPr>
                    <a:xfrm flipH="1">
                      <a:off x="3119400" y="998640"/>
                      <a:ext cx="117000" cy="16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9" name="Group 37"/>
                  <p:cNvGrpSpPr/>
                  <p:nvPr/>
                </p:nvGrpSpPr>
                <p:grpSpPr>
                  <a:xfrm>
                    <a:off x="3222360" y="1001880"/>
                    <a:ext cx="117000" cy="253440"/>
                    <a:chOff x="3222360" y="1001880"/>
                    <a:chExt cx="117000" cy="253440"/>
                  </a:xfrm>
                </p:grpSpPr>
                <p:sp>
                  <p:nvSpPr>
                    <p:cNvPr id="840" name="Arc 38"/>
                    <p:cNvSpPr/>
                    <p:nvPr/>
                  </p:nvSpPr>
                  <p:spPr>
                    <a:xfrm>
                      <a:off x="3246480" y="1001880"/>
                      <a:ext cx="4536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Arc 39"/>
                    <p:cNvSpPr/>
                    <p:nvPr/>
                  </p:nvSpPr>
                  <p:spPr>
                    <a:xfrm flipV="1">
                      <a:off x="3257280" y="1116000"/>
                      <a:ext cx="33840" cy="13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2" name="Arc 40"/>
                    <p:cNvSpPr/>
                    <p:nvPr/>
                  </p:nvSpPr>
                  <p:spPr>
                    <a:xfrm flipH="1" flipV="1">
                      <a:off x="3222720" y="1168200"/>
                      <a:ext cx="38880" cy="8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3" name="Arc 41"/>
                    <p:cNvSpPr/>
                    <p:nvPr/>
                  </p:nvSpPr>
                  <p:spPr>
                    <a:xfrm flipH="1">
                      <a:off x="3222000" y="1001880"/>
                      <a:ext cx="117000" cy="16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4" name="Group 42"/>
                  <p:cNvGrpSpPr/>
                  <p:nvPr/>
                </p:nvGrpSpPr>
                <p:grpSpPr>
                  <a:xfrm>
                    <a:off x="3329280" y="1004760"/>
                    <a:ext cx="117000" cy="254160"/>
                    <a:chOff x="3329280" y="1004760"/>
                    <a:chExt cx="117000" cy="254160"/>
                  </a:xfrm>
                </p:grpSpPr>
                <p:sp>
                  <p:nvSpPr>
                    <p:cNvPr id="845" name="Arc 43"/>
                    <p:cNvSpPr/>
                    <p:nvPr/>
                  </p:nvSpPr>
                  <p:spPr>
                    <a:xfrm>
                      <a:off x="3354120" y="1004760"/>
                      <a:ext cx="4536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6" name="Arc 44"/>
                    <p:cNvSpPr/>
                    <p:nvPr/>
                  </p:nvSpPr>
                  <p:spPr>
                    <a:xfrm flipV="1">
                      <a:off x="3364920" y="1119600"/>
                      <a:ext cx="33840" cy="13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Arc 45"/>
                    <p:cNvSpPr/>
                    <p:nvPr/>
                  </p:nvSpPr>
                  <p:spPr>
                    <a:xfrm flipH="1" flipV="1">
                      <a:off x="3329640" y="1171800"/>
                      <a:ext cx="38880" cy="8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Arc 46"/>
                    <p:cNvSpPr/>
                    <p:nvPr/>
                  </p:nvSpPr>
                  <p:spPr>
                    <a:xfrm flipH="1">
                      <a:off x="3328920" y="1004760"/>
                      <a:ext cx="117000" cy="16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9" name="Arc 47"/>
                  <p:cNvSpPr/>
                  <p:nvPr/>
                </p:nvSpPr>
                <p:spPr>
                  <a:xfrm>
                    <a:off x="3443040" y="1004760"/>
                    <a:ext cx="532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Line 48"/>
                  <p:cNvSpPr/>
                  <p:nvPr/>
                </p:nvSpPr>
                <p:spPr>
                  <a:xfrm flipH="1">
                    <a:off x="2993760" y="1088640"/>
                    <a:ext cx="83520" cy="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49"/>
                  <p:cNvSpPr/>
                  <p:nvPr/>
                </p:nvSpPr>
                <p:spPr>
                  <a:xfrm flipH="1">
                    <a:off x="3505320" y="1088640"/>
                    <a:ext cx="83520" cy="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2" name="Rectangle 50"/>
              <p:cNvSpPr/>
              <p:nvPr/>
            </p:nvSpPr>
            <p:spPr>
              <a:xfrm>
                <a:off x="2654280" y="654120"/>
                <a:ext cx="208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Rectangle 51"/>
              <p:cNvSpPr/>
              <p:nvPr/>
            </p:nvSpPr>
            <p:spPr>
              <a:xfrm>
                <a:off x="3220920" y="665280"/>
                <a:ext cx="23652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Group 52"/>
              <p:cNvGrpSpPr/>
              <p:nvPr/>
            </p:nvGrpSpPr>
            <p:grpSpPr>
              <a:xfrm>
                <a:off x="5568840" y="944640"/>
                <a:ext cx="1179360" cy="301680"/>
                <a:chOff x="5568840" y="944640"/>
                <a:chExt cx="1179360" cy="301680"/>
              </a:xfrm>
            </p:grpSpPr>
            <p:sp>
              <p:nvSpPr>
                <p:cNvPr id="855" name="Freeform 53"/>
                <p:cNvSpPr/>
                <p:nvPr/>
              </p:nvSpPr>
              <p:spPr>
                <a:xfrm>
                  <a:off x="5568840" y="944640"/>
                  <a:ext cx="594720" cy="249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0693"/>
                      </a:moveTo>
                      <a:lnTo>
                        <a:pt x="5137" y="10693"/>
                      </a:lnTo>
                      <a:lnTo>
                        <a:pt x="6490" y="0"/>
                      </a:lnTo>
                      <a:lnTo>
                        <a:pt x="8097" y="19945"/>
                      </a:lnTo>
                      <a:lnTo>
                        <a:pt x="9450" y="720"/>
                      </a:lnTo>
                      <a:lnTo>
                        <a:pt x="11332" y="19945"/>
                      </a:lnTo>
                      <a:lnTo>
                        <a:pt x="12685" y="0"/>
                      </a:lnTo>
                      <a:lnTo>
                        <a:pt x="14841" y="19945"/>
                      </a:lnTo>
                      <a:lnTo>
                        <a:pt x="15941" y="10693"/>
                      </a:lnTo>
                      <a:lnTo>
                        <a:pt x="19979" y="106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6" name="Group 54"/>
                <p:cNvGrpSpPr/>
                <p:nvPr/>
              </p:nvGrpSpPr>
              <p:grpSpPr>
                <a:xfrm>
                  <a:off x="6153480" y="986040"/>
                  <a:ext cx="594720" cy="260280"/>
                  <a:chOff x="6153480" y="986040"/>
                  <a:chExt cx="594720" cy="260280"/>
                </a:xfrm>
              </p:grpSpPr>
              <p:sp>
                <p:nvSpPr>
                  <p:cNvPr id="857" name="Arc 55"/>
                  <p:cNvSpPr/>
                  <p:nvPr/>
                </p:nvSpPr>
                <p:spPr>
                  <a:xfrm flipH="1">
                    <a:off x="6241320" y="986040"/>
                    <a:ext cx="583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8" name="Group 56"/>
                  <p:cNvGrpSpPr/>
                  <p:nvPr/>
                </p:nvGrpSpPr>
                <p:grpSpPr>
                  <a:xfrm>
                    <a:off x="6279840" y="986040"/>
                    <a:ext cx="116640" cy="254880"/>
                    <a:chOff x="6279840" y="986040"/>
                    <a:chExt cx="116640" cy="254880"/>
                  </a:xfrm>
                </p:grpSpPr>
                <p:sp>
                  <p:nvSpPr>
                    <p:cNvPr id="859" name="Arc 57"/>
                    <p:cNvSpPr/>
                    <p:nvPr/>
                  </p:nvSpPr>
                  <p:spPr>
                    <a:xfrm>
                      <a:off x="6305040" y="986040"/>
                      <a:ext cx="4500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Arc 58"/>
                    <p:cNvSpPr/>
                    <p:nvPr/>
                  </p:nvSpPr>
                  <p:spPr>
                    <a:xfrm flipV="1">
                      <a:off x="6313680" y="1100880"/>
                      <a:ext cx="33840" cy="13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Arc 59"/>
                    <p:cNvSpPr/>
                    <p:nvPr/>
                  </p:nvSpPr>
                  <p:spPr>
                    <a:xfrm flipH="1" flipV="1">
                      <a:off x="6279840" y="1153800"/>
                      <a:ext cx="38880" cy="8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Arc 60"/>
                    <p:cNvSpPr/>
                    <p:nvPr/>
                  </p:nvSpPr>
                  <p:spPr>
                    <a:xfrm flipH="1">
                      <a:off x="6279840" y="986040"/>
                      <a:ext cx="116640" cy="16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3" name="Group 61"/>
                  <p:cNvGrpSpPr/>
                  <p:nvPr/>
                </p:nvGrpSpPr>
                <p:grpSpPr>
                  <a:xfrm>
                    <a:off x="6382080" y="989280"/>
                    <a:ext cx="117000" cy="253440"/>
                    <a:chOff x="6382080" y="989280"/>
                    <a:chExt cx="117000" cy="253440"/>
                  </a:xfrm>
                </p:grpSpPr>
                <p:sp>
                  <p:nvSpPr>
                    <p:cNvPr id="864" name="Arc 62"/>
                    <p:cNvSpPr/>
                    <p:nvPr/>
                  </p:nvSpPr>
                  <p:spPr>
                    <a:xfrm>
                      <a:off x="6406200" y="989280"/>
                      <a:ext cx="4536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Arc 63"/>
                    <p:cNvSpPr/>
                    <p:nvPr/>
                  </p:nvSpPr>
                  <p:spPr>
                    <a:xfrm flipV="1">
                      <a:off x="6417000" y="1103400"/>
                      <a:ext cx="33840" cy="13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6" name="Arc 64"/>
                    <p:cNvSpPr/>
                    <p:nvPr/>
                  </p:nvSpPr>
                  <p:spPr>
                    <a:xfrm flipH="1" flipV="1">
                      <a:off x="6382440" y="1155600"/>
                      <a:ext cx="38880" cy="8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Arc 65"/>
                    <p:cNvSpPr/>
                    <p:nvPr/>
                  </p:nvSpPr>
                  <p:spPr>
                    <a:xfrm flipH="1">
                      <a:off x="6381720" y="989280"/>
                      <a:ext cx="117000" cy="16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8" name="Group 66"/>
                  <p:cNvGrpSpPr/>
                  <p:nvPr/>
                </p:nvGrpSpPr>
                <p:grpSpPr>
                  <a:xfrm>
                    <a:off x="6489360" y="992160"/>
                    <a:ext cx="116640" cy="254160"/>
                    <a:chOff x="6489360" y="992160"/>
                    <a:chExt cx="116640" cy="254160"/>
                  </a:xfrm>
                </p:grpSpPr>
                <p:sp>
                  <p:nvSpPr>
                    <p:cNvPr id="869" name="Arc 67"/>
                    <p:cNvSpPr/>
                    <p:nvPr/>
                  </p:nvSpPr>
                  <p:spPr>
                    <a:xfrm>
                      <a:off x="6513840" y="992160"/>
                      <a:ext cx="4500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Arc 68"/>
                    <p:cNvSpPr/>
                    <p:nvPr/>
                  </p:nvSpPr>
                  <p:spPr>
                    <a:xfrm flipV="1">
                      <a:off x="6524280" y="1107000"/>
                      <a:ext cx="33840" cy="13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Arc 69"/>
                    <p:cNvSpPr/>
                    <p:nvPr/>
                  </p:nvSpPr>
                  <p:spPr>
                    <a:xfrm flipH="1" flipV="1">
                      <a:off x="6489360" y="1159200"/>
                      <a:ext cx="38880" cy="8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Arc 70"/>
                    <p:cNvSpPr/>
                    <p:nvPr/>
                  </p:nvSpPr>
                  <p:spPr>
                    <a:xfrm flipH="1">
                      <a:off x="6489360" y="992160"/>
                      <a:ext cx="116640" cy="16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3" name="Arc 71"/>
                  <p:cNvSpPr/>
                  <p:nvPr/>
                </p:nvSpPr>
                <p:spPr>
                  <a:xfrm>
                    <a:off x="6602400" y="992160"/>
                    <a:ext cx="532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Line 72"/>
                  <p:cNvSpPr/>
                  <p:nvPr/>
                </p:nvSpPr>
                <p:spPr>
                  <a:xfrm flipH="1">
                    <a:off x="6153480" y="1076040"/>
                    <a:ext cx="83520" cy="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Line 73"/>
                  <p:cNvSpPr/>
                  <p:nvPr/>
                </p:nvSpPr>
                <p:spPr>
                  <a:xfrm flipH="1">
                    <a:off x="6664680" y="1076040"/>
                    <a:ext cx="83520" cy="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76" name="Rectangle 74"/>
              <p:cNvSpPr/>
              <p:nvPr/>
            </p:nvSpPr>
            <p:spPr>
              <a:xfrm>
                <a:off x="5757840" y="665280"/>
                <a:ext cx="208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Rectangle 75"/>
              <p:cNvSpPr/>
              <p:nvPr/>
            </p:nvSpPr>
            <p:spPr>
              <a:xfrm>
                <a:off x="6323040" y="674640"/>
                <a:ext cx="217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Line 78"/>
              <p:cNvSpPr/>
              <p:nvPr/>
            </p:nvSpPr>
            <p:spPr>
              <a:xfrm flipV="1">
                <a:off x="3903480" y="1090440"/>
                <a:ext cx="0" cy="56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Line 79"/>
              <p:cNvSpPr/>
              <p:nvPr/>
            </p:nvSpPr>
            <p:spPr>
              <a:xfrm flipV="1">
                <a:off x="3909960" y="2259000"/>
                <a:ext cx="0" cy="58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Rectangle 81"/>
              <p:cNvSpPr/>
              <p:nvPr/>
            </p:nvSpPr>
            <p:spPr>
              <a:xfrm>
                <a:off x="3484440" y="1865520"/>
                <a:ext cx="185760" cy="19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83"/>
              <p:cNvSpPr/>
              <p:nvPr/>
            </p:nvSpPr>
            <p:spPr>
              <a:xfrm>
                <a:off x="4371840" y="1079640"/>
                <a:ext cx="500040" cy="58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5" y="0"/>
                    </a:lnTo>
                    <a:lnTo>
                      <a:pt x="19975" y="1997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5"/>
              <p:cNvSpPr/>
              <p:nvPr/>
            </p:nvSpPr>
            <p:spPr>
              <a:xfrm>
                <a:off x="5219640" y="1079640"/>
                <a:ext cx="351000" cy="561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5"/>
                    </a:moveTo>
                    <a:lnTo>
                      <a:pt x="0" y="0"/>
                    </a:lnTo>
                    <a:lnTo>
                      <a:pt x="1996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7"/>
              <p:cNvSpPr/>
              <p:nvPr/>
            </p:nvSpPr>
            <p:spPr>
              <a:xfrm>
                <a:off x="5219640" y="2284560"/>
                <a:ext cx="1801800" cy="573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76"/>
                    </a:lnTo>
                    <a:lnTo>
                      <a:pt x="19993" y="1997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Rectangle 89"/>
              <p:cNvSpPr/>
              <p:nvPr/>
            </p:nvSpPr>
            <p:spPr>
              <a:xfrm>
                <a:off x="4824360" y="830160"/>
                <a:ext cx="471600" cy="1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 </a:t>
                </a: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 : n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Oval 90"/>
              <p:cNvSpPr/>
              <p:nvPr/>
            </p:nvSpPr>
            <p:spPr>
              <a:xfrm>
                <a:off x="4908600" y="1204920"/>
                <a:ext cx="38160" cy="41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Oval 91"/>
              <p:cNvSpPr/>
              <p:nvPr/>
            </p:nvSpPr>
            <p:spPr>
              <a:xfrm>
                <a:off x="5135400" y="1204920"/>
                <a:ext cx="38160" cy="41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Rectangle 95"/>
              <p:cNvSpPr/>
              <p:nvPr/>
            </p:nvSpPr>
            <p:spPr>
              <a:xfrm>
                <a:off x="2266920" y="1193760"/>
                <a:ext cx="208080" cy="1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Rectangle 96"/>
              <p:cNvSpPr/>
              <p:nvPr/>
            </p:nvSpPr>
            <p:spPr>
              <a:xfrm>
                <a:off x="2050920" y="2897280"/>
                <a:ext cx="208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Rectangle 97"/>
              <p:cNvSpPr/>
              <p:nvPr/>
            </p:nvSpPr>
            <p:spPr>
              <a:xfrm>
                <a:off x="1860480" y="862200"/>
                <a:ext cx="208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Oval 100"/>
              <p:cNvSpPr/>
              <p:nvPr/>
            </p:nvSpPr>
            <p:spPr>
              <a:xfrm>
                <a:off x="7002360" y="1049400"/>
                <a:ext cx="38160" cy="41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Oval 101"/>
              <p:cNvSpPr/>
              <p:nvPr/>
            </p:nvSpPr>
            <p:spPr>
              <a:xfrm>
                <a:off x="7002360" y="2824200"/>
                <a:ext cx="3816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Rectangle 102"/>
              <p:cNvSpPr/>
              <p:nvPr/>
            </p:nvSpPr>
            <p:spPr>
              <a:xfrm>
                <a:off x="1887480" y="1168560"/>
                <a:ext cx="1303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Rectangle 103"/>
              <p:cNvSpPr/>
              <p:nvPr/>
            </p:nvSpPr>
            <p:spPr>
              <a:xfrm>
                <a:off x="6700680" y="1160640"/>
                <a:ext cx="208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Rectangle 104"/>
              <p:cNvSpPr/>
              <p:nvPr/>
            </p:nvSpPr>
            <p:spPr>
              <a:xfrm>
                <a:off x="7012080" y="1120680"/>
                <a:ext cx="155520" cy="1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Rectangle 105"/>
              <p:cNvSpPr/>
              <p:nvPr/>
            </p:nvSpPr>
            <p:spPr>
              <a:xfrm>
                <a:off x="7031160" y="809640"/>
                <a:ext cx="20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Rectangle 106"/>
              <p:cNvSpPr/>
              <p:nvPr/>
            </p:nvSpPr>
            <p:spPr>
              <a:xfrm>
                <a:off x="7049880" y="2897280"/>
                <a:ext cx="208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Rectangle 108"/>
              <p:cNvSpPr/>
              <p:nvPr/>
            </p:nvSpPr>
            <p:spPr>
              <a:xfrm>
                <a:off x="4165560" y="1257480"/>
                <a:ext cx="209520" cy="19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Rectangle 109"/>
              <p:cNvSpPr/>
              <p:nvPr/>
            </p:nvSpPr>
            <p:spPr>
              <a:xfrm>
                <a:off x="1758960" y="1778040"/>
                <a:ext cx="208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V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Rectangle 110"/>
              <p:cNvSpPr/>
              <p:nvPr/>
            </p:nvSpPr>
            <p:spPr>
              <a:xfrm>
                <a:off x="7049880" y="1879560"/>
                <a:ext cx="208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V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Rectangle 111"/>
              <p:cNvSpPr/>
              <p:nvPr/>
            </p:nvSpPr>
            <p:spPr>
              <a:xfrm>
                <a:off x="4532400" y="1506600"/>
                <a:ext cx="141120" cy="15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Rectangle 112"/>
              <p:cNvSpPr/>
              <p:nvPr/>
            </p:nvSpPr>
            <p:spPr>
              <a:xfrm>
                <a:off x="5398920" y="1515960"/>
                <a:ext cx="142920" cy="15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Rectangle 113"/>
              <p:cNvSpPr/>
              <p:nvPr/>
            </p:nvSpPr>
            <p:spPr>
              <a:xfrm>
                <a:off x="4503600" y="1827360"/>
                <a:ext cx="189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E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Rectangle 114"/>
              <p:cNvSpPr/>
              <p:nvPr/>
            </p:nvSpPr>
            <p:spPr>
              <a:xfrm>
                <a:off x="5446800" y="1859040"/>
                <a:ext cx="20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E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Rectangle 118"/>
              <p:cNvSpPr/>
              <p:nvPr/>
            </p:nvSpPr>
            <p:spPr>
              <a:xfrm>
                <a:off x="4049640" y="2409840"/>
                <a:ext cx="208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5" name="Group 119"/>
              <p:cNvGrpSpPr/>
              <p:nvPr/>
            </p:nvGrpSpPr>
            <p:grpSpPr>
              <a:xfrm>
                <a:off x="4856040" y="1615680"/>
                <a:ext cx="363240" cy="671760"/>
                <a:chOff x="4856040" y="1615680"/>
                <a:chExt cx="363240" cy="671760"/>
              </a:xfrm>
            </p:grpSpPr>
            <p:sp>
              <p:nvSpPr>
                <p:cNvPr id="906" name="Arc 120"/>
                <p:cNvSpPr/>
                <p:nvPr/>
              </p:nvSpPr>
              <p:spPr>
                <a:xfrm rot="21496800">
                  <a:off x="4865760" y="1618920"/>
                  <a:ext cx="240840" cy="654120"/>
                </a:xfrm>
                <a:custGeom>
                  <a:avLst/>
                  <a:gdLst/>
                  <a:ahLst/>
                  <a:rect l="l" t="t" r="r" b="b"/>
                  <a:pathLst>
                    <a:path fill="none" w="22372" h="43200">
                      <a:moveTo>
                        <a:pt x="771" y="0"/>
                      </a:moveTo>
                      <a:cubicBezTo>
                        <a:pt x="12701" y="0"/>
                        <a:pt x="22372" y="9670"/>
                        <a:pt x="22372" y="21600"/>
                      </a:cubicBezTo>
                      <a:cubicBezTo>
                        <a:pt x="22372" y="33529"/>
                        <a:pt x="12701" y="43200"/>
                        <a:pt x="772" y="43200"/>
                      </a:cubicBezTo>
                      <a:cubicBezTo>
                        <a:pt x="514" y="43200"/>
                        <a:pt x="257" y="43195"/>
                        <a:pt x="-1" y="43186"/>
                      </a:cubicBezTo>
                    </a:path>
                    <a:path stroke="0" w="22372" h="43200">
                      <a:moveTo>
                        <a:pt x="771" y="0"/>
                      </a:moveTo>
                      <a:cubicBezTo>
                        <a:pt x="12701" y="0"/>
                        <a:pt x="22372" y="9670"/>
                        <a:pt x="22372" y="21600"/>
                      </a:cubicBezTo>
                      <a:cubicBezTo>
                        <a:pt x="22372" y="33529"/>
                        <a:pt x="12701" y="43200"/>
                        <a:pt x="772" y="43200"/>
                      </a:cubicBezTo>
                      <a:cubicBezTo>
                        <a:pt x="514" y="43200"/>
                        <a:pt x="257" y="43195"/>
                        <a:pt x="-1" y="43186"/>
                      </a:cubicBezTo>
                      <a:lnTo>
                        <a:pt x="772" y="21600"/>
                      </a:lnTo>
                      <a:lnTo>
                        <a:pt x="77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Arc 121"/>
                <p:cNvSpPr/>
                <p:nvPr/>
              </p:nvSpPr>
              <p:spPr>
                <a:xfrm flipH="1" rot="103200">
                  <a:off x="4968000" y="1629720"/>
                  <a:ext cx="240840" cy="654120"/>
                </a:xfrm>
                <a:custGeom>
                  <a:avLst/>
                  <a:gdLst/>
                  <a:ahLst/>
                  <a:rect l="l" t="t" r="r" b="b"/>
                  <a:pathLst>
                    <a:path fill="none" w="22372" h="43200">
                      <a:moveTo>
                        <a:pt x="771" y="0"/>
                      </a:moveTo>
                      <a:cubicBezTo>
                        <a:pt x="12701" y="0"/>
                        <a:pt x="22372" y="9670"/>
                        <a:pt x="22372" y="21600"/>
                      </a:cubicBezTo>
                      <a:cubicBezTo>
                        <a:pt x="22372" y="33529"/>
                        <a:pt x="12701" y="43200"/>
                        <a:pt x="772" y="43200"/>
                      </a:cubicBezTo>
                      <a:cubicBezTo>
                        <a:pt x="514" y="43200"/>
                        <a:pt x="257" y="43195"/>
                        <a:pt x="-1" y="43186"/>
                      </a:cubicBezTo>
                    </a:path>
                    <a:path stroke="0" w="22372" h="43200">
                      <a:moveTo>
                        <a:pt x="771" y="0"/>
                      </a:moveTo>
                      <a:cubicBezTo>
                        <a:pt x="12701" y="0"/>
                        <a:pt x="22372" y="9670"/>
                        <a:pt x="22372" y="21600"/>
                      </a:cubicBezTo>
                      <a:cubicBezTo>
                        <a:pt x="22372" y="33529"/>
                        <a:pt x="12701" y="43200"/>
                        <a:pt x="772" y="43200"/>
                      </a:cubicBezTo>
                      <a:cubicBezTo>
                        <a:pt x="514" y="43200"/>
                        <a:pt x="257" y="43195"/>
                        <a:pt x="-1" y="43186"/>
                      </a:cubicBezTo>
                      <a:lnTo>
                        <a:pt x="772" y="21600"/>
                      </a:lnTo>
                      <a:lnTo>
                        <a:pt x="77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8" name="Rectangle 122"/>
              <p:cNvSpPr/>
              <p:nvPr/>
            </p:nvSpPr>
            <p:spPr>
              <a:xfrm>
                <a:off x="1836720" y="2565360"/>
                <a:ext cx="1303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Rectangle 123"/>
              <p:cNvSpPr/>
              <p:nvPr/>
            </p:nvSpPr>
            <p:spPr>
              <a:xfrm>
                <a:off x="7081920" y="2565360"/>
                <a:ext cx="12996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Line 125"/>
              <p:cNvSpPr/>
              <p:nvPr/>
            </p:nvSpPr>
            <p:spPr>
              <a:xfrm>
                <a:off x="3594240" y="1079640"/>
                <a:ext cx="77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Line 126"/>
              <p:cNvSpPr/>
              <p:nvPr/>
            </p:nvSpPr>
            <p:spPr>
              <a:xfrm>
                <a:off x="2108160" y="1067040"/>
                <a:ext cx="36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Line 127"/>
              <p:cNvSpPr/>
              <p:nvPr/>
            </p:nvSpPr>
            <p:spPr>
              <a:xfrm flipH="1">
                <a:off x="2184480" y="2844720"/>
                <a:ext cx="171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28"/>
              <p:cNvSpPr/>
              <p:nvPr/>
            </p:nvSpPr>
            <p:spPr>
              <a:xfrm>
                <a:off x="3898800" y="236232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Rectangle 129"/>
              <p:cNvSpPr/>
              <p:nvPr/>
            </p:nvSpPr>
            <p:spPr>
              <a:xfrm>
                <a:off x="4506840" y="2382840"/>
                <a:ext cx="141480" cy="15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Rectangle 130"/>
              <p:cNvSpPr/>
              <p:nvPr/>
            </p:nvSpPr>
            <p:spPr>
              <a:xfrm>
                <a:off x="5421240" y="2382840"/>
                <a:ext cx="141480" cy="15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31"/>
              <p:cNvSpPr/>
              <p:nvPr/>
            </p:nvSpPr>
            <p:spPr>
              <a:xfrm>
                <a:off x="3886200" y="2286000"/>
                <a:ext cx="965160" cy="558720"/>
              </a:xfrm>
              <a:custGeom>
                <a:avLst/>
                <a:gdLst/>
                <a:ahLst/>
                <a:rect l="l" t="t" r="r" b="b"/>
                <a:pathLst>
                  <a:path w="608" h="352">
                    <a:moveTo>
                      <a:pt x="0" y="352"/>
                    </a:moveTo>
                    <a:lnTo>
                      <a:pt x="608" y="352"/>
                    </a:lnTo>
                    <a:lnTo>
                      <a:pt x="60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Line 134"/>
              <p:cNvSpPr/>
              <p:nvPr/>
            </p:nvSpPr>
            <p:spPr>
              <a:xfrm>
                <a:off x="6718320" y="1067040"/>
                <a:ext cx="31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Line 135"/>
              <p:cNvSpPr/>
              <p:nvPr/>
            </p:nvSpPr>
            <p:spPr>
              <a:xfrm>
                <a:off x="6743520" y="1067040"/>
                <a:ext cx="16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9" name="Freeform 144"/>
            <p:cNvSpPr/>
            <p:nvPr/>
          </p:nvSpPr>
          <p:spPr>
            <a:xfrm>
              <a:off x="2450880" y="1519200"/>
              <a:ext cx="937800" cy="1193760"/>
            </a:xfrm>
            <a:custGeom>
              <a:avLst/>
              <a:gdLst/>
              <a:ahLst/>
              <a:rect l="l" t="t" r="r" b="b"/>
              <a:pathLst>
                <a:path w="591" h="752">
                  <a:moveTo>
                    <a:pt x="0" y="11"/>
                  </a:moveTo>
                  <a:cubicBezTo>
                    <a:pt x="70" y="5"/>
                    <a:pt x="140" y="0"/>
                    <a:pt x="216" y="11"/>
                  </a:cubicBezTo>
                  <a:cubicBezTo>
                    <a:pt x="292" y="22"/>
                    <a:pt x="396" y="24"/>
                    <a:pt x="456" y="75"/>
                  </a:cubicBezTo>
                  <a:cubicBezTo>
                    <a:pt x="516" y="126"/>
                    <a:pt x="561" y="232"/>
                    <a:pt x="576" y="315"/>
                  </a:cubicBezTo>
                  <a:cubicBezTo>
                    <a:pt x="591" y="398"/>
                    <a:pt x="569" y="504"/>
                    <a:pt x="544" y="571"/>
                  </a:cubicBezTo>
                  <a:cubicBezTo>
                    <a:pt x="519" y="638"/>
                    <a:pt x="479" y="686"/>
                    <a:pt x="424" y="715"/>
                  </a:cubicBezTo>
                  <a:cubicBezTo>
                    <a:pt x="369" y="744"/>
                    <a:pt x="280" y="742"/>
                    <a:pt x="216" y="747"/>
                  </a:cubicBezTo>
                  <a:cubicBezTo>
                    <a:pt x="152" y="752"/>
                    <a:pt x="96" y="749"/>
                    <a:pt x="40" y="7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45"/>
            <p:cNvSpPr/>
            <p:nvPr/>
          </p:nvSpPr>
          <p:spPr>
            <a:xfrm>
              <a:off x="5945040" y="1460520"/>
              <a:ext cx="937800" cy="1224000"/>
            </a:xfrm>
            <a:custGeom>
              <a:avLst/>
              <a:gdLst/>
              <a:ahLst/>
              <a:rect l="l" t="t" r="r" b="b"/>
              <a:pathLst>
                <a:path w="591" h="771">
                  <a:moveTo>
                    <a:pt x="455" y="0"/>
                  </a:moveTo>
                  <a:cubicBezTo>
                    <a:pt x="343" y="0"/>
                    <a:pt x="231" y="1"/>
                    <a:pt x="167" y="16"/>
                  </a:cubicBezTo>
                  <a:cubicBezTo>
                    <a:pt x="103" y="31"/>
                    <a:pt x="98" y="32"/>
                    <a:pt x="71" y="88"/>
                  </a:cubicBezTo>
                  <a:cubicBezTo>
                    <a:pt x="44" y="144"/>
                    <a:pt x="14" y="277"/>
                    <a:pt x="7" y="352"/>
                  </a:cubicBezTo>
                  <a:cubicBezTo>
                    <a:pt x="0" y="427"/>
                    <a:pt x="3" y="477"/>
                    <a:pt x="31" y="536"/>
                  </a:cubicBezTo>
                  <a:cubicBezTo>
                    <a:pt x="59" y="595"/>
                    <a:pt x="116" y="667"/>
                    <a:pt x="175" y="704"/>
                  </a:cubicBezTo>
                  <a:cubicBezTo>
                    <a:pt x="234" y="741"/>
                    <a:pt x="314" y="749"/>
                    <a:pt x="383" y="760"/>
                  </a:cubicBezTo>
                  <a:cubicBezTo>
                    <a:pt x="452" y="771"/>
                    <a:pt x="521" y="769"/>
                    <a:pt x="591" y="7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Rectangle 146"/>
          <p:cNvSpPr/>
          <p:nvPr/>
        </p:nvSpPr>
        <p:spPr>
          <a:xfrm>
            <a:off x="2546280" y="478224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23960" indent="-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ttanza di dispersione dell’avvolgimento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Object 147"/>
              <p:cNvSpPr txBox="1"/>
              <p:nvPr/>
            </p:nvSpPr>
            <p:spPr>
              <a:xfrm>
                <a:off x="820800" y="6227640"/>
                <a:ext cx="8301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ℜ</m:t>
                        </m:r>
                        <m:r>
                          <m:t xml:space="preserve"> </m:t>
                        </m:r>
                        <m:r>
                          <m:t xml:space="preserve">ϕ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Object 148"/>
              <p:cNvSpPr txBox="1"/>
              <p:nvPr/>
            </p:nvSpPr>
            <p:spPr>
              <a:xfrm>
                <a:off x="735120" y="5164200"/>
                <a:ext cx="12920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24" name="Rectangle 149"/>
          <p:cNvSpPr/>
          <p:nvPr/>
        </p:nvSpPr>
        <p:spPr>
          <a:xfrm>
            <a:off x="2558880" y="515088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23960" indent="-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ttanza di dispersione dell’avvolgimento seco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50"/>
          <p:cNvSpPr/>
          <p:nvPr/>
        </p:nvSpPr>
        <p:spPr>
          <a:xfrm>
            <a:off x="2546280" y="568404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23960" indent="-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ttanza magnetizzante riferita a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Group 155"/>
          <p:cNvGrpSpPr/>
          <p:nvPr/>
        </p:nvGrpSpPr>
        <p:grpSpPr>
          <a:xfrm>
            <a:off x="241200" y="3135240"/>
            <a:ext cx="4383360" cy="1084320"/>
            <a:chOff x="241200" y="3135240"/>
            <a:chExt cx="4383360" cy="1084320"/>
          </a:xfrm>
        </p:grpSpPr>
        <mc:AlternateContent>
          <mc:Choice xmlns:a14="http://schemas.microsoft.com/office/drawing/2010/main" Requires="a14">
            <p:sp>
              <p:nvSpPr>
                <p:cNvPr id="927" name="Object 138"/>
                <p:cNvSpPr txBox="1"/>
                <p:nvPr/>
              </p:nvSpPr>
              <p:spPr>
                <a:xfrm>
                  <a:off x="1505160" y="3135240"/>
                  <a:ext cx="261612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V</m:t>
                              </m:r>
                            </m:e>
                          </m:ba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I</m:t>
                              </m:r>
                            </m:e>
                          </m:ba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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d</m:t>
                          </m:r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I</m:t>
                              </m:r>
                            </m:e>
                          </m:ba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</m:sSub>
                      <m:sSub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I</m:t>
                              </m:r>
                            </m:e>
                          </m:bar>
                        </m:e>
                        <m:sub>
                          <m:r>
                            <m:t xml:space="preserve">μ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8" name="Object 139"/>
                <p:cNvSpPr txBox="1"/>
                <p:nvPr/>
              </p:nvSpPr>
              <p:spPr>
                <a:xfrm>
                  <a:off x="1494000" y="3582720"/>
                  <a:ext cx="3130560" cy="63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V</m:t>
                              </m:r>
                            </m:e>
                          </m:ba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I</m:t>
                              </m:r>
                            </m:e>
                          </m:ba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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d</m:t>
                          </m:r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I</m:t>
                              </m:r>
                            </m:e>
                          </m:ba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</m:sSub>
                      <m:sSub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I</m:t>
                              </m:r>
                            </m:e>
                          </m:bar>
                        </m:e>
                        <m:sub>
                          <m:r>
                            <m:t xml:space="preserve">μ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29" name="Rectangle 151"/>
            <p:cNvSpPr/>
            <p:nvPr/>
          </p:nvSpPr>
          <p:spPr>
            <a:xfrm>
              <a:off x="241200" y="337248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723960" indent="-72396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.K.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AutoShape 152"/>
            <p:cNvSpPr/>
            <p:nvPr/>
          </p:nvSpPr>
          <p:spPr>
            <a:xfrm>
              <a:off x="1104840" y="3149640"/>
              <a:ext cx="190800" cy="850680"/>
            </a:xfrm>
            <a:custGeom>
              <a:avLst/>
              <a:gdLst>
                <a:gd name="textAreaLeft" fmla="*/ 122040 w 190800"/>
                <a:gd name="textAreaRight" fmla="*/ 191160 w 190800"/>
                <a:gd name="textAreaTop" fmla="*/ 21960 h 850680"/>
                <a:gd name="textAreaBottom" fmla="*/ 828720 h 85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Rectangle 153"/>
          <p:cNvSpPr/>
          <p:nvPr/>
        </p:nvSpPr>
        <p:spPr>
          <a:xfrm>
            <a:off x="7594560" y="33980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23960" indent="-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.K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2" name="Object 156"/>
              <p:cNvSpPr txBox="1"/>
              <p:nvPr/>
            </p:nvSpPr>
            <p:spPr>
              <a:xfrm>
                <a:off x="820800" y="4146480"/>
                <a:ext cx="10350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3" name="Rectangle 157"/>
          <p:cNvSpPr/>
          <p:nvPr/>
        </p:nvSpPr>
        <p:spPr>
          <a:xfrm>
            <a:off x="2571840" y="428724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23960" indent="-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rrente secondaria ridotta a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22:00:11Z</dcterms:created>
  <dc:creator>Pier Luigi Ribani</dc:creator>
  <dc:description/>
  <dc:language>en-US</dc:language>
  <cp:lastModifiedBy>federico barbarossa</cp:lastModifiedBy>
  <dcterms:modified xsi:type="dcterms:W3CDTF">2019-06-02T13:01:22Z</dcterms:modified>
  <cp:revision>78</cp:revision>
  <dc:subject/>
  <dc:title>IMPIANTI</dc:title>
</cp:coreProperties>
</file>