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3.wmf" ContentType="image/x-wmf"/>
  <Override PartName="/ppt/media/image20.gif" ContentType="image/gif"/>
  <Override PartName="/ppt/media/image18.gif" ContentType="image/gif"/>
  <Override PartName="/ppt/media/image14.wmf" ContentType="image/x-wmf"/>
  <Override PartName="/ppt/media/image17.png" ContentType="image/png"/>
  <Override PartName="/ppt/media/image16.gif" ContentType="image/gif"/>
  <Override PartName="/ppt/media/image15.gif" ContentType="image/gif"/>
  <Override PartName="/ppt/media/image29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31.png" ContentType="image/png"/>
  <Override PartName="/ppt/media/image22.gif" ContentType="image/gif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12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7.gif" ContentType="image/gif"/>
  <Override PartName="/ppt/media/image5.png" ContentType="image/png"/>
  <Override PartName="/ppt/media/image35.png" ContentType="image/png"/>
  <Override PartName="/ppt/media/image6.wmf" ContentType="image/x-wmf"/>
  <Override PartName="/ppt/media/image1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9B0-971E-4EDD-8337-FA3000D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877-D4CB-40E7-9878-893DD7A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8F2-DB61-4514-B26D-2FB8B33F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117-3D6F-44BC-AA88-5EC800C3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7C1-80B7-4259-B785-0D0563C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BF1-CF26-4575-A467-D6068DC8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04E-FEFB-468E-AF7D-67DE40E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073-1169-448B-816E-0D7B5F2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269-B0E0-4C4B-9A28-CE2EEADE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460-7487-4A03-8D69-F3F853D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686-85DC-46F0-870E-1B99A35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676-061C-40D5-84F7-EE473C9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AEEF-3FAF-4979-B6D2-262A6A82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png"/><Relationship Id="rId8" Type="http://schemas.openxmlformats.org/officeDocument/2006/relationships/image" Target="../media/image28.png"/><Relationship Id="rId9" Type="http://schemas.openxmlformats.org/officeDocument/2006/relationships/image" Target="../media/image3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6"/>
          <p:cNvSpPr/>
          <p:nvPr/>
        </p:nvSpPr>
        <p:spPr>
          <a:xfrm>
            <a:off x="2319480" y="4419720"/>
            <a:ext cx="5495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sperimentare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352680"/>
            <a:ext cx="51055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Laboratorio di Fi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352680" cy="271764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83"/>
          <p:cNvGrpSpPr/>
          <p:nvPr/>
        </p:nvGrpSpPr>
        <p:grpSpPr>
          <a:xfrm>
            <a:off x="1371600" y="2396160"/>
            <a:ext cx="951840" cy="846720"/>
            <a:chOff x="1371600" y="2396160"/>
            <a:chExt cx="951840" cy="846720"/>
          </a:xfrm>
        </p:grpSpPr>
        <p:sp>
          <p:nvSpPr>
            <p:cNvPr id="46" name="Line 80"/>
            <p:cNvSpPr/>
            <p:nvPr/>
          </p:nvSpPr>
          <p:spPr>
            <a:xfrm flipH="1">
              <a:off x="1371600" y="2438640"/>
              <a:ext cx="914400" cy="762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1"/>
            <p:cNvSpPr/>
            <p:nvPr/>
          </p:nvSpPr>
          <p:spPr>
            <a:xfrm>
              <a:off x="1486800" y="2396160"/>
              <a:ext cx="836640" cy="846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86"/>
          <p:cNvSpPr/>
          <p:nvPr/>
        </p:nvSpPr>
        <p:spPr>
          <a:xfrm>
            <a:off x="571680" y="3733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ura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8"/>
          <p:cNvSpPr/>
          <p:nvPr/>
        </p:nvSpPr>
        <p:spPr>
          <a:xfrm>
            <a:off x="171360" y="4114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rico Barbar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9"/>
          <p:cNvSpPr/>
          <p:nvPr/>
        </p:nvSpPr>
        <p:spPr>
          <a:xfrm>
            <a:off x="3124080" y="533412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“bigino” per la sicurezza degli alli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6"/>
          <p:cNvSpPr/>
          <p:nvPr/>
        </p:nvSpPr>
        <p:spPr>
          <a:xfrm>
            <a:off x="4038480" y="838080"/>
            <a:ext cx="4876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Tahoma"/>
              </a:rPr>
              <a:t>I.T.C.S. 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ahoma"/>
              </a:rPr>
              <a:t>Primo Levi  - Bol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  <a:ea typeface="Tahoma"/>
              </a:rPr>
              <a:t>Corsi sperimentali:  Biologico, Chimico, Economico, Linguistico , Liceo Scientifico Tecnolo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3"/>
          <p:cNvSpPr/>
          <p:nvPr/>
        </p:nvSpPr>
        <p:spPr>
          <a:xfrm>
            <a:off x="885960" y="1828800"/>
            <a:ext cx="67816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le cause d’incendio abbiamo già detto qualcosa ma è importante aggiungere che questo rischio è strettamente collegato alla presenza d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8080" y="4724280"/>
            <a:ext cx="7620120" cy="1472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esempio u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to circui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iastre riscaldan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arecchi a scinti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ampade a incandesce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 anc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ovre errate sugli alimentato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orto circuito) possono produrre inc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84780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53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55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9"/>
          <p:cNvSpPr/>
          <p:nvPr/>
        </p:nvSpPr>
        <p:spPr>
          <a:xfrm>
            <a:off x="880920" y="3200400"/>
            <a:ext cx="3353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stanze infiamm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838080" y="3962520"/>
            <a:ext cx="72392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ccanismo che può produrre scintille o alt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495680" y="29718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er esempio carta, cartone ma anche indumenti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crec\Documenti\Nuova cartella\Oggetti465.gif"/>
          <p:cNvPicPr/>
          <p:nvPr/>
        </p:nvPicPr>
        <p:blipFill>
          <a:blip r:embed="rId5"/>
          <a:stretch/>
        </p:blipFill>
        <p:spPr>
          <a:xfrm>
            <a:off x="7543800" y="277668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Line 1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"/>
          <p:cNvSpPr/>
          <p:nvPr/>
        </p:nvSpPr>
        <p:spPr>
          <a:xfrm>
            <a:off x="762120" y="1771560"/>
            <a:ext cx="6781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eriali radioatti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tilizzati nel laboratorio di fisica sono quelli permessi dalla normativa vigente……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5581800"/>
            <a:ext cx="72388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ma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ischio di contamin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sempre possibile se non vengono utilizzati in modo assolutamente corretto e nel rispetto delle indicazioni forn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0" y="87588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teriali radioa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67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9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762120" y="3505320"/>
            <a:ext cx="6781680" cy="1949400"/>
            <a:chOff x="762120" y="3505320"/>
            <a:chExt cx="6781680" cy="1949400"/>
          </a:xfrm>
        </p:grpSpPr>
        <p:pic>
          <p:nvPicPr>
            <p:cNvPr id="171" name="Picture 9" descr="E:\PFiles\MSOffice\Clipart\standard\stddir1\BD06719_.WMF"/>
            <p:cNvPicPr/>
            <p:nvPr/>
          </p:nvPicPr>
          <p:blipFill>
            <a:blip r:embed="rId5"/>
            <a:stretch/>
          </p:blipFill>
          <p:spPr>
            <a:xfrm>
              <a:off x="3505320" y="4343400"/>
              <a:ext cx="144756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762120" y="3505320"/>
              <a:ext cx="67816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 vengono maneggiati solo dal personale scolastico (insegnanti ed assistenti tecnici)…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2"/>
          <p:cNvSpPr/>
          <p:nvPr/>
        </p:nvSpPr>
        <p:spPr>
          <a:xfrm>
            <a:off x="762120" y="2757600"/>
            <a:ext cx="5181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custoditi in appositi contenitori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0"/>
          <p:cNvGrpSpPr/>
          <p:nvPr/>
        </p:nvGrpSpPr>
        <p:grpSpPr>
          <a:xfrm>
            <a:off x="1752480" y="3276720"/>
            <a:ext cx="6653160" cy="1371600"/>
            <a:chOff x="1752480" y="3276720"/>
            <a:chExt cx="6653160" cy="1371600"/>
          </a:xfrm>
        </p:grpSpPr>
        <p:sp>
          <p:nvSpPr>
            <p:cNvPr id="176" name="AutoShape 7"/>
            <p:cNvSpPr/>
            <p:nvPr/>
          </p:nvSpPr>
          <p:spPr>
            <a:xfrm flipV="1">
              <a:off x="1752480" y="3276360"/>
              <a:ext cx="6653160" cy="1371600"/>
            </a:xfrm>
            <a:prstGeom prst="wedgeRoundRectCallout">
              <a:avLst>
                <a:gd name="adj1" fmla="val -43796"/>
                <a:gd name="adj2" fmla="val 7002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 flipH="1">
              <a:off x="2070720" y="35006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ond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le norme di sicurez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8" name="Object 9"/>
          <p:cNvGraphicFramePr/>
          <p:nvPr/>
        </p:nvGraphicFramePr>
        <p:xfrm>
          <a:off x="380880" y="1676520"/>
          <a:ext cx="14223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14223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828800" y="9428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scere il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6"/>
          <p:cNvGrpSpPr/>
          <p:nvPr/>
        </p:nvGrpSpPr>
        <p:grpSpPr>
          <a:xfrm>
            <a:off x="433440" y="4719600"/>
            <a:ext cx="8496360" cy="1331640"/>
            <a:chOff x="433440" y="4719600"/>
            <a:chExt cx="8496360" cy="1331640"/>
          </a:xfrm>
        </p:grpSpPr>
        <p:pic>
          <p:nvPicPr>
            <p:cNvPr id="182" name="Picture 10" descr="C:\Documents and Settings\crec\Documenti\Nuova cartella\Oggetti437.gif"/>
            <p:cNvPicPr/>
            <p:nvPr/>
          </p:nvPicPr>
          <p:blipFill>
            <a:blip r:embed="rId1"/>
            <a:stretch/>
          </p:blipFill>
          <p:spPr>
            <a:xfrm>
              <a:off x="7558200" y="4719600"/>
              <a:ext cx="13716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3"/>
            <p:cNvSpPr/>
            <p:nvPr/>
          </p:nvSpPr>
          <p:spPr>
            <a:xfrm>
              <a:off x="433440" y="5405400"/>
              <a:ext cx="72388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onoscere la via di fuga più rapida verso le uscite di sicure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1219320" y="2962440"/>
            <a:ext cx="6319800" cy="990360"/>
            <a:chOff x="1219320" y="2962440"/>
            <a:chExt cx="6319800" cy="990360"/>
          </a:xfrm>
        </p:grpSpPr>
        <p:sp>
          <p:nvSpPr>
            <p:cNvPr id="185" name="Text Box 12"/>
            <p:cNvSpPr/>
            <p:nvPr/>
          </p:nvSpPr>
          <p:spPr>
            <a:xfrm>
              <a:off x="1824120" y="3495600"/>
              <a:ext cx="57150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Conoscere la posizione dell’interruttore genera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9" descr="C:\Documents and Settings\crec\Documenti\Nuova cartella\gestione%20pc034.gif"/>
            <p:cNvPicPr/>
            <p:nvPr/>
          </p:nvPicPr>
          <p:blipFill>
            <a:blip r:embed="rId2"/>
            <a:stretch/>
          </p:blipFill>
          <p:spPr>
            <a:xfrm>
              <a:off x="1219320" y="2962440"/>
              <a:ext cx="62568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20"/>
          <p:cNvGrpSpPr/>
          <p:nvPr/>
        </p:nvGrpSpPr>
        <p:grpSpPr>
          <a:xfrm>
            <a:off x="633240" y="-14400"/>
            <a:ext cx="3176640" cy="1219320"/>
            <a:chOff x="633240" y="-14400"/>
            <a:chExt cx="3176640" cy="1219320"/>
          </a:xfrm>
        </p:grpSpPr>
        <p:sp>
          <p:nvSpPr>
            <p:cNvPr id="188" name="Text Box 7"/>
            <p:cNvSpPr/>
            <p:nvPr/>
          </p:nvSpPr>
          <p:spPr>
            <a:xfrm>
              <a:off x="1544760" y="3808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Object 19"/>
            <p:cNvGraphicFramePr/>
            <p:nvPr/>
          </p:nvGraphicFramePr>
          <p:xfrm>
            <a:off x="633240" y="-14400"/>
            <a:ext cx="85284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240" y="-1440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91" name="Line 24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609560" y="2166840"/>
            <a:ext cx="487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oscere la posizione degli estin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6" descr=""/>
          <p:cNvPicPr/>
          <p:nvPr/>
        </p:nvPicPr>
        <p:blipFill>
          <a:blip r:embed="rId5"/>
          <a:stretch/>
        </p:blipFill>
        <p:spPr>
          <a:xfrm>
            <a:off x="6915240" y="1447920"/>
            <a:ext cx="19047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838080" y="2514600"/>
            <a:ext cx="7239240" cy="703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on lasciare oggetti in posizioni pericolose (per es: tali da provocare danno, per caduta, a persone o 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133720" y="100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n provocare inci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62120" y="4572000"/>
            <a:ext cx="72388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Non bloccare le vie di fuga con oggetti ingombranti ( es: zaini, ab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198" name="Text Box 21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Object 22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01" name="Line 2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9" descr="D:\FEDERICO\DIDATTICA\animazioni\personaggi\AG00223_.GIF"/>
          <p:cNvPicPr/>
          <p:nvPr/>
        </p:nvPicPr>
        <p:blipFill>
          <a:blip r:embed="rId3"/>
          <a:stretch/>
        </p:blipFill>
        <p:spPr>
          <a:xfrm>
            <a:off x="7010280" y="1981080"/>
            <a:ext cx="2133720" cy="12654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1"/>
          <p:cNvGrpSpPr/>
          <p:nvPr/>
        </p:nvGrpSpPr>
        <p:grpSpPr>
          <a:xfrm>
            <a:off x="7848720" y="1647720"/>
            <a:ext cx="380880" cy="1143000"/>
            <a:chOff x="7848720" y="1647720"/>
            <a:chExt cx="380880" cy="1143000"/>
          </a:xfrm>
        </p:grpSpPr>
        <p:pic>
          <p:nvPicPr>
            <p:cNvPr id="204" name="Picture 24" descr="C:\Documents and Settings\crec\Documenti\Immagini\mela.gif"/>
            <p:cNvPicPr/>
            <p:nvPr/>
          </p:nvPicPr>
          <p:blipFill>
            <a:blip r:embed="rId4"/>
            <a:stretch/>
          </p:blipFill>
          <p:spPr>
            <a:xfrm>
              <a:off x="7848720" y="240948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25"/>
            <p:cNvSpPr/>
            <p:nvPr/>
          </p:nvSpPr>
          <p:spPr>
            <a:xfrm>
              <a:off x="8010720" y="1647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8077320" y="1647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>
              <a:off x="814392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>
              <a:off x="7934400" y="1728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704960" y="961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623880" y="4429080"/>
            <a:ext cx="7588080" cy="1008720"/>
            <a:chOff x="623880" y="4429080"/>
            <a:chExt cx="7588080" cy="1008720"/>
          </a:xfrm>
        </p:grpSpPr>
        <p:sp>
          <p:nvSpPr>
            <p:cNvPr id="211" name="Rectangle 17"/>
            <p:cNvSpPr/>
            <p:nvPr/>
          </p:nvSpPr>
          <p:spPr>
            <a:xfrm>
              <a:off x="623880" y="4429080"/>
              <a:ext cx="7588080" cy="100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ra questi: laser, oscilloscopio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  alimentatori per lampade spettrali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16" descr="C:\Documents and Settings\crec\Documenti\Nuova cartella\macchinari004.gif"/>
            <p:cNvPicPr/>
            <p:nvPr/>
          </p:nvPicPr>
          <p:blipFill>
            <a:blip r:embed="rId1"/>
            <a:stretch/>
          </p:blipFill>
          <p:spPr>
            <a:xfrm>
              <a:off x="4586040" y="4510080"/>
              <a:ext cx="134892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26"/>
          <p:cNvGrpSpPr/>
          <p:nvPr/>
        </p:nvGrpSpPr>
        <p:grpSpPr>
          <a:xfrm>
            <a:off x="652320" y="1890720"/>
            <a:ext cx="7588080" cy="1523880"/>
            <a:chOff x="652320" y="1890720"/>
            <a:chExt cx="7588080" cy="1523880"/>
          </a:xfrm>
        </p:grpSpPr>
        <p:sp>
          <p:nvSpPr>
            <p:cNvPr id="214" name="Rectangle 7"/>
            <p:cNvSpPr/>
            <p:nvPr/>
          </p:nvSpPr>
          <p:spPr>
            <a:xfrm>
              <a:off x="652320" y="2600280"/>
              <a:ext cx="758808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È rigorosamente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vieta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ccedere al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arti inter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gli strumenti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imentati         a re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220 volt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2" descr="C:\Documents and Settings\crec\Documenti\Nuova cartella\AG00305_.GIF"/>
            <p:cNvPicPr/>
            <p:nvPr/>
          </p:nvPicPr>
          <p:blipFill>
            <a:blip r:embed="rId2"/>
            <a:stretch/>
          </p:blipFill>
          <p:spPr>
            <a:xfrm>
              <a:off x="2647800" y="1890720"/>
              <a:ext cx="115092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27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17" name="Text Box 28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" name="Object 29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20" name="Line 3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704960" y="961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"/>
          <p:cNvGrpSpPr/>
          <p:nvPr/>
        </p:nvGrpSpPr>
        <p:grpSpPr>
          <a:xfrm>
            <a:off x="609480" y="5162400"/>
            <a:ext cx="7753320" cy="1163520"/>
            <a:chOff x="609480" y="5162400"/>
            <a:chExt cx="7753320" cy="1163520"/>
          </a:xfrm>
        </p:grpSpPr>
        <p:sp>
          <p:nvSpPr>
            <p:cNvPr id="223" name="Rectangle 7"/>
            <p:cNvSpPr/>
            <p:nvPr/>
          </p:nvSpPr>
          <p:spPr>
            <a:xfrm>
              <a:off x="609480" y="5162400"/>
              <a:ext cx="7391520" cy="7038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 caso di malfunzionamento delle apparecchiature, rivolgersi all’insegnante o al personale tecn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8" descr="C:\Documents and Settings\crec\Documenti\Nuova cartella\AG00029_.GIF"/>
            <p:cNvPicPr/>
            <p:nvPr/>
          </p:nvPicPr>
          <p:blipFill>
            <a:blip r:embed="rId1"/>
            <a:stretch/>
          </p:blipFill>
          <p:spPr>
            <a:xfrm>
              <a:off x="6896160" y="5162400"/>
              <a:ext cx="1466640" cy="11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12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26" name="Text Box 13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Object 0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29" name="Line 15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95160" y="2028960"/>
            <a:ext cx="67820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col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quin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et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ontare le parti che compongono le torrette di alimentazione annesse ai banc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666720" y="3619440"/>
            <a:ext cx="6781680" cy="7038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col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quin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et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nomettere le spie che segnalano che il banco è alimen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619280" y="976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014480" y="3867120"/>
            <a:ext cx="6705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Assicurarsi che il cavo non sia di intralcio al lavoro e non interferisca con il movimento delle pers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952560" y="5186520"/>
            <a:ext cx="7238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 montare apparecchiature e non iniziare esperimenti prima di avere ascolta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ut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990720" y="2019240"/>
            <a:ext cx="7449840" cy="1404720"/>
            <a:chOff x="990720" y="2019240"/>
            <a:chExt cx="7449840" cy="1404720"/>
          </a:xfrm>
        </p:grpSpPr>
        <p:sp>
          <p:nvSpPr>
            <p:cNvPr id="236" name="Text Box 8"/>
            <p:cNvSpPr/>
            <p:nvPr/>
          </p:nvSpPr>
          <p:spPr>
            <a:xfrm>
              <a:off x="990720" y="2019240"/>
              <a:ext cx="60958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ontrollare che gli apparecchi alimentati siano spenti prima di inserire la spina nella presa elett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1" descr="E:\PFiles\MSOffice\Clipart\standard\stddir3\PE01735_.wmf"/>
            <p:cNvPicPr/>
            <p:nvPr/>
          </p:nvPicPr>
          <p:blipFill>
            <a:blip r:embed="rId1"/>
            <a:stretch/>
          </p:blipFill>
          <p:spPr>
            <a:xfrm>
              <a:off x="7162920" y="2412720"/>
              <a:ext cx="127764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15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39" name="Text Box 16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Object 0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1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42" name="Line 19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37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3" descr=""/>
          <p:cNvPicPr/>
          <p:nvPr/>
        </p:nvPicPr>
        <p:blipFill>
          <a:blip r:embed="rId1"/>
          <a:stretch/>
        </p:blipFill>
        <p:spPr>
          <a:xfrm>
            <a:off x="7048440" y="938160"/>
            <a:ext cx="790560" cy="590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162396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ser e altre sorgenti lumi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09480" y="3048120"/>
            <a:ext cx="7391520" cy="703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mpade spettral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non vanno toccate fino ad almeno 10 minuti dopo lo spegn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09480" y="4114800"/>
            <a:ext cx="72392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’ necessari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 mont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pparecchiature 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 iniziate esperiment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ima di avere ascoltato tutte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533520" y="4495680"/>
            <a:ext cx="7947000" cy="2035080"/>
            <a:chOff x="533520" y="4495680"/>
            <a:chExt cx="7947000" cy="2035080"/>
          </a:xfrm>
        </p:grpSpPr>
        <p:sp>
          <p:nvSpPr>
            <p:cNvPr id="249" name="Text Box 3"/>
            <p:cNvSpPr/>
            <p:nvPr/>
          </p:nvSpPr>
          <p:spPr>
            <a:xfrm>
              <a:off x="533520" y="5454360"/>
              <a:ext cx="746748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eguire sempre le indicazioni operative date dall’insegn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3" descr="C:\Documents and Settings\crec\Documenti\Nuova cartella\AG00372_.GIF"/>
            <p:cNvPicPr/>
            <p:nvPr/>
          </p:nvPicPr>
          <p:blipFill>
            <a:blip r:embed="rId2"/>
            <a:stretch/>
          </p:blipFill>
          <p:spPr>
            <a:xfrm>
              <a:off x="7405560" y="4495680"/>
              <a:ext cx="1074960" cy="203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18" descr="C:\Documents and Settings\crec\Documenti\Nuova cartella\AG00372_.GIF"/>
          <p:cNvPicPr/>
          <p:nvPr/>
        </p:nvPicPr>
        <p:blipFill>
          <a:blip r:embed="rId3"/>
          <a:stretch/>
        </p:blipFill>
        <p:spPr>
          <a:xfrm>
            <a:off x="5010120" y="3048120"/>
            <a:ext cx="173052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23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53" name="Text Box 24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" name="Object 2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5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56" name="Line 28"/>
          <p:cNvSpPr/>
          <p:nvPr/>
        </p:nvSpPr>
        <p:spPr>
          <a:xfrm>
            <a:off x="8839080" y="164304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7543800" y="1290600"/>
            <a:ext cx="12952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5"/>
          <p:cNvGrpSpPr/>
          <p:nvPr/>
        </p:nvGrpSpPr>
        <p:grpSpPr>
          <a:xfrm>
            <a:off x="485640" y="1752480"/>
            <a:ext cx="7753320" cy="1266840"/>
            <a:chOff x="485640" y="1752480"/>
            <a:chExt cx="7753320" cy="1266840"/>
          </a:xfrm>
        </p:grpSpPr>
        <p:sp>
          <p:nvSpPr>
            <p:cNvPr id="259" name="Rectangle 7"/>
            <p:cNvSpPr/>
            <p:nvPr/>
          </p:nvSpPr>
          <p:spPr>
            <a:xfrm>
              <a:off x="485640" y="1752480"/>
              <a:ext cx="6981840" cy="100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rgenti luminose intens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on devono essere guardate né direttamente né tramite riflessione su specchi o superfici metallich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1"/>
            <p:cNvGraphicFramePr/>
            <p:nvPr/>
          </p:nvGraphicFramePr>
          <p:xfrm>
            <a:off x="7200720" y="1847880"/>
            <a:ext cx="1038240" cy="1171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1" name="Object 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00720" y="1847880"/>
                      <a:ext cx="103824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2" name="Group 36"/>
          <p:cNvGrpSpPr/>
          <p:nvPr/>
        </p:nvGrpSpPr>
        <p:grpSpPr>
          <a:xfrm>
            <a:off x="7191360" y="1319040"/>
            <a:ext cx="1628280" cy="1666800"/>
            <a:chOff x="7191360" y="1319040"/>
            <a:chExt cx="1628280" cy="1666800"/>
          </a:xfrm>
        </p:grpSpPr>
        <p:graphicFrame>
          <p:nvGraphicFramePr>
            <p:cNvPr id="263" name="Object 0"/>
            <p:cNvGraphicFramePr/>
            <p:nvPr/>
          </p:nvGraphicFramePr>
          <p:xfrm>
            <a:off x="7191360" y="1319040"/>
            <a:ext cx="1037880" cy="1666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4" name="Object 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91360" y="1319040"/>
                      <a:ext cx="1037880" cy="16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Line 30"/>
            <p:cNvSpPr/>
            <p:nvPr/>
          </p:nvSpPr>
          <p:spPr>
            <a:xfrm flipV="1">
              <a:off x="7600680" y="1919160"/>
              <a:ext cx="12189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19" descr="C:\Documents and Settings\crec\Documenti\Nuova cartella\AG00372_.GIF"/>
          <p:cNvPicPr/>
          <p:nvPr/>
        </p:nvPicPr>
        <p:blipFill>
          <a:blip r:embed="rId10"/>
          <a:stretch/>
        </p:blipFill>
        <p:spPr>
          <a:xfrm>
            <a:off x="2071800" y="762120"/>
            <a:ext cx="273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7"/>
          <p:cNvGrpSpPr/>
          <p:nvPr/>
        </p:nvGrpSpPr>
        <p:grpSpPr>
          <a:xfrm>
            <a:off x="1981080" y="2971800"/>
            <a:ext cx="5873760" cy="1371600"/>
            <a:chOff x="1981080" y="2971800"/>
            <a:chExt cx="5873760" cy="1371600"/>
          </a:xfrm>
        </p:grpSpPr>
        <p:sp>
          <p:nvSpPr>
            <p:cNvPr id="268" name="AutoShape 4"/>
            <p:cNvSpPr/>
            <p:nvPr/>
          </p:nvSpPr>
          <p:spPr>
            <a:xfrm flipV="1">
              <a:off x="1981080" y="2971440"/>
              <a:ext cx="5873760" cy="1371600"/>
            </a:xfrm>
            <a:prstGeom prst="wedgeRoundRectCallout">
              <a:avLst>
                <a:gd name="adj1" fmla="val -50245"/>
                <a:gd name="adj2" fmla="val 7002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"/>
            <p:cNvSpPr/>
            <p:nvPr/>
          </p:nvSpPr>
          <p:spPr>
            <a:xfrm flipH="1">
              <a:off x="2361960" y="3276720"/>
              <a:ext cx="541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terz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le norme di comport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Object 0"/>
          <p:cNvGraphicFramePr/>
          <p:nvPr/>
        </p:nvGraphicFramePr>
        <p:xfrm>
          <a:off x="380880" y="1371600"/>
          <a:ext cx="14223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4223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4"/>
          <p:cNvGrpSpPr/>
          <p:nvPr/>
        </p:nvGrpSpPr>
        <p:grpSpPr>
          <a:xfrm>
            <a:off x="990720" y="2286000"/>
            <a:ext cx="2739960" cy="2514600"/>
            <a:chOff x="990720" y="2286000"/>
            <a:chExt cx="2739960" cy="2514600"/>
          </a:xfrm>
        </p:grpSpPr>
        <p:graphicFrame>
          <p:nvGraphicFramePr>
            <p:cNvPr id="53" name="Object 151"/>
            <p:cNvGraphicFramePr/>
            <p:nvPr/>
          </p:nvGraphicFramePr>
          <p:xfrm>
            <a:off x="2362320" y="2286000"/>
            <a:ext cx="1368360" cy="19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Object 1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2286000"/>
                      <a:ext cx="1368360" cy="19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Object 129"/>
            <p:cNvGraphicFramePr/>
            <p:nvPr/>
          </p:nvGraphicFramePr>
          <p:xfrm>
            <a:off x="990720" y="2590920"/>
            <a:ext cx="228276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Object 1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2590920"/>
                      <a:ext cx="228276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Group 153"/>
          <p:cNvGrpSpPr/>
          <p:nvPr/>
        </p:nvGrpSpPr>
        <p:grpSpPr>
          <a:xfrm>
            <a:off x="533160" y="990720"/>
            <a:ext cx="7924680" cy="1371600"/>
            <a:chOff x="533160" y="990720"/>
            <a:chExt cx="7924680" cy="1371600"/>
          </a:xfrm>
        </p:grpSpPr>
        <p:sp>
          <p:nvSpPr>
            <p:cNvPr id="58" name="AutoShape 140"/>
            <p:cNvSpPr/>
            <p:nvPr/>
          </p:nvSpPr>
          <p:spPr>
            <a:xfrm flipH="1">
              <a:off x="532800" y="990720"/>
              <a:ext cx="7924680" cy="1371600"/>
            </a:xfrm>
            <a:prstGeom prst="wedgeRoundRectCallout">
              <a:avLst>
                <a:gd name="adj1" fmla="val 11495"/>
                <a:gd name="adj2" fmla="val 81824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3"/>
            <p:cNvSpPr/>
            <p:nvPr/>
          </p:nvSpPr>
          <p:spPr>
            <a:xfrm>
              <a:off x="1295280" y="1447920"/>
              <a:ext cx="60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Buongiorno ragazze e ragazzi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52"/>
          <p:cNvGrpSpPr/>
          <p:nvPr/>
        </p:nvGrpSpPr>
        <p:grpSpPr>
          <a:xfrm>
            <a:off x="533160" y="990720"/>
            <a:ext cx="7924680" cy="1371600"/>
            <a:chOff x="533160" y="990720"/>
            <a:chExt cx="7924680" cy="1371600"/>
          </a:xfrm>
        </p:grpSpPr>
        <p:sp>
          <p:nvSpPr>
            <p:cNvPr id="61" name="AutoShape 148"/>
            <p:cNvSpPr/>
            <p:nvPr/>
          </p:nvSpPr>
          <p:spPr>
            <a:xfrm flipH="1">
              <a:off x="532800" y="990720"/>
              <a:ext cx="7924680" cy="1371600"/>
            </a:xfrm>
            <a:prstGeom prst="wedgeRoundRectCallout">
              <a:avLst>
                <a:gd name="adj1" fmla="val 11476"/>
                <a:gd name="adj2" fmla="val 82287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9"/>
            <p:cNvSpPr/>
            <p:nvPr/>
          </p:nvSpPr>
          <p:spPr>
            <a:xfrm>
              <a:off x="681120" y="14479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.oggi parliamo di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icurezza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ei laboratori di Fis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8" descr="C:\Documents and Settings\crec\Documenti\Nuova cartella\BD13728_.GIF"/>
          <p:cNvPicPr/>
          <p:nvPr/>
        </p:nvPicPr>
        <p:blipFill>
          <a:blip r:embed="rId1"/>
          <a:stretch/>
        </p:blipFill>
        <p:spPr>
          <a:xfrm>
            <a:off x="4952880" y="171360"/>
            <a:ext cx="2748240" cy="18399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274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76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5"/>
          <p:cNvSpPr/>
          <p:nvPr/>
        </p:nvSpPr>
        <p:spPr>
          <a:xfrm>
            <a:off x="838080" y="1600200"/>
            <a:ext cx="4114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dere al laboratorio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5181480" y="1078200"/>
            <a:ext cx="2819520" cy="1683000"/>
            <a:chOff x="5181480" y="1078200"/>
            <a:chExt cx="2819520" cy="1683000"/>
          </a:xfrm>
        </p:grpSpPr>
        <p:sp>
          <p:nvSpPr>
            <p:cNvPr id="279" name="Rectangle 11"/>
            <p:cNvSpPr/>
            <p:nvPr/>
          </p:nvSpPr>
          <p:spPr>
            <a:xfrm>
              <a:off x="5181480" y="2362320"/>
              <a:ext cx="28195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RDINATAMENTE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4"/>
            <p:cNvGrpSpPr/>
            <p:nvPr/>
          </p:nvGrpSpPr>
          <p:grpSpPr>
            <a:xfrm>
              <a:off x="5562720" y="1078200"/>
              <a:ext cx="1606680" cy="978480"/>
              <a:chOff x="5562720" y="1078200"/>
              <a:chExt cx="1606680" cy="978480"/>
            </a:xfrm>
          </p:grpSpPr>
          <p:sp>
            <p:nvSpPr>
              <p:cNvPr id="281" name="Line 12"/>
              <p:cNvSpPr/>
              <p:nvPr/>
            </p:nvSpPr>
            <p:spPr>
              <a:xfrm flipV="1">
                <a:off x="5562720" y="1142640"/>
                <a:ext cx="152388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3"/>
              <p:cNvSpPr/>
              <p:nvPr/>
            </p:nvSpPr>
            <p:spPr>
              <a:xfrm flipH="1" flipV="1">
                <a:off x="5631840" y="1078200"/>
                <a:ext cx="1537560" cy="891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Group 35"/>
          <p:cNvGrpSpPr/>
          <p:nvPr/>
        </p:nvGrpSpPr>
        <p:grpSpPr>
          <a:xfrm>
            <a:off x="838080" y="2971800"/>
            <a:ext cx="7515360" cy="1733040"/>
            <a:chOff x="838080" y="2971800"/>
            <a:chExt cx="7515360" cy="1733040"/>
          </a:xfrm>
        </p:grpSpPr>
        <p:sp>
          <p:nvSpPr>
            <p:cNvPr id="284" name="Rectangle 10"/>
            <p:cNvSpPr/>
            <p:nvPr/>
          </p:nvSpPr>
          <p:spPr>
            <a:xfrm>
              <a:off x="838080" y="3048120"/>
              <a:ext cx="62485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tilizzando l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ntrate per gli student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6172200" y="2971800"/>
              <a:ext cx="2181240" cy="1733040"/>
              <a:chOff x="6172200" y="2971800"/>
              <a:chExt cx="2181240" cy="1733040"/>
            </a:xfrm>
          </p:grpSpPr>
          <p:grpSp>
            <p:nvGrpSpPr>
              <p:cNvPr id="286" name="Group 26"/>
              <p:cNvGrpSpPr/>
              <p:nvPr/>
            </p:nvGrpSpPr>
            <p:grpSpPr>
              <a:xfrm>
                <a:off x="7010280" y="2971800"/>
                <a:ext cx="1343160" cy="1676160"/>
                <a:chOff x="7010280" y="2971800"/>
                <a:chExt cx="1343160" cy="1676160"/>
              </a:xfrm>
            </p:grpSpPr>
            <p:pic>
              <p:nvPicPr>
                <p:cNvPr id="287" name="Pictur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10280" y="2971800"/>
                  <a:ext cx="122544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91320" y="3355920"/>
                  <a:ext cx="762120" cy="54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289" name="Object 1"/>
              <p:cNvGraphicFramePr/>
              <p:nvPr/>
            </p:nvGraphicFramePr>
            <p:xfrm>
              <a:off x="6172200" y="3180960"/>
              <a:ext cx="1235160" cy="1523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90" name="Object 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172200" y="3180960"/>
                        <a:ext cx="1235160" cy="152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91" name="Group 36"/>
          <p:cNvGrpSpPr/>
          <p:nvPr/>
        </p:nvGrpSpPr>
        <p:grpSpPr>
          <a:xfrm>
            <a:off x="457200" y="4419720"/>
            <a:ext cx="7772400" cy="1676160"/>
            <a:chOff x="457200" y="4419720"/>
            <a:chExt cx="7772400" cy="1676160"/>
          </a:xfrm>
        </p:grpSpPr>
        <p:sp>
          <p:nvSpPr>
            <p:cNvPr id="292" name="Rectangle 27"/>
            <p:cNvSpPr/>
            <p:nvPr/>
          </p:nvSpPr>
          <p:spPr>
            <a:xfrm>
              <a:off x="2666880" y="5029200"/>
              <a:ext cx="556272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’ingresso all’aula di “preparazione” è riservato al personale scola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457200" y="4419720"/>
              <a:ext cx="2406600" cy="1676160"/>
              <a:chOff x="457200" y="4419720"/>
              <a:chExt cx="2406600" cy="1676160"/>
            </a:xfrm>
          </p:grpSpPr>
          <p:grpSp>
            <p:nvGrpSpPr>
              <p:cNvPr id="294" name="Group 30"/>
              <p:cNvGrpSpPr/>
              <p:nvPr/>
            </p:nvGrpSpPr>
            <p:grpSpPr>
              <a:xfrm>
                <a:off x="457200" y="4419720"/>
                <a:ext cx="1352520" cy="1676160"/>
                <a:chOff x="457200" y="4419720"/>
                <a:chExt cx="1352520" cy="1676160"/>
              </a:xfrm>
            </p:grpSpPr>
            <p:pic>
              <p:nvPicPr>
                <p:cNvPr id="295" name="Pictur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200" y="4419720"/>
                  <a:ext cx="122544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2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33200" y="4800600"/>
                  <a:ext cx="77652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297" name="Object 0"/>
              <p:cNvGraphicFramePr/>
              <p:nvPr/>
            </p:nvGraphicFramePr>
            <p:xfrm>
              <a:off x="1676520" y="4581360"/>
              <a:ext cx="1187280" cy="14662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98" name="Object 0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676520" y="4581360"/>
                        <a:ext cx="1187280" cy="146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00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02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7"/>
          <p:cNvSpPr/>
          <p:nvPr/>
        </p:nvSpPr>
        <p:spPr>
          <a:xfrm>
            <a:off x="1066680" y="3405240"/>
            <a:ext cx="6172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on svolgere esperimenti tenendo addosso indumenti ingombr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9"/>
          <p:cNvGrpSpPr/>
          <p:nvPr/>
        </p:nvGrpSpPr>
        <p:grpSpPr>
          <a:xfrm>
            <a:off x="1066680" y="1700280"/>
            <a:ext cx="6950160" cy="838080"/>
            <a:chOff x="1066680" y="1700280"/>
            <a:chExt cx="6950160" cy="838080"/>
          </a:xfrm>
        </p:grpSpPr>
        <p:sp>
          <p:nvSpPr>
            <p:cNvPr id="305" name="Rectangle 6"/>
            <p:cNvSpPr/>
            <p:nvPr/>
          </p:nvSpPr>
          <p:spPr>
            <a:xfrm>
              <a:off x="1066680" y="1823760"/>
              <a:ext cx="617220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Disporre zaini e cartelle ai lati del laboratorio, avendo cura di non ingombrare le vie di fug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23" descr=""/>
            <p:cNvPicPr/>
            <p:nvPr/>
          </p:nvPicPr>
          <p:blipFill>
            <a:blip r:embed="rId3"/>
            <a:stretch/>
          </p:blipFill>
          <p:spPr>
            <a:xfrm>
              <a:off x="7238880" y="1700280"/>
              <a:ext cx="7779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31"/>
          <p:cNvGrpSpPr/>
          <p:nvPr/>
        </p:nvGrpSpPr>
        <p:grpSpPr>
          <a:xfrm>
            <a:off x="828720" y="4791240"/>
            <a:ext cx="7101000" cy="889560"/>
            <a:chOff x="828720" y="4791240"/>
            <a:chExt cx="7101000" cy="889560"/>
          </a:xfrm>
        </p:grpSpPr>
        <p:sp>
          <p:nvSpPr>
            <p:cNvPr id="308" name="Rectangle 8"/>
            <p:cNvSpPr/>
            <p:nvPr/>
          </p:nvSpPr>
          <p:spPr>
            <a:xfrm>
              <a:off x="1757520" y="5281920"/>
              <a:ext cx="61722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Appendere gli indumenti agli appendiabi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28" descr=""/>
            <p:cNvPicPr/>
            <p:nvPr/>
          </p:nvPicPr>
          <p:blipFill>
            <a:blip r:embed="rId4"/>
            <a:stretch/>
          </p:blipFill>
          <p:spPr>
            <a:xfrm>
              <a:off x="828720" y="479124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11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13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1052640" y="1238400"/>
            <a:ext cx="7246440" cy="1528560"/>
            <a:chOff x="1052640" y="1238400"/>
            <a:chExt cx="7246440" cy="1528560"/>
          </a:xfrm>
        </p:grpSpPr>
        <p:sp>
          <p:nvSpPr>
            <p:cNvPr id="315" name="Rectangle 8"/>
            <p:cNvSpPr/>
            <p:nvPr/>
          </p:nvSpPr>
          <p:spPr>
            <a:xfrm>
              <a:off x="1052640" y="2000160"/>
              <a:ext cx="617184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Non portare e non consumare bevande e cibi in  labo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6" name="Object 1"/>
            <p:cNvGraphicFramePr/>
            <p:nvPr/>
          </p:nvGraphicFramePr>
          <p:xfrm>
            <a:off x="7148520" y="1238400"/>
            <a:ext cx="1150560" cy="15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48520" y="1238400"/>
                      <a:ext cx="1150560" cy="15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8" name="Group 14"/>
          <p:cNvGrpSpPr/>
          <p:nvPr/>
        </p:nvGrpSpPr>
        <p:grpSpPr>
          <a:xfrm>
            <a:off x="1042920" y="3157560"/>
            <a:ext cx="5291280" cy="1051560"/>
            <a:chOff x="1042920" y="3157560"/>
            <a:chExt cx="5291280" cy="1051560"/>
          </a:xfrm>
        </p:grpSpPr>
        <p:sp>
          <p:nvSpPr>
            <p:cNvPr id="319" name="Rectangle 5"/>
            <p:cNvSpPr/>
            <p:nvPr/>
          </p:nvSpPr>
          <p:spPr>
            <a:xfrm>
              <a:off x="1042920" y="3505320"/>
              <a:ext cx="36813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Muoversi nel laboratorio con attenzione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0"/>
            <p:cNvGraphicFramePr/>
            <p:nvPr/>
          </p:nvGraphicFramePr>
          <p:xfrm>
            <a:off x="4724280" y="3157560"/>
            <a:ext cx="1609920" cy="104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1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157560"/>
                      <a:ext cx="160992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13"/>
          <p:cNvSpPr/>
          <p:nvPr/>
        </p:nvSpPr>
        <p:spPr>
          <a:xfrm>
            <a:off x="1066680" y="4861080"/>
            <a:ext cx="6172200" cy="7038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vendo cura di non interferire con il lavoro dei compagni e di non urtare le attrezz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6629400" y="2971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바탕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25" name="Object 1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27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5"/>
          <p:cNvSpPr/>
          <p:nvPr/>
        </p:nvSpPr>
        <p:spPr>
          <a:xfrm>
            <a:off x="1828800" y="2076480"/>
            <a:ext cx="624852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mont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arecch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iniziare esperiment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ima di avere ascolta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ut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952560" y="3871800"/>
            <a:ext cx="7162920" cy="1251720"/>
            <a:chOff x="952560" y="3871800"/>
            <a:chExt cx="7162920" cy="1251720"/>
          </a:xfrm>
        </p:grpSpPr>
        <p:sp>
          <p:nvSpPr>
            <p:cNvPr id="330" name="Rectangle 6"/>
            <p:cNvSpPr/>
            <p:nvPr/>
          </p:nvSpPr>
          <p:spPr>
            <a:xfrm>
              <a:off x="1943280" y="4419720"/>
              <a:ext cx="6172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hiedere sempre all’insegnante di controllare l’apparecchiatura che ci sia accinge ad utilizz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" name="Object 0"/>
            <p:cNvGraphicFramePr/>
            <p:nvPr/>
          </p:nvGraphicFramePr>
          <p:xfrm>
            <a:off x="952560" y="3871800"/>
            <a:ext cx="1001880" cy="124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2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2560" y="3871800"/>
                      <a:ext cx="1001880" cy="1247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1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34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36" name="Text Box 5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15"/>
          <p:cNvSpPr/>
          <p:nvPr/>
        </p:nvSpPr>
        <p:spPr>
          <a:xfrm>
            <a:off x="942840" y="2376360"/>
            <a:ext cx="6172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varsi le mani prima di uscire dal laboratorio o immediatamente dopo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0"/>
          <p:cNvGraphicFramePr/>
          <p:nvPr/>
        </p:nvGraphicFramePr>
        <p:xfrm>
          <a:off x="7643880" y="3728880"/>
          <a:ext cx="1214280" cy="20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3728880"/>
                    <a:ext cx="121428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Group 22"/>
          <p:cNvGrpSpPr/>
          <p:nvPr/>
        </p:nvGrpSpPr>
        <p:grpSpPr>
          <a:xfrm>
            <a:off x="757080" y="4757760"/>
            <a:ext cx="6905520" cy="398880"/>
            <a:chOff x="757080" y="4757760"/>
            <a:chExt cx="6905520" cy="398880"/>
          </a:xfrm>
        </p:grpSpPr>
        <p:sp>
          <p:nvSpPr>
            <p:cNvPr id="341" name="Rectangle 17"/>
            <p:cNvSpPr/>
            <p:nvPr/>
          </p:nvSpPr>
          <p:spPr>
            <a:xfrm>
              <a:off x="757080" y="4757760"/>
              <a:ext cx="6477120" cy="398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Uscire dal laboratorio per le </a:t>
              </a:r>
              <a:r>
                <a:rPr b="0" lang="en-US" sz="2000" spc="-1" strike="noStrike" u="sng">
                  <a:solidFill>
                    <a:srgbClr val="006600"/>
                  </a:solidFill>
                  <a:uFillTx/>
                  <a:latin typeface="Arial"/>
                </a:rPr>
                <a:t>vie riservate agli studen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Object 1"/>
            <p:cNvGraphicFramePr/>
            <p:nvPr/>
          </p:nvGraphicFramePr>
          <p:xfrm>
            <a:off x="7224480" y="4852800"/>
            <a:ext cx="43812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3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24480" y="4852800"/>
                      <a:ext cx="4381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0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3505320" y="3429000"/>
            <a:ext cx="1500120" cy="660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2"/>
          <p:cNvSpPr/>
          <p:nvPr/>
        </p:nvSpPr>
        <p:spPr>
          <a:xfrm>
            <a:off x="762120" y="266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MERGENZA FU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676520" y="310032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9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48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9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0" name="Text Box 21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885960" y="2386080"/>
            <a:ext cx="67816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e comportarsi in caso di incend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rà oggetto di informazione ed esercitazione secondo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ano generale di evacu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838080" y="4238640"/>
            <a:ext cx="72392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tile comunque imparare alcune regole essenziali per non trovarsi impreparati di fronte ad una situazione di emergenz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4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848200" y="900000"/>
            <a:ext cx="1500480" cy="6606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5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56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7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8" name="Text Box 17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781200" y="2286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entificare e memorizzare l’uscita di sicurezza e la via di fuga predisposta per il luogo nel quale ci si tr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738760" y="900000"/>
            <a:ext cx="1500120" cy="6606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0"/>
          <p:cNvSpPr/>
          <p:nvPr/>
        </p:nvSpPr>
        <p:spPr>
          <a:xfrm>
            <a:off x="781200" y="34815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ffcc"/>
                </a:solidFill>
                <a:latin typeface="Arial"/>
              </a:rPr>
              <a:t>Memorizzare le modalità di apertura delle porte di sicurezza: premere sul maniglione e spingere verso l’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781200" y="4505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 caso di emergenza non usare gli ascensori per la 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771480" y="5253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n caso di emergenza seguire scrupolosamente le indicazioni fornite dall’insegnante o dal personale scola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4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66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7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68" name="Text Box 16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776160" y="225252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 segnale d’allar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81200" y="2928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itare ogni forma di panico, non agitarsi, non ur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734080" y="900000"/>
            <a:ext cx="1500120" cy="660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0"/>
          <p:cNvSpPr/>
          <p:nvPr/>
        </p:nvSpPr>
        <p:spPr>
          <a:xfrm>
            <a:off x="781200" y="35528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Muoversi rapidamente, insieme al gruppo di appartenenza, verso l’uscita di sicurezza prestabi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781200" y="4505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rollare che nessuno sia rimasto nel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771480" y="51530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hiudere la porta del locale che si abban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800280" y="5781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Seguire il proprio gruppo verso il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uogo sicuro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 prestabi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838080" y="2666880"/>
            <a:ext cx="2667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6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79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0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81" name="Text Box 18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 vie di fuga da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039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84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86" name="Text Box 1041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Picture 1044" descr=""/>
          <p:cNvPicPr/>
          <p:nvPr/>
        </p:nvPicPr>
        <p:blipFill>
          <a:blip r:embed="rId3"/>
          <a:stretch/>
        </p:blipFill>
        <p:spPr>
          <a:xfrm>
            <a:off x="914400" y="2085840"/>
            <a:ext cx="5181480" cy="4435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47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048"/>
          <p:cNvSpPr/>
          <p:nvPr/>
        </p:nvSpPr>
        <p:spPr>
          <a:xfrm>
            <a:off x="6629400" y="5334120"/>
            <a:ext cx="1905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aboratorio di Fisica F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051"/>
          <p:cNvGrpSpPr/>
          <p:nvPr/>
        </p:nvGrpSpPr>
        <p:grpSpPr>
          <a:xfrm>
            <a:off x="2133720" y="1590840"/>
            <a:ext cx="3962160" cy="377640"/>
            <a:chOff x="2133720" y="1590840"/>
            <a:chExt cx="3962160" cy="377640"/>
          </a:xfrm>
        </p:grpSpPr>
        <p:sp>
          <p:nvSpPr>
            <p:cNvPr id="391" name="Line 1049"/>
            <p:cNvSpPr/>
            <p:nvPr/>
          </p:nvSpPr>
          <p:spPr>
            <a:xfrm>
              <a:off x="2133720" y="1590840"/>
              <a:ext cx="3962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50"/>
            <p:cNvSpPr/>
            <p:nvPr/>
          </p:nvSpPr>
          <p:spPr>
            <a:xfrm>
              <a:off x="2514600" y="1600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udiamo le piantin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981080" y="900000"/>
            <a:ext cx="6400800" cy="1143000"/>
            <a:chOff x="1981080" y="900000"/>
            <a:chExt cx="6400800" cy="1143000"/>
          </a:xfrm>
        </p:grpSpPr>
        <p:sp>
          <p:nvSpPr>
            <p:cNvPr id="64" name="AutoShape 3"/>
            <p:cNvSpPr/>
            <p:nvPr/>
          </p:nvSpPr>
          <p:spPr>
            <a:xfrm>
              <a:off x="1981080" y="900000"/>
              <a:ext cx="6400800" cy="1143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362320" y="900000"/>
              <a:ext cx="5790960" cy="85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Lavorare in laboratorio è il modo migliore per imparare a conoscere il mondo della Fisica 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1981080" y="2590920"/>
            <a:ext cx="6400800" cy="1371600"/>
            <a:chOff x="1981080" y="2590920"/>
            <a:chExt cx="6400800" cy="1371600"/>
          </a:xfrm>
        </p:grpSpPr>
        <p:sp>
          <p:nvSpPr>
            <p:cNvPr id="67" name="AutoShape 6"/>
            <p:cNvSpPr/>
            <p:nvPr/>
          </p:nvSpPr>
          <p:spPr>
            <a:xfrm flipV="1">
              <a:off x="1981080" y="2590560"/>
              <a:ext cx="6400800" cy="1371600"/>
            </a:xfrm>
            <a:prstGeom prst="wedgeRoundRectCallout">
              <a:avLst>
                <a:gd name="adj1" fmla="val -43777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2361960" y="2667240"/>
              <a:ext cx="5791320" cy="123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.ma come in tutti i luoghi nei quali sono presenti apparecchiature scientifiche,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è fondamentale assicurarsi di lavorare in assoluta sicurezza.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" name="Object 11"/>
          <p:cNvGraphicFramePr/>
          <p:nvPr/>
        </p:nvGraphicFramePr>
        <p:xfrm>
          <a:off x="176040" y="1447920"/>
          <a:ext cx="19782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447920"/>
                    <a:ext cx="1978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 vie di fuga da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95" name="Object 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97" name="Text Box 5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6624720" y="5335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8"/>
          <p:cNvSpPr/>
          <p:nvPr/>
        </p:nvSpPr>
        <p:spPr>
          <a:xfrm>
            <a:off x="6858000" y="4952880"/>
            <a:ext cx="1905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aboratorio di Fisica F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6248160" cy="353232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15"/>
          <p:cNvGrpSpPr/>
          <p:nvPr/>
        </p:nvGrpSpPr>
        <p:grpSpPr>
          <a:xfrm>
            <a:off x="2133720" y="1590840"/>
            <a:ext cx="3962160" cy="377640"/>
            <a:chOff x="2133720" y="1590840"/>
            <a:chExt cx="3962160" cy="377640"/>
          </a:xfrm>
        </p:grpSpPr>
        <p:sp>
          <p:nvSpPr>
            <p:cNvPr id="402" name="Line 16"/>
            <p:cNvSpPr/>
            <p:nvPr/>
          </p:nvSpPr>
          <p:spPr>
            <a:xfrm>
              <a:off x="2133720" y="1590840"/>
              <a:ext cx="3962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7"/>
            <p:cNvSpPr/>
            <p:nvPr/>
          </p:nvSpPr>
          <p:spPr>
            <a:xfrm>
              <a:off x="2514600" y="1600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udiamo le piantin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5" descr="C:\Documents and Settings\crec\Documenti\animazioni\123.gif"/>
          <p:cNvPicPr/>
          <p:nvPr/>
        </p:nvPicPr>
        <p:blipFill>
          <a:blip r:embed="rId1"/>
          <a:stretch/>
        </p:blipFill>
        <p:spPr>
          <a:xfrm>
            <a:off x="3733920" y="1066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1848960" y="38088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a scuola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4"/>
          <p:cNvGrpSpPr/>
          <p:nvPr/>
        </p:nvGrpSpPr>
        <p:grpSpPr>
          <a:xfrm>
            <a:off x="685800" y="2209680"/>
            <a:ext cx="7848720" cy="2667240"/>
            <a:chOff x="685800" y="2209680"/>
            <a:chExt cx="7848720" cy="2667240"/>
          </a:xfrm>
        </p:grpSpPr>
        <p:sp>
          <p:nvSpPr>
            <p:cNvPr id="407" name="AutoShape 19"/>
            <p:cNvSpPr/>
            <p:nvPr/>
          </p:nvSpPr>
          <p:spPr>
            <a:xfrm>
              <a:off x="685800" y="3419640"/>
              <a:ext cx="7772400" cy="1457280"/>
            </a:xfrm>
            <a:prstGeom prst="wedgeEllipseCallout">
              <a:avLst>
                <a:gd name="adj1" fmla="val -44115"/>
                <a:gd name="adj2" fmla="val -2199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0"/>
            <p:cNvSpPr/>
            <p:nvPr/>
          </p:nvSpPr>
          <p:spPr>
            <a:xfrm>
              <a:off x="2971800" y="2209680"/>
              <a:ext cx="685800" cy="1295640"/>
            </a:xfrm>
            <a:prstGeom prst="triangl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3"/>
            <p:cNvSpPr/>
            <p:nvPr/>
          </p:nvSpPr>
          <p:spPr>
            <a:xfrm>
              <a:off x="1676520" y="3809880"/>
              <a:ext cx="685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La sicurezza di chi lavora nella scuola, studenti e personale scolastico, è fondament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0"/>
          <p:cNvGrpSpPr/>
          <p:nvPr/>
        </p:nvGrpSpPr>
        <p:grpSpPr>
          <a:xfrm>
            <a:off x="685800" y="2209680"/>
            <a:ext cx="7772400" cy="2676600"/>
            <a:chOff x="685800" y="2209680"/>
            <a:chExt cx="7772400" cy="2676600"/>
          </a:xfrm>
        </p:grpSpPr>
        <p:sp>
          <p:nvSpPr>
            <p:cNvPr id="411" name="AutoShape 27"/>
            <p:cNvSpPr/>
            <p:nvPr/>
          </p:nvSpPr>
          <p:spPr>
            <a:xfrm>
              <a:off x="5029200" y="2209680"/>
              <a:ext cx="685800" cy="1295640"/>
            </a:xfrm>
            <a:prstGeom prst="triangle">
              <a:avLst>
                <a:gd name="adj" fmla="val 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29"/>
            <p:cNvGrpSpPr/>
            <p:nvPr/>
          </p:nvGrpSpPr>
          <p:grpSpPr>
            <a:xfrm>
              <a:off x="685800" y="3429000"/>
              <a:ext cx="7772400" cy="1457280"/>
              <a:chOff x="685800" y="3429000"/>
              <a:chExt cx="7772400" cy="1457280"/>
            </a:xfrm>
          </p:grpSpPr>
          <p:sp>
            <p:nvSpPr>
              <p:cNvPr id="413" name="AutoShape 26"/>
              <p:cNvSpPr/>
              <p:nvPr/>
            </p:nvSpPr>
            <p:spPr>
              <a:xfrm>
                <a:off x="685800" y="3429000"/>
                <a:ext cx="7772400" cy="1457280"/>
              </a:xfrm>
              <a:prstGeom prst="wedgeEllipseCallout">
                <a:avLst>
                  <a:gd name="adj1" fmla="val -44115"/>
                  <a:gd name="adj2" fmla="val -219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8"/>
              <p:cNvSpPr/>
              <p:nvPr/>
            </p:nvSpPr>
            <p:spPr>
              <a:xfrm>
                <a:off x="1219320" y="3798720"/>
                <a:ext cx="6858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Per questo è necessario, oltre al rispetto delle norme, un comportamento maturo e consapevole da parte di tutti. Grazi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1755000" y="38088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sperimentare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C:\Documents and Settings\crec\Documenti\animazioni\BD13738_.GIF"/>
          <p:cNvPicPr/>
          <p:nvPr/>
        </p:nvPicPr>
        <p:blipFill>
          <a:blip r:embed="rId1"/>
          <a:stretch/>
        </p:blipFill>
        <p:spPr>
          <a:xfrm>
            <a:off x="2133720" y="2819520"/>
            <a:ext cx="4572000" cy="2582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4"/>
          <p:cNvSpPr/>
          <p:nvPr/>
        </p:nvSpPr>
        <p:spPr>
          <a:xfrm>
            <a:off x="1600200" y="19810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AO E BUON LAVORO A TU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3352680" y="472428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3"/>
          <p:cNvGrpSpPr/>
          <p:nvPr/>
        </p:nvGrpSpPr>
        <p:grpSpPr>
          <a:xfrm>
            <a:off x="1905120" y="914400"/>
            <a:ext cx="6552720" cy="928800"/>
            <a:chOff x="1905120" y="914400"/>
            <a:chExt cx="6552720" cy="928800"/>
          </a:xfrm>
        </p:grpSpPr>
        <p:sp>
          <p:nvSpPr>
            <p:cNvPr id="72" name="AutoShape 4"/>
            <p:cNvSpPr/>
            <p:nvPr/>
          </p:nvSpPr>
          <p:spPr>
            <a:xfrm>
              <a:off x="1905120" y="914400"/>
              <a:ext cx="6400440" cy="928800"/>
            </a:xfrm>
            <a:prstGeom prst="wedgeRoundRectCallout">
              <a:avLst>
                <a:gd name="adj1" fmla="val -43518"/>
                <a:gd name="adj2" fmla="val 97694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2666880" y="1152720"/>
              <a:ext cx="5790960" cy="47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Ma cosa vuole dir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"/>
                </a:rPr>
                <a:t>lavorare in sicurezza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676520" y="2743200"/>
            <a:ext cx="7238880" cy="1371600"/>
            <a:chOff x="1676520" y="2743200"/>
            <a:chExt cx="7238880" cy="1371600"/>
          </a:xfrm>
        </p:grpSpPr>
        <p:sp>
          <p:nvSpPr>
            <p:cNvPr id="75" name="AutoShape 7"/>
            <p:cNvSpPr/>
            <p:nvPr/>
          </p:nvSpPr>
          <p:spPr>
            <a:xfrm flipV="1">
              <a:off x="1676520" y="2742840"/>
              <a:ext cx="7238880" cy="1371600"/>
            </a:xfrm>
            <a:prstGeom prst="wedgeRoundRectCallout">
              <a:avLst>
                <a:gd name="adj1" fmla="val -38226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933560" y="2819520"/>
              <a:ext cx="6705720" cy="123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La scuola provvede a render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icure le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trutture dei laboratori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e si assicura che 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ttrezzature, le apparecchiature, gli impianti, siano </a:t>
              </a: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a norma</a:t>
              </a: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.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9"/>
          <p:cNvGrpSpPr/>
          <p:nvPr/>
        </p:nvGrpSpPr>
        <p:grpSpPr>
          <a:xfrm>
            <a:off x="1685880" y="2743200"/>
            <a:ext cx="6705360" cy="1371600"/>
            <a:chOff x="1685880" y="2743200"/>
            <a:chExt cx="6705360" cy="1371600"/>
          </a:xfrm>
        </p:grpSpPr>
        <p:sp>
          <p:nvSpPr>
            <p:cNvPr id="78" name="AutoShape 10"/>
            <p:cNvSpPr/>
            <p:nvPr/>
          </p:nvSpPr>
          <p:spPr>
            <a:xfrm flipV="1">
              <a:off x="1685880" y="2742840"/>
              <a:ext cx="6705360" cy="1371600"/>
            </a:xfrm>
            <a:prstGeom prst="wedgeRoundRectCallout">
              <a:avLst>
                <a:gd name="adj1" fmla="val -43777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2005200" y="3200400"/>
              <a:ext cx="61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 questo non è ancora sufficiente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" name="Object 14"/>
          <p:cNvGraphicFramePr/>
          <p:nvPr/>
        </p:nvGraphicFramePr>
        <p:xfrm>
          <a:off x="685800" y="1295280"/>
          <a:ext cx="14382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1438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8"/>
          <p:cNvGrpSpPr/>
          <p:nvPr/>
        </p:nvGrpSpPr>
        <p:grpSpPr>
          <a:xfrm>
            <a:off x="1924200" y="900000"/>
            <a:ext cx="6846840" cy="990720"/>
            <a:chOff x="1924200" y="900000"/>
            <a:chExt cx="6846840" cy="990720"/>
          </a:xfrm>
        </p:grpSpPr>
        <p:sp>
          <p:nvSpPr>
            <p:cNvPr id="83" name="AutoShape 16"/>
            <p:cNvSpPr/>
            <p:nvPr/>
          </p:nvSpPr>
          <p:spPr>
            <a:xfrm>
              <a:off x="1924200" y="900000"/>
              <a:ext cx="6846840" cy="990720"/>
            </a:xfrm>
            <a:prstGeom prst="wedgeRoundRectCallout">
              <a:avLst>
                <a:gd name="adj1" fmla="val -43740"/>
                <a:gd name="adj2" fmla="val 88462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2305080" y="981000"/>
              <a:ext cx="6248520" cy="85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Innanzitutto significa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n correre rischi personali e non farli correre ad altr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4"/>
          <p:cNvGrpSpPr/>
          <p:nvPr/>
        </p:nvGrpSpPr>
        <p:grpSpPr>
          <a:xfrm>
            <a:off x="1752120" y="1981080"/>
            <a:ext cx="6933960" cy="1219320"/>
            <a:chOff x="1752120" y="1981080"/>
            <a:chExt cx="6933960" cy="1219320"/>
          </a:xfrm>
        </p:grpSpPr>
        <p:sp>
          <p:nvSpPr>
            <p:cNvPr id="86" name="AutoShape 17"/>
            <p:cNvSpPr/>
            <p:nvPr/>
          </p:nvSpPr>
          <p:spPr>
            <a:xfrm flipH="1">
              <a:off x="1751760" y="1981080"/>
              <a:ext cx="6933960" cy="1219320"/>
            </a:xfrm>
            <a:prstGeom prst="wedgeRoundRectCallout">
              <a:avLst>
                <a:gd name="adj1" fmla="val -44370"/>
                <a:gd name="adj2" fmla="val 4726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2133360" y="2133360"/>
              <a:ext cx="617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.è necessario cominciare ad affrontare insieme almeno 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tre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aspetti del problema e lo faremo i modo assolutamente semplice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9"/>
          <p:cNvGrpSpPr/>
          <p:nvPr/>
        </p:nvGrpSpPr>
        <p:grpSpPr>
          <a:xfrm>
            <a:off x="1752120" y="3048120"/>
            <a:ext cx="7139520" cy="1371600"/>
            <a:chOff x="1752120" y="3048120"/>
            <a:chExt cx="7139520" cy="1371600"/>
          </a:xfrm>
        </p:grpSpPr>
        <p:sp>
          <p:nvSpPr>
            <p:cNvPr id="89" name="AutoShape 19"/>
            <p:cNvSpPr/>
            <p:nvPr/>
          </p:nvSpPr>
          <p:spPr>
            <a:xfrm flipH="1" flipV="1">
              <a:off x="1751760" y="3048120"/>
              <a:ext cx="6629400" cy="1371600"/>
            </a:xfrm>
            <a:prstGeom prst="wedgeRoundRectCallout">
              <a:avLst>
                <a:gd name="adj1" fmla="val -42888"/>
                <a:gd name="adj2" fmla="val 39351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1881000" y="327204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prim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rischi presenti in laborato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1752480" y="1981080"/>
            <a:ext cx="7086240" cy="1219320"/>
            <a:chOff x="1752480" y="1981080"/>
            <a:chExt cx="7086240" cy="1219320"/>
          </a:xfrm>
        </p:grpSpPr>
        <p:sp>
          <p:nvSpPr>
            <p:cNvPr id="92" name="AutoShape 36"/>
            <p:cNvSpPr/>
            <p:nvPr/>
          </p:nvSpPr>
          <p:spPr>
            <a:xfrm flipH="1">
              <a:off x="1752480" y="1981080"/>
              <a:ext cx="7086240" cy="1219320"/>
            </a:xfrm>
            <a:prstGeom prst="wedgeRoundRectCallout">
              <a:avLst>
                <a:gd name="adj1" fmla="val -44370"/>
                <a:gd name="adj2" fmla="val 4726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2141640" y="2133360"/>
              <a:ext cx="630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er dare una risposta soddisfacente alla domanda </a:t>
              </a:r>
              <a:r>
                <a:rPr b="1" i="1" lang="en-US" sz="2000" spc="-1" strike="noStrike">
                  <a:solidFill>
                    <a:srgbClr val="00cc00"/>
                  </a:solidFill>
                  <a:latin typeface="Arial"/>
                </a:rPr>
                <a:t>“cosa vuol dire lavorare in sicurezza?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38"/>
          <p:cNvGraphicFramePr/>
          <p:nvPr/>
        </p:nvGraphicFramePr>
        <p:xfrm>
          <a:off x="604800" y="1285920"/>
          <a:ext cx="1459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285920"/>
                    <a:ext cx="1459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37"/>
          <p:cNvSpPr/>
          <p:nvPr/>
        </p:nvSpPr>
        <p:spPr>
          <a:xfrm>
            <a:off x="17524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arecchiature elettr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9"/>
          <p:cNvSpPr/>
          <p:nvPr/>
        </p:nvSpPr>
        <p:spPr>
          <a:xfrm>
            <a:off x="762120" y="2133720"/>
            <a:ext cx="7238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so non corretto delle apparecchiature può portare al rischio 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ssaggio di corr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averso il corpo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lgor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0"/>
          <p:cNvSpPr/>
          <p:nvPr/>
        </p:nvSpPr>
        <p:spPr>
          <a:xfrm>
            <a:off x="866880" y="4857840"/>
            <a:ext cx="7238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ovre errate sugli alimentatori (corto circuito) posso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rre incen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42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00" name="Object 236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2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2" name="Text Box 241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44" descr="E:\PFiles\MSOffice\Clipart\standard\stddir4\PE01850_.wmf"/>
          <p:cNvPicPr/>
          <p:nvPr/>
        </p:nvPicPr>
        <p:blipFill>
          <a:blip r:embed="rId3"/>
          <a:stretch/>
        </p:blipFill>
        <p:spPr>
          <a:xfrm>
            <a:off x="6477120" y="2286000"/>
            <a:ext cx="1812960" cy="196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9" descr="C:\Documents and Settings\crec\Documenti\Nuova cartella\J0076146.GIF"/>
          <p:cNvPicPr/>
          <p:nvPr/>
        </p:nvPicPr>
        <p:blipFill>
          <a:blip r:embed="rId4"/>
          <a:stretch/>
        </p:blipFill>
        <p:spPr>
          <a:xfrm>
            <a:off x="1752480" y="3767040"/>
            <a:ext cx="238932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Line 25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1143000" y="2133720"/>
            <a:ext cx="6781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apparecchiature laser utilizzate a scopo didattico sono strumenti di bassa potenza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pparecchiatura 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11" name="Object 10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3" name="Text Box 11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2"/>
          <p:cNvSpPr/>
          <p:nvPr/>
        </p:nvSpPr>
        <p:spPr>
          <a:xfrm>
            <a:off x="1066680" y="4800600"/>
            <a:ext cx="6782040" cy="116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sono risultare pericolose se il fascio di luce entra nell’occhio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3"/>
          <p:cNvGraphicFramePr/>
          <p:nvPr/>
        </p:nvGraphicFramePr>
        <p:xfrm>
          <a:off x="6629400" y="2743200"/>
          <a:ext cx="95256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743200"/>
                    <a:ext cx="95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4"/>
          <p:cNvGraphicFramePr/>
          <p:nvPr/>
        </p:nvGraphicFramePr>
        <p:xfrm>
          <a:off x="3691080" y="3600360"/>
          <a:ext cx="103824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91080" y="3600360"/>
                    <a:ext cx="10382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Line 17"/>
          <p:cNvSpPr/>
          <p:nvPr/>
        </p:nvSpPr>
        <p:spPr>
          <a:xfrm flipH="1">
            <a:off x="4114800" y="3200400"/>
            <a:ext cx="28195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4147920" y="3186000"/>
            <a:ext cx="281916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091040" y="3219480"/>
            <a:ext cx="28195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609480" y="2133720"/>
            <a:ext cx="67820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i strumenti come 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astre riscalda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mpade spettr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ggiungon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mperature ele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7621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lte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26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28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9"/>
          <p:cNvSpPr/>
          <p:nvPr/>
        </p:nvSpPr>
        <p:spPr>
          <a:xfrm>
            <a:off x="590400" y="3429000"/>
            <a:ext cx="6782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rtano quindi rischi d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t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0"/>
          <p:cNvGraphicFramePr/>
          <p:nvPr/>
        </p:nvGraphicFramePr>
        <p:xfrm>
          <a:off x="3657600" y="3962520"/>
          <a:ext cx="117324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962520"/>
                    <a:ext cx="1173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11" descr="C:\Documents and Settings\crec\Documenti\Nuova cartella\AG00355_.GIF"/>
          <p:cNvPicPr/>
          <p:nvPr/>
        </p:nvPicPr>
        <p:blipFill>
          <a:blip r:embed="rId5"/>
          <a:stretch/>
        </p:blipFill>
        <p:spPr>
          <a:xfrm>
            <a:off x="4038480" y="3581280"/>
            <a:ext cx="103824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Line 12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3"/>
          <p:cNvSpPr/>
          <p:nvPr/>
        </p:nvSpPr>
        <p:spPr>
          <a:xfrm>
            <a:off x="762120" y="1752480"/>
            <a:ext cx="71625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stanze chim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ate per sperimenti di fisica, presentano rischi per la persona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2120" y="5013360"/>
            <a:ext cx="72388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omb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mbolo: Pb) utilizzato in alcuni esperimenti può risultare nocivo sia per contatto che per inalazione delle polv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ostanze chi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40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Object 9"/>
          <p:cNvGraphicFramePr/>
          <p:nvPr/>
        </p:nvGraphicFramePr>
        <p:xfrm>
          <a:off x="7391520" y="1905120"/>
          <a:ext cx="695160" cy="13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1905120"/>
                    <a:ext cx="6951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0"/>
          <p:cNvSpPr/>
          <p:nvPr/>
        </p:nvSpPr>
        <p:spPr>
          <a:xfrm>
            <a:off x="762120" y="3252960"/>
            <a:ext cx="723888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esempio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rcur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bolo: H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uto in alcuni apparecchi ( termometri, barometri) è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ssico sia per contatto che per ina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</cp:lastModifiedBy>
  <dcterms:modified xsi:type="dcterms:W3CDTF">2018-06-07T16:48:40Z</dcterms:modified>
  <cp:revision>176</cp:revision>
  <dc:subject/>
  <dc:title>Moti rettilinei uniformi lezione</dc:title>
</cp:coreProperties>
</file>