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6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BB58-C7F8-4A83-8D2B-E7FAA65235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489-839A-4134-B56E-A15A83F787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1EB-73CE-4BB0-915E-2C37624037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041-3B90-4499-AE53-6090CB3CE3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35DE-522A-4266-9FF7-80A03DC3DB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B4B-ED40-4448-A982-1B4B9BC788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8A40-08F7-4A55-A243-A3FBE22CF8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CCFC-7B14-4683-9B19-6479B08ADC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4C3-F8D0-4D96-8A2F-DDCE6B40DC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9C2-F568-4F8F-842E-4513F5F218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B8E5-AE4F-41FF-B453-70288257A7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A0C-EA09-4F7A-8DAA-27F4068874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EAF5-6DD2-4894-9E89-7417383C01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5276-BB86-4E24-A375-9B556106F3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859-EB9F-4F6E-B7FF-96BC78FFE2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AFE-B4B4-471A-9253-C3F67BB66B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CFB-C868-45EF-8B80-4C6152C52FB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F81-A03B-431E-8FDA-0B5411BF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582-8110-45C0-B9B0-2B0CA30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581-0ECA-47FB-869F-A2E9223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A40-E5C7-45B9-BA03-A8763A46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3EB-A5B4-4735-A37C-E80891EB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19D-B9A1-4363-9617-F2AD192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158-ABD6-4C2D-812F-4A6A165E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BF0-3452-4054-8960-1AC75EF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F30-F54F-4E6D-9EC0-B5A1F50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04D-0EB2-41EB-A336-081FDCB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5E4-22A6-4CEE-8462-9ADBA08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A3B-63E7-4C6E-85E9-3954155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bc2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2CE6-502E-4654-BC56-3A76326BF8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357192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IL CAL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magine 1" descr=""/>
          <p:cNvPicPr/>
          <p:nvPr/>
        </p:nvPicPr>
        <p:blipFill>
          <a:blip r:embed="rId1"/>
          <a:stretch/>
        </p:blipFill>
        <p:spPr>
          <a:xfrm>
            <a:off x="2444760" y="1700280"/>
            <a:ext cx="4143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63600" y="18900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1. CON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38000" y="909720"/>
            <a:ext cx="76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Non vi è spostamento di materia, ma solo di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30160" y="1628640"/>
            <a:ext cx="56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passaggio di energia attraverso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arete di area a e spessore L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55600" y="5950080"/>
            <a:ext cx="68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ove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λ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il coefficiente di conducibilità te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16872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951280" y="422100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90960" y="1890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2. CONV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808640" y="765000"/>
            <a:ext cx="55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È lo spostamento di materia che si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nei fluidi con le correnti convet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751840" y="30970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3. IRRAGG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3240" y="371628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È il trasferimento di energia via radiazione elettromag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450440" y="573408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σ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5,8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-8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stante di Stefan-Bolt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191040" y="1700280"/>
            <a:ext cx="2761920" cy="11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3244680" y="4365720"/>
            <a:ext cx="2654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136240" y="26028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cc"/>
                </a:solidFill>
                <a:uFillTx/>
                <a:latin typeface="Trebuchet MS"/>
              </a:rPr>
              <a:t>I CAMBIAMENTO DI 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507680" y="4941720"/>
            <a:ext cx="61272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Ogni passaggio di stato è accompagn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da assorbimento o liberazione di ene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e si realizza ad un a dat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0" y="1484280"/>
            <a:ext cx="9143640" cy="2764800"/>
            <a:chOff x="0" y="1484280"/>
            <a:chExt cx="9143640" cy="2764800"/>
          </a:xfrm>
        </p:grpSpPr>
        <p:sp>
          <p:nvSpPr>
            <p:cNvPr id="136" name="Rectangle 5"/>
            <p:cNvSpPr/>
            <p:nvPr/>
          </p:nvSpPr>
          <p:spPr>
            <a:xfrm>
              <a:off x="3300480" y="2347920"/>
              <a:ext cx="2540880" cy="10810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LI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6011280" y="2708280"/>
              <a:ext cx="1439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1692720" y="2708280"/>
              <a:ext cx="1439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 flipH="1">
              <a:off x="1607040" y="3139920"/>
              <a:ext cx="1441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>
              <a:off x="6010920" y="3139920"/>
              <a:ext cx="1441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0" y="2467080"/>
              <a:ext cx="1523160" cy="914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SO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7620480" y="2467080"/>
              <a:ext cx="1523160" cy="914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3171600" y="14842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Trebuchet MS"/>
                </a:rPr>
                <a:t>SUBLIM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2984040" y="3789360"/>
              <a:ext cx="27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Trebuchet MS"/>
                </a:rPr>
                <a:t>CONDENS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4"/>
            <p:cNvSpPr/>
            <p:nvPr/>
          </p:nvSpPr>
          <p:spPr>
            <a:xfrm flipV="1">
              <a:off x="675360" y="3428640"/>
              <a:ext cx="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675360" y="4076640"/>
              <a:ext cx="2372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>
              <a:off x="6095160" y="4005360"/>
              <a:ext cx="2286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8382240" y="3357360"/>
              <a:ext cx="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 flipV="1">
              <a:off x="675360" y="1700280"/>
              <a:ext cx="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675360" y="1700280"/>
              <a:ext cx="254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5927040" y="1700280"/>
              <a:ext cx="2454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8382240" y="1700280"/>
              <a:ext cx="0" cy="72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1501920" y="3213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solid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1874520" y="2270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757840" y="22701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vapor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810040" y="3213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condens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3"/>
          <p:cNvSpPr/>
          <p:nvPr/>
        </p:nvSpPr>
        <p:spPr>
          <a:xfrm>
            <a:off x="463680" y="1125360"/>
            <a:ext cx="8215200" cy="1702440"/>
          </a:xfrm>
          <a:prstGeom prst="rect">
            <a:avLst/>
          </a:prstGeom>
          <a:gradFill rotWithShape="0">
            <a:gsLst>
              <a:gs pos="0">
                <a:srgbClr val="01cb44"/>
              </a:gs>
              <a:gs pos="100000">
                <a:srgbClr val="005e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Il calore latente di fusione (o di solidificazione) è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quantità di energia necessaria a fondere (solidific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ompletamente una massa unitaria di sostanza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essa si trova alla temperatura di fusione (solidific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528360" y="2602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5" descr=""/>
          <p:cNvPicPr/>
          <p:nvPr/>
        </p:nvPicPr>
        <p:blipFill>
          <a:blip r:embed="rId1"/>
          <a:stretch/>
        </p:blipFill>
        <p:spPr>
          <a:xfrm>
            <a:off x="3316320" y="3357720"/>
            <a:ext cx="2511360" cy="1403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sp>
        <p:nvSpPr>
          <p:cNvPr id="160" name="Text Box 16"/>
          <p:cNvSpPr/>
          <p:nvPr/>
        </p:nvSpPr>
        <p:spPr>
          <a:xfrm>
            <a:off x="3930120" y="5805360"/>
            <a:ext cx="1293120" cy="648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 = 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131560" y="508464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a conservazione dell’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51000" y="765000"/>
            <a:ext cx="8442360" cy="1702440"/>
          </a:xfrm>
          <a:prstGeom prst="rect">
            <a:avLst/>
          </a:prstGeom>
          <a:gradFill rotWithShape="0">
            <a:gsLst>
              <a:gs pos="0">
                <a:srgbClr val="01cb44"/>
              </a:gs>
              <a:gs pos="100000">
                <a:srgbClr val="005e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Il calore latente di vaporizzazione (condensazione) è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quantità di energia necessaria a vaporizzare (condens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ompletamente una massa unitaria di sosta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senza variazione di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28360" y="1890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099800" y="285264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’acqua s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 100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evapo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292400" y="3357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’acqua s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= 100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eboll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62320" y="4149720"/>
            <a:ext cx="2619360" cy="1332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3901680" y="5734080"/>
            <a:ext cx="1338840" cy="648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v</a:t>
            </a: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 = 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779760" y="260280"/>
            <a:ext cx="75830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e l’evaporazione avviene in un ambiente chiu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pressione della fase gassosa aumenta fino ad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unto di equilibrio dett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pressione di vapore sa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3480" y="191628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pressione di vapore saturo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umenta al crescere di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078280" y="2637000"/>
            <a:ext cx="4987440" cy="1410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condensare un vapore si pu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comprimerl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raffreddarl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2880" y="4292640"/>
            <a:ext cx="7697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ogni sostanza esiste un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ritica,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, al di sop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ella quale essa può esistere solo allo stato gasso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391120" y="5516640"/>
            <a:ext cx="4299840" cy="92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g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V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839600" y="476280"/>
            <a:ext cx="54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UMIDI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À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 RELATIVA DELL’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72040" y="1628640"/>
            <a:ext cx="7998840" cy="137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chiama umidità relativa dell’aria il rapporto tr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essione effettiva </a:t>
            </a: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el vapor d’acqua e la pre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rebuchet MS"/>
              </a:rPr>
              <a:t>H 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el vapore saturo dell’acqua a quell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044360" y="2762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3046320" y="3716280"/>
            <a:ext cx="3051360" cy="1241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8"/>
          <p:cNvSpPr/>
          <p:nvPr/>
        </p:nvSpPr>
        <p:spPr>
          <a:xfrm>
            <a:off x="3088080" y="260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E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9"/>
          <p:cNvSpPr/>
          <p:nvPr/>
        </p:nvSpPr>
        <p:spPr>
          <a:xfrm>
            <a:off x="317520" y="981000"/>
            <a:ext cx="85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e l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è un indicatore macroscopico dell’energia cine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olecolare e se due corpi con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iversa, messi a conta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raggiungono un equilibrio termico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possiamo dire 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0"/>
          <p:cNvSpPr/>
          <p:nvPr/>
        </p:nvSpPr>
        <p:spPr>
          <a:xfrm>
            <a:off x="1348560" y="2421000"/>
            <a:ext cx="6447240" cy="825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ee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calore è trasferimento di energia tra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rpi che si trovano inizialmente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1"/>
          <p:cNvSpPr/>
          <p:nvPr/>
        </p:nvSpPr>
        <p:spPr>
          <a:xfrm>
            <a:off x="110880" y="364500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LAVOR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ono due forme di energi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IN TRAN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"/>
          <p:cNvSpPr/>
          <p:nvPr/>
        </p:nvSpPr>
        <p:spPr>
          <a:xfrm>
            <a:off x="875160" y="4653000"/>
            <a:ext cx="73922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calore trasmesso da un corpo a T maggiore 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voro compiuto da una forza esterna sono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odi per aumentare l’energia interna di un cor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5"/>
          <p:cNvSpPr/>
          <p:nvPr/>
        </p:nvSpPr>
        <p:spPr>
          <a:xfrm>
            <a:off x="1426680" y="1890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PACI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À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 TERMICA E CALOR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1100520" y="981000"/>
            <a:ext cx="78904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capacità termica di un corpo è l’energia necess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aumentare di 1K (o di 1°C) la su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7"/>
          <p:cNvSpPr/>
          <p:nvPr/>
        </p:nvSpPr>
        <p:spPr>
          <a:xfrm>
            <a:off x="253080" y="907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8" descr=""/>
          <p:cNvPicPr/>
          <p:nvPr/>
        </p:nvPicPr>
        <p:blipFill>
          <a:blip r:embed="rId1"/>
          <a:stretch/>
        </p:blipFill>
        <p:spPr>
          <a:xfrm>
            <a:off x="3441600" y="2060640"/>
            <a:ext cx="225900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9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8906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0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678040" cy="72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1"/>
          <p:cNvSpPr/>
          <p:nvPr/>
        </p:nvSpPr>
        <p:spPr>
          <a:xfrm>
            <a:off x="1532880" y="386064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Vale la re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4"/>
          <p:cNvSpPr/>
          <p:nvPr/>
        </p:nvSpPr>
        <p:spPr>
          <a:xfrm>
            <a:off x="147240" y="4653000"/>
            <a:ext cx="5741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specific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pacità termica di una mass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6431400" y="4653000"/>
            <a:ext cx="2517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assa del co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6"/>
          <p:cNvSpPr/>
          <p:nvPr/>
        </p:nvSpPr>
        <p:spPr>
          <a:xfrm>
            <a:off x="6877080" y="4292640"/>
            <a:ext cx="64764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4"/>
          <a:stretch/>
        </p:blipFill>
        <p:spPr>
          <a:xfrm>
            <a:off x="1844640" y="5589720"/>
            <a:ext cx="2727360" cy="1114200"/>
          </a:xfrm>
          <a:prstGeom prst="rect">
            <a:avLst/>
          </a:prstGeom>
          <a:ln w="0">
            <a:noFill/>
          </a:ln>
        </p:spPr>
      </p:pic>
      <p:sp>
        <p:nvSpPr>
          <p:cNvPr id="66" name="Line 62"/>
          <p:cNvSpPr/>
          <p:nvPr/>
        </p:nvSpPr>
        <p:spPr>
          <a:xfrm flipH="1">
            <a:off x="4788000" y="4292640"/>
            <a:ext cx="79200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6"/>
          <p:cNvSpPr/>
          <p:nvPr/>
        </p:nvSpPr>
        <p:spPr>
          <a:xfrm>
            <a:off x="1474920" y="2781360"/>
            <a:ext cx="6192720" cy="3816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01360" y="549360"/>
            <a:ext cx="5741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specific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pacità termica di una mass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3208320" y="1557360"/>
            <a:ext cx="2727360" cy="86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155480" y="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1617840" y="2960280"/>
            <a:ext cx="1440" cy="34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617840" y="6381720"/>
            <a:ext cx="5924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"/>
          <p:cNvSpPr/>
          <p:nvPr/>
        </p:nvSpPr>
        <p:spPr>
          <a:xfrm flipV="1">
            <a:off x="1617840" y="4723920"/>
            <a:ext cx="592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1617840" y="3249720"/>
            <a:ext cx="5857560" cy="1908000"/>
          </a:xfrm>
          <a:custGeom>
            <a:avLst/>
            <a:gdLst/>
            <a:ahLst/>
            <a:rect l="l" t="t" r="r" b="b"/>
            <a:pathLst>
              <a:path w="3947" h="1315">
                <a:moveTo>
                  <a:pt x="0" y="272"/>
                </a:moveTo>
                <a:cubicBezTo>
                  <a:pt x="110" y="570"/>
                  <a:pt x="220" y="869"/>
                  <a:pt x="409" y="1043"/>
                </a:cubicBezTo>
                <a:cubicBezTo>
                  <a:pt x="598" y="1217"/>
                  <a:pt x="817" y="1315"/>
                  <a:pt x="1134" y="1315"/>
                </a:cubicBezTo>
                <a:cubicBezTo>
                  <a:pt x="1451" y="1315"/>
                  <a:pt x="1845" y="1262"/>
                  <a:pt x="2314" y="1043"/>
                </a:cubicBezTo>
                <a:cubicBezTo>
                  <a:pt x="2783" y="824"/>
                  <a:pt x="3675" y="174"/>
                  <a:pt x="394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2195640" y="4724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203640" y="515772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48360" y="4724280"/>
            <a:ext cx="1440" cy="16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1617480" y="5157720"/>
            <a:ext cx="1549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492120" y="2708280"/>
            <a:ext cx="98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rebuchet MS"/>
              </a:rPr>
              <a:t>ac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7743600" y="602136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628920" y="43657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28920" y="4797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0,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27304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5268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29740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3"/>
          <p:cNvSpPr/>
          <p:nvPr/>
        </p:nvSpPr>
        <p:spPr>
          <a:xfrm>
            <a:off x="1943280" y="4365720"/>
            <a:ext cx="5256000" cy="21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1"/>
          <p:cNvSpPr/>
          <p:nvPr/>
        </p:nvSpPr>
        <p:spPr>
          <a:xfrm>
            <a:off x="1908000" y="620640"/>
            <a:ext cx="1079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"/>
          <p:cNvPicPr/>
          <p:nvPr/>
        </p:nvPicPr>
        <p:blipFill>
          <a:blip r:embed="rId1"/>
          <a:stretch/>
        </p:blipFill>
        <p:spPr>
          <a:xfrm>
            <a:off x="3240000" y="189000"/>
            <a:ext cx="2664000" cy="1160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2"/>
          <a:stretch/>
        </p:blipFill>
        <p:spPr>
          <a:xfrm>
            <a:off x="2523960" y="2241720"/>
            <a:ext cx="4094280" cy="647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8"/>
          <p:cNvSpPr/>
          <p:nvPr/>
        </p:nvSpPr>
        <p:spPr>
          <a:xfrm>
            <a:off x="1340640" y="3040200"/>
            <a:ext cx="6532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energia necessaria per aumentare l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un corpo è direttamente proporzionale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9"/>
          <p:cNvSpPr/>
          <p:nvPr/>
        </p:nvSpPr>
        <p:spPr>
          <a:xfrm>
            <a:off x="1963080" y="451008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IL SUO CALOR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2005560" y="51577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LA SUA 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971360" y="58071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IL SALTO DI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1870200" y="443880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4"/>
          <p:cNvSpPr/>
          <p:nvPr/>
        </p:nvSpPr>
        <p:spPr>
          <a:xfrm>
            <a:off x="4572000" y="148428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24"/>
          <p:cNvSpPr/>
          <p:nvPr/>
        </p:nvSpPr>
        <p:spPr>
          <a:xfrm>
            <a:off x="1698120" y="18900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LA TEMPERATURA DI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5"/>
          <p:cNvSpPr/>
          <p:nvPr/>
        </p:nvSpPr>
        <p:spPr>
          <a:xfrm>
            <a:off x="1043280" y="1125360"/>
            <a:ext cx="70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ati 2 corpi di mass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 calori 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e 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 temperature iniziali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e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,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7" descr=""/>
          <p:cNvPicPr/>
          <p:nvPr/>
        </p:nvPicPr>
        <p:blipFill>
          <a:blip r:embed="rId1"/>
          <a:srcRect l="0" t="15153" r="0" b="6725"/>
          <a:stretch/>
        </p:blipFill>
        <p:spPr>
          <a:xfrm>
            <a:off x="1606680" y="2349360"/>
            <a:ext cx="5930640" cy="64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99" name="Picture 128" descr=""/>
          <p:cNvPicPr/>
          <p:nvPr/>
        </p:nvPicPr>
        <p:blipFill>
          <a:blip r:embed="rId2"/>
          <a:srcRect l="0" t="16040" r="0" b="11071"/>
          <a:stretch/>
        </p:blipFill>
        <p:spPr>
          <a:xfrm>
            <a:off x="1660680" y="3214800"/>
            <a:ext cx="5822640" cy="649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0" name="Text Box 129"/>
          <p:cNvSpPr/>
          <p:nvPr/>
        </p:nvSpPr>
        <p:spPr>
          <a:xfrm>
            <a:off x="1490760" y="4294080"/>
            <a:ext cx="616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ov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è la temperatura finale,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&lt; T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0"/>
          <p:cNvSpPr/>
          <p:nvPr/>
        </p:nvSpPr>
        <p:spPr>
          <a:xfrm>
            <a:off x="1820160" y="5230800"/>
            <a:ext cx="55026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energia ceduta dal corp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gt;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ar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stessa acquistata dal corp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"/>
          <p:cNvPicPr/>
          <p:nvPr/>
        </p:nvPicPr>
        <p:blipFill>
          <a:blip r:embed="rId1"/>
          <a:srcRect l="0" t="8032" r="0" b="11075"/>
          <a:stretch/>
        </p:blipFill>
        <p:spPr>
          <a:xfrm>
            <a:off x="3009960" y="476280"/>
            <a:ext cx="312264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9"/>
          <p:cNvSpPr/>
          <p:nvPr/>
        </p:nvSpPr>
        <p:spPr>
          <a:xfrm>
            <a:off x="1619280" y="620640"/>
            <a:ext cx="974520" cy="486000"/>
          </a:xfrm>
          <a:prstGeom prst="rightArrow">
            <a:avLst>
              <a:gd name="adj1" fmla="val 50000"/>
              <a:gd name="adj2" fmla="val 50130"/>
            </a:avLst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0" descr=""/>
          <p:cNvPicPr/>
          <p:nvPr/>
        </p:nvPicPr>
        <p:blipFill>
          <a:blip r:embed="rId2"/>
          <a:stretch/>
        </p:blipFill>
        <p:spPr>
          <a:xfrm>
            <a:off x="504720" y="1773360"/>
            <a:ext cx="81327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1"/>
          <p:cNvSpPr/>
          <p:nvPr/>
        </p:nvSpPr>
        <p:spPr>
          <a:xfrm rot="5400000">
            <a:off x="6163920" y="973080"/>
            <a:ext cx="901800" cy="485640"/>
          </a:xfrm>
          <a:prstGeom prst="rightArrow">
            <a:avLst>
              <a:gd name="adj1" fmla="val 50000"/>
              <a:gd name="adj2" fmla="val 46423"/>
            </a:avLst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2" descr=""/>
          <p:cNvPicPr/>
          <p:nvPr/>
        </p:nvPicPr>
        <p:blipFill>
          <a:blip r:embed="rId3"/>
          <a:srcRect l="0" t="13138" r="0" b="0"/>
          <a:stretch/>
        </p:blipFill>
        <p:spPr>
          <a:xfrm>
            <a:off x="525600" y="3068640"/>
            <a:ext cx="8091360" cy="6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"/>
          <p:cNvPicPr/>
          <p:nvPr/>
        </p:nvPicPr>
        <p:blipFill>
          <a:blip r:embed="rId4"/>
          <a:srcRect l="0" t="16462" r="0" b="8817"/>
          <a:stretch/>
        </p:blipFill>
        <p:spPr>
          <a:xfrm>
            <a:off x="539640" y="4005360"/>
            <a:ext cx="806472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"/>
          <p:cNvPicPr/>
          <p:nvPr/>
        </p:nvPicPr>
        <p:blipFill>
          <a:blip r:embed="rId5"/>
          <a:stretch/>
        </p:blipFill>
        <p:spPr>
          <a:xfrm>
            <a:off x="2128680" y="5084640"/>
            <a:ext cx="4886640" cy="135108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5"/>
          <p:cNvSpPr/>
          <p:nvPr/>
        </p:nvSpPr>
        <p:spPr>
          <a:xfrm>
            <a:off x="3425040" y="18900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LA CAL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6320" y="11253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190880" y="1197000"/>
            <a:ext cx="7393680" cy="184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la quantità di energia necessaria per aument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(d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4,5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5,5 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) la temperatur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 g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acqua distillata alla pressione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,013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5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Pa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(Pressione Atmosferica Standar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105360" y="4149720"/>
            <a:ext cx="29329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1 cal = 4, 186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050920" y="5157720"/>
            <a:ext cx="5040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1 Kcal = 1000 cal = 4186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9"/>
          <p:cNvSpPr/>
          <p:nvPr/>
        </p:nvSpPr>
        <p:spPr>
          <a:xfrm>
            <a:off x="2749680" y="18900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IL POTERE CALOR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347040" y="105264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1215000" y="981000"/>
            <a:ext cx="6712560" cy="1410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la quantità di calore (energia) liberata da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mbustione completa di una massa uni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(o V unitario) di combustibile. (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J/kg  -  J/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2079000" y="27082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LA PROPAGAZIONE DEL C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1935000" y="34290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vviene con tre diversi meccanis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2997360" y="4292640"/>
            <a:ext cx="31496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. CON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2. CONV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3. IRRAGG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derico barbarossa</cp:lastModifiedBy>
  <dcterms:modified xsi:type="dcterms:W3CDTF">2019-06-02T09:06:04Z</dcterms:modified>
  <cp:revision>61</cp:revision>
  <dc:subject/>
  <dc:title>PowerPoint Presentation</dc:title>
</cp:coreProperties>
</file>