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6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2DC1-552F-4B08-9922-E4F6F5D5808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9645-6002-4B13-B9E0-00553B4129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D72C-9318-4A45-9338-5A49E5A80B4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5542-5A9B-4651-AA7E-04ABFABA19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4DA2-E4F2-41CD-B35B-6EE79E68162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59C9-11A1-4E7E-8C62-28C624955C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8D81-36FD-4B1B-A2A3-9078BF9EAA5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A1AE-9AC5-4B30-8FC3-1544A409BA4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4343-C242-4FDE-ABC8-696C1F53DB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A381-059A-444E-9C9A-B5C59211920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BC82-006F-45AD-97E4-F3F0402479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DAAD-2D00-4676-8E12-8FE4A1360B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BF1A-A728-4F79-BAC5-24760B9882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74FD-FCBB-475D-9086-61FEDB73E1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FBF9-5144-4BC7-98B2-B228E1F4061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901-07F0-4B4E-9111-225D28D374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6A49-E750-4EA5-B24F-3617B0E84F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6DF-84ED-4049-A606-B00367AD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DCA-C178-452A-B137-8E002F01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81E-3574-480E-94CD-37700A7B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B57-6706-4732-9B4E-E0D2B26C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052-ACE8-4EAF-8EDC-D44B6DB2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F57-AB08-4D7A-94BC-6FE94E16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E69-E814-4A6E-871E-EF80B16A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EB2-EE2C-4E96-AC94-7CC47B0B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F61-8ADF-4CF1-BC1F-AB84F215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26A-7B05-4263-8E47-CD956B1F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7D4-259E-45CA-9B3A-FE065AB5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198-091B-41C0-BCAE-39A63F8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bc2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19B-0940-4A8A-B556-379CF1065C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3571920" y="981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IL CAL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magine 1" descr=""/>
          <p:cNvPicPr/>
          <p:nvPr/>
        </p:nvPicPr>
        <p:blipFill>
          <a:blip r:embed="rId1"/>
          <a:stretch/>
        </p:blipFill>
        <p:spPr>
          <a:xfrm>
            <a:off x="2444760" y="1700280"/>
            <a:ext cx="4143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63600" y="18900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1. CON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38000" y="909720"/>
            <a:ext cx="76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Non vi è spostamento di materia, ma solo di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30160" y="1628640"/>
            <a:ext cx="568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l passaggio di energia attraverso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arete di area a e spessore L è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55600" y="5950080"/>
            <a:ext cx="68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ove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λ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è il coefficiente di conducibilità te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316872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951280" y="4221000"/>
            <a:ext cx="32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90960" y="18900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2. CONV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808640" y="765000"/>
            <a:ext cx="552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È lo spostamento di materia che si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nei fluidi con le correnti convet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751840" y="30970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3. IRRAGGI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3240" y="3716280"/>
            <a:ext cx="87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È il trasferimento di energia via radiazione elettromagne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450440" y="573408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σ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5,8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×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Times New Roman"/>
              </a:rPr>
              <a:t>-8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stante di Stefan-Boltz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3191040" y="1700280"/>
            <a:ext cx="2761920" cy="11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3244680" y="4365720"/>
            <a:ext cx="26546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136240" y="260280"/>
            <a:ext cx="48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cc"/>
                </a:solidFill>
                <a:uFillTx/>
                <a:latin typeface="Trebuchet MS"/>
              </a:rPr>
              <a:t>I CAMBIAMENTO DI S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507680" y="4941720"/>
            <a:ext cx="61272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rebuchet MS"/>
              </a:rPr>
              <a:t>Ogni passaggio di stato è accompagn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rebuchet MS"/>
              </a:rPr>
              <a:t>da assorbimento o liberazione di ene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rebuchet MS"/>
              </a:rPr>
              <a:t>e si realizza ad un a data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0" y="1484280"/>
            <a:ext cx="9143640" cy="2764800"/>
            <a:chOff x="0" y="1484280"/>
            <a:chExt cx="9143640" cy="2764800"/>
          </a:xfrm>
        </p:grpSpPr>
        <p:sp>
          <p:nvSpPr>
            <p:cNvPr id="136" name="Rectangle 5"/>
            <p:cNvSpPr/>
            <p:nvPr/>
          </p:nvSpPr>
          <p:spPr>
            <a:xfrm>
              <a:off x="3300480" y="2347920"/>
              <a:ext cx="2540880" cy="10810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rebuchet MS"/>
                </a:rPr>
                <a:t>LIQ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6011280" y="2708280"/>
              <a:ext cx="1439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1692720" y="2708280"/>
              <a:ext cx="1439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 flipH="1">
              <a:off x="1607040" y="3139920"/>
              <a:ext cx="14414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>
              <a:off x="6010920" y="3139920"/>
              <a:ext cx="1441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0" y="2467080"/>
              <a:ext cx="1523160" cy="914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rebuchet MS"/>
                </a:rPr>
                <a:t>SOL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>
              <a:off x="7620480" y="2467080"/>
              <a:ext cx="1523160" cy="914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Trebuchet MS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3171600" y="148428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Trebuchet MS"/>
                </a:rPr>
                <a:t>SUBLIM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2984040" y="3789360"/>
              <a:ext cx="274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3333cc"/>
                  </a:solidFill>
                  <a:latin typeface="Trebuchet MS"/>
                </a:rPr>
                <a:t>CONDENS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4"/>
            <p:cNvSpPr/>
            <p:nvPr/>
          </p:nvSpPr>
          <p:spPr>
            <a:xfrm flipV="1">
              <a:off x="675360" y="3428640"/>
              <a:ext cx="0" cy="64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>
              <a:off x="675360" y="4076640"/>
              <a:ext cx="2372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>
              <a:off x="6095160" y="4005360"/>
              <a:ext cx="22867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7"/>
            <p:cNvSpPr/>
            <p:nvPr/>
          </p:nvSpPr>
          <p:spPr>
            <a:xfrm flipV="1">
              <a:off x="8382240" y="3357360"/>
              <a:ext cx="0" cy="64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8"/>
            <p:cNvSpPr/>
            <p:nvPr/>
          </p:nvSpPr>
          <p:spPr>
            <a:xfrm flipV="1">
              <a:off x="675360" y="1700280"/>
              <a:ext cx="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675360" y="1700280"/>
              <a:ext cx="254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>
              <a:off x="5927040" y="1700280"/>
              <a:ext cx="2454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1"/>
            <p:cNvSpPr/>
            <p:nvPr/>
          </p:nvSpPr>
          <p:spPr>
            <a:xfrm>
              <a:off x="8382240" y="1700280"/>
              <a:ext cx="0" cy="72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1501920" y="3213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rebuchet MS"/>
              </a:rPr>
              <a:t>solid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1874520" y="22701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rebuchet MS"/>
              </a:rPr>
              <a:t>fu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5757840" y="22701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rebuchet MS"/>
              </a:rPr>
              <a:t>vapor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5810040" y="3213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rebuchet MS"/>
              </a:rPr>
              <a:t>condens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3"/>
          <p:cNvSpPr/>
          <p:nvPr/>
        </p:nvSpPr>
        <p:spPr>
          <a:xfrm>
            <a:off x="463680" y="1125360"/>
            <a:ext cx="8215200" cy="1702440"/>
          </a:xfrm>
          <a:prstGeom prst="rect">
            <a:avLst/>
          </a:prstGeom>
          <a:gradFill rotWithShape="0">
            <a:gsLst>
              <a:gs pos="0">
                <a:srgbClr val="01cb44"/>
              </a:gs>
              <a:gs pos="100000">
                <a:srgbClr val="005e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Il calore latente di fusione (o di solidificazione) è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quantità di energia necessaria a fondere (solidific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ompletamente una massa unitaria di sostanza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essa si trova alla temperatura di fusione (solidific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3528360" y="26028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DEFIN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5" descr=""/>
          <p:cNvPicPr/>
          <p:nvPr/>
        </p:nvPicPr>
        <p:blipFill>
          <a:blip r:embed="rId1"/>
          <a:stretch/>
        </p:blipFill>
        <p:spPr>
          <a:xfrm>
            <a:off x="3316320" y="3357720"/>
            <a:ext cx="2511360" cy="1403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sp>
        <p:nvSpPr>
          <p:cNvPr id="160" name="Text Box 16"/>
          <p:cNvSpPr/>
          <p:nvPr/>
        </p:nvSpPr>
        <p:spPr>
          <a:xfrm>
            <a:off x="3930120" y="5805360"/>
            <a:ext cx="1293120" cy="648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rebuchet MS"/>
              </a:rPr>
              <a:t>f</a:t>
            </a: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 = L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rebuchet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131560" y="5084640"/>
            <a:ext cx="48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la conservazione dell’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51000" y="765000"/>
            <a:ext cx="8442360" cy="1702440"/>
          </a:xfrm>
          <a:prstGeom prst="rect">
            <a:avLst/>
          </a:prstGeom>
          <a:gradFill rotWithShape="0">
            <a:gsLst>
              <a:gs pos="0">
                <a:srgbClr val="01cb44"/>
              </a:gs>
              <a:gs pos="100000">
                <a:srgbClr val="005e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Il calore latente di vaporizzazione (condensazione) è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quantità di energia necessaria a vaporizzare (condens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completamente una massa unitaria di sosta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rebuchet MS"/>
              </a:rPr>
              <a:t>senza variazione di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528360" y="18900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DEFIN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099800" y="2852640"/>
            <a:ext cx="70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l’acqua se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lt; 100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i parla di evapo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292400" y="3357720"/>
            <a:ext cx="66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l’acqua se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= 100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i parla di eboll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262320" y="4149720"/>
            <a:ext cx="2619360" cy="1332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3901680" y="5734080"/>
            <a:ext cx="1338840" cy="648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L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rebuchet MS"/>
              </a:rPr>
              <a:t>v</a:t>
            </a: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 = L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rebuchet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779760" y="260280"/>
            <a:ext cx="75830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e l’evaporazione avviene in un ambiente chiu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pressione della fase gassosa aumenta fino ad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unto di equilibrio dett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pressione di vapore sa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3480" y="191628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pressione di vapore saturo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umenta al crescere di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078280" y="2637000"/>
            <a:ext cx="4987440" cy="1410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condensare un vapore si pu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comprimerlo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co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raffreddarlo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co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2880" y="4292640"/>
            <a:ext cx="7697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ogni sostanza esiste un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critica,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, al di sop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ella quale essa può esistere solo allo stato gasso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391120" y="5516640"/>
            <a:ext cx="4299840" cy="926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gt;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i parla 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lt;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i parla 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VAP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839600" y="476280"/>
            <a:ext cx="54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rebuchet MS"/>
              </a:rPr>
              <a:t>UMIDI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À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rebuchet MS"/>
              </a:rPr>
              <a:t> RELATIVA DELL’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72040" y="1628640"/>
            <a:ext cx="7998840" cy="1371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chiama umidità relativa dell’aria il rapporto tr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essione effettiva </a:t>
            </a: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del vapor d’acqua e la pre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rebuchet MS"/>
              </a:rPr>
              <a:t>H O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del vapore saturo dell’acqua a quella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044360" y="2762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3046320" y="3716280"/>
            <a:ext cx="3051360" cy="12416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8"/>
          <p:cNvSpPr/>
          <p:nvPr/>
        </p:nvSpPr>
        <p:spPr>
          <a:xfrm>
            <a:off x="3088080" y="260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LORE E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9"/>
          <p:cNvSpPr/>
          <p:nvPr/>
        </p:nvSpPr>
        <p:spPr>
          <a:xfrm>
            <a:off x="317520" y="981000"/>
            <a:ext cx="85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e l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è un indicatore macroscopico dell’energia cine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molecolare e se due corpi con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diversa, messi a contat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raggiungono un equilibrio termico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possiamo dire 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0"/>
          <p:cNvSpPr/>
          <p:nvPr/>
        </p:nvSpPr>
        <p:spPr>
          <a:xfrm>
            <a:off x="1348560" y="2421000"/>
            <a:ext cx="6447240" cy="825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ee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l calore è trasferimento di energia tra d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rpi che si trovano inizialmente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d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1"/>
          <p:cNvSpPr/>
          <p:nvPr/>
        </p:nvSpPr>
        <p:spPr>
          <a:xfrm>
            <a:off x="110880" y="3645000"/>
            <a:ext cx="89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LORE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LAVORO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ono due forme di energi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IN TRAN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2"/>
          <p:cNvSpPr/>
          <p:nvPr/>
        </p:nvSpPr>
        <p:spPr>
          <a:xfrm>
            <a:off x="875160" y="4653000"/>
            <a:ext cx="73922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l calore trasmesso da un corpo a T maggiore e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voro compiuto da una forza esterna sono d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modi per aumentare l’energia interna di un corp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5"/>
          <p:cNvSpPr/>
          <p:nvPr/>
        </p:nvSpPr>
        <p:spPr>
          <a:xfrm>
            <a:off x="1426680" y="18900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PACI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À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 TERMICA E CALORE 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6"/>
          <p:cNvSpPr/>
          <p:nvPr/>
        </p:nvSpPr>
        <p:spPr>
          <a:xfrm>
            <a:off x="1100520" y="981000"/>
            <a:ext cx="789048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capacità termica di un corpo è l’energia necess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aumentare di 1K (o di 1°C) la sua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7"/>
          <p:cNvSpPr/>
          <p:nvPr/>
        </p:nvSpPr>
        <p:spPr>
          <a:xfrm>
            <a:off x="253080" y="9079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8" descr=""/>
          <p:cNvPicPr/>
          <p:nvPr/>
        </p:nvPicPr>
        <p:blipFill>
          <a:blip r:embed="rId1"/>
          <a:stretch/>
        </p:blipFill>
        <p:spPr>
          <a:xfrm>
            <a:off x="3441600" y="2060640"/>
            <a:ext cx="2259000" cy="129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9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8906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0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678040" cy="720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1"/>
          <p:cNvSpPr/>
          <p:nvPr/>
        </p:nvSpPr>
        <p:spPr>
          <a:xfrm>
            <a:off x="1532880" y="386064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Vale la re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4"/>
          <p:cNvSpPr/>
          <p:nvPr/>
        </p:nvSpPr>
        <p:spPr>
          <a:xfrm>
            <a:off x="147240" y="4653000"/>
            <a:ext cx="5741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lore specifico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pacità termica di una mass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6431400" y="4653000"/>
            <a:ext cx="25171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Massa del co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6"/>
          <p:cNvSpPr/>
          <p:nvPr/>
        </p:nvSpPr>
        <p:spPr>
          <a:xfrm>
            <a:off x="6877080" y="4292640"/>
            <a:ext cx="64764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4"/>
          <a:stretch/>
        </p:blipFill>
        <p:spPr>
          <a:xfrm>
            <a:off x="1844640" y="5589720"/>
            <a:ext cx="2727360" cy="1114200"/>
          </a:xfrm>
          <a:prstGeom prst="rect">
            <a:avLst/>
          </a:prstGeom>
          <a:ln w="0">
            <a:noFill/>
          </a:ln>
        </p:spPr>
      </p:pic>
      <p:sp>
        <p:nvSpPr>
          <p:cNvPr id="66" name="Line 62"/>
          <p:cNvSpPr/>
          <p:nvPr/>
        </p:nvSpPr>
        <p:spPr>
          <a:xfrm flipH="1">
            <a:off x="4788000" y="4292640"/>
            <a:ext cx="79200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6"/>
          <p:cNvSpPr/>
          <p:nvPr/>
        </p:nvSpPr>
        <p:spPr>
          <a:xfrm>
            <a:off x="1474920" y="2781360"/>
            <a:ext cx="6192720" cy="3816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a9a9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01360" y="549360"/>
            <a:ext cx="5741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Calore specifico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pacità termica di una mass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3208320" y="1557360"/>
            <a:ext cx="2727360" cy="863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4155480" y="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 flipV="1">
            <a:off x="1617840" y="2960280"/>
            <a:ext cx="1440" cy="342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9"/>
          <p:cNvSpPr/>
          <p:nvPr/>
        </p:nvSpPr>
        <p:spPr>
          <a:xfrm>
            <a:off x="1617840" y="6381720"/>
            <a:ext cx="5924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0"/>
          <p:cNvSpPr/>
          <p:nvPr/>
        </p:nvSpPr>
        <p:spPr>
          <a:xfrm flipV="1">
            <a:off x="1617840" y="4723920"/>
            <a:ext cx="5924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1617840" y="3249720"/>
            <a:ext cx="5857560" cy="1908000"/>
          </a:xfrm>
          <a:custGeom>
            <a:avLst/>
            <a:gdLst/>
            <a:ahLst/>
            <a:rect l="l" t="t" r="r" b="b"/>
            <a:pathLst>
              <a:path w="3947" h="1315">
                <a:moveTo>
                  <a:pt x="0" y="272"/>
                </a:moveTo>
                <a:cubicBezTo>
                  <a:pt x="110" y="570"/>
                  <a:pt x="220" y="869"/>
                  <a:pt x="409" y="1043"/>
                </a:cubicBezTo>
                <a:cubicBezTo>
                  <a:pt x="598" y="1217"/>
                  <a:pt x="817" y="1315"/>
                  <a:pt x="1134" y="1315"/>
                </a:cubicBezTo>
                <a:cubicBezTo>
                  <a:pt x="1451" y="1315"/>
                  <a:pt x="1845" y="1262"/>
                  <a:pt x="2314" y="1043"/>
                </a:cubicBezTo>
                <a:cubicBezTo>
                  <a:pt x="2783" y="824"/>
                  <a:pt x="3675" y="174"/>
                  <a:pt x="394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2195640" y="4724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203640" y="515772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48360" y="4724280"/>
            <a:ext cx="1440" cy="165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 flipH="1">
            <a:off x="1617480" y="5157720"/>
            <a:ext cx="1549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492120" y="2708280"/>
            <a:ext cx="98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rebuchet MS"/>
              </a:rPr>
              <a:t>ac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7743600" y="602136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628920" y="43657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28920" y="4797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0,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2273040" y="5877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3352680" y="5877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5297400" y="5877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3"/>
          <p:cNvSpPr/>
          <p:nvPr/>
        </p:nvSpPr>
        <p:spPr>
          <a:xfrm>
            <a:off x="1943280" y="4365720"/>
            <a:ext cx="5256000" cy="21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1"/>
          <p:cNvSpPr/>
          <p:nvPr/>
        </p:nvSpPr>
        <p:spPr>
          <a:xfrm>
            <a:off x="1908000" y="620640"/>
            <a:ext cx="1079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2" descr=""/>
          <p:cNvPicPr/>
          <p:nvPr/>
        </p:nvPicPr>
        <p:blipFill>
          <a:blip r:embed="rId1"/>
          <a:stretch/>
        </p:blipFill>
        <p:spPr>
          <a:xfrm>
            <a:off x="3240000" y="189000"/>
            <a:ext cx="2664000" cy="1160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2"/>
          <a:stretch/>
        </p:blipFill>
        <p:spPr>
          <a:xfrm>
            <a:off x="2523960" y="2241720"/>
            <a:ext cx="4094280" cy="647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8"/>
          <p:cNvSpPr/>
          <p:nvPr/>
        </p:nvSpPr>
        <p:spPr>
          <a:xfrm>
            <a:off x="1340640" y="3040200"/>
            <a:ext cx="6532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energia necessaria per aumentare l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i un corpo è direttamente proporzionale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9"/>
          <p:cNvSpPr/>
          <p:nvPr/>
        </p:nvSpPr>
        <p:spPr>
          <a:xfrm>
            <a:off x="1963080" y="451008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IL SUO CALORE 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2005560" y="515772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LA SUA MA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1971360" y="580716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IL SALTO DI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1870200" y="4438800"/>
            <a:ext cx="53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4"/>
          <p:cNvSpPr/>
          <p:nvPr/>
        </p:nvSpPr>
        <p:spPr>
          <a:xfrm>
            <a:off x="4572000" y="148428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24"/>
          <p:cNvSpPr/>
          <p:nvPr/>
        </p:nvSpPr>
        <p:spPr>
          <a:xfrm>
            <a:off x="1698120" y="189000"/>
            <a:ext cx="57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rebuchet MS"/>
              </a:rPr>
              <a:t>LA TEMPERATURA DI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5"/>
          <p:cNvSpPr/>
          <p:nvPr/>
        </p:nvSpPr>
        <p:spPr>
          <a:xfrm>
            <a:off x="1043280" y="1125360"/>
            <a:ext cx="70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ati 2 corpi di mass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 calori speci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e c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 temperature iniziali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e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, 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&lt;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27" descr=""/>
          <p:cNvPicPr/>
          <p:nvPr/>
        </p:nvPicPr>
        <p:blipFill>
          <a:blip r:embed="rId1"/>
          <a:srcRect l="0" t="15153" r="0" b="6725"/>
          <a:stretch/>
        </p:blipFill>
        <p:spPr>
          <a:xfrm>
            <a:off x="1606680" y="2349360"/>
            <a:ext cx="5930640" cy="648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99" name="Picture 128" descr=""/>
          <p:cNvPicPr/>
          <p:nvPr/>
        </p:nvPicPr>
        <p:blipFill>
          <a:blip r:embed="rId2"/>
          <a:srcRect l="0" t="16040" r="0" b="11071"/>
          <a:stretch/>
        </p:blipFill>
        <p:spPr>
          <a:xfrm>
            <a:off x="1660680" y="3214800"/>
            <a:ext cx="5822640" cy="649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00" name="Text Box 129"/>
          <p:cNvSpPr/>
          <p:nvPr/>
        </p:nvSpPr>
        <p:spPr>
          <a:xfrm>
            <a:off x="1490760" y="4294080"/>
            <a:ext cx="616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ove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T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è la temperatura finale,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&lt; T &lt; 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0"/>
          <p:cNvSpPr/>
          <p:nvPr/>
        </p:nvSpPr>
        <p:spPr>
          <a:xfrm>
            <a:off x="1820160" y="5230800"/>
            <a:ext cx="55026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energia ceduta dal corpo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gt;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sar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a stessa acquistata dal corpo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T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8" descr=""/>
          <p:cNvPicPr/>
          <p:nvPr/>
        </p:nvPicPr>
        <p:blipFill>
          <a:blip r:embed="rId1"/>
          <a:srcRect l="0" t="8032" r="0" b="11075"/>
          <a:stretch/>
        </p:blipFill>
        <p:spPr>
          <a:xfrm>
            <a:off x="3009960" y="476280"/>
            <a:ext cx="3122640" cy="7207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9"/>
          <p:cNvSpPr/>
          <p:nvPr/>
        </p:nvSpPr>
        <p:spPr>
          <a:xfrm>
            <a:off x="1619280" y="620640"/>
            <a:ext cx="974520" cy="486000"/>
          </a:xfrm>
          <a:prstGeom prst="rightArrow">
            <a:avLst>
              <a:gd name="adj1" fmla="val 50000"/>
              <a:gd name="adj2" fmla="val 50130"/>
            </a:avLst>
          </a:prstGeom>
          <a:gradFill rotWithShape="0">
            <a:gsLst>
              <a:gs pos="0">
                <a:srgbClr val="00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0" descr=""/>
          <p:cNvPicPr/>
          <p:nvPr/>
        </p:nvPicPr>
        <p:blipFill>
          <a:blip r:embed="rId2"/>
          <a:stretch/>
        </p:blipFill>
        <p:spPr>
          <a:xfrm>
            <a:off x="504720" y="1773360"/>
            <a:ext cx="8132760" cy="792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1"/>
          <p:cNvSpPr/>
          <p:nvPr/>
        </p:nvSpPr>
        <p:spPr>
          <a:xfrm rot="5400000">
            <a:off x="6163920" y="973080"/>
            <a:ext cx="901800" cy="485640"/>
          </a:xfrm>
          <a:prstGeom prst="rightArrow">
            <a:avLst>
              <a:gd name="adj1" fmla="val 50000"/>
              <a:gd name="adj2" fmla="val 46423"/>
            </a:avLst>
          </a:prstGeom>
          <a:gradFill rotWithShape="0">
            <a:gsLst>
              <a:gs pos="0">
                <a:srgbClr val="00cc99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2" descr=""/>
          <p:cNvPicPr/>
          <p:nvPr/>
        </p:nvPicPr>
        <p:blipFill>
          <a:blip r:embed="rId3"/>
          <a:srcRect l="0" t="13138" r="0" b="0"/>
          <a:stretch/>
        </p:blipFill>
        <p:spPr>
          <a:xfrm>
            <a:off x="525600" y="3068640"/>
            <a:ext cx="8091360" cy="6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"/>
          <p:cNvPicPr/>
          <p:nvPr/>
        </p:nvPicPr>
        <p:blipFill>
          <a:blip r:embed="rId4"/>
          <a:srcRect l="0" t="16462" r="0" b="8817"/>
          <a:stretch/>
        </p:blipFill>
        <p:spPr>
          <a:xfrm>
            <a:off x="539640" y="4005360"/>
            <a:ext cx="8064720" cy="7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"/>
          <p:cNvPicPr/>
          <p:nvPr/>
        </p:nvPicPr>
        <p:blipFill>
          <a:blip r:embed="rId5"/>
          <a:stretch/>
        </p:blipFill>
        <p:spPr>
          <a:xfrm>
            <a:off x="2128680" y="5084640"/>
            <a:ext cx="4886640" cy="135108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5"/>
          <p:cNvSpPr/>
          <p:nvPr/>
        </p:nvSpPr>
        <p:spPr>
          <a:xfrm>
            <a:off x="3425040" y="189000"/>
            <a:ext cx="22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rebuchet MS"/>
              </a:rPr>
              <a:t>LA CAL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6320" y="112536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190880" y="1197000"/>
            <a:ext cx="7393680" cy="184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È la quantità di energia necessaria per aument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(d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4,5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5,5 °C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) la temperatura 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 g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i acqua distillata alla pressione di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,013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Times New Roman"/>
              </a:rPr>
              <a:t>5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 Pa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(Pressione Atmosferica Standar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3105360" y="4149720"/>
            <a:ext cx="29329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1 cal = 4, 186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050920" y="5157720"/>
            <a:ext cx="5040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1 Kcal = 1000 cal = 4186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9"/>
          <p:cNvSpPr/>
          <p:nvPr/>
        </p:nvSpPr>
        <p:spPr>
          <a:xfrm>
            <a:off x="2749680" y="189000"/>
            <a:ext cx="36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IL POTERE CALOR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347040" y="105264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1215000" y="981000"/>
            <a:ext cx="6712560" cy="1410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È la quantità di calore (energia) liberata da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mbustione completa di una massa unit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(o V unitario) di combustibile. (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J/kg  -  J/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2079000" y="270828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rebuchet MS"/>
              </a:rPr>
              <a:t>LA PROPAGAZIONE DEL CA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3"/>
          <p:cNvSpPr/>
          <p:nvPr/>
        </p:nvSpPr>
        <p:spPr>
          <a:xfrm>
            <a:off x="1935000" y="3429000"/>
            <a:ext cx="52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vviene con tre diversi meccanis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4"/>
          <p:cNvSpPr/>
          <p:nvPr/>
        </p:nvSpPr>
        <p:spPr>
          <a:xfrm>
            <a:off x="2997360" y="4292640"/>
            <a:ext cx="314964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1. CON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2. CONV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3. IRRAGG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derico barbarossa</cp:lastModifiedBy>
  <dcterms:modified xsi:type="dcterms:W3CDTF">2019-06-02T09:06:04Z</dcterms:modified>
  <cp:revision>61</cp:revision>
  <dc:subject/>
  <dc:title>PowerPoint Presentation</dc:title>
</cp:coreProperties>
</file>