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91A0-AC01-41CE-993B-FF1AEDE2C1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61F7-EF2B-4A90-A6CE-4C218185B0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DFA-6B9B-4726-9C83-B00C44E9EF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9E6-CA80-4BE0-82AE-AFA2ABEFA2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47B-054F-4A87-8558-B08637185B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709C-0122-4A74-AE40-7D0A2FEF2C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2E37-3A81-4025-83EB-FBC494DB60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EB6-5A19-48C3-8E93-CFFF6A7E06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016-257C-494A-88B0-FA18E98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A09-A103-4BA0-AE9D-350D9849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A69-197F-4B15-9ACB-E17AE0A8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884-B0F3-42F4-8495-71708F4A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1C6C-10CC-4CB1-A65B-C220672F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8E7E-FC5A-4603-AAEA-1CDD47C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2CD-BDC9-46FD-97D7-8AA1C806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892-384D-4A3F-995D-7174611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C36-C8A8-4EB5-9895-9AD9F8A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137E-EC66-4D79-AB8E-74CC975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9D2-FB4D-4107-8D02-E4EABBF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ED3-0A26-43FA-8FFA-3F532948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D24-2486-4B47-AB6F-BB920455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4F57-AE67-446E-9AF4-C1A2FDC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5A9B-1E86-49A6-9A0E-40E4F154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67F-C519-45C3-9B17-75EE9B5C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4D3A-0631-41F0-BAAA-D21CE033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E51-A148-4F8F-A6ED-DA46AB8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6EE-714C-4617-ABD7-4664D54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C00-CD90-417D-B1E7-D2093E6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B6D-ED46-4269-95B4-D3A0E13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AB2-0845-4A2B-8811-74E4615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CBE-C82F-4E3C-9882-16A2AE7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F2B-02D1-440D-9BE6-A4967C8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19 sett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Precorso di Fisica - Prof. Roberto Cap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4D7-0581-4478-B17F-A2D25D149736}" type="slidenum"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19 sett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Precorso di Fisica - Prof. Roberto Cap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295-04AF-40CD-9CAE-32ED83BC525C}" type="slidenum">
              <a:rPr b="0" lang="it-IT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914400" y="1981080"/>
            <a:ext cx="7315200" cy="32004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371600" y="2436840"/>
            <a:ext cx="6429240" cy="22860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11e03"/>
                </a:solidFill>
                <a:latin typeface="Arial"/>
              </a:rPr>
              <a:t>Per aumentare la temperatura di un corpo bisogna fornirgli una quantità di calore, che dipende dalla massa e dalle caratteristiche del co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000" y="388440"/>
            <a:ext cx="763884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La legge fondamentale della</a:t>
            </a:r>
            <a:br>
              <a:rPr sz="4400"/>
            </a:b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termologia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0040" y="351000"/>
            <a:ext cx="5621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ambria"/>
              </a:rPr>
              <a:t>Calore latente di fusione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657360" y="2103480"/>
            <a:ext cx="969840" cy="1171440"/>
            <a:chOff x="657360" y="2103480"/>
            <a:chExt cx="969840" cy="1171440"/>
          </a:xfrm>
        </p:grpSpPr>
        <p:sp>
          <p:nvSpPr>
            <p:cNvPr id="133" name="Rectangle 6"/>
            <p:cNvSpPr/>
            <p:nvPr/>
          </p:nvSpPr>
          <p:spPr>
            <a:xfrm>
              <a:off x="657360" y="2103480"/>
              <a:ext cx="969840" cy="1171440"/>
            </a:xfrm>
            <a:prstGeom prst="rect">
              <a:avLst/>
            </a:prstGeom>
            <a:solidFill>
              <a:srgbClr val="a632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657360" y="2769840"/>
              <a:ext cx="969840" cy="504720"/>
            </a:xfrm>
            <a:prstGeom prst="rect">
              <a:avLst/>
            </a:prstGeom>
            <a:solidFill>
              <a:srgbClr val="b2c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657360" y="2103480"/>
              <a:ext cx="969840" cy="8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0"/>
          <p:cNvSpPr/>
          <p:nvPr/>
        </p:nvSpPr>
        <p:spPr>
          <a:xfrm>
            <a:off x="1876320" y="1982880"/>
            <a:ext cx="62866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un calorimetro poniamo 0,4 kg di acqua a temperatura ambiente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20°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iungiamo 0,01662 kg di ghiaccio alla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0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po un po’ di tempo raggiungeranno la T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16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lcoliamo il calore latente di fusione L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f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 ghiac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57360" y="4133880"/>
            <a:ext cx="69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11e03"/>
                </a:solidFill>
                <a:latin typeface="Arial"/>
              </a:rPr>
              <a:t>La Legge fondamentale della calorimetria afferma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524400" y="4648320"/>
            <a:ext cx="491472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nel caso di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assaggio di st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deve tenere conto del calor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cessario per la fusione, cio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4"/>
          <p:cNvGraphicFramePr/>
          <p:nvPr/>
        </p:nvGraphicFramePr>
        <p:xfrm>
          <a:off x="3286080" y="5819760"/>
          <a:ext cx="10191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5819760"/>
                    <a:ext cx="1019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16"/>
          <p:cNvGrpSpPr/>
          <p:nvPr/>
        </p:nvGrpSpPr>
        <p:grpSpPr>
          <a:xfrm>
            <a:off x="657360" y="4568760"/>
            <a:ext cx="2628720" cy="492120"/>
            <a:chOff x="657360" y="4568760"/>
            <a:chExt cx="2628720" cy="492120"/>
          </a:xfrm>
        </p:grpSpPr>
        <p:pic>
          <p:nvPicPr>
            <p:cNvPr id="142" name="Immagine 10" descr=""/>
            <p:cNvPicPr/>
            <p:nvPr/>
          </p:nvPicPr>
          <p:blipFill>
            <a:blip r:embed="rId3"/>
            <a:stretch/>
          </p:blipFill>
          <p:spPr>
            <a:xfrm>
              <a:off x="657360" y="4568760"/>
              <a:ext cx="26287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5"/>
            <p:cNvSpPr/>
            <p:nvPr/>
          </p:nvSpPr>
          <p:spPr>
            <a:xfrm>
              <a:off x="2181240" y="4762440"/>
              <a:ext cx="17136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af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7"/>
          <p:cNvSpPr/>
          <p:nvPr/>
        </p:nvSpPr>
        <p:spPr>
          <a:xfrm>
            <a:off x="995400" y="1000080"/>
            <a:ext cx="709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</a:rPr>
              <a:t>Esperimento n°2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</a:rPr>
              <a:t>determinazione sperimentale del calore latente di fusione del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16"/>
          <p:cNvSpPr/>
          <p:nvPr/>
        </p:nvSpPr>
        <p:spPr>
          <a:xfrm>
            <a:off x="4452840" y="2666880"/>
            <a:ext cx="1538280" cy="666720"/>
          </a:xfrm>
          <a:prstGeom prst="line">
            <a:avLst/>
          </a:prstGeom>
          <a:ln w="28440">
            <a:solidFill>
              <a:srgbClr val="c11e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333360" y="4419720"/>
            <a:ext cx="780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uò così ricavare 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642960" y="399960"/>
            <a:ext cx="7496280" cy="2266920"/>
            <a:chOff x="642960" y="399960"/>
            <a:chExt cx="7496280" cy="226692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642960" y="399960"/>
              <a:ext cx="74962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19"/>
            <p:cNvSpPr/>
            <p:nvPr/>
          </p:nvSpPr>
          <p:spPr>
            <a:xfrm>
              <a:off x="2162160" y="1085760"/>
              <a:ext cx="142920" cy="11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af6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4"/>
          <p:cNvGrpSpPr/>
          <p:nvPr/>
        </p:nvGrpSpPr>
        <p:grpSpPr>
          <a:xfrm>
            <a:off x="333360" y="3333600"/>
            <a:ext cx="7805880" cy="980640"/>
            <a:chOff x="333360" y="3333600"/>
            <a:chExt cx="7805880" cy="980640"/>
          </a:xfrm>
        </p:grpSpPr>
        <p:sp>
          <p:nvSpPr>
            <p:cNvPr id="151" name="Text Box 6"/>
            <p:cNvSpPr/>
            <p:nvPr/>
          </p:nvSpPr>
          <p:spPr>
            <a:xfrm>
              <a:off x="333360" y="3409920"/>
              <a:ext cx="366732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Q            + Q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   =   - Q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466560" y="3629160"/>
              <a:ext cx="1038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cquistato dal ghiac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3"/>
            <p:cNvGrpSpPr/>
            <p:nvPr/>
          </p:nvGrpSpPr>
          <p:grpSpPr>
            <a:xfrm>
              <a:off x="333360" y="3333600"/>
              <a:ext cx="7805880" cy="819360"/>
              <a:chOff x="333360" y="3333600"/>
              <a:chExt cx="7805880" cy="819360"/>
            </a:xfrm>
          </p:grpSpPr>
          <p:sp>
            <p:nvSpPr>
              <p:cNvPr id="154" name="Text Box 8"/>
              <p:cNvSpPr/>
              <p:nvPr/>
            </p:nvSpPr>
            <p:spPr>
              <a:xfrm>
                <a:off x="2743200" y="3602160"/>
                <a:ext cx="1038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ceduto dall’acqu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"/>
              <p:cNvSpPr/>
              <p:nvPr/>
            </p:nvSpPr>
            <p:spPr>
              <a:xfrm>
                <a:off x="333360" y="3409920"/>
                <a:ext cx="3257640" cy="695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6" name="Object 14"/>
              <p:cNvGraphicFramePr/>
              <p:nvPr/>
            </p:nvGraphicFramePr>
            <p:xfrm>
              <a:off x="4452840" y="3333600"/>
              <a:ext cx="3686400" cy="819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7" name="Object 1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452840" y="3333600"/>
                        <a:ext cx="3686400" cy="81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Line 15"/>
              <p:cNvSpPr/>
              <p:nvPr/>
            </p:nvSpPr>
            <p:spPr>
              <a:xfrm>
                <a:off x="3781440" y="3753000"/>
                <a:ext cx="466560" cy="0"/>
              </a:xfrm>
              <a:prstGeom prst="line">
                <a:avLst/>
              </a:prstGeom>
              <a:ln w="38160">
                <a:solidFill>
                  <a:srgbClr val="c11e0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21"/>
              <p:cNvSpPr/>
              <p:nvPr/>
            </p:nvSpPr>
            <p:spPr>
              <a:xfrm>
                <a:off x="2467080" y="3602160"/>
                <a:ext cx="114120" cy="15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af6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2"/>
              <p:cNvSpPr/>
              <p:nvPr/>
            </p:nvSpPr>
            <p:spPr>
              <a:xfrm>
                <a:off x="6953400" y="3552840"/>
                <a:ext cx="114120" cy="15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af6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5"/>
          <p:cNvSpPr/>
          <p:nvPr/>
        </p:nvSpPr>
        <p:spPr>
          <a:xfrm>
            <a:off x="4610160" y="22003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11e03"/>
                </a:solidFill>
                <a:latin typeface="Arial"/>
              </a:rPr>
              <a:t>Riscriveremo quindi la legge così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609560" y="2532240"/>
            <a:ext cx="1643040" cy="1337760"/>
            <a:chOff x="1609560" y="2532240"/>
            <a:chExt cx="1643040" cy="1337760"/>
          </a:xfrm>
        </p:grpSpPr>
        <p:sp>
          <p:nvSpPr>
            <p:cNvPr id="163" name="Line 11"/>
            <p:cNvSpPr/>
            <p:nvPr/>
          </p:nvSpPr>
          <p:spPr>
            <a:xfrm flipV="1">
              <a:off x="1919160" y="2532240"/>
              <a:ext cx="1333440" cy="876240"/>
            </a:xfrm>
            <a:prstGeom prst="line">
              <a:avLst/>
            </a:prstGeom>
            <a:ln w="28440">
              <a:solidFill>
                <a:srgbClr val="c11e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1609560" y="3403440"/>
              <a:ext cx="523800" cy="466560"/>
            </a:xfrm>
            <a:prstGeom prst="ellipse">
              <a:avLst/>
            </a:prstGeom>
            <a:noFill/>
            <a:ln w="28440">
              <a:solidFill>
                <a:srgbClr val="c11e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6"/>
          <p:cNvSpPr/>
          <p:nvPr/>
        </p:nvSpPr>
        <p:spPr>
          <a:xfrm>
            <a:off x="1057320" y="5657760"/>
            <a:ext cx="67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olgi i calcoli sulla base dei dati preceden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57360" y="388800"/>
            <a:ext cx="76388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4000" indent="-2664000"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La legge fondamentale della</a:t>
            </a:r>
            <a:br>
              <a:rPr sz="4400"/>
            </a:br>
            <a:r>
              <a:rPr b="0" lang="it-IT" sz="4400" spc="-1" strike="noStrike">
                <a:solidFill>
                  <a:srgbClr val="262626"/>
                </a:solidFill>
                <a:latin typeface="Arial"/>
              </a:rPr>
              <a:t>term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57360" y="200016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81512"/>
                </a:solidFill>
                <a:latin typeface="Arial"/>
                <a:ea typeface="Times New Roman"/>
              </a:rPr>
              <a:t>Quando due corpi a differente temperatura scambiano calore Q, se non c’è dispersione di calore possiamo affermare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0"/>
          <p:cNvGrpSpPr/>
          <p:nvPr/>
        </p:nvGrpSpPr>
        <p:grpSpPr>
          <a:xfrm>
            <a:off x="531720" y="3873600"/>
            <a:ext cx="7997760" cy="642960"/>
            <a:chOff x="531720" y="3873600"/>
            <a:chExt cx="7997760" cy="642960"/>
          </a:xfrm>
        </p:grpSpPr>
        <p:graphicFrame>
          <p:nvGraphicFramePr>
            <p:cNvPr id="96" name="Object 18"/>
            <p:cNvGraphicFramePr/>
            <p:nvPr/>
          </p:nvGraphicFramePr>
          <p:xfrm>
            <a:off x="3470040" y="3873600"/>
            <a:ext cx="505944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70040" y="3873600"/>
                      <a:ext cx="505944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19"/>
            <p:cNvGraphicFramePr/>
            <p:nvPr/>
          </p:nvGraphicFramePr>
          <p:xfrm>
            <a:off x="531720" y="3888000"/>
            <a:ext cx="2781360" cy="628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720" y="3888000"/>
                      <a:ext cx="278136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914400" y="1981080"/>
            <a:ext cx="7315200" cy="32004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371600" y="2436840"/>
            <a:ext cx="6429240" cy="2286000"/>
          </a:xfrm>
          <a:prstGeom prst="roundRect">
            <a:avLst>
              <a:gd name="adj" fmla="val 0"/>
            </a:avLst>
          </a:prstGeom>
          <a:solidFill>
            <a:srgbClr val="b2c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r" pos="5808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11e03"/>
                </a:solidFill>
                <a:latin typeface="Arial"/>
              </a:rPr>
              <a:t>Durante un cambiamento di stato la temperatura di una sostanza rimane costante; il cambiamento di stato avviene per sottrazione o cessione di c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800" y="436320"/>
            <a:ext cx="80424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800" spc="-1" strike="noStrike">
                <a:solidFill>
                  <a:srgbClr val="262626"/>
                </a:solidFill>
                <a:latin typeface="Cambria"/>
              </a:rPr>
              <a:t>Il calore latent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320"/>
            <a:ext cx="804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4800" spc="-1" strike="noStrike">
                <a:solidFill>
                  <a:srgbClr val="262626"/>
                </a:solidFill>
                <a:latin typeface="Cambria"/>
              </a:rPr>
              <a:t>Il calore latent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2352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Cambiamento di stato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: passaggio di una sostanza da uno stato di aggregazione a un altro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magine 8" descr=""/>
          <p:cNvPicPr/>
          <p:nvPr/>
        </p:nvPicPr>
        <p:blipFill>
          <a:blip r:embed="rId1"/>
          <a:stretch/>
        </p:blipFill>
        <p:spPr>
          <a:xfrm>
            <a:off x="533520" y="2577960"/>
            <a:ext cx="8067600" cy="240048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  <p:sp>
        <p:nvSpPr>
          <p:cNvPr id="107" name="Rectangle 3"/>
          <p:cNvSpPr/>
          <p:nvPr/>
        </p:nvSpPr>
        <p:spPr>
          <a:xfrm>
            <a:off x="457200" y="516888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Durante un cambiamento di stato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la temperatura resta co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436680"/>
            <a:ext cx="778356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2800" spc="-1" strike="noStrike">
                <a:solidFill>
                  <a:srgbClr val="262626"/>
                </a:solidFill>
                <a:latin typeface="Cambria"/>
              </a:rPr>
              <a:t>Fusione e solidificazione dell’acqua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97164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: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passaggi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dallo stato solido allo stato liquido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vviene per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assorbimento di calor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870280" y="2201760"/>
            <a:ext cx="58165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Il solid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assorbe calor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: la su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sal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fino al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di fusione </a:t>
            </a:r>
            <a:r>
              <a:rPr b="1" i="1" lang="it-IT" sz="2000" spc="-1" strike="noStrike">
                <a:solidFill>
                  <a:srgbClr val="181512"/>
                </a:solidFill>
                <a:latin typeface="Arial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 - inizia il cambiamento di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: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il solid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ontinua ad assorbire calore,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ma l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resta costante 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l valore </a:t>
            </a:r>
            <a:r>
              <a:rPr b="1" i="1" lang="it-IT" sz="2000" spc="-1" strike="noStrike">
                <a:solidFill>
                  <a:srgbClr val="181512"/>
                </a:solidFill>
                <a:latin typeface="Arial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fusione completata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se il corpo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ontinua ad assorbire calor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la sua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temperatura cre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magine 7" descr=""/>
          <p:cNvPicPr/>
          <p:nvPr/>
        </p:nvPicPr>
        <p:blipFill>
          <a:blip r:embed="rId1"/>
          <a:stretch/>
        </p:blipFill>
        <p:spPr>
          <a:xfrm>
            <a:off x="457200" y="2624040"/>
            <a:ext cx="2254320" cy="252432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Esperimento n°1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curva di solidificazione (e di fusione) dell’acqua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0560" y="1600200"/>
            <a:ext cx="72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iamo una “miscela frigorifera” (ghiaccio e sale) posta in un calori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57160" y="2505240"/>
            <a:ext cx="66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calorimetro viene posto un becher con acqua a temperatura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6240" y="342900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opo un certo tempo l’acqua nel becher sarà diventata ghiac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5040" y="4514760"/>
            <a:ext cx="67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nitorando la temperatura ad intervalli regolari  è possibile compilare una tabella Temperatura/tempo, osservando il comportamento della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Esperimento n°1: </a:t>
            </a:r>
            <a:r>
              <a:rPr b="1" i="1" lang="it-IT" sz="2000" spc="-1" strike="noStrike">
                <a:solidFill>
                  <a:srgbClr val="c11e03"/>
                </a:solidFill>
                <a:latin typeface="Arial"/>
                <a:ea typeface="ＭＳ Ｐゴシック"/>
              </a:rPr>
              <a:t>curva di solidificazione (e di fusione) dell’acqua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1195560" y="1676520"/>
            <a:ext cx="6752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magine 7" descr=""/>
          <p:cNvPicPr/>
          <p:nvPr/>
        </p:nvPicPr>
        <p:blipFill>
          <a:blip r:embed="rId1"/>
          <a:stretch/>
        </p:blipFill>
        <p:spPr>
          <a:xfrm>
            <a:off x="1343160" y="395280"/>
            <a:ext cx="4829040" cy="5407200"/>
          </a:xfrm>
          <a:prstGeom prst="rect">
            <a:avLst/>
          </a:prstGeom>
          <a:ln w="9360">
            <a:solidFill>
              <a:srgbClr val="fffee6"/>
            </a:solidFill>
            <a:miter/>
          </a:ln>
          <a:effectLst>
            <a:outerShdw dist="38183" dir="2700000" blurRad="0" rotWithShape="0">
              <a:srgbClr val="fffee6">
                <a:alpha val="75000"/>
              </a:srgbClr>
            </a:outerShdw>
          </a:effectLst>
        </p:spPr>
      </p:pic>
      <p:sp>
        <p:nvSpPr>
          <p:cNvPr id="121" name="Text Box 5"/>
          <p:cNvSpPr/>
          <p:nvPr/>
        </p:nvSpPr>
        <p:spPr>
          <a:xfrm>
            <a:off x="4648320" y="338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o solidif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360360"/>
            <a:ext cx="80424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4000"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ambria"/>
              </a:rPr>
              <a:t>Il calore latente di fusione</a:t>
            </a:r>
            <a:endParaRPr b="0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Se un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massa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m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di sostanza solida si trova all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temperatura di fusione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T</a:t>
            </a:r>
            <a:r>
              <a:rPr b="1" i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, la 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quantità di calore Q</a:t>
            </a:r>
            <a:r>
              <a:rPr b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necessaria per farla fondere </a:t>
            </a:r>
            <a:r>
              <a:rPr b="0" lang="it-IT" sz="2000" spc="-1" strike="noStrike">
                <a:solidFill>
                  <a:srgbClr val="181512"/>
                </a:solidFill>
                <a:latin typeface="Cambria"/>
              </a:rPr>
              <a:t>è</a:t>
            </a:r>
            <a:r>
              <a:rPr b="1" lang="it-IT" sz="2000" spc="-1" strike="noStrike">
                <a:solidFill>
                  <a:srgbClr val="181512"/>
                </a:solidFill>
                <a:latin typeface="Cambria"/>
              </a:rPr>
              <a:t> direttamente proporzionale a </a:t>
            </a:r>
            <a:r>
              <a:rPr b="1" i="1" lang="it-IT" sz="2000" spc="-1" strike="noStrike">
                <a:solidFill>
                  <a:srgbClr val="181512"/>
                </a:solidFill>
                <a:latin typeface="Cambria"/>
              </a:rPr>
              <a:t>m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4788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4762440"/>
            <a:ext cx="8056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La costante di proporzionalità λ</a:t>
            </a:r>
            <a:r>
              <a:rPr b="0" i="1" lang="it-IT" sz="2000" spc="-1" strike="noStrike" baseline="-25000">
                <a:solidFill>
                  <a:srgbClr val="181512"/>
                </a:solidFill>
                <a:latin typeface="Arial"/>
              </a:rPr>
              <a:t>f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caratteristica di ogni sostanza, è il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calore latente di fusione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, nel SI si misura in </a:t>
            </a:r>
            <a:r>
              <a:rPr b="1" lang="it-IT" sz="2000" spc="-1" strike="noStrike">
                <a:solidFill>
                  <a:srgbClr val="181512"/>
                </a:solidFill>
                <a:latin typeface="Arial"/>
              </a:rPr>
              <a:t>J/kg</a:t>
            </a:r>
            <a:r>
              <a:rPr b="0" lang="it-IT" sz="2000" spc="-1" strike="noStrike">
                <a:solidFill>
                  <a:srgbClr val="18151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3914640" y="4848120"/>
            <a:ext cx="285840" cy="4003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3"/>
          <p:cNvGrpSpPr/>
          <p:nvPr/>
        </p:nvGrpSpPr>
        <p:grpSpPr>
          <a:xfrm>
            <a:off x="1166760" y="2989440"/>
            <a:ext cx="6529320" cy="1608120"/>
            <a:chOff x="1166760" y="2989440"/>
            <a:chExt cx="6529320" cy="1608120"/>
          </a:xfrm>
        </p:grpSpPr>
        <p:pic>
          <p:nvPicPr>
            <p:cNvPr id="128" name="Immagine 8" descr=""/>
            <p:cNvPicPr/>
            <p:nvPr/>
          </p:nvPicPr>
          <p:blipFill>
            <a:blip r:embed="rId2"/>
            <a:stretch/>
          </p:blipFill>
          <p:spPr>
            <a:xfrm>
              <a:off x="1166760" y="2989440"/>
              <a:ext cx="6529320" cy="1608120"/>
            </a:xfrm>
            <a:prstGeom prst="rect">
              <a:avLst/>
            </a:prstGeom>
            <a:ln w="9360">
              <a:solidFill>
                <a:srgbClr val="fffee6"/>
              </a:solidFill>
              <a:miter/>
            </a:ln>
            <a:effectLst>
              <a:outerShdw dist="38183" dir="2700000" blurRad="0" rotWithShape="0">
                <a:srgbClr val="fffee6">
                  <a:alpha val="75000"/>
                </a:srgbClr>
              </a:outerShdw>
            </a:effectLst>
          </p:spPr>
        </p:pic>
        <p:pic>
          <p:nvPicPr>
            <p:cNvPr id="129" name="Picture 8" descr=""/>
            <p:cNvPicPr/>
            <p:nvPr/>
          </p:nvPicPr>
          <p:blipFill>
            <a:blip r:embed="rId3"/>
            <a:stretch/>
          </p:blipFill>
          <p:spPr>
            <a:xfrm>
              <a:off x="3400560" y="3610080"/>
              <a:ext cx="2854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1"/>
          <p:cNvSpPr/>
          <p:nvPr/>
        </p:nvSpPr>
        <p:spPr>
          <a:xfrm>
            <a:off x="3105000" y="3719520"/>
            <a:ext cx="3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-25000">
                <a:solidFill>
                  <a:srgbClr val="181512"/>
                </a:solidFill>
                <a:latin typeface="Cambri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5:22:31Z</dcterms:created>
  <dc:creator>il Matte</dc:creator>
  <dc:description/>
  <dc:language>en-US</dc:language>
  <cp:lastModifiedBy>utente</cp:lastModifiedBy>
  <dcterms:modified xsi:type="dcterms:W3CDTF">2017-11-07T09:27:09Z</dcterms:modified>
  <cp:revision>313</cp:revision>
  <dc:subject/>
  <dc:title>Presentazione di PowerPoint</dc:title>
</cp:coreProperties>
</file>