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F83-5054-41BD-AF08-54408A82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0ED0-1E44-40DD-9276-0A6B7C36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1B31-C135-4A4E-AAA5-0E0B8E28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B59E-9E4C-49B4-B8CC-66CB8A41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0C3-2E11-4F1D-AE3E-1B4C5E32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D767-4CE0-4ADB-903A-05A97D04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C7AA-E591-4DD5-ABE3-6B5C4B26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48E-3409-48B4-B824-A5DC81F5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C99-5485-4404-BF1F-41048831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5B8-1ABE-48D3-AFB4-5CE3EFEC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1DB-0ECB-49B8-BD1A-4BD23CD0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1F8-4C5F-4649-A1C5-9E1FE7AE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A3D5-5FFB-40CE-A9B3-A3B129AC0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52560" y="1711440"/>
            <a:ext cx="5181480" cy="4917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22860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rti elastici: conservazione della quantità di moto con metodo delle compon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U PIANO A CISCINO D’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077320" cy="6172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90920" y="228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todo delle compon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62000"/>
            <a:ext cx="4876560" cy="3725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14800" y="1757520"/>
            <a:ext cx="454356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8:57:02Z</dcterms:created>
  <dc:creator>fede</dc:creator>
  <dc:description/>
  <dc:language>en-US</dc:language>
  <cp:lastModifiedBy>fede</cp:lastModifiedBy>
  <dcterms:modified xsi:type="dcterms:W3CDTF">2018-03-24T14:31:50Z</dcterms:modified>
  <cp:revision>2</cp:revision>
  <dc:subject/>
  <dc:title>Presentazione di PowerPoint</dc:title>
</cp:coreProperties>
</file>