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2AC-676D-4B52-B645-F2C83EDC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FAA-DAC1-4248-B218-3B604434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748-C6BC-48F3-A79C-AA51BAD5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45F-BD87-4495-B168-3D60085F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060-9F84-4B30-A7E9-E841B1F8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F0D-74BE-4CA9-ADEE-548147DE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D41-4D7C-4AA0-824E-7CC1CB10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BED-0369-482D-92B0-8C56CEFB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0D4-0191-4EE0-A0B8-DC88F82B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72D-DD92-4A6B-87DC-ECC53E69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6F6-B2E1-4094-B6B8-C69F4747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20A-B6D2-4D36-8DDD-5529B562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3B91-52EA-4FD9-A404-4A0CEE08E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487692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Sylfaen"/>
              </a:rPr>
              <a:t>FORZE E VETTOR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40384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ederico Barbaro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29528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er lo schermo intero, “clic” su tasto destro e scegli.            Per avanzare con la presentazione, “frecce”.                                       Per chiudere, “esc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ma di forze con direzioni di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219320"/>
            <a:ext cx="4876920" cy="36828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ideriamo sempre due forze F1 ed 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362320" y="4724280"/>
            <a:ext cx="4495680" cy="1023480"/>
            <a:chOff x="2362320" y="4724280"/>
            <a:chExt cx="4495680" cy="1023480"/>
          </a:xfrm>
        </p:grpSpPr>
        <p:sp>
          <p:nvSpPr>
            <p:cNvPr id="178" name=""/>
            <p:cNvSpPr/>
            <p:nvPr/>
          </p:nvSpPr>
          <p:spPr>
            <a:xfrm>
              <a:off x="2362320" y="5105160"/>
              <a:ext cx="4495680" cy="6426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33"/>
                  </a:solidFill>
                  <a:latin typeface="Arial"/>
                </a:rPr>
                <a:t>Qui abbiamo usato il metodo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unta- co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86200" y="4724280"/>
              <a:ext cx="2286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609480" y="1752480"/>
          <a:ext cx="2657520" cy="28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26575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886200" y="2006640"/>
          <a:ext cx="4400640" cy="258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006640"/>
                    <a:ext cx="440064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flipV="1">
            <a:off x="2133720" y="2755800"/>
            <a:ext cx="1981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38228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2832120"/>
            <a:ext cx="114300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tor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4051440"/>
            <a:ext cx="114300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tore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841400"/>
            <a:ext cx="7696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do due vettori sono rappresentati con la coda  posta nello stesso punto ed hanno direzioni d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5041800"/>
            <a:ext cx="7772400" cy="10598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ulta più conveniente utilizzare una regola che si chia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“regola del parallelogramm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304920"/>
            <a:ext cx="4724640" cy="97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a e differenza di vettori nel piano: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a regola del parallel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GEN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flipV="1">
            <a:off x="1066680" y="1676160"/>
            <a:ext cx="1981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743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1676520"/>
            <a:ext cx="205740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124080" y="1676160"/>
            <a:ext cx="1981440" cy="10666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066680" y="1676160"/>
            <a:ext cx="403884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1752480"/>
            <a:ext cx="114300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tor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2819520"/>
            <a:ext cx="114300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tore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1523880"/>
            <a:ext cx="99072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ult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a di due vettori co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regola del parallel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914400"/>
            <a:ext cx="5715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seguiamo la SOMMA dei due vettori (A) e (B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114800"/>
            <a:ext cx="266688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ssiamo alcune ide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4724280"/>
            <a:ext cx="7772400" cy="642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o modo di eseguire la “somma” di due (o più) vettori si chia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egola del parallelogramm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666880"/>
            <a:ext cx="205740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2438280"/>
            <a:ext cx="205740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2057400"/>
            <a:ext cx="205740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143000" y="1676160"/>
            <a:ext cx="1981080" cy="10666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76520" y="1676160"/>
            <a:ext cx="1981080" cy="10666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362320" y="1676160"/>
            <a:ext cx="1981080" cy="10666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5638680"/>
            <a:ext cx="7772400" cy="642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 applica quando i vettori NON hanno la stessa direzione (cioè NON giacciono sulla medesima retta o su rette paralle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1905120"/>
            <a:ext cx="2666880" cy="8240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acciamo, dalla punta del vettore (A), la parallela al vettore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3124080"/>
            <a:ext cx="2666880" cy="8240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acciamo, dalla punta del vettore (B), la parallela al vettore 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066680" y="1676160"/>
            <a:ext cx="1981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743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1676520"/>
            <a:ext cx="205740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1676160"/>
            <a:ext cx="1981440" cy="10666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066680" y="1676160"/>
            <a:ext cx="403884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1600200"/>
            <a:ext cx="114300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tor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819520"/>
            <a:ext cx="106704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tore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447920"/>
            <a:ext cx="1523880" cy="3070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 Ri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a di vettori nel piano: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a regola del parallel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914400"/>
            <a:ext cx="8153280" cy="33732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sserviamo come si procede quando si vogliono sommare 3 vettori: (A) ; (B) ;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3352680"/>
            <a:ext cx="266724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ssiamo alcune ide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86200"/>
            <a:ext cx="7772400" cy="642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Quando si esegue la “somma” di più vettori, si applica la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“regola del parallelogramma”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success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4724280"/>
            <a:ext cx="579132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 determina la risultante di una prima coppia di vet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2743200"/>
            <a:ext cx="2210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200400"/>
            <a:ext cx="114300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tor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2362320"/>
            <a:ext cx="1066680" cy="5202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ultante F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1676520"/>
            <a:ext cx="2209680" cy="838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276720" y="2514240"/>
            <a:ext cx="4038480" cy="10666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066680" y="2514240"/>
            <a:ext cx="62485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5257800"/>
            <a:ext cx="7010280" cy="642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 somma la risultante ottenuta con un vettore successivo…e così via, fino ad ottenere la risultante fi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248520" y="6095880"/>
            <a:ext cx="1828800" cy="398880"/>
            <a:chOff x="6248520" y="6095880"/>
            <a:chExt cx="1828800" cy="398880"/>
          </a:xfrm>
        </p:grpSpPr>
        <p:sp>
          <p:nvSpPr>
            <p:cNvPr id="235" name=""/>
            <p:cNvSpPr/>
            <p:nvPr/>
          </p:nvSpPr>
          <p:spPr>
            <a:xfrm>
              <a:off x="6248520" y="6095880"/>
              <a:ext cx="1143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pp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91520" y="632448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a di vettori nel piano: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a regola del parallel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914400"/>
            <a:ext cx="4267080" cy="36828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plichiamo il metodo punta-coda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43600" y="3657600"/>
            <a:ext cx="266688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ssiamo alcune ide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5029200"/>
            <a:ext cx="77724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Quando si esegue la “somma” di più vettori, si applica può applicare la “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regola del parallelogramma”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successione ma il metod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nta coda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risulta di esecuzione più rap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" y="1752120"/>
            <a:ext cx="2209680" cy="1905120"/>
            <a:chOff x="457200" y="1752120"/>
            <a:chExt cx="2209680" cy="1905120"/>
          </a:xfrm>
        </p:grpSpPr>
        <p:grpSp>
          <p:nvGrpSpPr>
            <p:cNvPr id="242" name=""/>
            <p:cNvGrpSpPr/>
            <p:nvPr/>
          </p:nvGrpSpPr>
          <p:grpSpPr>
            <a:xfrm>
              <a:off x="457200" y="1752120"/>
              <a:ext cx="2209680" cy="1905120"/>
              <a:chOff x="457200" y="1752120"/>
              <a:chExt cx="2209680" cy="190512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57200" y="1752120"/>
                <a:ext cx="198108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7200" y="2819160"/>
                <a:ext cx="20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7200" y="2819160"/>
                <a:ext cx="2209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57200" y="1905120"/>
              <a:ext cx="990360" cy="276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ore 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8960" y="2514600"/>
              <a:ext cx="990720" cy="276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ore 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" y="3352680"/>
              <a:ext cx="990360" cy="276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ore 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V="1">
            <a:off x="2819520" y="1752480"/>
            <a:ext cx="1981080" cy="1067040"/>
          </a:xfrm>
          <a:prstGeom prst="line">
            <a:avLst/>
          </a:prstGeom>
          <a:ln w="93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1752480"/>
            <a:ext cx="1981080" cy="0"/>
          </a:xfrm>
          <a:prstGeom prst="line">
            <a:avLst/>
          </a:prstGeom>
          <a:ln w="93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1752480"/>
            <a:ext cx="2209680" cy="838440"/>
          </a:xfrm>
          <a:prstGeom prst="line">
            <a:avLst/>
          </a:prstGeom>
          <a:ln w="93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819520" y="2590560"/>
            <a:ext cx="60958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1371600"/>
            <a:ext cx="3301920" cy="1397160"/>
          </a:xfrm>
          <a:custGeom>
            <a:avLst/>
            <a:gdLst/>
            <a:ahLst/>
            <a:rect l="l" t="t" r="r" b="b"/>
            <a:pathLst>
              <a:path w="2080" h="880">
                <a:moveTo>
                  <a:pt x="0" y="880"/>
                </a:moveTo>
                <a:cubicBezTo>
                  <a:pt x="180" y="664"/>
                  <a:pt x="360" y="448"/>
                  <a:pt x="672" y="304"/>
                </a:cubicBezTo>
                <a:cubicBezTo>
                  <a:pt x="984" y="160"/>
                  <a:pt x="1664" y="32"/>
                  <a:pt x="1872" y="16"/>
                </a:cubicBezTo>
                <a:cubicBezTo>
                  <a:pt x="2080" y="0"/>
                  <a:pt x="2000" y="104"/>
                  <a:pt x="1920" y="20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1371600"/>
            <a:ext cx="5397480" cy="2552760"/>
          </a:xfrm>
          <a:custGeom>
            <a:avLst/>
            <a:gdLst/>
            <a:ahLst/>
            <a:rect l="l" t="t" r="r" b="b"/>
            <a:pathLst>
              <a:path w="3400" h="1608">
                <a:moveTo>
                  <a:pt x="0" y="1400"/>
                </a:moveTo>
                <a:cubicBezTo>
                  <a:pt x="300" y="1504"/>
                  <a:pt x="600" y="1608"/>
                  <a:pt x="1104" y="1400"/>
                </a:cubicBezTo>
                <a:cubicBezTo>
                  <a:pt x="1608" y="1192"/>
                  <a:pt x="2648" y="304"/>
                  <a:pt x="3024" y="152"/>
                </a:cubicBezTo>
                <a:cubicBezTo>
                  <a:pt x="3400" y="0"/>
                  <a:pt x="3380" y="244"/>
                  <a:pt x="3360" y="4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743200"/>
            <a:ext cx="1143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sul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flipV="1">
            <a:off x="5562720" y="3428640"/>
            <a:ext cx="1981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429000"/>
            <a:ext cx="205740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505320" y="3428640"/>
            <a:ext cx="1981080" cy="10666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6600" y="3048120"/>
            <a:ext cx="106668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tor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3048120"/>
            <a:ext cx="990360" cy="2764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ult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562720" y="4495680"/>
            <a:ext cx="2437920" cy="352800"/>
            <a:chOff x="5562720" y="4495680"/>
            <a:chExt cx="2437920" cy="352800"/>
          </a:xfrm>
        </p:grpSpPr>
        <p:sp>
          <p:nvSpPr>
            <p:cNvPr id="262" name=""/>
            <p:cNvSpPr/>
            <p:nvPr/>
          </p:nvSpPr>
          <p:spPr>
            <a:xfrm>
              <a:off x="7025400" y="4572000"/>
              <a:ext cx="975240" cy="276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ore 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720" y="4495680"/>
              <a:ext cx="219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mma e differenza di vettori nel piano: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la regola del parallel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914400"/>
            <a:ext cx="5029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e si esegue la DIFFERENZA tra vettori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523880"/>
            <a:ext cx="37339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ndiamo i vettori (A) e (B). Vogliamo eseguire (A) –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410080" y="3428640"/>
            <a:ext cx="15264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1814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5334120"/>
            <a:ext cx="7924680" cy="642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a DIFFERENZA tra i vettori (A) e (B) è ancora la somma del vettore (A) con il vettore opposto a (B), cioè (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) (verso opposto)     da cui    (A) + (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53341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429000" y="4495680"/>
            <a:ext cx="4571640" cy="489960"/>
            <a:chOff x="3429000" y="4495680"/>
            <a:chExt cx="4571640" cy="489960"/>
          </a:xfrm>
        </p:grpSpPr>
        <p:grpSp>
          <p:nvGrpSpPr>
            <p:cNvPr id="272" name=""/>
            <p:cNvGrpSpPr/>
            <p:nvPr/>
          </p:nvGrpSpPr>
          <p:grpSpPr>
            <a:xfrm>
              <a:off x="3429000" y="4495680"/>
              <a:ext cx="2165040" cy="489960"/>
              <a:chOff x="3429000" y="4495680"/>
              <a:chExt cx="2165040" cy="489960"/>
            </a:xfrm>
          </p:grpSpPr>
          <p:sp>
            <p:nvSpPr>
              <p:cNvPr id="273" name=""/>
              <p:cNvSpPr/>
              <p:nvPr/>
            </p:nvSpPr>
            <p:spPr>
              <a:xfrm>
                <a:off x="3429000" y="4495680"/>
                <a:ext cx="216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49400" y="4648320"/>
                <a:ext cx="1122840" cy="3373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17819" dir="2700000" blurRad="0" rotWithShape="0">
                  <a:srgbClr val="0098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ttor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3429000" y="4495680"/>
              <a:ext cx="433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38360" y="4572000"/>
              <a:ext cx="962280" cy="276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ore 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505320" y="4495680"/>
            <a:ext cx="2057400" cy="489600"/>
            <a:chOff x="3505320" y="4495680"/>
            <a:chExt cx="2057400" cy="489600"/>
          </a:xfrm>
        </p:grpSpPr>
        <p:sp>
          <p:nvSpPr>
            <p:cNvPr id="278" name=""/>
            <p:cNvSpPr/>
            <p:nvPr/>
          </p:nvSpPr>
          <p:spPr>
            <a:xfrm>
              <a:off x="3505320" y="44956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09880" y="4647960"/>
              <a:ext cx="1067040" cy="33732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ore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886200" y="3352680"/>
            <a:ext cx="1981080" cy="1067040"/>
            <a:chOff x="3886200" y="3352680"/>
            <a:chExt cx="1981080" cy="1067040"/>
          </a:xfrm>
        </p:grpSpPr>
        <p:sp>
          <p:nvSpPr>
            <p:cNvPr id="281" name=""/>
            <p:cNvSpPr/>
            <p:nvPr/>
          </p:nvSpPr>
          <p:spPr>
            <a:xfrm flipV="1">
              <a:off x="3886200" y="3352680"/>
              <a:ext cx="1981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48320" y="4114800"/>
              <a:ext cx="1066680" cy="276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ore 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867280" y="3352680"/>
            <a:ext cx="2438280" cy="352800"/>
            <a:chOff x="5867280" y="3352680"/>
            <a:chExt cx="2438280" cy="352800"/>
          </a:xfrm>
        </p:grpSpPr>
        <p:sp>
          <p:nvSpPr>
            <p:cNvPr id="284" name=""/>
            <p:cNvSpPr/>
            <p:nvPr/>
          </p:nvSpPr>
          <p:spPr>
            <a:xfrm>
              <a:off x="7330320" y="3429000"/>
              <a:ext cx="975240" cy="276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ore 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67280" y="3352680"/>
              <a:ext cx="219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a e differenza di vettori nel piano: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l punta c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914400"/>
            <a:ext cx="46483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 utilizziamo il metodo punta coda …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676520"/>
            <a:ext cx="3733920" cy="64260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ndiamo i vettori (A) e (B). Vogliamo eseguire (A) –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43200" y="3352680"/>
            <a:ext cx="1142640" cy="1067040"/>
            <a:chOff x="2743200" y="3352680"/>
            <a:chExt cx="1142640" cy="1067040"/>
          </a:xfrm>
        </p:grpSpPr>
        <p:sp>
          <p:nvSpPr>
            <p:cNvPr id="290" name=""/>
            <p:cNvSpPr/>
            <p:nvPr/>
          </p:nvSpPr>
          <p:spPr>
            <a:xfrm>
              <a:off x="2743200" y="3809880"/>
              <a:ext cx="990720" cy="276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sulta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733560" y="3352680"/>
              <a:ext cx="152280" cy="1067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5334120"/>
            <a:ext cx="7924680" cy="91692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che con l metodo punta-coda la differenza tra il vettore (A) ed il vettore (B) è data dalla somma del vettore (A) con  il vettore opposto a (B), cioè (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) (verso opposto)     da cui    (A) + (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733920" y="2971800"/>
            <a:ext cx="2057400" cy="380880"/>
            <a:chOff x="3733920" y="2971800"/>
            <a:chExt cx="2057400" cy="380880"/>
          </a:xfrm>
        </p:grpSpPr>
        <p:sp>
          <p:nvSpPr>
            <p:cNvPr id="294" name=""/>
            <p:cNvSpPr/>
            <p:nvPr/>
          </p:nvSpPr>
          <p:spPr>
            <a:xfrm>
              <a:off x="3733920" y="33526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2971800"/>
              <a:ext cx="1066680" cy="33732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7819" dir="2700000" blurRad="0" rotWithShape="0">
                <a:srgbClr val="00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ore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638680" y="1371600"/>
            <a:ext cx="28195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il principio non camb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28640" y="380520"/>
            <a:ext cx="289548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a 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143000"/>
            <a:ext cx="4648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segui le seguenti operazioni con i vettor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143000"/>
            <a:ext cx="1295280" cy="337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 = v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2057400"/>
            <a:ext cx="7617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a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3048120"/>
            <a:ext cx="8380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se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073240" y="2819520"/>
                <a:ext cx="2178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2133720" y="1676520"/>
            <a:ext cx="5333760" cy="914400"/>
            <a:chOff x="2133720" y="1676520"/>
            <a:chExt cx="5333760" cy="914400"/>
          </a:xfrm>
        </p:grpSpPr>
        <p:grpSp>
          <p:nvGrpSpPr>
            <p:cNvPr id="304" name=""/>
            <p:cNvGrpSpPr/>
            <p:nvPr/>
          </p:nvGrpSpPr>
          <p:grpSpPr>
            <a:xfrm>
              <a:off x="2133720" y="1676520"/>
              <a:ext cx="761760" cy="914400"/>
              <a:chOff x="2133720" y="1676520"/>
              <a:chExt cx="761760" cy="914400"/>
            </a:xfrm>
          </p:grpSpPr>
          <p:sp>
            <p:nvSpPr>
              <p:cNvPr id="305" name=""/>
              <p:cNvSpPr/>
              <p:nvPr/>
            </p:nvSpPr>
            <p:spPr>
              <a:xfrm>
                <a:off x="2133720" y="2057400"/>
                <a:ext cx="761760" cy="370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3333cc"/>
                    </a:solidFill>
                    <a:latin typeface="Arial"/>
                  </a:rPr>
                  <a:t>1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= 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19520" y="1676520"/>
                <a:ext cx="0" cy="914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657600" y="1676520"/>
              <a:ext cx="1523880" cy="914400"/>
              <a:chOff x="3657600" y="1676520"/>
              <a:chExt cx="1523880" cy="914400"/>
            </a:xfrm>
          </p:grpSpPr>
          <p:sp>
            <p:nvSpPr>
              <p:cNvPr id="308" name=""/>
              <p:cNvSpPr/>
              <p:nvPr/>
            </p:nvSpPr>
            <p:spPr>
              <a:xfrm>
                <a:off x="3657600" y="2057400"/>
                <a:ext cx="838080" cy="370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3333cc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= 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886200" y="1676520"/>
                <a:ext cx="1295280" cy="914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5562720" y="1905120"/>
              <a:ext cx="1904760" cy="457200"/>
              <a:chOff x="5562720" y="1905120"/>
              <a:chExt cx="1904760" cy="457200"/>
            </a:xfrm>
          </p:grpSpPr>
          <p:sp>
            <p:nvSpPr>
              <p:cNvPr id="311" name=""/>
              <p:cNvSpPr/>
              <p:nvPr/>
            </p:nvSpPr>
            <p:spPr>
              <a:xfrm>
                <a:off x="5943600" y="1905120"/>
                <a:ext cx="838080" cy="370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3333cc"/>
                    </a:solidFill>
                    <a:latin typeface="Arial"/>
                  </a:rPr>
                  <a:t>3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= 10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62720" y="2362320"/>
                <a:ext cx="19047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5562720" y="3124080"/>
            <a:ext cx="1295280" cy="337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ol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819520" y="4038120"/>
            <a:ext cx="761760" cy="2514600"/>
            <a:chOff x="2819520" y="4038120"/>
            <a:chExt cx="761760" cy="2514600"/>
          </a:xfrm>
        </p:grpSpPr>
        <p:sp>
          <p:nvSpPr>
            <p:cNvPr id="315" name=""/>
            <p:cNvSpPr/>
            <p:nvPr/>
          </p:nvSpPr>
          <p:spPr>
            <a:xfrm flipV="1">
              <a:off x="2819520" y="4038120"/>
              <a:ext cx="22860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71800" y="5181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62320" y="4952520"/>
            <a:ext cx="685800" cy="1600200"/>
            <a:chOff x="2362320" y="4952520"/>
            <a:chExt cx="685800" cy="1600200"/>
          </a:xfrm>
        </p:grpSpPr>
        <p:sp>
          <p:nvSpPr>
            <p:cNvPr id="318" name=""/>
            <p:cNvSpPr/>
            <p:nvPr/>
          </p:nvSpPr>
          <p:spPr>
            <a:xfrm flipV="1">
              <a:off x="2819520" y="4952520"/>
              <a:ext cx="0" cy="1600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62320" y="54100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2V</a:t>
              </a:r>
              <a:r>
                <a:rPr b="1" lang="en-US" sz="16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819520" y="4038480"/>
            <a:ext cx="1295280" cy="914400"/>
            <a:chOff x="2819520" y="4038480"/>
            <a:chExt cx="1295280" cy="914400"/>
          </a:xfrm>
        </p:grpSpPr>
        <p:sp>
          <p:nvSpPr>
            <p:cNvPr id="321" name=""/>
            <p:cNvSpPr/>
            <p:nvPr/>
          </p:nvSpPr>
          <p:spPr>
            <a:xfrm flipV="1">
              <a:off x="2819520" y="4038480"/>
              <a:ext cx="129528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05320" y="43434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047760" y="3657600"/>
            <a:ext cx="1066680" cy="380880"/>
            <a:chOff x="3047760" y="3657600"/>
            <a:chExt cx="1066680" cy="380880"/>
          </a:xfrm>
        </p:grpSpPr>
        <p:sp>
          <p:nvSpPr>
            <p:cNvPr id="324" name=""/>
            <p:cNvSpPr/>
            <p:nvPr/>
          </p:nvSpPr>
          <p:spPr>
            <a:xfrm flipH="1">
              <a:off x="3047760" y="4038480"/>
              <a:ext cx="1066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76720" y="36576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½ V</a:t>
              </a:r>
              <a:r>
                <a:rPr b="1" lang="en-US" sz="16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CASO PART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219320"/>
            <a:ext cx="5562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ando due vettori sono perpendicolari tra l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733920"/>
            <a:ext cx="7924680" cy="642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l triangolo rettangolo che ne deriva,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 come ipotenusa la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risultante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ei du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ttori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S</a:t>
            </a: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ed S</a:t>
            </a: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66680" y="2133720"/>
            <a:ext cx="457200" cy="1143000"/>
            <a:chOff x="1066680" y="2133720"/>
            <a:chExt cx="457200" cy="1143000"/>
          </a:xfrm>
        </p:grpSpPr>
        <p:sp>
          <p:nvSpPr>
            <p:cNvPr id="330" name=""/>
            <p:cNvSpPr/>
            <p:nvPr/>
          </p:nvSpPr>
          <p:spPr>
            <a:xfrm>
              <a:off x="1447920" y="21337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066680" y="2590920"/>
              <a:ext cx="457200" cy="337320"/>
              <a:chOff x="1066680" y="2590920"/>
              <a:chExt cx="457200" cy="337320"/>
            </a:xfrm>
          </p:grpSpPr>
          <p:sp>
            <p:nvSpPr>
              <p:cNvPr id="332" name=""/>
              <p:cNvSpPr/>
              <p:nvPr/>
            </p:nvSpPr>
            <p:spPr>
              <a:xfrm>
                <a:off x="1143000" y="2590920"/>
                <a:ext cx="22860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66680" y="25909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S</a:t>
                </a:r>
                <a:r>
                  <a:rPr b="1" lang="en-US" sz="800" spc="-1" strike="noStrike">
                    <a:solidFill>
                      <a:srgbClr val="666633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1447920" y="3276720"/>
            <a:ext cx="2361960" cy="413280"/>
            <a:chOff x="1447920" y="3276720"/>
            <a:chExt cx="2361960" cy="413280"/>
          </a:xfrm>
        </p:grpSpPr>
        <p:sp>
          <p:nvSpPr>
            <p:cNvPr id="335" name=""/>
            <p:cNvSpPr/>
            <p:nvPr/>
          </p:nvSpPr>
          <p:spPr>
            <a:xfrm>
              <a:off x="1447920" y="3276720"/>
              <a:ext cx="236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286000" y="3352680"/>
              <a:ext cx="457200" cy="337320"/>
              <a:chOff x="2286000" y="3352680"/>
              <a:chExt cx="457200" cy="337320"/>
            </a:xfrm>
          </p:grpSpPr>
          <p:sp>
            <p:nvSpPr>
              <p:cNvPr id="337" name=""/>
              <p:cNvSpPr/>
              <p:nvPr/>
            </p:nvSpPr>
            <p:spPr>
              <a:xfrm>
                <a:off x="2362320" y="3352680"/>
                <a:ext cx="22860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286000" y="33526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S</a:t>
                </a:r>
                <a:r>
                  <a:rPr b="1" lang="en-US" sz="800" spc="-1" strike="noStrike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1447920" y="2133720"/>
            <a:ext cx="2361960" cy="413280"/>
            <a:chOff x="1447920" y="2133720"/>
            <a:chExt cx="2361960" cy="413280"/>
          </a:xfrm>
        </p:grpSpPr>
        <p:sp>
          <p:nvSpPr>
            <p:cNvPr id="340" name=""/>
            <p:cNvSpPr/>
            <p:nvPr/>
          </p:nvSpPr>
          <p:spPr>
            <a:xfrm>
              <a:off x="1447920" y="2133720"/>
              <a:ext cx="236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286000" y="2209680"/>
              <a:ext cx="457200" cy="337320"/>
              <a:chOff x="2286000" y="2209680"/>
              <a:chExt cx="457200" cy="337320"/>
            </a:xfrm>
          </p:grpSpPr>
          <p:sp>
            <p:nvSpPr>
              <p:cNvPr id="342" name=""/>
              <p:cNvSpPr/>
              <p:nvPr/>
            </p:nvSpPr>
            <p:spPr>
              <a:xfrm>
                <a:off x="2362320" y="2209680"/>
                <a:ext cx="22860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286000" y="22096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S</a:t>
                </a:r>
                <a:r>
                  <a:rPr b="1" lang="en-US" sz="800" spc="-1" strike="noStrike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 flipV="1">
            <a:off x="1447920" y="2133360"/>
            <a:ext cx="2361960" cy="1143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819520" y="2666880"/>
            <a:ext cx="457200" cy="337320"/>
            <a:chOff x="2819520" y="2666880"/>
            <a:chExt cx="457200" cy="337320"/>
          </a:xfrm>
        </p:grpSpPr>
        <p:sp>
          <p:nvSpPr>
            <p:cNvPr id="346" name=""/>
            <p:cNvSpPr/>
            <p:nvPr/>
          </p:nvSpPr>
          <p:spPr>
            <a:xfrm>
              <a:off x="2895840" y="2666880"/>
              <a:ext cx="228600" cy="0"/>
            </a:xfrm>
            <a:prstGeom prst="line">
              <a:avLst/>
            </a:prstGeom>
            <a:ln w="93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19520" y="2666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S</a:t>
              </a:r>
              <a:r>
                <a:rPr b="1" lang="en-US" sz="800" spc="-1" strike="noStrike">
                  <a:solidFill>
                    <a:srgbClr val="666633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85800" y="4572000"/>
            <a:ext cx="7924680" cy="64260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otremo quindi applicare il Teorema di Pitagora per determinar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aliticamente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( e non solo per via grafica) il valore della risulta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934320" y="5486400"/>
                <a:ext cx="1697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343400" y="5638680"/>
                <a:ext cx="13334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5943600" y="59436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54864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La somma del quadrato dei cateti da, come risultato, il quadrato dell'ipotenu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ETODO ANALITICO (gocce di trigonome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990720"/>
            <a:ext cx="419112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È sempre possibile calcolar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aliticament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la risultante fra più vettori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990720"/>
            <a:ext cx="3429000" cy="61164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è però necessario imparare alcune regole di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igonometria (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495320" y="5105520"/>
            <a:ext cx="2057760" cy="1295280"/>
            <a:chOff x="4495320" y="5105520"/>
            <a:chExt cx="2057760" cy="1295280"/>
          </a:xfrm>
        </p:grpSpPr>
        <p:sp>
          <p:nvSpPr>
            <p:cNvPr id="357" name=""/>
            <p:cNvSpPr/>
            <p:nvPr/>
          </p:nvSpPr>
          <p:spPr>
            <a:xfrm flipH="1">
              <a:off x="4494960" y="5105520"/>
              <a:ext cx="1752840" cy="99072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72200" y="5486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34120" y="5257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34120" y="6019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4280" y="57913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77280" y="579132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09480" y="1752480"/>
            <a:ext cx="5029200" cy="307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on è necessario conoscere perfettamente la trigonome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362320"/>
            <a:ext cx="4114800" cy="307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oche regole saranno sufficienti al nostro sc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352680"/>
            <a:ext cx="3200400" cy="52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trigonometria introduce alcun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unzioni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collegate agli ang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3352680"/>
            <a:ext cx="358128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Queste funzioni non sono altro che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numeri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associati ai diversi ang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4648320"/>
            <a:ext cx="2590920" cy="520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nsideriamo il triangolo rettangolo di lati a b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4419720"/>
            <a:ext cx="289584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d in particolare consideriamo l’angolo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(alf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67080" y="4876920"/>
            <a:ext cx="571680" cy="990360"/>
          </a:xfrm>
          <a:custGeom>
            <a:avLst/>
            <a:gdLst/>
            <a:ahLst/>
            <a:rect l="l" t="t" r="r" b="b"/>
            <a:pathLst>
              <a:path w="360" h="528">
                <a:moveTo>
                  <a:pt x="264" y="0"/>
                </a:moveTo>
                <a:cubicBezTo>
                  <a:pt x="260" y="44"/>
                  <a:pt x="256" y="88"/>
                  <a:pt x="216" y="144"/>
                </a:cubicBezTo>
                <a:cubicBezTo>
                  <a:pt x="176" y="200"/>
                  <a:pt x="0" y="272"/>
                  <a:pt x="24" y="336"/>
                </a:cubicBezTo>
                <a:cubicBezTo>
                  <a:pt x="48" y="400"/>
                  <a:pt x="204" y="464"/>
                  <a:pt x="360" y="5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1440" y="304920"/>
            <a:ext cx="2514600" cy="4572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et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371600"/>
            <a:ext cx="335268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finizione di “vettore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09680"/>
            <a:ext cx="7772400" cy="642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gmento orientato caratterizzato da “direzione” “verso” ed “intensità” o “modulo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276720"/>
            <a:ext cx="7772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uò essere utilizzato per rappresentare alcune grandezze fisiche co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86200"/>
            <a:ext cx="13716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886200"/>
            <a:ext cx="167652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os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886200"/>
            <a:ext cx="13716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loc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886200"/>
            <a:ext cx="190512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cele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429000" y="4343400"/>
            <a:ext cx="4114800" cy="1768320"/>
            <a:chOff x="3429000" y="4343400"/>
            <a:chExt cx="4114800" cy="1768320"/>
          </a:xfrm>
        </p:grpSpPr>
        <p:graphicFrame>
          <p:nvGraphicFramePr>
            <p:cNvPr id="55" name=""/>
            <p:cNvGraphicFramePr/>
            <p:nvPr/>
          </p:nvGraphicFramePr>
          <p:xfrm>
            <a:off x="3657600" y="4343400"/>
            <a:ext cx="3886200" cy="17683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4343400"/>
                      <a:ext cx="3886200" cy="17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3429000" y="5105520"/>
              <a:ext cx="1371600" cy="3682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..ed altre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ETODO ANALITICO (gocce di trigonome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14040" y="1523880"/>
            <a:ext cx="2057760" cy="1295280"/>
            <a:chOff x="914040" y="1523880"/>
            <a:chExt cx="2057760" cy="1295280"/>
          </a:xfrm>
        </p:grpSpPr>
        <p:sp>
          <p:nvSpPr>
            <p:cNvPr id="372" name=""/>
            <p:cNvSpPr/>
            <p:nvPr/>
          </p:nvSpPr>
          <p:spPr>
            <a:xfrm flipH="1">
              <a:off x="913680" y="1523880"/>
              <a:ext cx="1752840" cy="99072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90920" y="19047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2840" y="16761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284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43000" y="2209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6000" y="220968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330440" y="1066680"/>
            <a:ext cx="4079160" cy="3070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iamo interessati in particolare a due fun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99320" y="1676520"/>
            <a:ext cx="2759760" cy="33732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n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no dell’angolo alfa)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98960" y="2133720"/>
            <a:ext cx="2974680" cy="33732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s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coseno dell’angolo alfa)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1676520"/>
            <a:ext cx="1828800" cy="82404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Quale significato hanno queste funzion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914400" y="3809880"/>
                <a:ext cx="9604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449440" y="3657600"/>
                <a:ext cx="2138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teto opposto ad α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otenusa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905120" y="3581280"/>
                <a:ext cx="361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2743200" y="228600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288" y="864"/>
                </a:moveTo>
                <a:cubicBezTo>
                  <a:pt x="312" y="792"/>
                  <a:pt x="336" y="720"/>
                  <a:pt x="288" y="576"/>
                </a:cubicBezTo>
                <a:cubicBezTo>
                  <a:pt x="240" y="432"/>
                  <a:pt x="120" y="216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1981080"/>
            <a:ext cx="914400" cy="2489400"/>
          </a:xfrm>
          <a:custGeom>
            <a:avLst/>
            <a:gdLst/>
            <a:ahLst/>
            <a:rect l="l" t="t" r="r" b="b"/>
            <a:pathLst>
              <a:path w="576" h="1568">
                <a:moveTo>
                  <a:pt x="576" y="1344"/>
                </a:moveTo>
                <a:cubicBezTo>
                  <a:pt x="456" y="1456"/>
                  <a:pt x="336" y="1568"/>
                  <a:pt x="240" y="1344"/>
                </a:cubicBezTo>
                <a:cubicBezTo>
                  <a:pt x="144" y="1120"/>
                  <a:pt x="72" y="560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3657600"/>
            <a:ext cx="3429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seno dell’angolo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è il rapporto tra il cateto opposto ad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 l’ipoten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958680" y="5181480"/>
                <a:ext cx="916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438280" y="5029200"/>
                <a:ext cx="23623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teto adiacente ad alf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potenus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905120" y="4876920"/>
                <a:ext cx="398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2133720" y="2590920"/>
            <a:ext cx="838080" cy="2438280"/>
          </a:xfrm>
          <a:custGeom>
            <a:avLst/>
            <a:gdLst/>
            <a:ahLst/>
            <a:rect l="l" t="t" r="r" b="b"/>
            <a:pathLst>
              <a:path w="528" h="1536">
                <a:moveTo>
                  <a:pt x="528" y="1536"/>
                </a:moveTo>
                <a:cubicBezTo>
                  <a:pt x="492" y="1376"/>
                  <a:pt x="456" y="1216"/>
                  <a:pt x="384" y="1104"/>
                </a:cubicBezTo>
                <a:cubicBezTo>
                  <a:pt x="312" y="992"/>
                  <a:pt x="160" y="1048"/>
                  <a:pt x="96" y="864"/>
                </a:cubicBezTo>
                <a:cubicBezTo>
                  <a:pt x="32" y="680"/>
                  <a:pt x="16" y="340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1409760"/>
            <a:ext cx="1143000" cy="4838760"/>
          </a:xfrm>
          <a:custGeom>
            <a:avLst/>
            <a:gdLst/>
            <a:ahLst/>
            <a:rect l="l" t="t" r="r" b="b"/>
            <a:pathLst>
              <a:path w="720" h="3048">
                <a:moveTo>
                  <a:pt x="720" y="2664"/>
                </a:moveTo>
                <a:cubicBezTo>
                  <a:pt x="720" y="2688"/>
                  <a:pt x="720" y="2712"/>
                  <a:pt x="624" y="2712"/>
                </a:cubicBezTo>
                <a:cubicBezTo>
                  <a:pt x="528" y="2712"/>
                  <a:pt x="224" y="3048"/>
                  <a:pt x="144" y="2664"/>
                </a:cubicBezTo>
                <a:cubicBezTo>
                  <a:pt x="64" y="2280"/>
                  <a:pt x="168" y="816"/>
                  <a:pt x="144" y="408"/>
                </a:cubicBezTo>
                <a:cubicBezTo>
                  <a:pt x="120" y="0"/>
                  <a:pt x="60" y="108"/>
                  <a:pt x="0" y="21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5029200"/>
            <a:ext cx="3429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coseno dell’angolo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è il rapporto tra il cateto adiacente ad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 l’ipoten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66680" y="5867280"/>
            <a:ext cx="7620120" cy="73332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33"/>
                </a:solidFill>
                <a:latin typeface="Arial"/>
              </a:rPr>
              <a:t>Non posiamo dire di conoscere a fondo la </a:t>
            </a:r>
            <a:r>
              <a:rPr b="1" i="1" lang="en-US" sz="1400" spc="-1" strike="noStrike">
                <a:solidFill>
                  <a:srgbClr val="666633"/>
                </a:solidFill>
                <a:latin typeface="Arial"/>
              </a:rPr>
              <a:t>trigonometria</a:t>
            </a:r>
            <a:r>
              <a:rPr b="1" lang="en-US" sz="1400" spc="-1" strike="noStrike">
                <a:solidFill>
                  <a:srgbClr val="666633"/>
                </a:solidFill>
                <a:latin typeface="Arial"/>
              </a:rPr>
              <a:t> e neppure le sole funzioni </a:t>
            </a:r>
            <a:r>
              <a:rPr b="1" i="1" lang="en-US" sz="1400" spc="-1" strike="noStrike">
                <a:solidFill>
                  <a:srgbClr val="666633"/>
                </a:solidFill>
                <a:latin typeface="Arial"/>
              </a:rPr>
              <a:t>seno</a:t>
            </a:r>
            <a:r>
              <a:rPr b="1" lang="en-US" sz="1400" spc="-1" strike="noStrike">
                <a:solidFill>
                  <a:srgbClr val="666633"/>
                </a:solidFill>
                <a:latin typeface="Arial"/>
              </a:rPr>
              <a:t> e </a:t>
            </a:r>
            <a:r>
              <a:rPr b="1" i="1" lang="en-US" sz="1400" spc="-1" strike="noStrike">
                <a:solidFill>
                  <a:srgbClr val="666633"/>
                </a:solidFill>
                <a:latin typeface="Arial"/>
              </a:rPr>
              <a:t>coseno, </a:t>
            </a:r>
            <a:r>
              <a:rPr b="1" lang="en-US" sz="1400" spc="-1" strike="noStrike">
                <a:solidFill>
                  <a:srgbClr val="666633"/>
                </a:solidFill>
                <a:latin typeface="Arial"/>
              </a:rPr>
              <a:t>ma ciò che abbiamo imparato è sufficiente ad aiutarci ad approfondire l’uso dei vettor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Teorema di Car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138680" y="2971800"/>
            <a:ext cx="456480" cy="761400"/>
            <a:chOff x="1138680" y="2971800"/>
            <a:chExt cx="456480" cy="761400"/>
          </a:xfrm>
        </p:grpSpPr>
        <p:sp>
          <p:nvSpPr>
            <p:cNvPr id="397" name=""/>
            <p:cNvSpPr/>
            <p:nvPr/>
          </p:nvSpPr>
          <p:spPr>
            <a:xfrm>
              <a:off x="1138680" y="2971800"/>
              <a:ext cx="4564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44800" y="2971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2133720" y="1523880"/>
            <a:ext cx="3047760" cy="609840"/>
          </a:xfrm>
          <a:prstGeom prst="line">
            <a:avLst/>
          </a:prstGeom>
          <a:ln w="12600">
            <a:solidFill>
              <a:srgbClr val="66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886200" y="1523880"/>
            <a:ext cx="1295280" cy="1371600"/>
          </a:xfrm>
          <a:prstGeom prst="line">
            <a:avLst/>
          </a:prstGeom>
          <a:ln w="12600">
            <a:solidFill>
              <a:srgbClr val="66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838080" y="1523880"/>
            <a:ext cx="4343400" cy="1981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92920" y="2362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428280" y="2362320"/>
            <a:ext cx="12603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2" y="6526"/>
                </a:moveTo>
                <a:arcTo wR="10800" hR="10800" stAng="-9401306" swAng="9401306"/>
                <a:lnTo>
                  <a:pt x="10800" y="10800"/>
                </a:lnTo>
                <a:close/>
              </a:path>
              <a:path fill="none" w="21600" h="21600">
                <a:moveTo>
                  <a:pt x="882" y="6526"/>
                </a:moveTo>
                <a:arcTo wR="10800" hR="10800" stAng="-9401306" swAng="9401306"/>
              </a:path>
            </a:pathLst>
          </a:custGeom>
          <a:noFill/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8680" y="243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38080" y="2133720"/>
            <a:ext cx="1295640" cy="1371600"/>
            <a:chOff x="838080" y="2133720"/>
            <a:chExt cx="1295640" cy="1371600"/>
          </a:xfrm>
        </p:grpSpPr>
        <p:sp>
          <p:nvSpPr>
            <p:cNvPr id="406" name=""/>
            <p:cNvSpPr/>
            <p:nvPr/>
          </p:nvSpPr>
          <p:spPr>
            <a:xfrm flipV="1">
              <a:off x="838080" y="2133720"/>
              <a:ext cx="1295640" cy="137160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371600" y="2286000"/>
              <a:ext cx="609480" cy="370800"/>
              <a:chOff x="1371600" y="2286000"/>
              <a:chExt cx="609480" cy="370800"/>
            </a:xfrm>
          </p:grpSpPr>
          <p:sp>
            <p:nvSpPr>
              <p:cNvPr id="408" name=""/>
              <p:cNvSpPr/>
              <p:nvPr/>
            </p:nvSpPr>
            <p:spPr>
              <a:xfrm>
                <a:off x="1447560" y="2286000"/>
                <a:ext cx="22860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600" y="2286000"/>
                <a:ext cx="609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666633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838080" y="2895480"/>
            <a:ext cx="3048120" cy="752040"/>
            <a:chOff x="838080" y="2895480"/>
            <a:chExt cx="3048120" cy="752040"/>
          </a:xfrm>
        </p:grpSpPr>
        <p:sp>
          <p:nvSpPr>
            <p:cNvPr id="411" name=""/>
            <p:cNvSpPr/>
            <p:nvPr/>
          </p:nvSpPr>
          <p:spPr>
            <a:xfrm flipV="1">
              <a:off x="838080" y="2895480"/>
              <a:ext cx="3048120" cy="609840"/>
            </a:xfrm>
            <a:prstGeom prst="line">
              <a:avLst/>
            </a:prstGeom>
            <a:ln w="1260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2286000" y="3276720"/>
              <a:ext cx="609480" cy="370800"/>
              <a:chOff x="2286000" y="3276720"/>
              <a:chExt cx="609480" cy="370800"/>
            </a:xfrm>
          </p:grpSpPr>
          <p:sp>
            <p:nvSpPr>
              <p:cNvPr id="413" name=""/>
              <p:cNvSpPr/>
              <p:nvPr/>
            </p:nvSpPr>
            <p:spPr>
              <a:xfrm>
                <a:off x="2361960" y="3276720"/>
                <a:ext cx="22860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86000" y="3276720"/>
                <a:ext cx="609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666633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2666880" y="2286000"/>
            <a:ext cx="609480" cy="337320"/>
            <a:chOff x="2666880" y="2286000"/>
            <a:chExt cx="609480" cy="337320"/>
          </a:xfrm>
        </p:grpSpPr>
        <p:sp>
          <p:nvSpPr>
            <p:cNvPr id="416" name=""/>
            <p:cNvSpPr/>
            <p:nvPr/>
          </p:nvSpPr>
          <p:spPr>
            <a:xfrm>
              <a:off x="2742840" y="2286000"/>
              <a:ext cx="228600" cy="0"/>
            </a:xfrm>
            <a:prstGeom prst="line">
              <a:avLst/>
            </a:prstGeom>
            <a:ln w="93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66880" y="22860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648320" y="2057400"/>
            <a:ext cx="609480" cy="370800"/>
            <a:chOff x="4648320" y="2057400"/>
            <a:chExt cx="609480" cy="370800"/>
          </a:xfrm>
        </p:grpSpPr>
        <p:sp>
          <p:nvSpPr>
            <p:cNvPr id="419" name=""/>
            <p:cNvSpPr/>
            <p:nvPr/>
          </p:nvSpPr>
          <p:spPr>
            <a:xfrm>
              <a:off x="4724280" y="2057400"/>
              <a:ext cx="228600" cy="0"/>
            </a:xfrm>
            <a:prstGeom prst="line">
              <a:avLst/>
            </a:prstGeom>
            <a:ln w="93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48320" y="2057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6666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181480" y="1523880"/>
            <a:ext cx="533520" cy="1067040"/>
            <a:chOff x="5181480" y="1523880"/>
            <a:chExt cx="533520" cy="1067040"/>
          </a:xfrm>
        </p:grpSpPr>
        <p:sp>
          <p:nvSpPr>
            <p:cNvPr id="422" name=""/>
            <p:cNvSpPr/>
            <p:nvPr/>
          </p:nvSpPr>
          <p:spPr>
            <a:xfrm>
              <a:off x="5181480" y="1523880"/>
              <a:ext cx="304920" cy="1067040"/>
            </a:xfrm>
            <a:prstGeom prst="line">
              <a:avLst/>
            </a:prstGeom>
            <a:ln w="936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3760" y="1828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962520" y="2590920"/>
            <a:ext cx="1523880" cy="520560"/>
            <a:chOff x="3962520" y="2590920"/>
            <a:chExt cx="1523880" cy="520560"/>
          </a:xfrm>
        </p:grpSpPr>
        <p:sp>
          <p:nvSpPr>
            <p:cNvPr id="425" name=""/>
            <p:cNvSpPr/>
            <p:nvPr/>
          </p:nvSpPr>
          <p:spPr>
            <a:xfrm flipV="1">
              <a:off x="3962520" y="2590920"/>
              <a:ext cx="1523880" cy="304560"/>
            </a:xfrm>
            <a:prstGeom prst="line">
              <a:avLst/>
            </a:prstGeom>
            <a:ln w="9360">
              <a:solidFill>
                <a:srgbClr val="66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24280" y="274320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3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629400" y="2514600"/>
                <a:ext cx="160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683400" y="2895480"/>
                <a:ext cx="15462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685800" y="3886200"/>
                <a:ext cx="36576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22440" y="4572000"/>
                <a:ext cx="5473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9480" y="5105520"/>
                <a:ext cx="51976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433" name=""/>
          <p:cNvGrpSpPr/>
          <p:nvPr/>
        </p:nvGrpSpPr>
        <p:grpSpPr>
          <a:xfrm>
            <a:off x="6553080" y="4572000"/>
            <a:ext cx="2279880" cy="982800"/>
            <a:chOff x="6553080" y="4572000"/>
            <a:chExt cx="2279880" cy="982800"/>
          </a:xfrm>
        </p:grpSpPr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6553080" y="5105520"/>
                  <a:ext cx="22798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α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α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5" name=""/>
            <p:cNvSpPr/>
            <p:nvPr/>
          </p:nvSpPr>
          <p:spPr>
            <a:xfrm>
              <a:off x="6858000" y="4572000"/>
              <a:ext cx="1295280" cy="33732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esse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98320" y="5823000"/>
                <a:ext cx="3364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5272200" y="5791320"/>
                <a:ext cx="3333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4191120" y="5943600"/>
            <a:ext cx="914400" cy="33732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opp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 LABORA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908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0560" y="7621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ahoma"/>
                <a:ea typeface="Times New Roman"/>
              </a:rPr>
              <a:t>Forza equilibrante di due forze e  regola del parallelogramma</a:t>
            </a:r>
            <a:r>
              <a:rPr b="0" lang="en-US" sz="12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1219320"/>
            <a:ext cx="533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Nel disegno, si vedono tre forz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  </a:t>
            </a: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-</a:t>
            </a: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F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3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applicate ad un punto </a:t>
            </a:r>
            <a:r>
              <a:rPr b="1" lang="it-IT" sz="2000" spc="-1" strike="noStrike">
                <a:solidFill>
                  <a:srgbClr val="009900"/>
                </a:solidFill>
                <a:latin typeface="Tahoma"/>
                <a:ea typeface="Times New Roman"/>
              </a:rPr>
              <a:t>P.  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Le tre forze hanno direzioni diver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7960" y="2362320"/>
            <a:ext cx="581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il</a:t>
            </a:r>
            <a:r>
              <a:rPr b="0" lang="en-US" sz="1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punto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è in equilibrio (fermo) in quanto l’azione di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è controbilanciata d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(forza equilibrante del dinamomet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34290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Ciò è possibile perché la “somma vettoriale” di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dà come risultante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Times New Roman"/>
              </a:rPr>
              <a:t>UGUALE ED OPPOSTA 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315120" y="1371600"/>
            <a:ext cx="2752200" cy="5105160"/>
            <a:chOff x="6315120" y="1371600"/>
            <a:chExt cx="2752200" cy="5105160"/>
          </a:xfrm>
        </p:grpSpPr>
        <p:grpSp>
          <p:nvGrpSpPr>
            <p:cNvPr id="446" name=""/>
            <p:cNvGrpSpPr/>
            <p:nvPr/>
          </p:nvGrpSpPr>
          <p:grpSpPr>
            <a:xfrm>
              <a:off x="6315120" y="1371600"/>
              <a:ext cx="2752200" cy="5105160"/>
              <a:chOff x="6315120" y="1371600"/>
              <a:chExt cx="2752200" cy="51051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6315120" y="1371600"/>
                <a:ext cx="2752200" cy="5105160"/>
                <a:chOff x="6315120" y="1371600"/>
                <a:chExt cx="2752200" cy="5105160"/>
              </a:xfrm>
            </p:grpSpPr>
            <p:graphicFrame>
              <p:nvGraphicFramePr>
                <p:cNvPr id="448" name=""/>
                <p:cNvGraphicFramePr/>
                <p:nvPr/>
              </p:nvGraphicFramePr>
              <p:xfrm>
                <a:off x="6315120" y="1371600"/>
                <a:ext cx="2752200" cy="5105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49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315120" y="1371600"/>
                          <a:ext cx="2752200" cy="510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50" name=""/>
                <p:cNvSpPr/>
                <p:nvPr/>
              </p:nvSpPr>
              <p:spPr>
                <a:xfrm flipV="1">
                  <a:off x="7607520" y="2653920"/>
                  <a:ext cx="2880" cy="965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557840" y="3613320"/>
                  <a:ext cx="82800" cy="810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7365960" y="34164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"/>
            <p:cNvGraphicFramePr/>
            <p:nvPr/>
          </p:nvGraphicFramePr>
          <p:xfrm>
            <a:off x="7670520" y="2400480"/>
            <a:ext cx="536760" cy="32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70520" y="2400480"/>
                      <a:ext cx="5367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5" name=""/>
          <p:cNvSpPr/>
          <p:nvPr/>
        </p:nvSpPr>
        <p:spPr>
          <a:xfrm>
            <a:off x="380880" y="4546440"/>
            <a:ext cx="6019920" cy="177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Possiamo concludere 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La forz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è l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isultante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delle forz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e la sua intensità (modulo), direzione e verso  possono essere determinate con la regola del parallelogram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 labora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908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20560" y="7621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ahoma"/>
                <a:ea typeface="Times New Roman"/>
              </a:rPr>
              <a:t>Forza equilibrante di due forze e  regola del parallelogramma</a:t>
            </a:r>
            <a:r>
              <a:rPr b="0" lang="en-US" sz="12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1219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Procedim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3505320"/>
            <a:ext cx="601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Potrete leggere sul dinamometro l’intensità della forza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- F 3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 (forza equilibrante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 prodotta dal dinamometro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uguale e opposta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 alla risultant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315120" y="1371600"/>
            <a:ext cx="2752200" cy="5105160"/>
            <a:chOff x="6315120" y="1371600"/>
            <a:chExt cx="2752200" cy="5105160"/>
          </a:xfrm>
        </p:grpSpPr>
        <p:grpSp>
          <p:nvGrpSpPr>
            <p:cNvPr id="462" name=""/>
            <p:cNvGrpSpPr/>
            <p:nvPr/>
          </p:nvGrpSpPr>
          <p:grpSpPr>
            <a:xfrm>
              <a:off x="6315120" y="1371600"/>
              <a:ext cx="2752200" cy="5105160"/>
              <a:chOff x="6315120" y="1371600"/>
              <a:chExt cx="2752200" cy="51051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6315120" y="1371600"/>
                <a:ext cx="2752200" cy="5105160"/>
                <a:chOff x="6315120" y="1371600"/>
                <a:chExt cx="2752200" cy="5105160"/>
              </a:xfrm>
            </p:grpSpPr>
            <p:graphicFrame>
              <p:nvGraphicFramePr>
                <p:cNvPr id="464" name=""/>
                <p:cNvGraphicFramePr/>
                <p:nvPr/>
              </p:nvGraphicFramePr>
              <p:xfrm>
                <a:off x="6315120" y="1371600"/>
                <a:ext cx="2752200" cy="5105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6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315120" y="1371600"/>
                          <a:ext cx="2752200" cy="510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6" name=""/>
                <p:cNvSpPr/>
                <p:nvPr/>
              </p:nvSpPr>
              <p:spPr>
                <a:xfrm flipV="1">
                  <a:off x="7607520" y="2653920"/>
                  <a:ext cx="2880" cy="965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557840" y="3613320"/>
                  <a:ext cx="82800" cy="810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7365960" y="34164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7670520" y="2400480"/>
            <a:ext cx="536760" cy="32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70520" y="2400480"/>
                      <a:ext cx="5367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1" name=""/>
          <p:cNvSpPr/>
          <p:nvPr/>
        </p:nvSpPr>
        <p:spPr>
          <a:xfrm>
            <a:off x="609480" y="175248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Posizionate le carrucole di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in  modo che le direzioni siano div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259092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Modificate l’intensità delle forz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variando il numero di masse applic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809880" y="4800240"/>
            <a:ext cx="4267440" cy="764640"/>
            <a:chOff x="3809880" y="4800240"/>
            <a:chExt cx="4267440" cy="764640"/>
          </a:xfrm>
        </p:grpSpPr>
        <p:sp>
          <p:nvSpPr>
            <p:cNvPr id="474" name=""/>
            <p:cNvSpPr/>
            <p:nvPr/>
          </p:nvSpPr>
          <p:spPr>
            <a:xfrm>
              <a:off x="3809880" y="5257800"/>
              <a:ext cx="1143000" cy="30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ahoma"/>
                  <a:ea typeface="Times New Roman"/>
                </a:rPr>
                <a:t>carruc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952880" y="4800240"/>
              <a:ext cx="1676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952880" y="4800240"/>
              <a:ext cx="312444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105520" y="5486400"/>
            <a:ext cx="3276360" cy="380880"/>
            <a:chOff x="5105520" y="5486400"/>
            <a:chExt cx="3276360" cy="380880"/>
          </a:xfrm>
        </p:grpSpPr>
        <p:sp>
          <p:nvSpPr>
            <p:cNvPr id="478" name=""/>
            <p:cNvSpPr/>
            <p:nvPr/>
          </p:nvSpPr>
          <p:spPr>
            <a:xfrm>
              <a:off x="5105520" y="5486400"/>
              <a:ext cx="761760" cy="30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ahoma"/>
                  <a:ea typeface="Times New Roman"/>
                </a:rPr>
                <a:t>for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67280" y="5638680"/>
              <a:ext cx="7621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5638680"/>
              <a:ext cx="251460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809880" y="1295280"/>
            <a:ext cx="3581640" cy="609840"/>
            <a:chOff x="3809880" y="1295280"/>
            <a:chExt cx="3581640" cy="609840"/>
          </a:xfrm>
        </p:grpSpPr>
        <p:sp>
          <p:nvSpPr>
            <p:cNvPr id="482" name=""/>
            <p:cNvSpPr/>
            <p:nvPr/>
          </p:nvSpPr>
          <p:spPr>
            <a:xfrm>
              <a:off x="3809880" y="1295280"/>
              <a:ext cx="1524240" cy="30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ahoma"/>
                  <a:ea typeface="Times New Roman"/>
                </a:rPr>
                <a:t>dinamomet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34120" y="1447920"/>
              <a:ext cx="205740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 labora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908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0560" y="7621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ahoma"/>
                <a:ea typeface="Times New Roman"/>
              </a:rPr>
              <a:t>Forza equilibrante di due forze e  regola del parallelogramma</a:t>
            </a:r>
            <a:r>
              <a:rPr b="0" lang="en-US" sz="12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219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Procedim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629400" y="1282680"/>
            <a:ext cx="2425680" cy="4495680"/>
            <a:chOff x="6629400" y="1282680"/>
            <a:chExt cx="2425680" cy="4495680"/>
          </a:xfrm>
        </p:grpSpPr>
        <p:grpSp>
          <p:nvGrpSpPr>
            <p:cNvPr id="489" name=""/>
            <p:cNvGrpSpPr/>
            <p:nvPr/>
          </p:nvGrpSpPr>
          <p:grpSpPr>
            <a:xfrm>
              <a:off x="6629400" y="1282680"/>
              <a:ext cx="2425680" cy="4495680"/>
              <a:chOff x="6629400" y="1282680"/>
              <a:chExt cx="2425680" cy="449568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6629400" y="1282680"/>
                <a:ext cx="2425680" cy="4495680"/>
                <a:chOff x="6629400" y="1282680"/>
                <a:chExt cx="2425680" cy="4495680"/>
              </a:xfrm>
            </p:grpSpPr>
            <p:graphicFrame>
              <p:nvGraphicFramePr>
                <p:cNvPr id="491" name=""/>
                <p:cNvGraphicFramePr/>
                <p:nvPr/>
              </p:nvGraphicFramePr>
              <p:xfrm>
                <a:off x="6629400" y="1282680"/>
                <a:ext cx="2425680" cy="44956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92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629400" y="1282680"/>
                          <a:ext cx="2425680" cy="4495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93" name=""/>
                <p:cNvSpPr/>
                <p:nvPr/>
              </p:nvSpPr>
              <p:spPr>
                <a:xfrm flipV="1">
                  <a:off x="7767720" y="2412360"/>
                  <a:ext cx="2520" cy="850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24520" y="3256920"/>
                  <a:ext cx="72720" cy="712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7555320" y="3083040"/>
                <a:ext cx="40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96" name=""/>
            <p:cNvGraphicFramePr/>
            <p:nvPr/>
          </p:nvGraphicFramePr>
          <p:xfrm>
            <a:off x="7823520" y="2188440"/>
            <a:ext cx="472680" cy="28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23520" y="2188440"/>
                      <a:ext cx="472680" cy="28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8" name=""/>
          <p:cNvSpPr/>
          <p:nvPr/>
        </p:nvSpPr>
        <p:spPr>
          <a:xfrm>
            <a:off x="520560" y="1562040"/>
            <a:ext cx="61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Misurate con il goniometro l’angolo tr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, poi misurate anche l’angolo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tr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- F 3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trascrivendo i dati in tabella 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vedi esempio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533520" y="2616120"/>
            <a:ext cx="6248160" cy="23130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2438280" y="3581280"/>
            <a:ext cx="2895840" cy="307080"/>
            <a:chOff x="2438280" y="3581280"/>
            <a:chExt cx="2895840" cy="307080"/>
          </a:xfrm>
        </p:grpSpPr>
        <p:sp>
          <p:nvSpPr>
            <p:cNvPr id="501" name=""/>
            <p:cNvSpPr/>
            <p:nvPr/>
          </p:nvSpPr>
          <p:spPr>
            <a:xfrm>
              <a:off x="2438280" y="35812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85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2000" y="35812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160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57200" y="502920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Trascrivete in tabella l’intensità delle forz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 della forz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- F 3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letta sul dinamometro 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vedi esempio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62120" y="3556080"/>
            <a:ext cx="3492360" cy="332280"/>
            <a:chOff x="762120" y="3556080"/>
            <a:chExt cx="3492360" cy="332280"/>
          </a:xfrm>
        </p:grpSpPr>
        <p:sp>
          <p:nvSpPr>
            <p:cNvPr id="505" name=""/>
            <p:cNvSpPr/>
            <p:nvPr/>
          </p:nvSpPr>
          <p:spPr>
            <a:xfrm>
              <a:off x="762120" y="3556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0,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25760" y="35686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0,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45000" y="35812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0,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labor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908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482760"/>
            <a:ext cx="48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Completate la tabella proponendo tre casi diversi tra loro (variare angoli e for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079640"/>
            <a:ext cx="5867280" cy="1752480"/>
            <a:chOff x="228600" y="1079640"/>
            <a:chExt cx="5867280" cy="1752480"/>
          </a:xfrm>
        </p:grpSpPr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228600" y="1079640"/>
              <a:ext cx="5867280" cy="17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3" name=""/>
            <p:cNvGrpSpPr/>
            <p:nvPr/>
          </p:nvGrpSpPr>
          <p:grpSpPr>
            <a:xfrm>
              <a:off x="2017080" y="1810800"/>
              <a:ext cx="2718720" cy="276480"/>
              <a:chOff x="2017080" y="1810800"/>
              <a:chExt cx="2718720" cy="276480"/>
            </a:xfrm>
          </p:grpSpPr>
          <p:sp>
            <p:nvSpPr>
              <p:cNvPr id="514" name=""/>
              <p:cNvSpPr/>
              <p:nvPr/>
            </p:nvSpPr>
            <p:spPr>
              <a:xfrm>
                <a:off x="2017080" y="1810800"/>
                <a:ext cx="71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85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020480" y="1810800"/>
                <a:ext cx="71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160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43160" y="1792800"/>
              <a:ext cx="3278880" cy="294480"/>
              <a:chOff x="443160" y="1792800"/>
              <a:chExt cx="3278880" cy="294480"/>
            </a:xfrm>
          </p:grpSpPr>
          <p:sp>
            <p:nvSpPr>
              <p:cNvPr id="517" name=""/>
              <p:cNvSpPr/>
              <p:nvPr/>
            </p:nvSpPr>
            <p:spPr>
              <a:xfrm>
                <a:off x="443160" y="1792800"/>
                <a:ext cx="572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0,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253880" y="1801080"/>
                <a:ext cx="570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0,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48200" y="1810800"/>
                <a:ext cx="57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0,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0" name=""/>
          <p:cNvSpPr/>
          <p:nvPr/>
        </p:nvSpPr>
        <p:spPr>
          <a:xfrm>
            <a:off x="228600" y="2743200"/>
            <a:ext cx="571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Su carta millimetrata riporta la direzione di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- F 3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(per comodità ponila sempre vertic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172200" y="1550880"/>
            <a:ext cx="1585800" cy="1509840"/>
            <a:chOff x="6172200" y="1550880"/>
            <a:chExt cx="1585800" cy="1509840"/>
          </a:xfrm>
        </p:grpSpPr>
        <p:grpSp>
          <p:nvGrpSpPr>
            <p:cNvPr id="522" name=""/>
            <p:cNvGrpSpPr/>
            <p:nvPr/>
          </p:nvGrpSpPr>
          <p:grpSpPr>
            <a:xfrm>
              <a:off x="6172200" y="1917720"/>
              <a:ext cx="1003320" cy="1143000"/>
              <a:chOff x="6172200" y="1917720"/>
              <a:chExt cx="1003320" cy="1143000"/>
            </a:xfrm>
          </p:grpSpPr>
          <p:sp>
            <p:nvSpPr>
              <p:cNvPr id="523" name=""/>
              <p:cNvSpPr/>
              <p:nvPr/>
            </p:nvSpPr>
            <p:spPr>
              <a:xfrm flipH="1">
                <a:off x="6184800" y="1917720"/>
                <a:ext cx="99072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6172200" y="2514600"/>
                <a:ext cx="457200" cy="276480"/>
                <a:chOff x="6172200" y="2514600"/>
                <a:chExt cx="457200" cy="2764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172200" y="251460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F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248520" y="2514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464160" y="1550880"/>
              <a:ext cx="1293840" cy="945360"/>
              <a:chOff x="6464160" y="1550880"/>
              <a:chExt cx="1293840" cy="945360"/>
            </a:xfrm>
          </p:grpSpPr>
          <p:sp>
            <p:nvSpPr>
              <p:cNvPr id="528" name=""/>
              <p:cNvSpPr/>
              <p:nvPr/>
            </p:nvSpPr>
            <p:spPr>
              <a:xfrm flipH="1" flipV="1" rot="19656000">
                <a:off x="6849000" y="1720440"/>
                <a:ext cx="809280" cy="60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6743880" y="1905120"/>
                <a:ext cx="380880" cy="30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464160" y="16765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85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 rot="21069600">
            <a:off x="1676520" y="2273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Completa la tab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6000" y="4521240"/>
            <a:ext cx="656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Traccia la risultante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) tra i vettori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e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con l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regola del parallel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172200" y="1981080"/>
            <a:ext cx="1981080" cy="2829240"/>
            <a:chOff x="6172200" y="1981080"/>
            <a:chExt cx="1981080" cy="2829240"/>
          </a:xfrm>
        </p:grpSpPr>
        <p:sp>
          <p:nvSpPr>
            <p:cNvPr id="534" name=""/>
            <p:cNvSpPr/>
            <p:nvPr/>
          </p:nvSpPr>
          <p:spPr>
            <a:xfrm flipH="1">
              <a:off x="6858000" y="3048120"/>
              <a:ext cx="1295280" cy="137160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72200" y="3048120"/>
              <a:ext cx="1219320" cy="12952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6781680" y="1981080"/>
              <a:ext cx="1067040" cy="2829240"/>
              <a:chOff x="6781680" y="1981080"/>
              <a:chExt cx="1067040" cy="2829240"/>
            </a:xfrm>
          </p:grpSpPr>
          <p:sp>
            <p:nvSpPr>
              <p:cNvPr id="537" name=""/>
              <p:cNvSpPr/>
              <p:nvPr/>
            </p:nvSpPr>
            <p:spPr>
              <a:xfrm>
                <a:off x="7162920" y="1981080"/>
                <a:ext cx="0" cy="213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7010280" y="4191120"/>
                <a:ext cx="457200" cy="276480"/>
                <a:chOff x="7010280" y="4191120"/>
                <a:chExt cx="457200" cy="2764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7010280" y="419112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F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086600" y="4191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6781680" y="4533840"/>
                <a:ext cx="106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risultan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2" name=""/>
          <p:cNvSpPr/>
          <p:nvPr/>
        </p:nvSpPr>
        <p:spPr>
          <a:xfrm>
            <a:off x="228600" y="52196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Verifica che la risultant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 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 abbia modulo e direzione uguali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Times New Roman"/>
              </a:rPr>
              <a:t>(nei limiti degli errori sperimentali)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 alla equilibrante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- F 3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e che possieda verso opposto (ricorda che anche la risultante è in scal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247080" y="1103760"/>
            <a:ext cx="2300040" cy="1942200"/>
            <a:chOff x="6247080" y="1103760"/>
            <a:chExt cx="2300040" cy="1942200"/>
          </a:xfrm>
        </p:grpSpPr>
        <p:grpSp>
          <p:nvGrpSpPr>
            <p:cNvPr id="544" name=""/>
            <p:cNvGrpSpPr/>
            <p:nvPr/>
          </p:nvGrpSpPr>
          <p:grpSpPr>
            <a:xfrm>
              <a:off x="7147080" y="1906920"/>
              <a:ext cx="1006200" cy="1139040"/>
              <a:chOff x="7147080" y="1906920"/>
              <a:chExt cx="1006200" cy="1139040"/>
            </a:xfrm>
          </p:grpSpPr>
          <p:sp>
            <p:nvSpPr>
              <p:cNvPr id="545" name=""/>
              <p:cNvSpPr/>
              <p:nvPr/>
            </p:nvSpPr>
            <p:spPr>
              <a:xfrm>
                <a:off x="7147080" y="1906920"/>
                <a:ext cx="995400" cy="11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7696080" y="2298600"/>
                <a:ext cx="457200" cy="276480"/>
                <a:chOff x="7696080" y="2298600"/>
                <a:chExt cx="457200" cy="2764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696080" y="229860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F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772400" y="2298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6247080" y="1103760"/>
              <a:ext cx="2300040" cy="1755360"/>
              <a:chOff x="6247080" y="1103760"/>
              <a:chExt cx="2300040" cy="1755360"/>
            </a:xfrm>
          </p:grpSpPr>
          <p:sp>
            <p:nvSpPr>
              <p:cNvPr id="550" name=""/>
              <p:cNvSpPr/>
              <p:nvPr/>
            </p:nvSpPr>
            <p:spPr>
              <a:xfrm rot="768000">
                <a:off x="6400440" y="1219680"/>
                <a:ext cx="1218240" cy="152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118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11846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7391520" y="1447920"/>
                <a:ext cx="533160" cy="3808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861320" y="128268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Tahoma"/>
                  </a:rPr>
                  <a:t>160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7124760" y="457200"/>
            <a:ext cx="1523880" cy="1447920"/>
            <a:chOff x="7124760" y="457200"/>
            <a:chExt cx="1523880" cy="1447920"/>
          </a:xfrm>
        </p:grpSpPr>
        <p:sp>
          <p:nvSpPr>
            <p:cNvPr id="554" name=""/>
            <p:cNvSpPr/>
            <p:nvPr/>
          </p:nvSpPr>
          <p:spPr>
            <a:xfrm flipV="1">
              <a:off x="7162920" y="457200"/>
              <a:ext cx="0" cy="1447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24760" y="4572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Direzione di – F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38880" y="685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  <a:ea typeface="Times New Roman"/>
                </a:rPr>
                <a:t>- F 3 = 0,75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216000" y="3962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Riporta con il goniometro l’angolo tr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e traccia il vettor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 in 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6000" y="3327480"/>
            <a:ext cx="626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riporta con il goniometro l’angolo tra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- F 3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F2 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e traccia il vettore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 F2 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Times New Roman"/>
              </a:rPr>
              <a:t>in 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 labor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908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629400" y="1282680"/>
            <a:ext cx="2425680" cy="4495680"/>
            <a:chOff x="6629400" y="1282680"/>
            <a:chExt cx="2425680" cy="4495680"/>
          </a:xfrm>
        </p:grpSpPr>
        <p:grpSp>
          <p:nvGrpSpPr>
            <p:cNvPr id="562" name=""/>
            <p:cNvGrpSpPr/>
            <p:nvPr/>
          </p:nvGrpSpPr>
          <p:grpSpPr>
            <a:xfrm>
              <a:off x="6629400" y="1282680"/>
              <a:ext cx="2425680" cy="4495680"/>
              <a:chOff x="6629400" y="1282680"/>
              <a:chExt cx="2425680" cy="44956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6629400" y="1282680"/>
                <a:ext cx="2425680" cy="4495680"/>
                <a:chOff x="6629400" y="1282680"/>
                <a:chExt cx="2425680" cy="4495680"/>
              </a:xfrm>
            </p:grpSpPr>
            <p:graphicFrame>
              <p:nvGraphicFramePr>
                <p:cNvPr id="564" name=""/>
                <p:cNvGraphicFramePr/>
                <p:nvPr/>
              </p:nvGraphicFramePr>
              <p:xfrm>
                <a:off x="6629400" y="1282680"/>
                <a:ext cx="2425680" cy="44956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6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629400" y="1282680"/>
                          <a:ext cx="2425680" cy="4495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66" name=""/>
                <p:cNvSpPr/>
                <p:nvPr/>
              </p:nvSpPr>
              <p:spPr>
                <a:xfrm flipV="1">
                  <a:off x="7767720" y="2412360"/>
                  <a:ext cx="2520" cy="850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724520" y="3256920"/>
                  <a:ext cx="72720" cy="712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7555320" y="3083040"/>
                <a:ext cx="40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69" name=""/>
            <p:cNvGraphicFramePr/>
            <p:nvPr/>
          </p:nvGraphicFramePr>
          <p:xfrm>
            <a:off x="7823520" y="2188440"/>
            <a:ext cx="472680" cy="28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23520" y="2188440"/>
                      <a:ext cx="472680" cy="28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1" name=""/>
          <p:cNvSpPr/>
          <p:nvPr/>
        </p:nvSpPr>
        <p:spPr>
          <a:xfrm>
            <a:off x="520560" y="698400"/>
            <a:ext cx="610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Completa la tabella inserendo nell’ultima colonna il valore della risultante graf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382284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Nei limiti degli errori sperimentali la risultante grafica F3 deve avere modulo e direzione uguali a quelli dell’equilibrant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– 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33520" y="1409760"/>
            <a:ext cx="6248160" cy="2313000"/>
            <a:chOff x="533520" y="1409760"/>
            <a:chExt cx="6248160" cy="2313000"/>
          </a:xfrm>
        </p:grpSpPr>
        <p:pic>
          <p:nvPicPr>
            <p:cNvPr id="574" name="" descr=""/>
            <p:cNvPicPr/>
            <p:nvPr/>
          </p:nvPicPr>
          <p:blipFill>
            <a:blip r:embed="rId5"/>
            <a:stretch/>
          </p:blipFill>
          <p:spPr>
            <a:xfrm>
              <a:off x="533520" y="1409760"/>
              <a:ext cx="6248160" cy="23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"/>
            <p:cNvGrpSpPr/>
            <p:nvPr/>
          </p:nvGrpSpPr>
          <p:grpSpPr>
            <a:xfrm>
              <a:off x="2438280" y="2400120"/>
              <a:ext cx="2895840" cy="307080"/>
              <a:chOff x="2438280" y="2400120"/>
              <a:chExt cx="2895840" cy="3070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38280" y="240012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ahoma"/>
                  </a:rPr>
                  <a:t>85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572000" y="240012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ahoma"/>
                  </a:rPr>
                  <a:t>160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762120" y="2400120"/>
              <a:ext cx="3492360" cy="332280"/>
              <a:chOff x="762120" y="2400120"/>
              <a:chExt cx="3492360" cy="332280"/>
            </a:xfrm>
          </p:grpSpPr>
          <p:sp>
            <p:nvSpPr>
              <p:cNvPr id="579" name=""/>
              <p:cNvSpPr/>
              <p:nvPr/>
            </p:nvSpPr>
            <p:spPr>
              <a:xfrm>
                <a:off x="762120" y="24001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ahoma"/>
                  </a:rPr>
                  <a:t>0,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25760" y="24127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ahoma"/>
                  </a:rPr>
                  <a:t>0,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45000" y="24253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ahoma"/>
                  </a:rPr>
                  <a:t>0,7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678640" y="23511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erlin Sans FB Demi"/>
              </a:rPr>
              <a:t>0,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4889520"/>
            <a:ext cx="59436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Times New Roman"/>
              </a:rPr>
              <a:t>E’ possibile determinare l’errore percentuale sia per il modulo che per la direzione del vettore risultante, assumendo come “più probabile” il modulo indicato dal dinamometro e la sua dire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429000" cy="4572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 un vett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371600"/>
            <a:ext cx="632484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 direzione di un vettor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è la retta su cui giace il v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590920"/>
            <a:ext cx="2971800" cy="1371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re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 vetto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iamo definirla, per esempio, “orizzonta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2920" y="2438280"/>
            <a:ext cx="0" cy="3809880"/>
            <a:chOff x="7162920" y="2438280"/>
            <a:chExt cx="0" cy="3809880"/>
          </a:xfrm>
        </p:grpSpPr>
        <p:sp>
          <p:nvSpPr>
            <p:cNvPr id="64" name=""/>
            <p:cNvSpPr/>
            <p:nvPr/>
          </p:nvSpPr>
          <p:spPr>
            <a:xfrm>
              <a:off x="7162920" y="320004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62920" y="2438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62920" y="5638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162920" y="3504960"/>
            <a:ext cx="990360" cy="1600200"/>
            <a:chOff x="7162920" y="3504960"/>
            <a:chExt cx="990360" cy="1600200"/>
          </a:xfrm>
        </p:grpSpPr>
        <p:sp>
          <p:nvSpPr>
            <p:cNvPr id="68" name=""/>
            <p:cNvSpPr/>
            <p:nvPr/>
          </p:nvSpPr>
          <p:spPr>
            <a:xfrm flipV="1">
              <a:off x="7162920" y="3504960"/>
              <a:ext cx="0" cy="160020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8880" y="39625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33"/>
                  </a:solidFill>
                  <a:latin typeface="Arial"/>
                </a:rPr>
                <a:t>Vettore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733920" y="4495680"/>
            <a:ext cx="2971800" cy="15242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re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 vettore B possiamo definirla, per esempio, “vertica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2209680"/>
            <a:ext cx="3962520" cy="0"/>
            <a:chOff x="838080" y="2209680"/>
            <a:chExt cx="3962520" cy="0"/>
          </a:xfrm>
        </p:grpSpPr>
        <p:sp>
          <p:nvSpPr>
            <p:cNvPr id="72" name=""/>
            <p:cNvSpPr/>
            <p:nvPr/>
          </p:nvSpPr>
          <p:spPr>
            <a:xfrm>
              <a:off x="838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2096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7600" y="2209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752480" y="2209680"/>
            <a:ext cx="1676160" cy="352800"/>
            <a:chOff x="1752480" y="2209680"/>
            <a:chExt cx="1676160" cy="352800"/>
          </a:xfrm>
        </p:grpSpPr>
        <p:sp>
          <p:nvSpPr>
            <p:cNvPr id="76" name=""/>
            <p:cNvSpPr/>
            <p:nvPr/>
          </p:nvSpPr>
          <p:spPr>
            <a:xfrm>
              <a:off x="1752480" y="2209680"/>
              <a:ext cx="1676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0680" y="2286000"/>
              <a:ext cx="87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ettor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76720" y="380880"/>
            <a:ext cx="2590560" cy="4572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e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 un vett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295280"/>
            <a:ext cx="6705360" cy="9144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i un vettore è il suo orientamento sulla ret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camente è indicato dalla “punta” del vettore (frec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514600" y="2438280"/>
            <a:ext cx="3276720" cy="609840"/>
            <a:chOff x="2514600" y="2438280"/>
            <a:chExt cx="3276720" cy="609840"/>
          </a:xfrm>
        </p:grpSpPr>
        <p:sp>
          <p:nvSpPr>
            <p:cNvPr id="83" name=""/>
            <p:cNvSpPr/>
            <p:nvPr/>
          </p:nvSpPr>
          <p:spPr>
            <a:xfrm>
              <a:off x="2514600" y="2590920"/>
              <a:ext cx="45720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2577960"/>
              <a:ext cx="914400" cy="165240"/>
            </a:xfrm>
            <a:custGeom>
              <a:avLst/>
              <a:gdLst/>
              <a:ahLst/>
              <a:rect l="l" t="t" r="r" b="b"/>
              <a:pathLst>
                <a:path w="576" h="104">
                  <a:moveTo>
                    <a:pt x="0" y="104"/>
                  </a:moveTo>
                  <a:cubicBezTo>
                    <a:pt x="100" y="60"/>
                    <a:pt x="200" y="16"/>
                    <a:pt x="288" y="8"/>
                  </a:cubicBezTo>
                  <a:cubicBezTo>
                    <a:pt x="376" y="0"/>
                    <a:pt x="480" y="48"/>
                    <a:pt x="528" y="56"/>
                  </a:cubicBezTo>
                  <a:cubicBezTo>
                    <a:pt x="576" y="64"/>
                    <a:pt x="576" y="60"/>
                    <a:pt x="576" y="56"/>
                  </a:cubicBezTo>
                </a:path>
              </a:pathLst>
            </a:custGeom>
            <a:noFill/>
            <a:ln w="9360">
              <a:solidFill>
                <a:srgbClr val="66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2520" y="2438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6633"/>
                  </a:solidFill>
                  <a:latin typeface="Arial"/>
                </a:rPr>
                <a:t>Punta del vet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990720" y="3200400"/>
            <a:ext cx="7543800" cy="91440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ogni “direzione” si possono individuare due vettori di “verso”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4572000"/>
            <a:ext cx="1600200" cy="352800"/>
            <a:chOff x="5791320" y="4572000"/>
            <a:chExt cx="1600200" cy="352800"/>
          </a:xfrm>
        </p:grpSpPr>
        <p:sp>
          <p:nvSpPr>
            <p:cNvPr id="88" name=""/>
            <p:cNvSpPr/>
            <p:nvPr/>
          </p:nvSpPr>
          <p:spPr>
            <a:xfrm>
              <a:off x="5791320" y="45720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77120" y="464832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ettor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504960" y="4572000"/>
            <a:ext cx="1600200" cy="383040"/>
            <a:chOff x="3504960" y="4572000"/>
            <a:chExt cx="1600200" cy="383040"/>
          </a:xfrm>
        </p:grpSpPr>
        <p:sp>
          <p:nvSpPr>
            <p:cNvPr id="91" name=""/>
            <p:cNvSpPr/>
            <p:nvPr/>
          </p:nvSpPr>
          <p:spPr>
            <a:xfrm flipH="1">
              <a:off x="3504960" y="45720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86200" y="46479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ettore (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 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066680" y="5105520"/>
            <a:ext cx="75438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egno “meno” davanti ad uno dei due vettori ci ricorda che un vettore è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pos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’a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43000" y="2819520"/>
            <a:ext cx="1600200" cy="352440"/>
            <a:chOff x="1143000" y="2819520"/>
            <a:chExt cx="1600200" cy="352440"/>
          </a:xfrm>
        </p:grpSpPr>
        <p:sp>
          <p:nvSpPr>
            <p:cNvPr id="95" name=""/>
            <p:cNvSpPr/>
            <p:nvPr/>
          </p:nvSpPr>
          <p:spPr>
            <a:xfrm>
              <a:off x="1143000" y="28195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289548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ettor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90720" y="4572000"/>
            <a:ext cx="7924680" cy="352800"/>
            <a:chOff x="990720" y="4572000"/>
            <a:chExt cx="7924680" cy="352800"/>
          </a:xfrm>
        </p:grpSpPr>
        <p:grpSp>
          <p:nvGrpSpPr>
            <p:cNvPr id="98" name=""/>
            <p:cNvGrpSpPr/>
            <p:nvPr/>
          </p:nvGrpSpPr>
          <p:grpSpPr>
            <a:xfrm>
              <a:off x="1066680" y="4572000"/>
              <a:ext cx="7848720" cy="0"/>
              <a:chOff x="1066680" y="4572000"/>
              <a:chExt cx="7848720" cy="0"/>
            </a:xfrm>
          </p:grpSpPr>
          <p:sp>
            <p:nvSpPr>
              <p:cNvPr id="99" name=""/>
              <p:cNvSpPr/>
              <p:nvPr/>
            </p:nvSpPr>
            <p:spPr>
              <a:xfrm>
                <a:off x="2209680" y="4572000"/>
                <a:ext cx="563868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1066680" y="4572000"/>
                <a:ext cx="7848720" cy="0"/>
                <a:chOff x="1066680" y="4572000"/>
                <a:chExt cx="7848720" cy="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066680" y="4572000"/>
                  <a:ext cx="1219320" cy="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772400" y="4572000"/>
                  <a:ext cx="1143000" cy="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990720" y="464832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33"/>
                  </a:solidFill>
                  <a:latin typeface="Arial"/>
                </a:rPr>
                <a:t>Retta di dire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3352680"/>
            <a:ext cx="7924680" cy="352800"/>
            <a:chOff x="685800" y="3352680"/>
            <a:chExt cx="7924680" cy="352800"/>
          </a:xfrm>
        </p:grpSpPr>
        <p:grpSp>
          <p:nvGrpSpPr>
            <p:cNvPr id="107" name=""/>
            <p:cNvGrpSpPr/>
            <p:nvPr/>
          </p:nvGrpSpPr>
          <p:grpSpPr>
            <a:xfrm>
              <a:off x="761760" y="3352680"/>
              <a:ext cx="7848720" cy="0"/>
              <a:chOff x="761760" y="3352680"/>
              <a:chExt cx="7848720" cy="0"/>
            </a:xfrm>
          </p:grpSpPr>
          <p:sp>
            <p:nvSpPr>
              <p:cNvPr id="108" name=""/>
              <p:cNvSpPr/>
              <p:nvPr/>
            </p:nvSpPr>
            <p:spPr>
              <a:xfrm>
                <a:off x="1904760" y="3352680"/>
                <a:ext cx="563868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61760" y="3352680"/>
                <a:ext cx="7848720" cy="0"/>
                <a:chOff x="761760" y="3352680"/>
                <a:chExt cx="7848720" cy="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61760" y="3352680"/>
                  <a:ext cx="1219320" cy="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467480" y="3352680"/>
                  <a:ext cx="1143000" cy="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85800" y="342900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33"/>
                  </a:solidFill>
                  <a:latin typeface="Arial"/>
                </a:rPr>
                <a:t>Retta di dire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4952880" cy="4572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ns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 un vett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 modu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066680"/>
            <a:ext cx="7391160" cy="9144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 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ens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i un vettore è il suo valore numerico espresso nell’unità di misura della grandezza che rappres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05520" y="3352680"/>
            <a:ext cx="2311200" cy="352800"/>
            <a:chOff x="5105520" y="3352680"/>
            <a:chExt cx="2311200" cy="352800"/>
          </a:xfrm>
        </p:grpSpPr>
        <p:sp>
          <p:nvSpPr>
            <p:cNvPr id="116" name=""/>
            <p:cNvSpPr/>
            <p:nvPr/>
          </p:nvSpPr>
          <p:spPr>
            <a:xfrm>
              <a:off x="5105520" y="3352680"/>
              <a:ext cx="20509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520" y="3429000"/>
              <a:ext cx="231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ettore spostamento  = 10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838080" y="2209680"/>
            <a:ext cx="7543800" cy="76212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un vettore rappresenta, per esempio, uno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ostamento di 10 metr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ua intensità (o modulo) è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 met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62320" y="3352680"/>
            <a:ext cx="2311200" cy="383400"/>
            <a:chOff x="2362320" y="3352680"/>
            <a:chExt cx="2311200" cy="383400"/>
          </a:xfrm>
        </p:grpSpPr>
        <p:sp>
          <p:nvSpPr>
            <p:cNvPr id="120" name=""/>
            <p:cNvSpPr/>
            <p:nvPr/>
          </p:nvSpPr>
          <p:spPr>
            <a:xfrm flipH="1">
              <a:off x="2438280" y="3352680"/>
              <a:ext cx="2051280" cy="1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2320" y="3429000"/>
              <a:ext cx="231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vettore spostamento  = </a:t>
              </a: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-</a:t>
              </a: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 10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4038480"/>
            <a:ext cx="1905120" cy="1739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intensità assume valore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sitivo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 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gativo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o il verso del vettore.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4038480"/>
            <a:ext cx="2133360" cy="22885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vettore è una  rappresentazione grafica (freccia orientata): sarà quindi necessario fissare una scala di rappresentazione adegu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257800" y="4572000"/>
            <a:ext cx="3504960" cy="1295280"/>
            <a:chOff x="5257800" y="4572000"/>
            <a:chExt cx="3504960" cy="12952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5257800" y="4572000"/>
              <a:ext cx="350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410080" y="49528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4876560"/>
              <a:ext cx="0" cy="15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76560"/>
              <a:ext cx="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080" y="5257440"/>
              <a:ext cx="228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464796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1 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487692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ylfaen"/>
              </a:rPr>
              <a:t>SOMMA DI FORZ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ma di forze con la stessa dir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143000"/>
            <a:ext cx="7925040" cy="6426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Se due o più forze agiscono  sulla stessa retta di azione o su rette parallele, allora hanno la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tessa direzione.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4724280"/>
            <a:ext cx="7924680" cy="146556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agazza ed il ragazzo impegnati a spingere la vettura agiscono nella stessa direzione (rette parallele) e nel medesimo verso (orientamento della punta del vettori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ver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Il vettore 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s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è la risultante dei due vettori forza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R” è quindi la forza che effettivamente agisce sulla vettu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forze2" descr="Risultati immagini per forze come vettori"/>
          <p:cNvPicPr/>
          <p:nvPr/>
        </p:nvPicPr>
        <p:blipFill>
          <a:blip r:embed="rId1"/>
          <a:stretch/>
        </p:blipFill>
        <p:spPr>
          <a:xfrm>
            <a:off x="525600" y="1447920"/>
            <a:ext cx="8092800" cy="3475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2286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 il ver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066680"/>
            <a:ext cx="243828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tremo scrive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9480" y="2133720"/>
            <a:ext cx="3505320" cy="413280"/>
            <a:chOff x="609480" y="2133720"/>
            <a:chExt cx="3505320" cy="413280"/>
          </a:xfrm>
        </p:grpSpPr>
        <p:sp>
          <p:nvSpPr>
            <p:cNvPr id="143" name=""/>
            <p:cNvSpPr/>
            <p:nvPr/>
          </p:nvSpPr>
          <p:spPr>
            <a:xfrm>
              <a:off x="609480" y="2133720"/>
              <a:ext cx="3505320" cy="3682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+         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143000" y="2209680"/>
              <a:ext cx="533160" cy="337320"/>
              <a:chOff x="1143000" y="2209680"/>
              <a:chExt cx="533160" cy="337320"/>
            </a:xfrm>
          </p:grpSpPr>
          <p:sp>
            <p:nvSpPr>
              <p:cNvPr id="145" name=""/>
              <p:cNvSpPr/>
              <p:nvPr/>
            </p:nvSpPr>
            <p:spPr>
              <a:xfrm>
                <a:off x="1231920" y="2209680"/>
                <a:ext cx="26640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3000" y="220968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lang="en-US" sz="800" spc="-1" strike="noStrike">
                    <a:solidFill>
                      <a:srgbClr val="666633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752480" y="2209680"/>
              <a:ext cx="685440" cy="337320"/>
              <a:chOff x="1752480" y="2209680"/>
              <a:chExt cx="685440" cy="337320"/>
            </a:xfrm>
          </p:grpSpPr>
          <p:sp>
            <p:nvSpPr>
              <p:cNvPr id="148" name=""/>
              <p:cNvSpPr/>
              <p:nvPr/>
            </p:nvSpPr>
            <p:spPr>
              <a:xfrm>
                <a:off x="1866600" y="2209680"/>
                <a:ext cx="34272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52480" y="220968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lang="en-US" sz="800" spc="-1" strike="noStrike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743200" y="2209680"/>
              <a:ext cx="457200" cy="337320"/>
              <a:chOff x="2743200" y="2209680"/>
              <a:chExt cx="457200" cy="3373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19520" y="2209680"/>
                <a:ext cx="22860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43200" y="22096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457200" y="3352680"/>
            <a:ext cx="1905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“verso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4267080"/>
            <a:ext cx="6858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vettore risultante sarà il medesimo verso dei due vettori so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ma di forze con la stessa dir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066680"/>
            <a:ext cx="8305920" cy="36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l caso qui illustrato le forze  hanno la medesima direzione ma verso op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81480" y="1905120"/>
            <a:ext cx="3810240" cy="413280"/>
            <a:chOff x="5181480" y="1905120"/>
            <a:chExt cx="3810240" cy="413280"/>
          </a:xfrm>
        </p:grpSpPr>
        <p:sp>
          <p:nvSpPr>
            <p:cNvPr id="160" name=""/>
            <p:cNvSpPr/>
            <p:nvPr/>
          </p:nvSpPr>
          <p:spPr>
            <a:xfrm>
              <a:off x="5181480" y="1905120"/>
              <a:ext cx="3810240" cy="3682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+         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5761080" y="1981080"/>
              <a:ext cx="578880" cy="337320"/>
              <a:chOff x="5761080" y="1981080"/>
              <a:chExt cx="578880" cy="337320"/>
            </a:xfrm>
          </p:grpSpPr>
          <p:sp>
            <p:nvSpPr>
              <p:cNvPr id="162" name=""/>
              <p:cNvSpPr/>
              <p:nvPr/>
            </p:nvSpPr>
            <p:spPr>
              <a:xfrm>
                <a:off x="5857560" y="1981080"/>
                <a:ext cx="28944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61080" y="1981080"/>
                <a:ext cx="57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lang="en-US" sz="800" spc="-1" strike="noStrike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400800" y="1968480"/>
              <a:ext cx="609480" cy="337320"/>
              <a:chOff x="6400800" y="1968480"/>
              <a:chExt cx="609480" cy="337320"/>
            </a:xfrm>
          </p:grpSpPr>
          <p:sp>
            <p:nvSpPr>
              <p:cNvPr id="165" name=""/>
              <p:cNvSpPr/>
              <p:nvPr/>
            </p:nvSpPr>
            <p:spPr>
              <a:xfrm>
                <a:off x="6524280" y="1968480"/>
                <a:ext cx="37296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00800" y="196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(-F</a:t>
                </a:r>
                <a:r>
                  <a:rPr b="1" lang="en-US" sz="800" spc="-1" strike="noStrike">
                    <a:solidFill>
                      <a:srgbClr val="666633"/>
                    </a:solidFill>
                    <a:latin typeface="Times New Roman"/>
                  </a:rPr>
                  <a:t>1</a:t>
                </a: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500960" y="1981080"/>
              <a:ext cx="496440" cy="337320"/>
              <a:chOff x="7500960" y="1981080"/>
              <a:chExt cx="496440" cy="337320"/>
            </a:xfrm>
          </p:grpSpPr>
          <p:sp>
            <p:nvSpPr>
              <p:cNvPr id="168" name=""/>
              <p:cNvSpPr/>
              <p:nvPr/>
            </p:nvSpPr>
            <p:spPr>
              <a:xfrm>
                <a:off x="7583760" y="1981080"/>
                <a:ext cx="248040" cy="0"/>
              </a:xfrm>
              <a:prstGeom prst="line">
                <a:avLst/>
              </a:prstGeom>
              <a:ln w="93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00960" y="1981080"/>
                <a:ext cx="49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666633"/>
                    </a:solidFill>
                    <a:latin typeface="Times New Roman"/>
                  </a:rPr>
                  <a:t>-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6019920" y="3809880"/>
            <a:ext cx="1371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“ver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5245200"/>
            <a:ext cx="5562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vettore risultante sarà il medesimo verso del vettore somma di maggiore intens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600200"/>
          <a:ext cx="495288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95288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ma di forze con la stessa dir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6:49:54Z</dcterms:created>
  <dc:creator>FEDERICO BARBAROSSA</dc:creator>
  <dc:description/>
  <dc:language>en-US</dc:language>
  <cp:lastModifiedBy>fede</cp:lastModifiedBy>
  <dcterms:modified xsi:type="dcterms:W3CDTF">2018-06-04T18:12:11Z</dcterms:modified>
  <cp:revision>106</cp:revision>
  <dc:subject/>
  <dc:title>SOMMA E DIFFERENZA DI VETTORI </dc:title>
</cp:coreProperties>
</file>