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78F-7DB7-48A4-A77D-550915C4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3C8-98FF-49FE-AAF3-024C0975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E2A-76F2-4D01-B98A-C0CD4301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CFF-EE46-4651-A7D6-C34F5541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8D8-48C4-4558-83FD-B2B03E68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BC0-59C8-4C59-9E95-16CE2C53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2BF-FB46-4279-B9E4-72804888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391-D51C-4C22-8BFF-7D7754D3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138-A8D7-4DE5-A4CF-AD9C1518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A18-D4CA-40BB-9801-E921F3D6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C7A-A69E-439D-8F8E-F9E10C0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A8E-6264-494D-A742-8AC876AE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6F53-66B0-45DD-A81B-749D2E6699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8800" y="1523880"/>
          <a:ext cx="642132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64213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Barbaro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piano inclin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447920" y="1752480"/>
          <a:ext cx="566712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56671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piano inclin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piano inclin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57440" y="1066680"/>
          <a:ext cx="6753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066680"/>
                    <a:ext cx="6753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808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548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00400" y="5181480"/>
          <a:ext cx="53352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5181480"/>
                    <a:ext cx="5335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3352680" y="4724280"/>
            <a:ext cx="609480" cy="457200"/>
            <a:chOff x="3352680" y="4724280"/>
            <a:chExt cx="609480" cy="457200"/>
          </a:xfrm>
        </p:grpSpPr>
        <p:graphicFrame>
          <p:nvGraphicFramePr>
            <p:cNvPr id="55" name=""/>
            <p:cNvGraphicFramePr/>
            <p:nvPr/>
          </p:nvGraphicFramePr>
          <p:xfrm>
            <a:off x="3429000" y="4724280"/>
            <a:ext cx="533160" cy="412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4724280"/>
                      <a:ext cx="533160" cy="4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3352680" y="502920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8088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orza 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4648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orza Parallela al piano incl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2578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orza Perpendicolare al piano incl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64840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tezza piano incl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lunghezza piano incl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24480" y="5829480"/>
          <a:ext cx="457200" cy="37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24480" y="5829480"/>
                    <a:ext cx="45720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952880" y="57531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ngolo di inclin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00560" y="60627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piano incl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14600" y="0"/>
          <a:ext cx="59151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0"/>
                    <a:ext cx="59151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62120" y="2971800"/>
          <a:ext cx="7467480" cy="19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971800"/>
                    <a:ext cx="746748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438280" y="5181480"/>
          <a:ext cx="3505320" cy="87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5181480"/>
                    <a:ext cx="350532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ETODO ANALITICO (gocce di trigonome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990720"/>
            <a:ext cx="419112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È sempre possibile calcolar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aliticament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la risultante fra più vettori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990720"/>
            <a:ext cx="3429000" cy="61164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è però necessario imparare alcune regole di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igonometria (?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752480"/>
            <a:ext cx="5029200" cy="307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Non è necessario conoscere perfettamente la trigonome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2362320"/>
            <a:ext cx="4114800" cy="307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oche regole saranno sufficienti al nostro sco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038400"/>
            <a:ext cx="3200400" cy="52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trigonometria introduce alcun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unzioni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collegate agli ang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3052800"/>
            <a:ext cx="358128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Queste funzioni non sono altro che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numeri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associati ai diversi ang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990960"/>
            <a:ext cx="2590920" cy="520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nsideriamo il triangolo rettangolo di lati a b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3933720"/>
            <a:ext cx="289584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d in particolare consideriamo l’angolo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(alf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4572000"/>
          <a:ext cx="388620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572000"/>
                    <a:ext cx="388620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048120" y="4419720"/>
            <a:ext cx="2209680" cy="1218960"/>
          </a:xfrm>
          <a:custGeom>
            <a:avLst/>
            <a:gdLst/>
            <a:ahLst/>
            <a:rect l="l" t="t" r="r" b="b"/>
            <a:pathLst>
              <a:path w="360" h="528">
                <a:moveTo>
                  <a:pt x="264" y="0"/>
                </a:moveTo>
                <a:cubicBezTo>
                  <a:pt x="260" y="44"/>
                  <a:pt x="256" y="88"/>
                  <a:pt x="216" y="144"/>
                </a:cubicBezTo>
                <a:cubicBezTo>
                  <a:pt x="176" y="200"/>
                  <a:pt x="0" y="272"/>
                  <a:pt x="24" y="336"/>
                </a:cubicBezTo>
                <a:cubicBezTo>
                  <a:pt x="48" y="400"/>
                  <a:pt x="204" y="464"/>
                  <a:pt x="360" y="5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ETODO ANALITICO (gocce di trigonome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14040" y="1523880"/>
            <a:ext cx="2057760" cy="1295280"/>
            <a:chOff x="914040" y="1523880"/>
            <a:chExt cx="2057760" cy="1295280"/>
          </a:xfrm>
        </p:grpSpPr>
        <p:sp>
          <p:nvSpPr>
            <p:cNvPr id="86" name=""/>
            <p:cNvSpPr/>
            <p:nvPr/>
          </p:nvSpPr>
          <p:spPr>
            <a:xfrm flipH="1">
              <a:off x="913680" y="1523880"/>
              <a:ext cx="1752840" cy="99072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0920" y="19047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840" y="16761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84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3000" y="2209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6000" y="220968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330440" y="1066680"/>
            <a:ext cx="4079160" cy="3070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iamo interessati in particolare a due fun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9320" y="1676520"/>
            <a:ext cx="2759760" cy="33732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en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no dell’angolo alfa)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98960" y="2133720"/>
            <a:ext cx="2974680" cy="33732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s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coseno dell’angolo alfa)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676520"/>
            <a:ext cx="1828800" cy="82404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Quale significato hanno queste funzion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3809880"/>
                <a:ext cx="9604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49440" y="3657600"/>
                <a:ext cx="2138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teto opposto ad α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otenusa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05120" y="3581280"/>
                <a:ext cx="3618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743200" y="228600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288" y="864"/>
                </a:moveTo>
                <a:cubicBezTo>
                  <a:pt x="312" y="792"/>
                  <a:pt x="336" y="720"/>
                  <a:pt x="288" y="576"/>
                </a:cubicBezTo>
                <a:cubicBezTo>
                  <a:pt x="240" y="432"/>
                  <a:pt x="120" y="216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1981080"/>
            <a:ext cx="914400" cy="2489400"/>
          </a:xfrm>
          <a:custGeom>
            <a:avLst/>
            <a:gdLst/>
            <a:ahLst/>
            <a:rect l="l" t="t" r="r" b="b"/>
            <a:pathLst>
              <a:path w="576" h="1568">
                <a:moveTo>
                  <a:pt x="576" y="1344"/>
                </a:moveTo>
                <a:cubicBezTo>
                  <a:pt x="456" y="1456"/>
                  <a:pt x="336" y="1568"/>
                  <a:pt x="240" y="1344"/>
                </a:cubicBezTo>
                <a:cubicBezTo>
                  <a:pt x="144" y="1120"/>
                  <a:pt x="72" y="560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3657600"/>
            <a:ext cx="3429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seno dell’angolo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è il rapporto tra il cateto opposto ad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e l’ipoten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58680" y="5181480"/>
                <a:ext cx="916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438280" y="5029200"/>
                <a:ext cx="23623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teto adiacente ad alf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potenus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905120" y="4876920"/>
                <a:ext cx="398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133720" y="2590920"/>
            <a:ext cx="838080" cy="2438280"/>
          </a:xfrm>
          <a:custGeom>
            <a:avLst/>
            <a:gdLst/>
            <a:ahLst/>
            <a:rect l="l" t="t" r="r" b="b"/>
            <a:pathLst>
              <a:path w="528" h="1536">
                <a:moveTo>
                  <a:pt x="528" y="1536"/>
                </a:moveTo>
                <a:cubicBezTo>
                  <a:pt x="492" y="1376"/>
                  <a:pt x="456" y="1216"/>
                  <a:pt x="384" y="1104"/>
                </a:cubicBezTo>
                <a:cubicBezTo>
                  <a:pt x="312" y="992"/>
                  <a:pt x="160" y="1048"/>
                  <a:pt x="96" y="864"/>
                </a:cubicBezTo>
                <a:cubicBezTo>
                  <a:pt x="32" y="680"/>
                  <a:pt x="16" y="340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1409760"/>
            <a:ext cx="1143000" cy="4838760"/>
          </a:xfrm>
          <a:custGeom>
            <a:avLst/>
            <a:gdLst/>
            <a:ahLst/>
            <a:rect l="l" t="t" r="r" b="b"/>
            <a:pathLst>
              <a:path w="720" h="3048">
                <a:moveTo>
                  <a:pt x="720" y="2664"/>
                </a:moveTo>
                <a:cubicBezTo>
                  <a:pt x="720" y="2688"/>
                  <a:pt x="720" y="2712"/>
                  <a:pt x="624" y="2712"/>
                </a:cubicBezTo>
                <a:cubicBezTo>
                  <a:pt x="528" y="2712"/>
                  <a:pt x="224" y="3048"/>
                  <a:pt x="144" y="2664"/>
                </a:cubicBezTo>
                <a:cubicBezTo>
                  <a:pt x="64" y="2280"/>
                  <a:pt x="168" y="816"/>
                  <a:pt x="144" y="408"/>
                </a:cubicBezTo>
                <a:cubicBezTo>
                  <a:pt x="120" y="0"/>
                  <a:pt x="60" y="108"/>
                  <a:pt x="0" y="21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5029200"/>
            <a:ext cx="3429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coseno dell’angolo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è il rapporto tra il cateto adiacente ad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e l’ipoten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257800" y="3581280"/>
          <a:ext cx="313380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581280"/>
                    <a:ext cx="313380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438280" y="457200"/>
          <a:ext cx="5915160" cy="29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57200"/>
                    <a:ext cx="591516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"/>
          <p:cNvGrpSpPr/>
          <p:nvPr/>
        </p:nvGrpSpPr>
        <p:grpSpPr>
          <a:xfrm>
            <a:off x="457200" y="4657680"/>
            <a:ext cx="3505320" cy="565200"/>
            <a:chOff x="457200" y="4657680"/>
            <a:chExt cx="3505320" cy="565200"/>
          </a:xfrm>
        </p:grpSpPr>
        <p:graphicFrame>
          <p:nvGraphicFramePr>
            <p:cNvPr id="113" name=""/>
            <p:cNvGraphicFramePr/>
            <p:nvPr/>
          </p:nvGraphicFramePr>
          <p:xfrm>
            <a:off x="1600200" y="4657680"/>
            <a:ext cx="2362320" cy="565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00200" y="4657680"/>
                      <a:ext cx="23623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57200" y="48006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 cu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361800" y="3743280"/>
            <a:ext cx="464832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457200" y="2514600"/>
          <a:ext cx="2286000" cy="461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" y="2514600"/>
                    <a:ext cx="22860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4681440" y="2286000"/>
            <a:ext cx="108000" cy="1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18:56:38Z</dcterms:created>
  <dc:creator>federico</dc:creator>
  <dc:description/>
  <dc:language>en-US</dc:language>
  <cp:lastModifiedBy>fede</cp:lastModifiedBy>
  <dcterms:modified xsi:type="dcterms:W3CDTF">2018-06-04T18:13:41Z</dcterms:modified>
  <cp:revision>14</cp:revision>
  <dc:subject/>
  <dc:title>Il piano inclinato</dc:title>
</cp:coreProperties>
</file>