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4.wmf" ContentType="image/x-wmf"/>
  <Override PartName="/ppt/media/image27.wmf" ContentType="image/x-wmf"/>
  <Override PartName="/ppt/media/image15.wmf" ContentType="image/x-wmf"/>
  <Override PartName="/ppt/media/image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E2B3-1A8C-4681-B3FB-78072A23CB2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Vittorio Mussino: vittorio.mussino@polito.it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Dipartimento di Fisica – Politecnico di To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Vittorio Mussino: vittorio.mussino@polito.it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Dipartimento di Fisica – Politecnico di To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Vittorio Mussino: vittorio.mussino@polito.it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Dipartimento di Fisica – Politecnico di To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Vittorio Mussino: vittorio.mussino@polito.it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Dipartimento di Fisica – Politecnico di To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Vittorio Mussino: vittorio.mussino@polito.it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Dipartimento di Fisica – Politecnico di To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5EFB-250F-48C6-A4B0-6F126474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6F26-76AD-4613-838C-DCDFBF73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7504-904F-4518-8D82-50D6B3A4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E93-E674-473E-BDCC-7FE71BE3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1BB-924A-44D5-8030-1F6C7E1B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34E8-1B9A-4127-AAB4-BC0C3AE0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9CB-6094-46C7-B703-EEC5E91B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BFB-EBA4-472B-A1B5-C09C2B88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815-7138-46CC-A336-D4CF958F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AE74-440E-434F-9807-7899279C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464-9C65-4BE1-9906-59B8B907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FA6-7DE5-4E2A-A25B-F1F21036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D555-6784-4365-AF55-108D762AC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7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8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9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10.wmf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8.wm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3812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1cc"/>
                </a:solidFill>
                <a:latin typeface="Times New Roman"/>
              </a:rPr>
              <a:t>FORZA DI ATTRITO</a:t>
            </a:r>
            <a:br>
              <a:rPr sz="4000"/>
            </a:br>
            <a:r>
              <a:rPr b="1" lang="en-US" sz="1600" spc="-1" strike="noStrike">
                <a:solidFill>
                  <a:srgbClr val="0031cc"/>
                </a:solidFill>
                <a:latin typeface="Times New Roman"/>
              </a:rPr>
              <a:t>a cura di Vittorio Mussino – dipartimento di Fisica Politecnico di Torino</a:t>
            </a:r>
            <a:endParaRPr b="0" lang="en-US" sz="1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571400"/>
            <a:ext cx="821052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Reazioni vincolar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causa dell'interazione sistema/ambiente, una massa può essere sottoposta all’azione di una forza di reazione che tende ad opporsi alla variazione di moto della massa e tale forza è detta reazione vincolare. Essa si esplica secondo una forza che tende ad annullare l'azione della forza applicata (o della risultante delle forze applicate): stesso modulo, ma verso oppo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buClr>
                <a:srgbClr val="000000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rpo libe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 una determinata regione di spazio, il corpo può occupare uno qualsiasi dei punti seguendo uno dei qualunque spostamenti geometricamente possibi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buClr>
                <a:srgbClr val="000000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rpo vincola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causa di un qualche vincolo, risulta impedito uno dei possibili spostamenti geometri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buClr>
                <a:srgbClr val="000000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Reazione vincola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za con direzione coincidente con quella di uno spostamento geometrico totalmente proibito e verso opposto a tale spost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orio.mussino@polit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245-C9CF-4B1A-890D-8562E605CF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6560" y="723960"/>
            <a:ext cx="8210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 corpo appoggiato su una superficie scabra esercita un’azione che viene contrastata dalla reazione che la superficie esercita sul corpo. Per il III principio della dinamica (azione/reazione) le due forze hanno identico modulo, direzione normale al piano tangente al corpo nel punto di contatto con la superficie di appoggio e verso opposto.  Nel caso di una superficie orizzontale e di una inclinata (in presenza del campo gravitazionale)  si ha il seguente diagramma corpo lib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80040" y="4643280"/>
            <a:ext cx="1050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9920" y="4307040"/>
            <a:ext cx="488880" cy="33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24360" y="4475160"/>
            <a:ext cx="0" cy="1152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824360" y="3321000"/>
            <a:ext cx="0" cy="1154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878400">
            <a:off x="6337080" y="4410000"/>
            <a:ext cx="488880" cy="336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98600" y="4574160"/>
            <a:ext cx="1488600" cy="38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68920" y="4600440"/>
            <a:ext cx="0" cy="11509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362640" y="4600440"/>
            <a:ext cx="209520" cy="1079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571800" y="3525840"/>
            <a:ext cx="211320" cy="1079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981200">
            <a:off x="2160" y="4286160"/>
            <a:ext cx="2793960" cy="384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682" y="392"/>
                </a:moveTo>
                <a:arcTo wR="10800" hR="10800" stAng="-4471327" swAng="2476576"/>
                <a:lnTo>
                  <a:pt x="10800" y="10800"/>
                </a:lnTo>
                <a:close/>
              </a:path>
              <a:path fill="none" w="21600" h="21600">
                <a:moveTo>
                  <a:pt x="13682" y="392"/>
                </a:moveTo>
                <a:arcTo wR="10800" hR="10800" stAng="-4471327" swAng="2476576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4560" y="4276800"/>
            <a:ext cx="1179360" cy="33012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146600">
            <a:off x="1252440" y="4043160"/>
            <a:ext cx="411120" cy="396720"/>
          </a:xfrm>
          <a:custGeom>
            <a:avLst/>
            <a:gdLst/>
            <a:ahLst/>
            <a:rect l="l" t="t" r="r" b="b"/>
            <a:pathLst>
              <a:path w="252" h="181">
                <a:moveTo>
                  <a:pt x="42" y="18"/>
                </a:moveTo>
                <a:cubicBezTo>
                  <a:pt x="22" y="29"/>
                  <a:pt x="12" y="50"/>
                  <a:pt x="6" y="69"/>
                </a:cubicBezTo>
                <a:cubicBezTo>
                  <a:pt x="0" y="88"/>
                  <a:pt x="1" y="119"/>
                  <a:pt x="6" y="135"/>
                </a:cubicBezTo>
                <a:cubicBezTo>
                  <a:pt x="11" y="151"/>
                  <a:pt x="23" y="158"/>
                  <a:pt x="39" y="165"/>
                </a:cubicBezTo>
                <a:cubicBezTo>
                  <a:pt x="55" y="172"/>
                  <a:pt x="79" y="179"/>
                  <a:pt x="105" y="180"/>
                </a:cubicBezTo>
                <a:cubicBezTo>
                  <a:pt x="131" y="181"/>
                  <a:pt x="173" y="178"/>
                  <a:pt x="195" y="171"/>
                </a:cubicBezTo>
                <a:cubicBezTo>
                  <a:pt x="217" y="164"/>
                  <a:pt x="228" y="156"/>
                  <a:pt x="237" y="141"/>
                </a:cubicBezTo>
                <a:cubicBezTo>
                  <a:pt x="246" y="126"/>
                  <a:pt x="252" y="101"/>
                  <a:pt x="249" y="81"/>
                </a:cubicBezTo>
                <a:cubicBezTo>
                  <a:pt x="246" y="61"/>
                  <a:pt x="239" y="31"/>
                  <a:pt x="219" y="18"/>
                </a:cubicBezTo>
                <a:cubicBezTo>
                  <a:pt x="199" y="5"/>
                  <a:pt x="158" y="0"/>
                  <a:pt x="129" y="0"/>
                </a:cubicBezTo>
                <a:cubicBezTo>
                  <a:pt x="100" y="0"/>
                  <a:pt x="62" y="7"/>
                  <a:pt x="42" y="18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6400800">
            <a:off x="631080" y="4888800"/>
            <a:ext cx="1179360" cy="263520"/>
          </a:xfrm>
          <a:custGeom>
            <a:avLst/>
            <a:gdLst>
              <a:gd name="textAreaLeft" fmla="*/ 184320 w 1179360"/>
              <a:gd name="textAreaRight" fmla="*/ 1032120 w 1179360"/>
              <a:gd name="textAreaTop" fmla="*/ 65880 h 263520"/>
              <a:gd name="textAreaBottom" fmla="*/ 197640 h 26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33cc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 rot="17197800">
            <a:off x="986760" y="3719520"/>
            <a:ext cx="1179360" cy="263520"/>
          </a:xfrm>
          <a:custGeom>
            <a:avLst/>
            <a:gdLst>
              <a:gd name="textAreaLeft" fmla="*/ 184320 w 1179360"/>
              <a:gd name="textAreaRight" fmla="*/ 1032120 w 1179360"/>
              <a:gd name="textAreaTop" fmla="*/ 65880 h 263520"/>
              <a:gd name="textAreaBottom" fmla="*/ 197640 h 26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efe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97000" y="4676760"/>
            <a:ext cx="70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392120" y="5018040"/>
          <a:ext cx="736560" cy="241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92120" y="5018040"/>
                    <a:ext cx="7365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755720" y="3629160"/>
          <a:ext cx="952560" cy="507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5720" y="3629160"/>
                    <a:ext cx="9525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448080" y="3527280"/>
          <a:ext cx="863640" cy="685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48080" y="3527280"/>
                    <a:ext cx="8636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7515360" y="3936960"/>
          <a:ext cx="901440" cy="762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15360" y="3936960"/>
                    <a:ext cx="901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965840" y="3327480"/>
          <a:ext cx="228600" cy="304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965840" y="3327480"/>
                    <a:ext cx="2286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959360" y="5286240"/>
          <a:ext cx="203040" cy="292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959360" y="5286240"/>
                    <a:ext cx="20304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889680" y="3546360"/>
          <a:ext cx="228600" cy="304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889680" y="3546360"/>
                    <a:ext cx="2286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702480" y="5419800"/>
          <a:ext cx="203040" cy="291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702480" y="5419800"/>
                    <a:ext cx="2030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004080" y="5143680"/>
          <a:ext cx="266400" cy="368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04080" y="5143680"/>
                    <a:ext cx="266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orio.mussino@polito.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867-CE90-4928-919F-42B874177E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76280" y="714240"/>
            <a:ext cx="818208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iderare un corpo di massa m appoggiato su una superficie orizzontale scabra e sottoposto all’azione di una forza costante (parallela alla superficie). Si possono avere due differenti cas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caso static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la forza attiva applicata non determina alcuna variazione di moto (il corpo resta ferma). Il coefficiente di attrito è detto statico (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ed si ha la rappresen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89560" y="4708440"/>
            <a:ext cx="318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81520" y="4264200"/>
            <a:ext cx="801720" cy="444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87960" y="4479840"/>
            <a:ext cx="679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097240" y="4479840"/>
            <a:ext cx="988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087960" y="3219480"/>
            <a:ext cx="0" cy="1262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87960" y="4481640"/>
            <a:ext cx="0" cy="126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193840" y="3629160"/>
          <a:ext cx="1257480" cy="71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3840" y="3629160"/>
                    <a:ext cx="12574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822920" y="4305240"/>
          <a:ext cx="228600" cy="36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22920" y="4305240"/>
                    <a:ext cx="2286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213600" y="3203640"/>
          <a:ext cx="228600" cy="304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13600" y="3203640"/>
                    <a:ext cx="2286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816600" y="4324320"/>
          <a:ext cx="203400" cy="291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16600" y="4324320"/>
                    <a:ext cx="2034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6245280" y="5419800"/>
          <a:ext cx="203040" cy="291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45280" y="5419800"/>
                    <a:ext cx="2030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orio.mussino@polito.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36CC-D51E-4B66-849D-37A51FB277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75920" y="714240"/>
            <a:ext cx="820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Caso dinami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la forza attiva applicata ha modulo maggiore di quello della forza di attrito (il corpo subisce una variazione di moto) ed il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efficiente di attrito è detto dinami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e si ha la rappres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ttenzio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il coefficiente di attrito è un numero compreso fra zero ed uno, quindi il modulo della forza di attrito e sempre minore di quello della reazione normale della superficie sul corpo.  La lunghezza del vettore forza di attrito deve essere sempre minore di quella della reazione norm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62360" y="3454560"/>
            <a:ext cx="224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61120" y="3057480"/>
            <a:ext cx="680760" cy="39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02400" y="3251160"/>
            <a:ext cx="15444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063760" y="3251160"/>
            <a:ext cx="639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702400" y="2126880"/>
            <a:ext cx="0" cy="1125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02400" y="3247920"/>
            <a:ext cx="0" cy="1125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327400" y="2722680"/>
          <a:ext cx="1257120" cy="71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27400" y="2722680"/>
                    <a:ext cx="12571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823000" y="2287440"/>
          <a:ext cx="22860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23000" y="2287440"/>
                    <a:ext cx="2286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835600" y="3895560"/>
          <a:ext cx="203400" cy="29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35600" y="3895560"/>
                    <a:ext cx="20340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302600" y="3095640"/>
          <a:ext cx="203040" cy="291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02600" y="3095640"/>
                    <a:ext cx="2030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772160" y="3067200"/>
          <a:ext cx="253800" cy="36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772160" y="3067200"/>
                    <a:ext cx="2538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orio.mussino@polito.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434-7430-4FE4-A7AB-642D35717E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76280" y="714240"/>
            <a:ext cx="819144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 consideri una massa m, ferma su una superficie orizzontale scabra: applicando una forza costante e parallela alla superficie, l’andamento sperimentale del coefficiente di attrito f (ordinata) in funzione della forza applicata F (ascissa) presenta un andamento discontinu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 un determinato valore F*, che dipende dalle caratteristiche del materiale costituente il piano, la forza applicata F determina lo spostamento del corpo sul piano (in tale situazione il valore del coefficiente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ha un andamento sufficientemente co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393920" y="3317400"/>
            <a:ext cx="0" cy="2506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93920" y="5832360"/>
            <a:ext cx="3695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393920" y="3722760"/>
            <a:ext cx="1247760" cy="2109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51040" y="3757680"/>
            <a:ext cx="0" cy="2074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49600" y="4084560"/>
            <a:ext cx="2017800" cy="60480"/>
          </a:xfrm>
          <a:custGeom>
            <a:avLst/>
            <a:gdLst/>
            <a:ahLst/>
            <a:rect l="l" t="t" r="r" b="b"/>
            <a:pathLst>
              <a:path w="977" h="10">
                <a:moveTo>
                  <a:pt x="0" y="10"/>
                </a:moveTo>
                <a:cubicBezTo>
                  <a:pt x="6" y="10"/>
                  <a:pt x="18" y="8"/>
                  <a:pt x="40" y="8"/>
                </a:cubicBezTo>
                <a:cubicBezTo>
                  <a:pt x="54" y="8"/>
                  <a:pt x="71" y="10"/>
                  <a:pt x="86" y="10"/>
                </a:cubicBezTo>
                <a:cubicBezTo>
                  <a:pt x="101" y="10"/>
                  <a:pt x="119" y="8"/>
                  <a:pt x="131" y="8"/>
                </a:cubicBezTo>
                <a:cubicBezTo>
                  <a:pt x="153" y="7"/>
                  <a:pt x="147" y="10"/>
                  <a:pt x="161" y="7"/>
                </a:cubicBezTo>
                <a:cubicBezTo>
                  <a:pt x="174" y="7"/>
                  <a:pt x="196" y="6"/>
                  <a:pt x="210" y="6"/>
                </a:cubicBezTo>
                <a:cubicBezTo>
                  <a:pt x="225" y="6"/>
                  <a:pt x="233" y="6"/>
                  <a:pt x="249" y="6"/>
                </a:cubicBezTo>
                <a:cubicBezTo>
                  <a:pt x="265" y="6"/>
                  <a:pt x="291" y="8"/>
                  <a:pt x="308" y="8"/>
                </a:cubicBezTo>
                <a:cubicBezTo>
                  <a:pt x="325" y="8"/>
                  <a:pt x="295" y="6"/>
                  <a:pt x="350" y="6"/>
                </a:cubicBezTo>
                <a:cubicBezTo>
                  <a:pt x="368" y="5"/>
                  <a:pt x="396" y="4"/>
                  <a:pt x="418" y="4"/>
                </a:cubicBezTo>
                <a:cubicBezTo>
                  <a:pt x="440" y="4"/>
                  <a:pt x="463" y="6"/>
                  <a:pt x="484" y="6"/>
                </a:cubicBezTo>
                <a:cubicBezTo>
                  <a:pt x="505" y="6"/>
                  <a:pt x="516" y="4"/>
                  <a:pt x="542" y="4"/>
                </a:cubicBezTo>
                <a:cubicBezTo>
                  <a:pt x="568" y="4"/>
                  <a:pt x="614" y="4"/>
                  <a:pt x="640" y="4"/>
                </a:cubicBezTo>
                <a:cubicBezTo>
                  <a:pt x="656" y="0"/>
                  <a:pt x="679" y="8"/>
                  <a:pt x="696" y="6"/>
                </a:cubicBezTo>
                <a:cubicBezTo>
                  <a:pt x="714" y="7"/>
                  <a:pt x="733" y="4"/>
                  <a:pt x="750" y="4"/>
                </a:cubicBezTo>
                <a:cubicBezTo>
                  <a:pt x="767" y="4"/>
                  <a:pt x="783" y="8"/>
                  <a:pt x="800" y="8"/>
                </a:cubicBezTo>
                <a:cubicBezTo>
                  <a:pt x="817" y="8"/>
                  <a:pt x="832" y="6"/>
                  <a:pt x="853" y="6"/>
                </a:cubicBezTo>
                <a:cubicBezTo>
                  <a:pt x="874" y="6"/>
                  <a:pt x="907" y="6"/>
                  <a:pt x="928" y="6"/>
                </a:cubicBezTo>
                <a:cubicBezTo>
                  <a:pt x="949" y="6"/>
                  <a:pt x="967" y="8"/>
                  <a:pt x="977" y="8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3720" y="5051520"/>
            <a:ext cx="319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66040" y="4727520"/>
            <a:ext cx="17240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8400" y="5059440"/>
            <a:ext cx="3154680" cy="60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46680" y="4386240"/>
            <a:ext cx="990720" cy="654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24400" y="5048280"/>
            <a:ext cx="9050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286240" y="4551480"/>
          <a:ext cx="25416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6240" y="4551480"/>
                    <a:ext cx="2541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893000" y="4341960"/>
          <a:ext cx="20340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93000" y="4341960"/>
                    <a:ext cx="2034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540320" y="5846760"/>
          <a:ext cx="203040" cy="29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40320" y="5846760"/>
                    <a:ext cx="2030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530440" y="5865840"/>
          <a:ext cx="279360" cy="29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30440" y="5865840"/>
                    <a:ext cx="2793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479600" y="3524400"/>
          <a:ext cx="152280" cy="22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79600" y="3524400"/>
                    <a:ext cx="152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114640" y="5135400"/>
          <a:ext cx="406440" cy="381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14640" y="5135400"/>
                    <a:ext cx="4064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759040" y="5116680"/>
          <a:ext cx="432000" cy="38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59040" y="5116680"/>
                    <a:ext cx="432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orio.mussino@polito.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2D3-78AC-49E0-A352-2CBF88E693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6560" y="71424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buClr>
                <a:srgbClr val="000000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ndo il valore della forza applicata inizia a crescere, fino ad eguagliare il valore F*, il coefficiente di attrito cresce linearmente dal valore nullo al massimo valore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 la massa non si muove (il coefficiente di attrito è detto static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buClr>
                <a:srgbClr val="000000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ndo il valore della forza applicata supera il valore F*, il coefficiente di attrito si mantiene sufficientemente costante ed il corpo inizia a muoversi di moto accelerato (il coefficiente di attrito è detto dinamic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buClr>
                <a:srgbClr val="000000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ndo F = F*, il corpo si muove di moto rettilineo unifor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buClr>
                <a:srgbClr val="000000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funzione f = f(F), rappresentata in figura, non è continua in quanto presenta un discontinuità proprio per il valore critico F*, in corrispondenza del quale il valore numerico (massimo) di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è maggiore di quello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Sovente come coefficiente di attrito dinamico si assume il massimo valore di quello statico, cio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51280" y="5127480"/>
          <a:ext cx="148572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5127480"/>
                    <a:ext cx="14857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orio.mussino@polito.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741-CAEB-417C-8C20-CB279A0D8F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100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3T16:14:04Z</dcterms:created>
  <dc:creator>Vittorio Mussino</dc:creator>
  <dc:description/>
  <dc:language>en-US</dc:language>
  <cp:lastModifiedBy>fede</cp:lastModifiedBy>
  <cp:lastPrinted>2004-03-28T16:00:04Z</cp:lastPrinted>
  <dcterms:modified xsi:type="dcterms:W3CDTF">2018-01-26T16:11:08Z</dcterms:modified>
  <cp:revision>81</cp:revision>
  <dc:subject>19/11/2008</dc:subject>
  <dc:title>FORZA DI ATTRI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47017579</vt:r8>
  </property>
  <property fmtid="{D5CDD505-2E9C-101B-9397-08002B2CF9AE}" pid="3" name="_AuthorEmail">
    <vt:lpwstr>simona.cataldo@polito.it</vt:lpwstr>
  </property>
  <property fmtid="{D5CDD505-2E9C-101B-9397-08002B2CF9AE}" pid="4" name="_AuthorEmailDisplayName">
    <vt:lpwstr>Simona Cataldo</vt:lpwstr>
  </property>
  <property fmtid="{D5CDD505-2E9C-101B-9397-08002B2CF9AE}" pid="5" name="_EmailSubject">
    <vt:lpwstr>materiale fisica</vt:lpwstr>
  </property>
</Properties>
</file>