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FE-6B1E-4FB0-917B-73991A80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2C4-B456-4C85-A9BD-F859C807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E69-DE95-46FF-BABA-A14D895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327-B2FE-4072-8AD6-A9EEC9B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5C6-F6FB-46BF-8331-AD671E48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CC4-FAD1-4966-9C3F-16DFA4F2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1D3-B98C-40C4-AB0B-16153A12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1E7-04A6-44F2-AD06-226F6C6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333-4DC8-4013-ADA9-77574A7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307-2D64-4A3C-ABCF-22BFE04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29C-67B4-4535-B929-2C3C280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9FC-B9FA-4196-83AF-7E7B278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FE3-5A4E-4DD0-B6DB-EC79485D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REGOLA DEL PARALLELOGRAMMA IN POCHE  MOSSE…..</a:t>
            </a:r>
            <a:br>
              <a:rPr sz="36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. Barbaro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380988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8316800">
            <a:off x="4991040" y="2342520"/>
            <a:ext cx="1143000" cy="137160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5313200">
            <a:off x="5457600" y="2933280"/>
            <a:ext cx="1143000" cy="137160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96360" y="2165760"/>
            <a:ext cx="2451240" cy="2697120"/>
            <a:chOff x="3996360" y="2165760"/>
            <a:chExt cx="2451240" cy="2697120"/>
          </a:xfrm>
        </p:grpSpPr>
        <p:sp>
          <p:nvSpPr>
            <p:cNvPr id="46" name=""/>
            <p:cNvSpPr/>
            <p:nvPr/>
          </p:nvSpPr>
          <p:spPr>
            <a:xfrm rot="18316800">
              <a:off x="4986000" y="2342520"/>
              <a:ext cx="1143000" cy="1371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316800">
              <a:off x="4314600" y="3314160"/>
              <a:ext cx="1143000" cy="1371600"/>
            </a:xfrm>
            <a:prstGeom prst="rtTriangl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335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gna 2 ve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64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 una squadra con un lato parallelo al primo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oggia l’altra squadra in modo che la prima possa scorrere verso il basso rimanendo parallela al primo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8560" y="267192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 scorrere la squadra fino alla punta del secondo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4376880"/>
            <a:ext cx="38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cia una linea tratteggiata parallela al primo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2971800"/>
            <a:ext cx="1067040" cy="1295280"/>
            <a:chOff x="4190760" y="2971800"/>
            <a:chExt cx="1067040" cy="1295280"/>
          </a:xfrm>
        </p:grpSpPr>
        <p:sp>
          <p:nvSpPr>
            <p:cNvPr id="54" name=""/>
            <p:cNvSpPr/>
            <p:nvPr/>
          </p:nvSpPr>
          <p:spPr>
            <a:xfrm>
              <a:off x="4419720" y="2971800"/>
              <a:ext cx="8380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190760" y="2971800"/>
              <a:ext cx="2286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2995200">
            <a:off x="3607920" y="2581560"/>
            <a:ext cx="1371600" cy="160020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4200">
            <a:off x="3476160" y="3742920"/>
            <a:ext cx="1143000" cy="137160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09760" y="2296800"/>
            <a:ext cx="2972880" cy="3139920"/>
            <a:chOff x="3209760" y="2296800"/>
            <a:chExt cx="2972880" cy="3139920"/>
          </a:xfrm>
        </p:grpSpPr>
        <p:sp>
          <p:nvSpPr>
            <p:cNvPr id="59" name=""/>
            <p:cNvSpPr/>
            <p:nvPr/>
          </p:nvSpPr>
          <p:spPr>
            <a:xfrm rot="2995200">
              <a:off x="3589200" y="2544120"/>
              <a:ext cx="1415880" cy="1651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995200">
              <a:off x="4386960" y="3537360"/>
              <a:ext cx="1415880" cy="1651320"/>
            </a:xfrm>
            <a:prstGeom prst="rtTriangl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419720" y="29718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07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80988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934160" y="2823840"/>
            <a:ext cx="437760" cy="265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ti il procedimento per il secondo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19720" y="29718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07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80988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934160" y="2823840"/>
            <a:ext cx="437760" cy="265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33760" y="3014640"/>
            <a:ext cx="60984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cia la ri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21:58:53Z</dcterms:created>
  <dc:creator>federico</dc:creator>
  <dc:description/>
  <dc:language>en-US</dc:language>
  <cp:lastModifiedBy>fede</cp:lastModifiedBy>
  <dcterms:modified xsi:type="dcterms:W3CDTF">2018-06-04T18:12:32Z</dcterms:modified>
  <cp:revision>14</cp:revision>
  <dc:subject/>
  <dc:title>Presentazione di PowerPoint</dc:title>
</cp:coreProperties>
</file>