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E6F1-9215-4045-81A1-31A581AF5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7BEF-8FC1-40BF-950A-B75F1A54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1C32-B987-4CF5-BEBA-E8100A504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F17E-0CA1-4906-AC60-9CFB4B037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CDE2-A3F0-4D79-B752-15017411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1787-2CC5-4454-8894-4EF75557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1892-9391-4EA4-AE72-F1F84A5A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27AC-36D1-4B32-82D1-6CF4D939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C3D2-29D0-45F7-A5FB-92B2D105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21D7-D2B1-466B-89BB-3352DCE0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1B04-6C7F-4376-9AEF-A036418B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17EC-FCC5-4F35-8EBE-2D30862A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E7CB-22D6-47E8-878F-BFC75EE682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l moto del proiett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163520" y="1371600"/>
          <a:ext cx="6818400" cy="28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3520" y="1371600"/>
                    <a:ext cx="681840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o del proiett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CasellaDiTesto 4"/>
          <p:cNvSpPr/>
          <p:nvPr/>
        </p:nvSpPr>
        <p:spPr>
          <a:xfrm>
            <a:off x="838080" y="457200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ogliamo verificare la legge Fisica che lega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y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altezza) 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x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gittata) nel moto del proiett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213000" y="2133720"/>
            <a:ext cx="2286000" cy="1447560"/>
            <a:chOff x="3213000" y="2133720"/>
            <a:chExt cx="2286000" cy="1447560"/>
          </a:xfrm>
        </p:grpSpPr>
        <p:sp>
          <p:nvSpPr>
            <p:cNvPr id="47" name=""/>
            <p:cNvSpPr/>
            <p:nvPr/>
          </p:nvSpPr>
          <p:spPr>
            <a:xfrm>
              <a:off x="3213000" y="2133720"/>
              <a:ext cx="2286000" cy="1447560"/>
            </a:xfrm>
            <a:prstGeom prst="rect">
              <a:avLst/>
            </a:prstGeom>
            <a:solidFill>
              <a:srgbClr val="f1f616"/>
            </a:solidFill>
            <a:ln w="9360">
              <a:solidFill>
                <a:srgbClr val="f1f6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8" name=""/>
            <p:cNvGraphicFramePr/>
            <p:nvPr/>
          </p:nvGraphicFramePr>
          <p:xfrm>
            <a:off x="3416400" y="2260440"/>
            <a:ext cx="1857240" cy="1150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16400" y="2260440"/>
                      <a:ext cx="1857240" cy="115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a traiettoria del proiett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28760" y="79524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l proiettile viene sparato orizzontalmente da un altezza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n velocità orizzontal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479760"/>
            <a:ext cx="8229600" cy="1005480"/>
            <a:chOff x="380880" y="3479760"/>
            <a:chExt cx="8229600" cy="1005480"/>
          </a:xfrm>
        </p:grpSpPr>
        <p:sp>
          <p:nvSpPr>
            <p:cNvPr id="53" name="CasellaDiTesto 10"/>
            <p:cNvSpPr/>
            <p:nvPr/>
          </p:nvSpPr>
          <p:spPr>
            <a:xfrm>
              <a:off x="380880" y="3479760"/>
              <a:ext cx="8229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Lungo l’asse 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 il moto è rettilineo uniforme e possiamo scrivere la legge oraria come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4800600" y="3975120"/>
              <a:ext cx="1904760" cy="510120"/>
              <a:chOff x="4800600" y="3975120"/>
              <a:chExt cx="1904760" cy="510120"/>
            </a:xfrm>
          </p:grpSpPr>
          <p:sp>
            <p:nvSpPr>
              <p:cNvPr id="55" name="Freccia a destra 7"/>
              <p:cNvSpPr/>
              <p:nvPr/>
            </p:nvSpPr>
            <p:spPr>
              <a:xfrm>
                <a:off x="4800600" y="4177440"/>
                <a:ext cx="304560" cy="202320"/>
              </a:xfrm>
              <a:prstGeom prst="rightArrow">
                <a:avLst>
                  <a:gd name="adj1" fmla="val 50000"/>
                  <a:gd name="adj2" fmla="val 37633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CasellaDiTesto 8"/>
              <p:cNvSpPr/>
              <p:nvPr/>
            </p:nvSpPr>
            <p:spPr>
              <a:xfrm>
                <a:off x="5257800" y="3975120"/>
                <a:ext cx="1447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x = v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alibri"/>
                  </a:rPr>
                  <a:t>0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t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380880" y="4597560"/>
            <a:ext cx="8382240" cy="1500840"/>
            <a:chOff x="380880" y="4597560"/>
            <a:chExt cx="8382240" cy="1500840"/>
          </a:xfrm>
        </p:grpSpPr>
        <p:grpSp>
          <p:nvGrpSpPr>
            <p:cNvPr id="58" name=""/>
            <p:cNvGrpSpPr/>
            <p:nvPr/>
          </p:nvGrpSpPr>
          <p:grpSpPr>
            <a:xfrm>
              <a:off x="685800" y="5638680"/>
              <a:ext cx="1828440" cy="459720"/>
              <a:chOff x="685800" y="5638680"/>
              <a:chExt cx="1828440" cy="459720"/>
            </a:xfrm>
          </p:grpSpPr>
          <p:sp>
            <p:nvSpPr>
              <p:cNvPr id="59" name="Freccia a destra 9"/>
              <p:cNvSpPr/>
              <p:nvPr/>
            </p:nvSpPr>
            <p:spPr>
              <a:xfrm>
                <a:off x="685800" y="5879880"/>
                <a:ext cx="304560" cy="190080"/>
              </a:xfrm>
              <a:prstGeom prst="rightArrow">
                <a:avLst>
                  <a:gd name="adj1" fmla="val 50000"/>
                  <a:gd name="adj2" fmla="val 40057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CasellaDiTesto 11"/>
              <p:cNvSpPr/>
              <p:nvPr/>
            </p:nvSpPr>
            <p:spPr>
              <a:xfrm>
                <a:off x="1067040" y="5638680"/>
                <a:ext cx="144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y = ½ g t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alibri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80880" y="4597560"/>
              <a:ext cx="8382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Lungo l’asse 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y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 il moto è uniformemente accelerato con accelerazione  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g. 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Possiamo scrivere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 l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 legge oraria co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2" name=""/>
          <p:cNvGraphicFramePr/>
          <p:nvPr/>
        </p:nvGraphicFramePr>
        <p:xfrm>
          <a:off x="1752480" y="1727280"/>
          <a:ext cx="4780080" cy="18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727280"/>
                    <a:ext cx="4780080" cy="18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Calibri"/>
              </a:rPr>
              <a:t>La traiettoria del proiettile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28760" y="8380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definitiva avremo un sistema di due equazion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838080" y="1333440"/>
            <a:ext cx="1357560" cy="967320"/>
            <a:chOff x="838080" y="1333440"/>
            <a:chExt cx="1357560" cy="967320"/>
          </a:xfrm>
        </p:grpSpPr>
        <p:sp>
          <p:nvSpPr>
            <p:cNvPr id="67" name="CasellaDiTesto 11"/>
            <p:cNvSpPr/>
            <p:nvPr/>
          </p:nvSpPr>
          <p:spPr>
            <a:xfrm>
              <a:off x="838080" y="1333440"/>
              <a:ext cx="135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y = ½ g t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CasellaDiTesto 12"/>
            <p:cNvSpPr/>
            <p:nvPr/>
          </p:nvSpPr>
          <p:spPr>
            <a:xfrm>
              <a:off x="838080" y="1790640"/>
              <a:ext cx="1357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x = 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alibri"/>
                </a:rPr>
                <a:t>0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533520" y="23875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caviamo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91120" y="308628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otizzando che t è ugual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028880" y="4991040"/>
            <a:ext cx="5981400" cy="1447920"/>
            <a:chOff x="1028880" y="4991040"/>
            <a:chExt cx="5981400" cy="1447920"/>
          </a:xfrm>
        </p:grpSpPr>
        <p:grpSp>
          <p:nvGrpSpPr>
            <p:cNvPr id="72" name=""/>
            <p:cNvGrpSpPr/>
            <p:nvPr/>
          </p:nvGrpSpPr>
          <p:grpSpPr>
            <a:xfrm>
              <a:off x="4724280" y="4991040"/>
              <a:ext cx="2286000" cy="1447920"/>
              <a:chOff x="4724280" y="4991040"/>
              <a:chExt cx="2286000" cy="1447920"/>
            </a:xfrm>
          </p:grpSpPr>
          <p:sp>
            <p:nvSpPr>
              <p:cNvPr id="73" name=""/>
              <p:cNvSpPr/>
              <p:nvPr/>
            </p:nvSpPr>
            <p:spPr>
              <a:xfrm>
                <a:off x="4724280" y="4991040"/>
                <a:ext cx="2286000" cy="1447920"/>
              </a:xfrm>
              <a:prstGeom prst="rect">
                <a:avLst/>
              </a:prstGeom>
              <a:solidFill>
                <a:srgbClr val="f1f616"/>
              </a:solidFill>
              <a:ln w="9360">
                <a:solidFill>
                  <a:srgbClr val="f1f6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74" name=""/>
              <p:cNvGraphicFramePr/>
              <p:nvPr/>
            </p:nvGraphicFramePr>
            <p:xfrm>
              <a:off x="4927680" y="5118120"/>
              <a:ext cx="1857240" cy="11509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927680" y="5118120"/>
                        <a:ext cx="1857240" cy="1150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76" name=""/>
            <p:cNvGraphicFramePr/>
            <p:nvPr/>
          </p:nvGraphicFramePr>
          <p:xfrm>
            <a:off x="1028880" y="5397480"/>
            <a:ext cx="3200400" cy="608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28880" y="5397480"/>
                      <a:ext cx="3200400" cy="60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78" name=""/>
          <p:cNvGraphicFramePr/>
          <p:nvPr/>
        </p:nvGraphicFramePr>
        <p:xfrm>
          <a:off x="609480" y="2895480"/>
          <a:ext cx="3353040" cy="7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2895480"/>
                    <a:ext cx="335304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990720" y="3886200"/>
          <a:ext cx="6922800" cy="896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3886200"/>
                    <a:ext cx="6922800" cy="89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3657600" y="1219320"/>
          <a:ext cx="4551480" cy="1747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57600" y="1219320"/>
                    <a:ext cx="4551480" cy="17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838080" y="990720"/>
            <a:ext cx="4368960" cy="4647960"/>
            <a:chOff x="838080" y="990720"/>
            <a:chExt cx="4368960" cy="4647960"/>
          </a:xfrm>
        </p:grpSpPr>
        <p:graphicFrame>
          <p:nvGraphicFramePr>
            <p:cNvPr id="85" name=""/>
            <p:cNvGraphicFramePr/>
            <p:nvPr/>
          </p:nvGraphicFramePr>
          <p:xfrm>
            <a:off x="838080" y="990720"/>
            <a:ext cx="4368960" cy="4562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38080" y="990720"/>
                      <a:ext cx="4368960" cy="456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" name=""/>
            <p:cNvSpPr/>
            <p:nvPr/>
          </p:nvSpPr>
          <p:spPr>
            <a:xfrm>
              <a:off x="3276720" y="3962520"/>
              <a:ext cx="1904760" cy="167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laborato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344760" y="2209680"/>
          <a:ext cx="2657520" cy="191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4760" y="2209680"/>
                    <a:ext cx="2657520" cy="19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4368960" y="4343400"/>
            <a:ext cx="2314440" cy="1076400"/>
          </a:xfrm>
          <a:prstGeom prst="rect">
            <a:avLst/>
          </a:prstGeom>
          <a:ln w="0">
            <a:noFill/>
          </a:ln>
        </p:spPr>
      </p:pic>
      <p:grpSp>
        <p:nvGrpSpPr>
          <p:cNvPr id="92" name=""/>
          <p:cNvGrpSpPr/>
          <p:nvPr/>
        </p:nvGrpSpPr>
        <p:grpSpPr>
          <a:xfrm>
            <a:off x="5257800" y="1676520"/>
            <a:ext cx="3200400" cy="2743200"/>
            <a:chOff x="5257800" y="1676520"/>
            <a:chExt cx="3200400" cy="2743200"/>
          </a:xfrm>
        </p:grpSpPr>
        <p:sp>
          <p:nvSpPr>
            <p:cNvPr id="93" name=""/>
            <p:cNvSpPr/>
            <p:nvPr/>
          </p:nvSpPr>
          <p:spPr>
            <a:xfrm flipH="1">
              <a:off x="6171840" y="2895480"/>
              <a:ext cx="30492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57800" y="1676520"/>
              <a:ext cx="32004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ul banco un foglio di carta bianca ricoperto da carta carbon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In laborato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876920" y="279360"/>
            <a:ext cx="3352680" cy="2602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33520" y="99072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izionate lo scivolo alla massima altez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905120"/>
            <a:ext cx="434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izionate la sfera ferma in cima allo scivolo e fatela cadere senza spinger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3657600"/>
            <a:ext cx="821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petete per 5 volte ed individuate la circonferenza che racchiude tutti i punti: il centro è il punto medio e il raggio l’errore assolu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648320"/>
            <a:ext cx="7772400" cy="825480"/>
          </a:xfrm>
          <a:prstGeom prst="rect">
            <a:avLst/>
          </a:prstGeom>
          <a:solidFill>
            <a:srgbClr val="f1f6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petete la procedura variando l’altezza dello scivolo 5 volte e compilando la tabel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09480" y="1219320"/>
            <a:ext cx="8077320" cy="2303640"/>
            <a:chOff x="609480" y="1219320"/>
            <a:chExt cx="8077320" cy="2303640"/>
          </a:xfrm>
        </p:grpSpPr>
        <p:sp>
          <p:nvSpPr>
            <p:cNvPr id="102" name=""/>
            <p:cNvSpPr/>
            <p:nvPr/>
          </p:nvSpPr>
          <p:spPr>
            <a:xfrm>
              <a:off x="609480" y="3124080"/>
              <a:ext cx="80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isurate la distanza x dalla verticale di “fine scivolo” al punto 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48520" y="12193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70880" y="219708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48520" y="23623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845400" y="22860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laborato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33520" y="1003320"/>
          <a:ext cx="8076960" cy="204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03320"/>
                    <a:ext cx="8076960" cy="20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609480" y="3137040"/>
          <a:ext cx="7010640" cy="62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137040"/>
                    <a:ext cx="7010640" cy="62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609480" y="3809880"/>
          <a:ext cx="8229600" cy="297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3809880"/>
                    <a:ext cx="822960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762120" y="4419720"/>
          <a:ext cx="8076960" cy="635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4419720"/>
                    <a:ext cx="807696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21:29:34Z</dcterms:created>
  <dc:creator>Xp Home Edition</dc:creator>
  <dc:description/>
  <dc:language>en-US</dc:language>
  <cp:lastModifiedBy>fede</cp:lastModifiedBy>
  <dcterms:modified xsi:type="dcterms:W3CDTF">2018-03-24T13:36:33Z</dcterms:modified>
  <cp:revision>32</cp:revision>
  <dc:subject/>
  <dc:title>Il moto del proiettile</dc:title>
</cp:coreProperties>
</file>