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518-F681-43AB-BEBB-031ED926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9CC-A57A-4C67-89B5-7FDD2AE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ACA-9A66-44DB-B432-9B6CF9D6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F2D-4340-4A32-A6CE-53EA8FAA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A65-0C41-42E8-94D7-5C10764A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42C-0549-4957-9268-FD91261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452-C466-4E98-80A8-80553EE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A8A-C069-4E38-9192-667A8D03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DDE-12CC-4E3D-9221-6017759F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D27-FCCE-444C-ADFB-2933407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558-18B5-481F-99E6-BBDFCC1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F4D-646F-498E-AEA9-210D9F3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AE5-B51E-4A29-B830-F28B3688FA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l Moto Circolare Uniforme è un moto acceler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1337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l MCU il “modulo” della velocità è co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2560" y="2971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’ presente però l’accelerazione centrip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9625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ind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5335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l punto di vista qualitativo si può fare riferimento alla definizione dei “grandezza vettori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l’applichiamo alla velocità periferica del MCU allor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224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714840" y="2857680"/>
            <a:ext cx="3961440" cy="3124080"/>
            <a:chOff x="3714840" y="2857680"/>
            <a:chExt cx="3961440" cy="3124080"/>
          </a:xfrm>
        </p:grpSpPr>
        <p:sp>
          <p:nvSpPr>
            <p:cNvPr id="49" name=""/>
            <p:cNvSpPr/>
            <p:nvPr/>
          </p:nvSpPr>
          <p:spPr>
            <a:xfrm>
              <a:off x="3714840" y="3238560"/>
              <a:ext cx="3047760" cy="274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162400" y="2857680"/>
              <a:ext cx="2513880" cy="2819160"/>
              <a:chOff x="5162400" y="2857680"/>
              <a:chExt cx="2513880" cy="2819160"/>
            </a:xfrm>
          </p:grpSpPr>
          <p:sp>
            <p:nvSpPr>
              <p:cNvPr id="51" name=""/>
              <p:cNvSpPr/>
              <p:nvPr/>
            </p:nvSpPr>
            <p:spPr>
              <a:xfrm>
                <a:off x="5238360" y="3238560"/>
                <a:ext cx="144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28720" y="3543480"/>
                <a:ext cx="9903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62240" y="4533840"/>
                <a:ext cx="7596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62400" y="3162240"/>
                <a:ext cx="15192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28720" y="3543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685920" y="44578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76440" y="28576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67160" y="38480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90840" y="52196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52760" y="2919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3120" y="38480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67160" y="522468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titativamente con il metodo delle componenti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mostriamo l’esistenza dell’accel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133720"/>
            <a:ext cx="4114800" cy="3886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800600" y="1724040"/>
            <a:ext cx="2133720" cy="459720"/>
            <a:chOff x="4800600" y="1724040"/>
            <a:chExt cx="2133720" cy="459720"/>
          </a:xfrm>
        </p:grpSpPr>
        <p:sp>
          <p:nvSpPr>
            <p:cNvPr id="66" name=""/>
            <p:cNvSpPr/>
            <p:nvPr/>
          </p:nvSpPr>
          <p:spPr>
            <a:xfrm>
              <a:off x="4800600" y="2133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1724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858000" y="4038480"/>
            <a:ext cx="762120" cy="2059920"/>
            <a:chOff x="6858000" y="4038480"/>
            <a:chExt cx="762120" cy="2059920"/>
          </a:xfrm>
        </p:grpSpPr>
        <p:sp>
          <p:nvSpPr>
            <p:cNvPr id="69" name=""/>
            <p:cNvSpPr/>
            <p:nvPr/>
          </p:nvSpPr>
          <p:spPr>
            <a:xfrm>
              <a:off x="6858000" y="40384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10280" y="5638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343400" y="2152800"/>
            <a:ext cx="609480" cy="1981080"/>
            <a:chOff x="4343400" y="2152800"/>
            <a:chExt cx="609480" cy="1981080"/>
          </a:xfrm>
        </p:grpSpPr>
        <p:sp>
          <p:nvSpPr>
            <p:cNvPr id="72" name=""/>
            <p:cNvSpPr/>
            <p:nvPr/>
          </p:nvSpPr>
          <p:spPr>
            <a:xfrm>
              <a:off x="4795920" y="2152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800240" y="2133720"/>
            <a:ext cx="2133720" cy="1981080"/>
            <a:chOff x="4800240" y="2133720"/>
            <a:chExt cx="2133720" cy="1981080"/>
          </a:xfrm>
        </p:grpSpPr>
        <p:sp>
          <p:nvSpPr>
            <p:cNvPr id="75" name=""/>
            <p:cNvSpPr/>
            <p:nvPr/>
          </p:nvSpPr>
          <p:spPr>
            <a:xfrm flipH="1">
              <a:off x="4800240" y="2133720"/>
              <a:ext cx="213372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8680" y="3200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33920" y="990720"/>
            <a:ext cx="4114800" cy="3886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791320" y="581040"/>
            <a:ext cx="2133360" cy="459720"/>
            <a:chOff x="5791320" y="581040"/>
            <a:chExt cx="2133360" cy="459720"/>
          </a:xfrm>
        </p:grpSpPr>
        <p:sp>
          <p:nvSpPr>
            <p:cNvPr id="79" name=""/>
            <p:cNvSpPr/>
            <p:nvPr/>
          </p:nvSpPr>
          <p:spPr>
            <a:xfrm>
              <a:off x="5791320" y="990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4840" y="581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4120" y="1009800"/>
            <a:ext cx="609480" cy="1981080"/>
            <a:chOff x="5334120" y="1009800"/>
            <a:chExt cx="609480" cy="1981080"/>
          </a:xfrm>
        </p:grpSpPr>
        <p:sp>
          <p:nvSpPr>
            <p:cNvPr id="82" name=""/>
            <p:cNvSpPr/>
            <p:nvPr/>
          </p:nvSpPr>
          <p:spPr>
            <a:xfrm>
              <a:off x="5786640" y="1009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41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91320" y="990720"/>
            <a:ext cx="2133360" cy="1981080"/>
            <a:chOff x="5791320" y="990720"/>
            <a:chExt cx="2133360" cy="1981080"/>
          </a:xfrm>
        </p:grpSpPr>
        <p:sp>
          <p:nvSpPr>
            <p:cNvPr id="85" name=""/>
            <p:cNvSpPr/>
            <p:nvPr/>
          </p:nvSpPr>
          <p:spPr>
            <a:xfrm flipH="1">
              <a:off x="5791320" y="990720"/>
              <a:ext cx="213336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04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57200" y="609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ix =    modulo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600" y="113364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fy =  - modulo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62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 = - vfy - v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86400" y="685800"/>
            <a:ext cx="609480" cy="609480"/>
            <a:chOff x="5486400" y="685800"/>
            <a:chExt cx="609480" cy="609480"/>
          </a:xfrm>
        </p:grpSpPr>
        <p:sp>
          <p:nvSpPr>
            <p:cNvPr id="91" name=""/>
            <p:cNvSpPr/>
            <p:nvPr/>
          </p:nvSpPr>
          <p:spPr>
            <a:xfrm>
              <a:off x="5790960" y="685800"/>
              <a:ext cx="0" cy="609480"/>
            </a:xfrm>
            <a:prstGeom prst="line">
              <a:avLst/>
            </a:prstGeom>
            <a:ln w="572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990720"/>
              <a:ext cx="609480" cy="0"/>
            </a:xfrm>
            <a:prstGeom prst="line">
              <a:avLst/>
            </a:prstGeom>
            <a:ln w="572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380880" y="3352680"/>
          <a:ext cx="53341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53341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48320" y="2865600"/>
            <a:ext cx="3603600" cy="333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50120" y="2514600"/>
            <a:ext cx="1868400" cy="459720"/>
            <a:chOff x="6450120" y="2514600"/>
            <a:chExt cx="1868400" cy="459720"/>
          </a:xfrm>
        </p:grpSpPr>
        <p:sp>
          <p:nvSpPr>
            <p:cNvPr id="99" name=""/>
            <p:cNvSpPr/>
            <p:nvPr/>
          </p:nvSpPr>
          <p:spPr>
            <a:xfrm>
              <a:off x="6450120" y="2866680"/>
              <a:ext cx="18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4280" y="2514600"/>
              <a:ext cx="5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49800" y="2882880"/>
            <a:ext cx="533520" cy="1700280"/>
            <a:chOff x="6049800" y="2882880"/>
            <a:chExt cx="533520" cy="1700280"/>
          </a:xfrm>
        </p:grpSpPr>
        <p:sp>
          <p:nvSpPr>
            <p:cNvPr id="102" name=""/>
            <p:cNvSpPr/>
            <p:nvPr/>
          </p:nvSpPr>
          <p:spPr>
            <a:xfrm>
              <a:off x="6445800" y="2882880"/>
              <a:ext cx="0" cy="17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9800" y="3912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50120" y="2865600"/>
            <a:ext cx="1868400" cy="1701720"/>
            <a:chOff x="6450120" y="2865600"/>
            <a:chExt cx="1868400" cy="1701720"/>
          </a:xfrm>
        </p:grpSpPr>
        <p:sp>
          <p:nvSpPr>
            <p:cNvPr id="105" name=""/>
            <p:cNvSpPr/>
            <p:nvPr/>
          </p:nvSpPr>
          <p:spPr>
            <a:xfrm flipH="1">
              <a:off x="6450120" y="2865600"/>
              <a:ext cx="1868400" cy="1701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3800" y="3782880"/>
              <a:ext cx="5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332320" y="4867200"/>
                <a:ext cx="1000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2320" y="4867200"/>
                <a:ext cx="1000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09480" y="457200"/>
          <a:ext cx="556272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55627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480" y="2057400"/>
          <a:ext cx="365760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057400"/>
                    <a:ext cx="36576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685800" y="3886200"/>
            <a:ext cx="6540480" cy="2108160"/>
            <a:chOff x="685800" y="3886200"/>
            <a:chExt cx="6540480" cy="2108160"/>
          </a:xfrm>
        </p:grpSpPr>
        <p:sp>
          <p:nvSpPr>
            <p:cNvPr id="114" name=""/>
            <p:cNvSpPr/>
            <p:nvPr/>
          </p:nvSpPr>
          <p:spPr>
            <a:xfrm>
              <a:off x="644364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5800" y="3886200"/>
              <a:ext cx="2152440" cy="1060560"/>
              <a:chOff x="685800" y="3886200"/>
              <a:chExt cx="2152440" cy="106056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41911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</a:t>
                </a: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886200"/>
                <a:ext cx="1466640" cy="106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990720" y="4343400"/>
              <a:ext cx="6235560" cy="1650960"/>
            </a:xfrm>
            <a:custGeom>
              <a:avLst/>
              <a:gdLst/>
              <a:ahLst/>
              <a:rect l="l" t="t" r="r" b="b"/>
              <a:pathLst>
                <a:path w="3928" h="1040">
                  <a:moveTo>
                    <a:pt x="0" y="288"/>
                  </a:moveTo>
                  <a:cubicBezTo>
                    <a:pt x="120" y="420"/>
                    <a:pt x="240" y="552"/>
                    <a:pt x="528" y="672"/>
                  </a:cubicBezTo>
                  <a:cubicBezTo>
                    <a:pt x="816" y="792"/>
                    <a:pt x="1336" y="976"/>
                    <a:pt x="1728" y="1008"/>
                  </a:cubicBezTo>
                  <a:cubicBezTo>
                    <a:pt x="2120" y="1040"/>
                    <a:pt x="2536" y="976"/>
                    <a:pt x="2880" y="864"/>
                  </a:cubicBezTo>
                  <a:cubicBezTo>
                    <a:pt x="3224" y="752"/>
                    <a:pt x="3656" y="480"/>
                    <a:pt x="3792" y="336"/>
                  </a:cubicBezTo>
                  <a:cubicBezTo>
                    <a:pt x="3928" y="192"/>
                    <a:pt x="3712" y="56"/>
                    <a:pt x="3696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4:29:42Z</dcterms:created>
  <dc:creator>fede</dc:creator>
  <dc:description/>
  <dc:language>en-US</dc:language>
  <cp:lastModifiedBy>fede</cp:lastModifiedBy>
  <dcterms:modified xsi:type="dcterms:W3CDTF">2018-03-24T13:53:04Z</dcterms:modified>
  <cp:revision>15</cp:revision>
  <dc:subject/>
  <dc:title>Il Moto Circolare Uniforme è un moto accelerato?</dc:title>
</cp:coreProperties>
</file>