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9.png" ContentType="image/png"/>
  <Override PartName="/ppt/media/image8.png" ContentType="image/png"/>
  <Override PartName="/ppt/media/image21.gif" ContentType="image/gif"/>
  <Override PartName="/ppt/media/image19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gif" ContentType="image/gi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173-1469-4AFF-833E-BC3DE0AD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64A-D25A-4B66-8FA5-47EFA3A1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F28-D909-47E3-ABD8-9F10CB1A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560-D428-4306-9F12-39ABC86B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979-14FE-461A-9B57-D8D7DA83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A69-E2B1-495D-B8A8-48341504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3DD-4777-4540-838D-07B452E0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FD7-5DD3-45D3-9CA4-2EAC8898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AA9-964B-43A9-9156-8E705640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F1C-A024-4701-BE6F-61815EEE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BCC-0DDC-419D-AEA4-9E0253CB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B17-4F3D-4250-9622-9E05F80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5C4C-FD72-4D3E-B3A3-6C694ABA9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image" Target="../media/image19.gif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8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9.png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9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8.png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9.png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8.png"/><Relationship Id="rId3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4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4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5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752480"/>
            <a:ext cx="716292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l moto rettilineo</a:t>
            </a:r>
            <a:endParaRPr b="0" i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uniforme</a:t>
            </a:r>
            <a:endParaRPr b="0" i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l moto rettilineo uni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68580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Per lo schermo intero, “clic” su tasto destro e scegli.            Per avanzare con la presentazione, “frecce”.                                       Per chiudere, “esc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91440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8120" y="5181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ederico Barbaro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762120" y="1219320"/>
            <a:ext cx="7772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unità di misura della velocità si ricava dalla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mposizione delle unità di misura delle grandezze presenti nella re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media</a:t>
            </a:r>
            <a:br>
              <a:rPr sz="32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’unità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295280" y="4191120"/>
            <a:ext cx="2743200" cy="1281960"/>
            <a:chOff x="1295280" y="4191120"/>
            <a:chExt cx="2743200" cy="1281960"/>
          </a:xfrm>
        </p:grpSpPr>
        <p:sp>
          <p:nvSpPr>
            <p:cNvPr id="389" name=""/>
            <p:cNvSpPr/>
            <p:nvPr/>
          </p:nvSpPr>
          <p:spPr>
            <a:xfrm>
              <a:off x="2514600" y="495288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na grandezz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ff3300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95280" y="4191120"/>
              <a:ext cx="838440" cy="761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1" name=""/>
            <p:cNvCxnSpPr>
              <a:stCxn id="390" idx="6"/>
              <a:endCxn id="389" idx="1"/>
            </p:cNvCxnSpPr>
            <p:nvPr/>
          </p:nvCxnSpPr>
          <p:spPr>
            <a:xfrm>
              <a:off x="2147400" y="4571640"/>
              <a:ext cx="367560" cy="672120"/>
            </a:xfrm>
            <a:prstGeom prst="curvedConnector5">
              <a:avLst>
                <a:gd name="adj1" fmla="val 48039"/>
                <a:gd name="adj2" fmla="val 50000"/>
                <a:gd name="adj3" fmla="val 480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2" name=""/>
          <p:cNvGrpSpPr/>
          <p:nvPr/>
        </p:nvGrpSpPr>
        <p:grpSpPr>
          <a:xfrm>
            <a:off x="2286000" y="3886200"/>
            <a:ext cx="1066320" cy="307080"/>
            <a:chOff x="2286000" y="3886200"/>
            <a:chExt cx="1066320" cy="307080"/>
          </a:xfrm>
        </p:grpSpPr>
        <p:sp>
          <p:nvSpPr>
            <p:cNvPr id="393" name=""/>
            <p:cNvSpPr/>
            <p:nvPr/>
          </p:nvSpPr>
          <p:spPr>
            <a:xfrm>
              <a:off x="2590560" y="388620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divi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286000" y="4114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886200" y="3886200"/>
            <a:ext cx="2362320" cy="307080"/>
            <a:chOff x="3886200" y="3886200"/>
            <a:chExt cx="2362320" cy="307080"/>
          </a:xfrm>
        </p:grpSpPr>
        <p:grpSp>
          <p:nvGrpSpPr>
            <p:cNvPr id="396" name=""/>
            <p:cNvGrpSpPr/>
            <p:nvPr/>
          </p:nvGrpSpPr>
          <p:grpSpPr>
            <a:xfrm>
              <a:off x="3886200" y="3886200"/>
              <a:ext cx="2362320" cy="307080"/>
              <a:chOff x="3886200" y="3886200"/>
              <a:chExt cx="2362320" cy="307080"/>
            </a:xfrm>
          </p:grpSpPr>
          <p:sp>
            <p:nvSpPr>
              <p:cNvPr id="397" name=""/>
              <p:cNvSpPr/>
              <p:nvPr/>
            </p:nvSpPr>
            <p:spPr>
              <a:xfrm>
                <a:off x="5334120" y="403884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86200" y="38862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divis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4495680" y="4038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371600" y="2895480"/>
            <a:ext cx="2590920" cy="1143000"/>
            <a:chOff x="1371600" y="2895480"/>
            <a:chExt cx="2590920" cy="1143000"/>
          </a:xfrm>
        </p:grpSpPr>
        <p:sp>
          <p:nvSpPr>
            <p:cNvPr id="401" name=""/>
            <p:cNvSpPr/>
            <p:nvPr/>
          </p:nvSpPr>
          <p:spPr>
            <a:xfrm>
              <a:off x="1371600" y="3276720"/>
              <a:ext cx="838080" cy="761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2895480"/>
              <a:ext cx="152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na grandezza </a:t>
              </a:r>
              <a:r>
                <a:rPr b="1" i="1" lang="en-US" sz="1400" spc="-1" strike="noStrike">
                  <a:solidFill>
                    <a:srgbClr val="ff3300"/>
                  </a:solidFill>
                  <a:latin typeface="Arial"/>
                </a:rPr>
                <a:t>spa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3" name=""/>
            <p:cNvCxnSpPr>
              <a:stCxn id="401" idx="7"/>
              <a:endCxn id="402" idx="1"/>
            </p:cNvCxnSpPr>
            <p:nvPr/>
          </p:nvCxnSpPr>
          <p:spPr>
            <a:xfrm flipH="1" flipV="1" rot="5400000">
              <a:off x="2169000" y="3103920"/>
              <a:ext cx="188280" cy="351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90400" y="3352680"/>
                <a:ext cx="13906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3657600" y="3122280"/>
            <a:ext cx="2286000" cy="802080"/>
            <a:chOff x="3657600" y="3122280"/>
            <a:chExt cx="2286000" cy="802080"/>
          </a:xfrm>
        </p:grpSpPr>
        <p:sp>
          <p:nvSpPr>
            <p:cNvPr id="406" name=""/>
            <p:cNvSpPr/>
            <p:nvPr/>
          </p:nvSpPr>
          <p:spPr>
            <a:xfrm>
              <a:off x="3657600" y="335268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L’unità di misura dello spa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stCxn id="406" idx="0"/>
            </p:cNvCxnSpPr>
            <p:nvPr/>
          </p:nvCxnSpPr>
          <p:spPr>
            <a:xfrm flipH="1" rot="16200000">
              <a:off x="4954320" y="2892600"/>
              <a:ext cx="150120" cy="1067760"/>
            </a:xfrm>
            <a:prstGeom prst="curvedConnector5">
              <a:avLst>
                <a:gd name="adj1" fmla="val -153125"/>
                <a:gd name="adj2" fmla="val 50050"/>
                <a:gd name="adj3" fmla="val -1531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5486400" y="3581280"/>
                  <a:ext cx="457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9" name=""/>
          <p:cNvGrpSpPr/>
          <p:nvPr/>
        </p:nvGrpSpPr>
        <p:grpSpPr>
          <a:xfrm>
            <a:off x="3657600" y="4038480"/>
            <a:ext cx="2222640" cy="1051200"/>
            <a:chOff x="3657600" y="4038480"/>
            <a:chExt cx="2222640" cy="1051200"/>
          </a:xfrm>
        </p:grpSpPr>
        <p:sp>
          <p:nvSpPr>
            <p:cNvPr id="410" name=""/>
            <p:cNvSpPr/>
            <p:nvPr/>
          </p:nvSpPr>
          <p:spPr>
            <a:xfrm>
              <a:off x="3657600" y="43434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L’unità di misura del </a:t>
              </a:r>
              <a:r>
                <a:rPr b="1" i="1" lang="en-US" sz="1400" spc="-1" strike="noStrike">
                  <a:solidFill>
                    <a:srgbClr val="3333cc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1" name=""/>
            <p:cNvCxnSpPr>
              <a:stCxn id="410" idx="2"/>
            </p:cNvCxnSpPr>
            <p:nvPr/>
          </p:nvCxnSpPr>
          <p:spPr>
            <a:xfrm flipH="1" flipV="1" rot="5400000">
              <a:off x="4924800" y="4064760"/>
              <a:ext cx="366120" cy="1226520"/>
            </a:xfrm>
            <a:prstGeom prst="curvedConnector5">
              <a:avLst>
                <a:gd name="adj1" fmla="val -62598"/>
                <a:gd name="adj2" fmla="val 50000"/>
                <a:gd name="adj3" fmla="val -625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5562720" y="4038480"/>
                  <a:ext cx="3175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3" name=""/>
          <p:cNvSpPr/>
          <p:nvPr/>
        </p:nvSpPr>
        <p:spPr>
          <a:xfrm>
            <a:off x="7010280" y="4114800"/>
            <a:ext cx="12956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c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5715000"/>
            <a:ext cx="73915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’unità di misu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lla velocità “metro al secondo” è quella utilizzata nel  Sistema di misura Internazionale (S.I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6600" y="3429000"/>
            <a:ext cx="9907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1520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6600" y="2476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8000" y="933480"/>
            <a:ext cx="8229600" cy="353160"/>
          </a:xfrm>
          <a:prstGeom prst="rect">
            <a:avLst/>
          </a:prstGeom>
          <a:solidFill>
            <a:srgbClr val="81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Nala</a:t>
            </a:r>
            <a:r>
              <a:rPr b="0" lang="it-IT" sz="1700" spc="-1" strike="noStrike">
                <a:solidFill>
                  <a:srgbClr val="000000"/>
                </a:solidFill>
                <a:latin typeface="Arial"/>
              </a:rPr>
              <a:t>,           la  nostra sportiva, ci aiuterà ad introdurre questo particolare mo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54560" y="1390680"/>
            <a:ext cx="3353040" cy="13899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Nala passa la linea di partenza quando il cronometro segna “zero”. La linea di partenza è l’origine di riferimento per la misura delle distanz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2895480"/>
            <a:ext cx="4343400" cy="5202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niamo che Nala si muove di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moto rettilineo uniforme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oè con velocit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an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uniform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8600" y="3733920"/>
            <a:ext cx="2165400" cy="228600"/>
            <a:chOff x="228600" y="3733920"/>
            <a:chExt cx="2165400" cy="228600"/>
          </a:xfrm>
        </p:grpSpPr>
        <p:grpSp>
          <p:nvGrpSpPr>
            <p:cNvPr id="424" name=""/>
            <p:cNvGrpSpPr/>
            <p:nvPr/>
          </p:nvGrpSpPr>
          <p:grpSpPr>
            <a:xfrm>
              <a:off x="233280" y="3735360"/>
              <a:ext cx="2155680" cy="225360"/>
              <a:chOff x="233280" y="3735360"/>
              <a:chExt cx="2155680" cy="22536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33280" y="3735360"/>
                <a:ext cx="1038240" cy="225360"/>
                <a:chOff x="233280" y="3735360"/>
                <a:chExt cx="1038240" cy="2253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33280" y="3735360"/>
                  <a:ext cx="1038240" cy="22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233280" y="3735360"/>
                  <a:ext cx="1038240" cy="225360"/>
                  <a:chOff x="233280" y="3735360"/>
                  <a:chExt cx="1038240" cy="2253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277560" y="3735360"/>
                    <a:ext cx="949320" cy="225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33280" y="3735360"/>
                    <a:ext cx="1038240" cy="22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0" name=""/>
              <p:cNvGrpSpPr/>
              <p:nvPr/>
            </p:nvGrpSpPr>
            <p:grpSpPr>
              <a:xfrm>
                <a:off x="1271520" y="3735360"/>
                <a:ext cx="1117440" cy="225360"/>
                <a:chOff x="1271520" y="3735360"/>
                <a:chExt cx="1117440" cy="2253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271520" y="3735360"/>
                  <a:ext cx="1117440" cy="22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1271520" y="3735360"/>
                  <a:ext cx="1117440" cy="225360"/>
                  <a:chOff x="1271520" y="3735360"/>
                  <a:chExt cx="1117440" cy="22536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315800" y="3735360"/>
                    <a:ext cx="1028880" cy="225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271520" y="3735360"/>
                    <a:ext cx="1117440" cy="22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5" name=""/>
            <p:cNvSpPr/>
            <p:nvPr/>
          </p:nvSpPr>
          <p:spPr>
            <a:xfrm>
              <a:off x="228600" y="3733920"/>
              <a:ext cx="2165400" cy="228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28600" y="3505320"/>
            <a:ext cx="2165400" cy="263520"/>
            <a:chOff x="228600" y="3505320"/>
            <a:chExt cx="2165400" cy="263520"/>
          </a:xfrm>
        </p:grpSpPr>
        <p:grpSp>
          <p:nvGrpSpPr>
            <p:cNvPr id="437" name=""/>
            <p:cNvGrpSpPr/>
            <p:nvPr/>
          </p:nvGrpSpPr>
          <p:grpSpPr>
            <a:xfrm>
              <a:off x="233280" y="3507120"/>
              <a:ext cx="2155680" cy="259920"/>
              <a:chOff x="233280" y="3507120"/>
              <a:chExt cx="2155680" cy="2599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233280" y="3507120"/>
                <a:ext cx="1038240" cy="259920"/>
                <a:chOff x="233280" y="3507120"/>
                <a:chExt cx="1038240" cy="259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33280" y="3507120"/>
                  <a:ext cx="1038240" cy="2599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233280" y="3507120"/>
                  <a:ext cx="1038240" cy="259920"/>
                  <a:chOff x="233280" y="3507120"/>
                  <a:chExt cx="1038240" cy="2599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277560" y="3507120"/>
                    <a:ext cx="949320" cy="2599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empo (s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33280" y="3507120"/>
                    <a:ext cx="1038240" cy="259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1271520" y="3507120"/>
                <a:ext cx="1117440" cy="259920"/>
                <a:chOff x="1271520" y="3507120"/>
                <a:chExt cx="1117440" cy="2599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271520" y="3507120"/>
                  <a:ext cx="1117440" cy="2599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5" name=""/>
                <p:cNvGrpSpPr/>
                <p:nvPr/>
              </p:nvGrpSpPr>
              <p:grpSpPr>
                <a:xfrm>
                  <a:off x="1271520" y="3507120"/>
                  <a:ext cx="1117440" cy="259920"/>
                  <a:chOff x="1271520" y="3507120"/>
                  <a:chExt cx="1117440" cy="25992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1315800" y="3507120"/>
                    <a:ext cx="1028880" cy="2599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pazio (m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1271520" y="3507120"/>
                    <a:ext cx="1117440" cy="259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8" name=""/>
            <p:cNvSpPr/>
            <p:nvPr/>
          </p:nvSpPr>
          <p:spPr>
            <a:xfrm>
              <a:off x="228600" y="3505320"/>
              <a:ext cx="2165400" cy="263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28600" y="4876920"/>
            <a:ext cx="2168640" cy="450720"/>
            <a:chOff x="228600" y="4876920"/>
            <a:chExt cx="2168640" cy="450720"/>
          </a:xfrm>
        </p:grpSpPr>
        <p:grpSp>
          <p:nvGrpSpPr>
            <p:cNvPr id="450" name=""/>
            <p:cNvGrpSpPr/>
            <p:nvPr/>
          </p:nvGrpSpPr>
          <p:grpSpPr>
            <a:xfrm>
              <a:off x="228600" y="5105520"/>
              <a:ext cx="2165400" cy="222120"/>
              <a:chOff x="228600" y="5105520"/>
              <a:chExt cx="2165400" cy="2221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233280" y="5106960"/>
                <a:ext cx="2155680" cy="219240"/>
                <a:chOff x="233280" y="5106960"/>
                <a:chExt cx="2155680" cy="21924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233280" y="5106960"/>
                  <a:ext cx="1038240" cy="219240"/>
                  <a:chOff x="233280" y="5106960"/>
                  <a:chExt cx="1038240" cy="2192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233280" y="5106960"/>
                    <a:ext cx="1038240" cy="219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233280" y="5106960"/>
                    <a:ext cx="1038240" cy="219240"/>
                    <a:chOff x="233280" y="5106960"/>
                    <a:chExt cx="1038240" cy="21924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277560" y="5106960"/>
                      <a:ext cx="949320" cy="2192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233280" y="5106960"/>
                      <a:ext cx="1038240" cy="2192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1271520" y="5106960"/>
                  <a:ext cx="1117440" cy="219240"/>
                  <a:chOff x="1271520" y="5106960"/>
                  <a:chExt cx="1117440" cy="2192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1271520" y="5106960"/>
                    <a:ext cx="1117440" cy="219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1271520" y="5106960"/>
                    <a:ext cx="1117440" cy="219240"/>
                    <a:chOff x="1271520" y="5106960"/>
                    <a:chExt cx="1117440" cy="21924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1315800" y="5106960"/>
                      <a:ext cx="1028880" cy="2192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1271520" y="5106960"/>
                      <a:ext cx="1117440" cy="2192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62" name=""/>
              <p:cNvSpPr/>
              <p:nvPr/>
            </p:nvSpPr>
            <p:spPr>
              <a:xfrm>
                <a:off x="228600" y="5105520"/>
                <a:ext cx="2165400" cy="2221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231840" y="4876920"/>
              <a:ext cx="2165400" cy="228600"/>
              <a:chOff x="231840" y="4876920"/>
              <a:chExt cx="2165400" cy="22860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236520" y="4878360"/>
                <a:ext cx="2155680" cy="225360"/>
                <a:chOff x="236520" y="4878360"/>
                <a:chExt cx="2155680" cy="22536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236520" y="4878360"/>
                  <a:ext cx="1038240" cy="225360"/>
                  <a:chOff x="236520" y="4878360"/>
                  <a:chExt cx="1038240" cy="2253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236520" y="4878360"/>
                    <a:ext cx="1038240" cy="225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236520" y="4878360"/>
                    <a:ext cx="1038240" cy="225360"/>
                    <a:chOff x="236520" y="4878360"/>
                    <a:chExt cx="1038240" cy="22536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280800" y="4878360"/>
                      <a:ext cx="94932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236520" y="4878360"/>
                      <a:ext cx="1038240" cy="2253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1274760" y="4878360"/>
                  <a:ext cx="1117440" cy="225360"/>
                  <a:chOff x="1274760" y="4878360"/>
                  <a:chExt cx="1117440" cy="2253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1274760" y="4878360"/>
                    <a:ext cx="1117440" cy="225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1274760" y="4878360"/>
                    <a:ext cx="1117440" cy="225360"/>
                    <a:chOff x="1274760" y="4878360"/>
                    <a:chExt cx="1117440" cy="22536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1319040" y="4878360"/>
                      <a:ext cx="102888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1274760" y="4878360"/>
                      <a:ext cx="1117440" cy="2253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75" name=""/>
              <p:cNvSpPr/>
              <p:nvPr/>
            </p:nvSpPr>
            <p:spPr>
              <a:xfrm>
                <a:off x="231840" y="4876920"/>
                <a:ext cx="2165400" cy="2286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228600" y="1600200"/>
            <a:ext cx="2165400" cy="2590920"/>
            <a:chOff x="228600" y="1600200"/>
            <a:chExt cx="2165400" cy="2590920"/>
          </a:xfrm>
        </p:grpSpPr>
        <p:grpSp>
          <p:nvGrpSpPr>
            <p:cNvPr id="477" name=""/>
            <p:cNvGrpSpPr/>
            <p:nvPr/>
          </p:nvGrpSpPr>
          <p:grpSpPr>
            <a:xfrm>
              <a:off x="228600" y="1600200"/>
              <a:ext cx="2165400" cy="2590920"/>
              <a:chOff x="228600" y="1600200"/>
              <a:chExt cx="2165400" cy="259092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228600" y="3962520"/>
                <a:ext cx="2165400" cy="228600"/>
                <a:chOff x="228600" y="3962520"/>
                <a:chExt cx="2165400" cy="22860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233280" y="3963960"/>
                  <a:ext cx="2155680" cy="225360"/>
                  <a:chOff x="233280" y="3963960"/>
                  <a:chExt cx="2155680" cy="225360"/>
                </a:xfrm>
              </p:grpSpPr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233280" y="3963960"/>
                    <a:ext cx="1038240" cy="225360"/>
                    <a:chOff x="233280" y="3963960"/>
                    <a:chExt cx="1038240" cy="22536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233280" y="3963960"/>
                      <a:ext cx="10382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2" name=""/>
                    <p:cNvGrpSpPr/>
                    <p:nvPr/>
                  </p:nvGrpSpPr>
                  <p:grpSpPr>
                    <a:xfrm>
                      <a:off x="233280" y="3963960"/>
                      <a:ext cx="1038240" cy="225360"/>
                      <a:chOff x="233280" y="3963960"/>
                      <a:chExt cx="1038240" cy="225360"/>
                    </a:xfrm>
                  </p:grpSpPr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277560" y="3963960"/>
                        <a:ext cx="94932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233280" y="3963960"/>
                        <a:ext cx="10382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1271520" y="3963960"/>
                    <a:ext cx="1117440" cy="225360"/>
                    <a:chOff x="1271520" y="3963960"/>
                    <a:chExt cx="1117440" cy="22536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1271520" y="3963960"/>
                      <a:ext cx="11174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7" name=""/>
                    <p:cNvGrpSpPr/>
                    <p:nvPr/>
                  </p:nvGrpSpPr>
                  <p:grpSpPr>
                    <a:xfrm>
                      <a:off x="1271520" y="3963960"/>
                      <a:ext cx="1117440" cy="225360"/>
                      <a:chOff x="1271520" y="3963960"/>
                      <a:chExt cx="1117440" cy="225360"/>
                    </a:xfrm>
                  </p:grpSpPr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1315800" y="3963960"/>
                        <a:ext cx="102888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9" name=""/>
                      <p:cNvSpPr/>
                      <p:nvPr/>
                    </p:nvSpPr>
                    <p:spPr>
                      <a:xfrm>
                        <a:off x="1271520" y="3963960"/>
                        <a:ext cx="11174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90" name=""/>
                <p:cNvSpPr/>
                <p:nvPr/>
              </p:nvSpPr>
              <p:spPr>
                <a:xfrm>
                  <a:off x="228600" y="3962520"/>
                  <a:ext cx="2165400" cy="228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990720" y="1600200"/>
                <a:ext cx="880920" cy="914400"/>
                <a:chOff x="990720" y="1600200"/>
                <a:chExt cx="880920" cy="914400"/>
              </a:xfrm>
            </p:grpSpPr>
            <p:graphicFrame>
              <p:nvGraphicFramePr>
                <p:cNvPr id="492" name=""/>
                <p:cNvGraphicFramePr/>
                <p:nvPr/>
              </p:nvGraphicFramePr>
              <p:xfrm>
                <a:off x="1066680" y="1600200"/>
                <a:ext cx="804960" cy="91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9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066680" y="16002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94" name=""/>
                <p:cNvSpPr/>
                <p:nvPr/>
              </p:nvSpPr>
              <p:spPr>
                <a:xfrm>
                  <a:off x="1143000" y="1905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06668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990720" y="213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990720" y="2286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 flipH="1">
              <a:off x="1447560" y="2209680"/>
              <a:ext cx="53316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28600" y="1600200"/>
            <a:ext cx="2362320" cy="2838600"/>
            <a:chOff x="228600" y="1600200"/>
            <a:chExt cx="2362320" cy="2838600"/>
          </a:xfrm>
        </p:grpSpPr>
        <p:grpSp>
          <p:nvGrpSpPr>
            <p:cNvPr id="500" name=""/>
            <p:cNvGrpSpPr/>
            <p:nvPr/>
          </p:nvGrpSpPr>
          <p:grpSpPr>
            <a:xfrm>
              <a:off x="228600" y="1600200"/>
              <a:ext cx="2255760" cy="2838600"/>
              <a:chOff x="228600" y="1600200"/>
              <a:chExt cx="2255760" cy="28386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28600" y="4210200"/>
                <a:ext cx="2165400" cy="228600"/>
                <a:chOff x="228600" y="4210200"/>
                <a:chExt cx="2165400" cy="22860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233280" y="4211640"/>
                  <a:ext cx="2155680" cy="225360"/>
                  <a:chOff x="233280" y="4211640"/>
                  <a:chExt cx="2155680" cy="225360"/>
                </a:xfrm>
              </p:grpSpPr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233280" y="4211640"/>
                    <a:ext cx="1038240" cy="225360"/>
                    <a:chOff x="233280" y="4211640"/>
                    <a:chExt cx="1038240" cy="22536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233280" y="4211640"/>
                      <a:ext cx="10382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05" name=""/>
                    <p:cNvGrpSpPr/>
                    <p:nvPr/>
                  </p:nvGrpSpPr>
                  <p:grpSpPr>
                    <a:xfrm>
                      <a:off x="233280" y="4211640"/>
                      <a:ext cx="1038240" cy="225360"/>
                      <a:chOff x="233280" y="4211640"/>
                      <a:chExt cx="1038240" cy="225360"/>
                    </a:xfrm>
                  </p:grpSpPr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277560" y="4211640"/>
                        <a:ext cx="94932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2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7" name=""/>
                      <p:cNvSpPr/>
                      <p:nvPr/>
                    </p:nvSpPr>
                    <p:spPr>
                      <a:xfrm>
                        <a:off x="233280" y="4211640"/>
                        <a:ext cx="10382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1271520" y="4211640"/>
                    <a:ext cx="1117440" cy="225360"/>
                    <a:chOff x="1271520" y="4211640"/>
                    <a:chExt cx="1117440" cy="22536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1271520" y="4211640"/>
                      <a:ext cx="11174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0" name=""/>
                    <p:cNvGrpSpPr/>
                    <p:nvPr/>
                  </p:nvGrpSpPr>
                  <p:grpSpPr>
                    <a:xfrm>
                      <a:off x="1271520" y="4211640"/>
                      <a:ext cx="1117440" cy="225360"/>
                      <a:chOff x="1271520" y="4211640"/>
                      <a:chExt cx="1117440" cy="225360"/>
                    </a:xfrm>
                  </p:grpSpPr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1315800" y="4211640"/>
                        <a:ext cx="102888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6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1271520" y="4211640"/>
                        <a:ext cx="11174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13" name=""/>
                <p:cNvSpPr/>
                <p:nvPr/>
              </p:nvSpPr>
              <p:spPr>
                <a:xfrm>
                  <a:off x="228600" y="4210200"/>
                  <a:ext cx="2165400" cy="228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603440" y="1600200"/>
                <a:ext cx="880920" cy="914400"/>
                <a:chOff x="1603440" y="1600200"/>
                <a:chExt cx="880920" cy="914400"/>
              </a:xfrm>
            </p:grpSpPr>
            <p:graphicFrame>
              <p:nvGraphicFramePr>
                <p:cNvPr id="515" name=""/>
                <p:cNvGraphicFramePr/>
                <p:nvPr/>
              </p:nvGraphicFramePr>
              <p:xfrm>
                <a:off x="1679400" y="1600200"/>
                <a:ext cx="804960" cy="9144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1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679400" y="16002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17" name=""/>
                <p:cNvSpPr/>
                <p:nvPr/>
              </p:nvSpPr>
              <p:spPr>
                <a:xfrm>
                  <a:off x="1755720" y="1905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67940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603440" y="213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603440" y="2286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1" name=""/>
            <p:cNvSpPr/>
            <p:nvPr/>
          </p:nvSpPr>
          <p:spPr>
            <a:xfrm flipH="1">
              <a:off x="2057400" y="2209680"/>
              <a:ext cx="53352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28600" y="1600200"/>
            <a:ext cx="3048120" cy="3067200"/>
            <a:chOff x="228600" y="1600200"/>
            <a:chExt cx="3048120" cy="3067200"/>
          </a:xfrm>
        </p:grpSpPr>
        <p:grpSp>
          <p:nvGrpSpPr>
            <p:cNvPr id="523" name=""/>
            <p:cNvGrpSpPr/>
            <p:nvPr/>
          </p:nvGrpSpPr>
          <p:grpSpPr>
            <a:xfrm>
              <a:off x="228600" y="1600200"/>
              <a:ext cx="2941560" cy="3067200"/>
              <a:chOff x="228600" y="1600200"/>
              <a:chExt cx="2941560" cy="306720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228600" y="4438800"/>
                <a:ext cx="2165400" cy="228600"/>
                <a:chOff x="228600" y="4438800"/>
                <a:chExt cx="2165400" cy="228600"/>
              </a:xfrm>
            </p:grpSpPr>
            <p:grpSp>
              <p:nvGrpSpPr>
                <p:cNvPr id="525" name=""/>
                <p:cNvGrpSpPr/>
                <p:nvPr/>
              </p:nvGrpSpPr>
              <p:grpSpPr>
                <a:xfrm>
                  <a:off x="233280" y="4440240"/>
                  <a:ext cx="2155680" cy="225360"/>
                  <a:chOff x="233280" y="4440240"/>
                  <a:chExt cx="2155680" cy="225360"/>
                </a:xfrm>
              </p:grpSpPr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233280" y="4440240"/>
                    <a:ext cx="1038240" cy="225360"/>
                    <a:chOff x="233280" y="4440240"/>
                    <a:chExt cx="1038240" cy="22536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233280" y="4440240"/>
                      <a:ext cx="10382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8" name=""/>
                    <p:cNvGrpSpPr/>
                    <p:nvPr/>
                  </p:nvGrpSpPr>
                  <p:grpSpPr>
                    <a:xfrm>
                      <a:off x="233280" y="4440240"/>
                      <a:ext cx="1038240" cy="225360"/>
                      <a:chOff x="233280" y="4440240"/>
                      <a:chExt cx="1038240" cy="225360"/>
                    </a:xfrm>
                  </p:grpSpPr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277560" y="4440240"/>
                        <a:ext cx="94932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233280" y="4440240"/>
                        <a:ext cx="10382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1271520" y="4440240"/>
                    <a:ext cx="1117440" cy="225360"/>
                    <a:chOff x="1271520" y="4440240"/>
                    <a:chExt cx="1117440" cy="22536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1271520" y="4440240"/>
                      <a:ext cx="11174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33" name=""/>
                    <p:cNvGrpSpPr/>
                    <p:nvPr/>
                  </p:nvGrpSpPr>
                  <p:grpSpPr>
                    <a:xfrm>
                      <a:off x="1271520" y="4440240"/>
                      <a:ext cx="1117440" cy="225360"/>
                      <a:chOff x="1271520" y="4440240"/>
                      <a:chExt cx="1117440" cy="225360"/>
                    </a:xfrm>
                  </p:grpSpPr>
                  <p:sp>
                    <p:nvSpPr>
                      <p:cNvPr id="534" name=""/>
                      <p:cNvSpPr/>
                      <p:nvPr/>
                    </p:nvSpPr>
                    <p:spPr>
                      <a:xfrm>
                        <a:off x="1315800" y="4440240"/>
                        <a:ext cx="102888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9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1271520" y="4440240"/>
                        <a:ext cx="11174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36" name=""/>
                <p:cNvSpPr/>
                <p:nvPr/>
              </p:nvSpPr>
              <p:spPr>
                <a:xfrm>
                  <a:off x="228600" y="4438800"/>
                  <a:ext cx="2165400" cy="228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2289240" y="1600200"/>
                <a:ext cx="880920" cy="914400"/>
                <a:chOff x="2289240" y="1600200"/>
                <a:chExt cx="880920" cy="914400"/>
              </a:xfrm>
            </p:grpSpPr>
            <p:graphicFrame>
              <p:nvGraphicFramePr>
                <p:cNvPr id="538" name=""/>
                <p:cNvGraphicFramePr/>
                <p:nvPr/>
              </p:nvGraphicFramePr>
              <p:xfrm>
                <a:off x="2365200" y="1600200"/>
                <a:ext cx="804960" cy="9144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539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365200" y="16002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0" name=""/>
                <p:cNvSpPr/>
                <p:nvPr/>
              </p:nvSpPr>
              <p:spPr>
                <a:xfrm>
                  <a:off x="2441520" y="1905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36520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89240" y="213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289240" y="2286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4" name=""/>
            <p:cNvSpPr/>
            <p:nvPr/>
          </p:nvSpPr>
          <p:spPr>
            <a:xfrm flipH="1">
              <a:off x="2743200" y="2209680"/>
              <a:ext cx="53352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25360" y="1600200"/>
            <a:ext cx="3812760" cy="3295800"/>
            <a:chOff x="225360" y="1600200"/>
            <a:chExt cx="3812760" cy="3295800"/>
          </a:xfrm>
        </p:grpSpPr>
        <p:sp>
          <p:nvSpPr>
            <p:cNvPr id="546" name=""/>
            <p:cNvSpPr/>
            <p:nvPr/>
          </p:nvSpPr>
          <p:spPr>
            <a:xfrm flipH="1">
              <a:off x="3504960" y="2209680"/>
              <a:ext cx="53316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225360" y="1600200"/>
              <a:ext cx="3627360" cy="3295800"/>
              <a:chOff x="225360" y="1600200"/>
              <a:chExt cx="3627360" cy="329580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225360" y="4667400"/>
                <a:ext cx="2165400" cy="228600"/>
                <a:chOff x="225360" y="4667400"/>
                <a:chExt cx="2165400" cy="228600"/>
              </a:xfrm>
            </p:grpSpPr>
            <p:grpSp>
              <p:nvGrpSpPr>
                <p:cNvPr id="549" name=""/>
                <p:cNvGrpSpPr/>
                <p:nvPr/>
              </p:nvGrpSpPr>
              <p:grpSpPr>
                <a:xfrm>
                  <a:off x="230040" y="4668840"/>
                  <a:ext cx="2155680" cy="225360"/>
                  <a:chOff x="230040" y="4668840"/>
                  <a:chExt cx="2155680" cy="225360"/>
                </a:xfrm>
              </p:grpSpPr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230040" y="4668840"/>
                    <a:ext cx="1038240" cy="225360"/>
                    <a:chOff x="230040" y="4668840"/>
                    <a:chExt cx="1038240" cy="22536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230040" y="4668840"/>
                      <a:ext cx="10382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52" name=""/>
                    <p:cNvGrpSpPr/>
                    <p:nvPr/>
                  </p:nvGrpSpPr>
                  <p:grpSpPr>
                    <a:xfrm>
                      <a:off x="230040" y="4668840"/>
                      <a:ext cx="1038240" cy="225360"/>
                      <a:chOff x="230040" y="4668840"/>
                      <a:chExt cx="1038240" cy="225360"/>
                    </a:xfrm>
                  </p:grpSpPr>
                  <p:sp>
                    <p:nvSpPr>
                      <p:cNvPr id="553" name=""/>
                      <p:cNvSpPr/>
                      <p:nvPr/>
                    </p:nvSpPr>
                    <p:spPr>
                      <a:xfrm>
                        <a:off x="274320" y="4668840"/>
                        <a:ext cx="94932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4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230040" y="4668840"/>
                        <a:ext cx="10382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1268280" y="4668840"/>
                    <a:ext cx="1117440" cy="225360"/>
                    <a:chOff x="1268280" y="4668840"/>
                    <a:chExt cx="1117440" cy="2253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1268280" y="4668840"/>
                      <a:ext cx="11174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1268280" y="4668840"/>
                      <a:ext cx="1117440" cy="225360"/>
                      <a:chOff x="1268280" y="4668840"/>
                      <a:chExt cx="1117440" cy="22536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1312560" y="4668840"/>
                        <a:ext cx="102888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12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1268280" y="4668840"/>
                        <a:ext cx="11174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60" name=""/>
                <p:cNvSpPr/>
                <p:nvPr/>
              </p:nvSpPr>
              <p:spPr>
                <a:xfrm>
                  <a:off x="225360" y="4667400"/>
                  <a:ext cx="2165400" cy="228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2971800" y="1600200"/>
                <a:ext cx="880920" cy="914400"/>
                <a:chOff x="2971800" y="1600200"/>
                <a:chExt cx="880920" cy="914400"/>
              </a:xfrm>
            </p:grpSpPr>
            <p:graphicFrame>
              <p:nvGraphicFramePr>
                <p:cNvPr id="562" name=""/>
                <p:cNvGraphicFramePr/>
                <p:nvPr/>
              </p:nvGraphicFramePr>
              <p:xfrm>
                <a:off x="3047760" y="1600200"/>
                <a:ext cx="804960" cy="9144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563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3047760" y="16002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64" name=""/>
                <p:cNvSpPr/>
                <p:nvPr/>
              </p:nvSpPr>
              <p:spPr>
                <a:xfrm>
                  <a:off x="3124080" y="1905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04776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971800" y="213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971800" y="2286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8" name=""/>
          <p:cNvGrpSpPr/>
          <p:nvPr/>
        </p:nvGrpSpPr>
        <p:grpSpPr>
          <a:xfrm>
            <a:off x="228600" y="1371600"/>
            <a:ext cx="4114800" cy="1143000"/>
            <a:chOff x="228600" y="1371600"/>
            <a:chExt cx="4114800" cy="1143000"/>
          </a:xfrm>
        </p:grpSpPr>
        <p:grpSp>
          <p:nvGrpSpPr>
            <p:cNvPr id="569" name=""/>
            <p:cNvGrpSpPr/>
            <p:nvPr/>
          </p:nvGrpSpPr>
          <p:grpSpPr>
            <a:xfrm>
              <a:off x="228600" y="1600200"/>
              <a:ext cx="880920" cy="914400"/>
              <a:chOff x="228600" y="1600200"/>
              <a:chExt cx="880920" cy="914400"/>
            </a:xfrm>
          </p:grpSpPr>
          <p:graphicFrame>
            <p:nvGraphicFramePr>
              <p:cNvPr id="570" name=""/>
              <p:cNvGraphicFramePr/>
              <p:nvPr/>
            </p:nvGraphicFramePr>
            <p:xfrm>
              <a:off x="304560" y="1600200"/>
              <a:ext cx="804960" cy="9144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7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4560" y="1600200"/>
                        <a:ext cx="8049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72" name=""/>
              <p:cNvSpPr/>
              <p:nvPr/>
            </p:nvSpPr>
            <p:spPr>
              <a:xfrm>
                <a:off x="380880" y="19051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04560" y="19810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28600" y="2133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28600" y="228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38080" y="1447920"/>
              <a:ext cx="762120" cy="840600"/>
              <a:chOff x="838080" y="1447920"/>
              <a:chExt cx="762120" cy="840600"/>
            </a:xfrm>
          </p:grpSpPr>
          <p:sp>
            <p:nvSpPr>
              <p:cNvPr id="577" name=""/>
              <p:cNvSpPr/>
              <p:nvPr/>
            </p:nvSpPr>
            <p:spPr>
              <a:xfrm flipV="1">
                <a:off x="1219320" y="1676160"/>
                <a:ext cx="0" cy="609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38080" y="1447920"/>
                <a:ext cx="762120" cy="2156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RTENZ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43000" y="19814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80" name=""/>
            <p:cNvGraphicFramePr/>
            <p:nvPr/>
          </p:nvGraphicFramePr>
          <p:xfrm>
            <a:off x="457200" y="1371600"/>
            <a:ext cx="299880" cy="423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7200" y="1371600"/>
                      <a:ext cx="29988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2" name=""/>
            <p:cNvSpPr/>
            <p:nvPr/>
          </p:nvSpPr>
          <p:spPr>
            <a:xfrm flipH="1">
              <a:off x="761760" y="2209680"/>
              <a:ext cx="5331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8600" y="2514600"/>
              <a:ext cx="4114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85800" y="2590920"/>
            <a:ext cx="762120" cy="276480"/>
            <a:chOff x="685800" y="2590920"/>
            <a:chExt cx="762120" cy="276480"/>
          </a:xfrm>
        </p:grpSpPr>
        <p:sp>
          <p:nvSpPr>
            <p:cNvPr id="585" name=""/>
            <p:cNvSpPr/>
            <p:nvPr/>
          </p:nvSpPr>
          <p:spPr>
            <a:xfrm>
              <a:off x="762120" y="25909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25909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3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62120" y="2590920"/>
            <a:ext cx="1295280" cy="276480"/>
            <a:chOff x="762120" y="2590920"/>
            <a:chExt cx="1295280" cy="276480"/>
          </a:xfrm>
        </p:grpSpPr>
        <p:sp>
          <p:nvSpPr>
            <p:cNvPr id="588" name=""/>
            <p:cNvSpPr/>
            <p:nvPr/>
          </p:nvSpPr>
          <p:spPr>
            <a:xfrm>
              <a:off x="762120" y="25909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66680" y="25909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6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762120" y="2590920"/>
            <a:ext cx="1981080" cy="276480"/>
            <a:chOff x="762120" y="2590920"/>
            <a:chExt cx="1981080" cy="276480"/>
          </a:xfrm>
        </p:grpSpPr>
        <p:sp>
          <p:nvSpPr>
            <p:cNvPr id="591" name=""/>
            <p:cNvSpPr/>
            <p:nvPr/>
          </p:nvSpPr>
          <p:spPr>
            <a:xfrm>
              <a:off x="762120" y="2590920"/>
              <a:ext cx="1981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66680" y="25909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9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62120" y="2590920"/>
            <a:ext cx="2743200" cy="276480"/>
            <a:chOff x="762120" y="2590920"/>
            <a:chExt cx="2743200" cy="276480"/>
          </a:xfrm>
        </p:grpSpPr>
        <p:sp>
          <p:nvSpPr>
            <p:cNvPr id="594" name=""/>
            <p:cNvSpPr/>
            <p:nvPr/>
          </p:nvSpPr>
          <p:spPr>
            <a:xfrm>
              <a:off x="1905120" y="25909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12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2120" y="2590920"/>
              <a:ext cx="2743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895480" y="3809880"/>
            <a:ext cx="5867640" cy="87156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semplicità dei valori in tabella ci permette di affermare che le due grandezze, il </a:t>
            </a:r>
            <a:r>
              <a:rPr b="0" i="1" lang="en-US" sz="1700" spc="-1" strike="noStrike">
                <a:solidFill>
                  <a:srgbClr val="3333cc"/>
                </a:solidFill>
                <a:latin typeface="Arial"/>
              </a:rPr>
              <a:t>temp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 lo </a:t>
            </a:r>
            <a:r>
              <a:rPr b="0" i="1" lang="en-US" sz="1700" spc="-1" strike="noStrike">
                <a:solidFill>
                  <a:srgbClr val="3333cc"/>
                </a:solidFill>
                <a:latin typeface="Arial"/>
              </a:rPr>
              <a:t>spazi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son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rettamente proporzional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724280" y="2895480"/>
            <a:ext cx="3886200" cy="612360"/>
            <a:chOff x="4724280" y="2895480"/>
            <a:chExt cx="3886200" cy="612360"/>
          </a:xfrm>
        </p:grpSpPr>
        <p:sp>
          <p:nvSpPr>
            <p:cNvPr id="598" name=""/>
            <p:cNvSpPr/>
            <p:nvPr/>
          </p:nvSpPr>
          <p:spPr>
            <a:xfrm>
              <a:off x="5257800" y="2895480"/>
              <a:ext cx="3352680" cy="6123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e varia la sua posizione al passare del tempo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312408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914400" y="5638680"/>
            <a:ext cx="5334120" cy="61236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.ed al triplicare del tempo lo spazio diventa tre volte più grande …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44600" y="4114800"/>
            <a:ext cx="1701360" cy="254160"/>
            <a:chOff x="444600" y="4114800"/>
            <a:chExt cx="1701360" cy="254160"/>
          </a:xfrm>
        </p:grpSpPr>
        <p:sp>
          <p:nvSpPr>
            <p:cNvPr id="602" name=""/>
            <p:cNvSpPr/>
            <p:nvPr/>
          </p:nvSpPr>
          <p:spPr>
            <a:xfrm>
              <a:off x="444600" y="4114800"/>
              <a:ext cx="164880" cy="254160"/>
            </a:xfrm>
            <a:custGeom>
              <a:avLst/>
              <a:gdLst/>
              <a:ahLst/>
              <a:rect l="l" t="t" r="r" b="b"/>
              <a:pathLst>
                <a:path w="104" h="160">
                  <a:moveTo>
                    <a:pt x="104" y="0"/>
                  </a:moveTo>
                  <a:cubicBezTo>
                    <a:pt x="88" y="12"/>
                    <a:pt x="72" y="24"/>
                    <a:pt x="56" y="48"/>
                  </a:cubicBezTo>
                  <a:cubicBezTo>
                    <a:pt x="40" y="72"/>
                    <a:pt x="0" y="128"/>
                    <a:pt x="8" y="144"/>
                  </a:cubicBezTo>
                  <a:cubicBezTo>
                    <a:pt x="16" y="160"/>
                    <a:pt x="60" y="152"/>
                    <a:pt x="104" y="144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1980360" y="4114800"/>
              <a:ext cx="165240" cy="254160"/>
            </a:xfrm>
            <a:custGeom>
              <a:avLst/>
              <a:gdLst/>
              <a:ahLst/>
              <a:rect l="l" t="t" r="r" b="b"/>
              <a:pathLst>
                <a:path w="104" h="160">
                  <a:moveTo>
                    <a:pt x="104" y="0"/>
                  </a:moveTo>
                  <a:cubicBezTo>
                    <a:pt x="88" y="12"/>
                    <a:pt x="72" y="24"/>
                    <a:pt x="56" y="48"/>
                  </a:cubicBezTo>
                  <a:cubicBezTo>
                    <a:pt x="40" y="72"/>
                    <a:pt x="0" y="128"/>
                    <a:pt x="8" y="144"/>
                  </a:cubicBezTo>
                  <a:cubicBezTo>
                    <a:pt x="16" y="160"/>
                    <a:pt x="60" y="152"/>
                    <a:pt x="104" y="144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895480" y="5029200"/>
            <a:ext cx="5943600" cy="353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atti quando </a:t>
            </a:r>
            <a:r>
              <a:rPr b="1" i="1" lang="en-US" sz="17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raddoppia  anche </a:t>
            </a:r>
            <a:r>
              <a:rPr b="1" i="1" lang="en-US" sz="17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addoppia…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31640" y="4114800"/>
            <a:ext cx="1727280" cy="457200"/>
            <a:chOff x="431640" y="4114800"/>
            <a:chExt cx="1727280" cy="457200"/>
          </a:xfrm>
        </p:grpSpPr>
        <p:sp>
          <p:nvSpPr>
            <p:cNvPr id="606" name=""/>
            <p:cNvSpPr/>
            <p:nvPr/>
          </p:nvSpPr>
          <p:spPr>
            <a:xfrm>
              <a:off x="431640" y="4114800"/>
              <a:ext cx="177840" cy="457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112" y="0"/>
                  </a:moveTo>
                  <a:cubicBezTo>
                    <a:pt x="72" y="32"/>
                    <a:pt x="32" y="64"/>
                    <a:pt x="16" y="96"/>
                  </a:cubicBezTo>
                  <a:cubicBezTo>
                    <a:pt x="0" y="128"/>
                    <a:pt x="8" y="160"/>
                    <a:pt x="16" y="192"/>
                  </a:cubicBezTo>
                  <a:cubicBezTo>
                    <a:pt x="24" y="224"/>
                    <a:pt x="48" y="272"/>
                    <a:pt x="64" y="28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981080" y="4114800"/>
              <a:ext cx="177840" cy="457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112" y="0"/>
                  </a:moveTo>
                  <a:cubicBezTo>
                    <a:pt x="72" y="32"/>
                    <a:pt x="32" y="64"/>
                    <a:pt x="16" y="96"/>
                  </a:cubicBezTo>
                  <a:cubicBezTo>
                    <a:pt x="0" y="128"/>
                    <a:pt x="8" y="160"/>
                    <a:pt x="16" y="192"/>
                  </a:cubicBezTo>
                  <a:cubicBezTo>
                    <a:pt x="24" y="224"/>
                    <a:pt x="48" y="272"/>
                    <a:pt x="64" y="28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7010280" y="5867280"/>
            <a:ext cx="1371600" cy="35316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 così v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BD13708_" descr=""/>
          <p:cNvPicPr/>
          <p:nvPr/>
        </p:nvPicPr>
        <p:blipFill>
          <a:blip r:embed="rId13"/>
          <a:stretch/>
        </p:blipFill>
        <p:spPr>
          <a:xfrm>
            <a:off x="1219320" y="304920"/>
            <a:ext cx="761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2895480" y="3124080"/>
            <a:ext cx="533520" cy="1702080"/>
          </a:xfrm>
          <a:custGeom>
            <a:avLst/>
            <a:gdLst/>
            <a:ahLst/>
            <a:rect l="l" t="t" r="r" b="b"/>
            <a:pathLst>
              <a:path w="768" h="1120">
                <a:moveTo>
                  <a:pt x="0" y="960"/>
                </a:moveTo>
                <a:cubicBezTo>
                  <a:pt x="56" y="1040"/>
                  <a:pt x="112" y="1120"/>
                  <a:pt x="240" y="960"/>
                </a:cubicBezTo>
                <a:cubicBezTo>
                  <a:pt x="368" y="800"/>
                  <a:pt x="568" y="400"/>
                  <a:pt x="76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br>
              <a:rPr sz="27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legge or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60020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4" name=""/>
          <p:cNvGrpSpPr/>
          <p:nvPr/>
        </p:nvGrpSpPr>
        <p:grpSpPr>
          <a:xfrm>
            <a:off x="457200" y="1143000"/>
            <a:ext cx="4114800" cy="1146240"/>
            <a:chOff x="457200" y="1143000"/>
            <a:chExt cx="4114800" cy="1146240"/>
          </a:xfrm>
        </p:grpSpPr>
        <p:sp>
          <p:nvSpPr>
            <p:cNvPr id="615" name=""/>
            <p:cNvSpPr/>
            <p:nvPr/>
          </p:nvSpPr>
          <p:spPr>
            <a:xfrm flipH="1">
              <a:off x="3733560" y="1984320"/>
              <a:ext cx="53316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457200" y="1143000"/>
              <a:ext cx="3624120" cy="1143000"/>
              <a:chOff x="457200" y="1143000"/>
              <a:chExt cx="3624120" cy="114300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1219320" y="1371600"/>
                <a:ext cx="880920" cy="914400"/>
                <a:chOff x="1219320" y="1371600"/>
                <a:chExt cx="880920" cy="914400"/>
              </a:xfrm>
            </p:grpSpPr>
            <p:graphicFrame>
              <p:nvGraphicFramePr>
                <p:cNvPr id="618" name=""/>
                <p:cNvGraphicFramePr/>
                <p:nvPr/>
              </p:nvGraphicFramePr>
              <p:xfrm>
                <a:off x="1295280" y="1371600"/>
                <a:ext cx="804960" cy="9144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61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29528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20" name=""/>
                <p:cNvSpPr/>
                <p:nvPr/>
              </p:nvSpPr>
              <p:spPr>
                <a:xfrm>
                  <a:off x="137160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9528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21932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21932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1832040" y="1371600"/>
                <a:ext cx="880920" cy="914400"/>
                <a:chOff x="1832040" y="1371600"/>
                <a:chExt cx="880920" cy="914400"/>
              </a:xfrm>
            </p:grpSpPr>
            <p:graphicFrame>
              <p:nvGraphicFramePr>
                <p:cNvPr id="625" name=""/>
                <p:cNvGraphicFramePr/>
                <p:nvPr/>
              </p:nvGraphicFramePr>
              <p:xfrm>
                <a:off x="1908000" y="1371600"/>
                <a:ext cx="804960" cy="9144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626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90800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27" name=""/>
                <p:cNvSpPr/>
                <p:nvPr/>
              </p:nvSpPr>
              <p:spPr>
                <a:xfrm>
                  <a:off x="198432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90800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83204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83204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517840" y="1371600"/>
                <a:ext cx="880920" cy="914400"/>
                <a:chOff x="2517840" y="1371600"/>
                <a:chExt cx="880920" cy="914400"/>
              </a:xfrm>
            </p:grpSpPr>
            <p:graphicFrame>
              <p:nvGraphicFramePr>
                <p:cNvPr id="632" name=""/>
                <p:cNvGraphicFramePr/>
                <p:nvPr/>
              </p:nvGraphicFramePr>
              <p:xfrm>
                <a:off x="2593800" y="1371600"/>
                <a:ext cx="804960" cy="9144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633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59380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34" name=""/>
                <p:cNvSpPr/>
                <p:nvPr/>
              </p:nvSpPr>
              <p:spPr>
                <a:xfrm>
                  <a:off x="267012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59380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51784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51784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00400" y="1371600"/>
                <a:ext cx="880920" cy="914400"/>
                <a:chOff x="3200400" y="1371600"/>
                <a:chExt cx="880920" cy="914400"/>
              </a:xfrm>
            </p:grpSpPr>
            <p:graphicFrame>
              <p:nvGraphicFramePr>
                <p:cNvPr id="639" name=""/>
                <p:cNvGraphicFramePr/>
                <p:nvPr/>
              </p:nvGraphicFramePr>
              <p:xfrm>
                <a:off x="3276360" y="1371600"/>
                <a:ext cx="804960" cy="91440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40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327636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41" name=""/>
                <p:cNvSpPr/>
                <p:nvPr/>
              </p:nvSpPr>
              <p:spPr>
                <a:xfrm>
                  <a:off x="335268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27636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200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457200" y="1371600"/>
                <a:ext cx="880920" cy="914400"/>
                <a:chOff x="457200" y="1371600"/>
                <a:chExt cx="880920" cy="914400"/>
              </a:xfrm>
            </p:grpSpPr>
            <p:graphicFrame>
              <p:nvGraphicFramePr>
                <p:cNvPr id="646" name=""/>
                <p:cNvGraphicFramePr/>
                <p:nvPr/>
              </p:nvGraphicFramePr>
              <p:xfrm>
                <a:off x="533160" y="1371600"/>
                <a:ext cx="804960" cy="91440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647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53316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48" name=""/>
                <p:cNvSpPr/>
                <p:nvPr/>
              </p:nvSpPr>
              <p:spPr>
                <a:xfrm>
                  <a:off x="60948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3316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5720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572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1066680" y="1219320"/>
                <a:ext cx="762120" cy="840600"/>
                <a:chOff x="1066680" y="1219320"/>
                <a:chExt cx="762120" cy="840600"/>
              </a:xfrm>
            </p:grpSpPr>
            <p:sp>
              <p:nvSpPr>
                <p:cNvPr id="653" name=""/>
                <p:cNvSpPr/>
                <p:nvPr/>
              </p:nvSpPr>
              <p:spPr>
                <a:xfrm flipV="1">
                  <a:off x="1447920" y="1447560"/>
                  <a:ext cx="0" cy="609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6680" y="1219320"/>
                  <a:ext cx="762120" cy="2156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ARTENZ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371600" y="175284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656" name=""/>
              <p:cNvGraphicFramePr/>
              <p:nvPr/>
            </p:nvGraphicFramePr>
            <p:xfrm>
              <a:off x="685800" y="1143000"/>
              <a:ext cx="299880" cy="4237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6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85800" y="1143000"/>
                        <a:ext cx="299880" cy="42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58" name=""/>
            <p:cNvSpPr/>
            <p:nvPr/>
          </p:nvSpPr>
          <p:spPr>
            <a:xfrm>
              <a:off x="457200" y="2289240"/>
              <a:ext cx="4114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1676160" y="1981080"/>
              <a:ext cx="53316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286000" y="1981080"/>
              <a:ext cx="53352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2971800" y="1981080"/>
              <a:ext cx="53352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990360" y="1981080"/>
              <a:ext cx="5331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57200" y="5029200"/>
            <a:ext cx="2743200" cy="703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amo in generale affermare che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657600" y="5867280"/>
                <a:ext cx="1752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5943600" y="56386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egge oraria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del moto rettilineo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143000" y="5257800"/>
            <a:ext cx="5333760" cy="1422360"/>
            <a:chOff x="1143000" y="5257800"/>
            <a:chExt cx="5333760" cy="1422360"/>
          </a:xfrm>
        </p:grpSpPr>
        <p:sp>
          <p:nvSpPr>
            <p:cNvPr id="667" name=""/>
            <p:cNvSpPr/>
            <p:nvPr/>
          </p:nvSpPr>
          <p:spPr>
            <a:xfrm>
              <a:off x="1143000" y="586764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pazio (metr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04760" y="62485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Tempo (second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72000" y="5257800"/>
              <a:ext cx="19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Velocità costante (m/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24280" y="54864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0"/>
                  </a:moveTo>
                  <a:cubicBezTo>
                    <a:pt x="216" y="0"/>
                    <a:pt x="144" y="0"/>
                    <a:pt x="96" y="48"/>
                  </a:cubicBezTo>
                  <a:cubicBezTo>
                    <a:pt x="48" y="96"/>
                    <a:pt x="24" y="192"/>
                    <a:pt x="0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60440" y="6324840"/>
              <a:ext cx="2768760" cy="355320"/>
            </a:xfrm>
            <a:custGeom>
              <a:avLst/>
              <a:gdLst/>
              <a:ahLst/>
              <a:rect l="l" t="t" r="r" b="b"/>
              <a:pathLst>
                <a:path w="1744" h="224">
                  <a:moveTo>
                    <a:pt x="112" y="96"/>
                  </a:moveTo>
                  <a:cubicBezTo>
                    <a:pt x="56" y="136"/>
                    <a:pt x="0" y="176"/>
                    <a:pt x="208" y="192"/>
                  </a:cubicBezTo>
                  <a:cubicBezTo>
                    <a:pt x="416" y="208"/>
                    <a:pt x="1104" y="224"/>
                    <a:pt x="1360" y="192"/>
                  </a:cubicBezTo>
                  <a:cubicBezTo>
                    <a:pt x="1616" y="160"/>
                    <a:pt x="1680" y="80"/>
                    <a:pt x="1744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61960" y="6019920"/>
              <a:ext cx="1371600" cy="152280"/>
            </a:xfrm>
            <a:custGeom>
              <a:avLst/>
              <a:gdLst/>
              <a:ahLst/>
              <a:rect l="l" t="t" r="r" b="b"/>
              <a:pathLst>
                <a:path w="864" h="96">
                  <a:moveTo>
                    <a:pt x="0" y="0"/>
                  </a:moveTo>
                  <a:cubicBezTo>
                    <a:pt x="48" y="16"/>
                    <a:pt x="96" y="32"/>
                    <a:pt x="240" y="48"/>
                  </a:cubicBezTo>
                  <a:cubicBezTo>
                    <a:pt x="384" y="64"/>
                    <a:pt x="624" y="80"/>
                    <a:pt x="864" y="9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457200" y="2514600"/>
            <a:ext cx="2403360" cy="2209680"/>
            <a:chOff x="457200" y="2514600"/>
            <a:chExt cx="2403360" cy="2209680"/>
          </a:xfrm>
        </p:grpSpPr>
        <p:grpSp>
          <p:nvGrpSpPr>
            <p:cNvPr id="674" name=""/>
            <p:cNvGrpSpPr/>
            <p:nvPr/>
          </p:nvGrpSpPr>
          <p:grpSpPr>
            <a:xfrm>
              <a:off x="461880" y="2516400"/>
              <a:ext cx="2394000" cy="2205360"/>
              <a:chOff x="461880" y="2516400"/>
              <a:chExt cx="2394000" cy="220536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461880" y="2516400"/>
                <a:ext cx="1162080" cy="339120"/>
                <a:chOff x="461880" y="2516400"/>
                <a:chExt cx="1162080" cy="33912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461880" y="2516400"/>
                  <a:ext cx="1162080" cy="339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7" name=""/>
                <p:cNvGrpSpPr/>
                <p:nvPr/>
              </p:nvGrpSpPr>
              <p:grpSpPr>
                <a:xfrm>
                  <a:off x="461880" y="2516400"/>
                  <a:ext cx="1162080" cy="339120"/>
                  <a:chOff x="461880" y="2516400"/>
                  <a:chExt cx="1162080" cy="33912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506160" y="2516400"/>
                    <a:ext cx="1073160" cy="339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empo (s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61880" y="2516400"/>
                    <a:ext cx="1162080" cy="339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0" name=""/>
              <p:cNvGrpSpPr/>
              <p:nvPr/>
            </p:nvGrpSpPr>
            <p:grpSpPr>
              <a:xfrm>
                <a:off x="1623960" y="2516400"/>
                <a:ext cx="1231920" cy="339120"/>
                <a:chOff x="1623960" y="2516400"/>
                <a:chExt cx="1231920" cy="3391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1623960" y="2516400"/>
                  <a:ext cx="1231920" cy="339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2" name=""/>
                <p:cNvGrpSpPr/>
                <p:nvPr/>
              </p:nvGrpSpPr>
              <p:grpSpPr>
                <a:xfrm>
                  <a:off x="1623960" y="2516400"/>
                  <a:ext cx="1231920" cy="339120"/>
                  <a:chOff x="1623960" y="2516400"/>
                  <a:chExt cx="1231920" cy="33912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1668240" y="2516400"/>
                    <a:ext cx="1143000" cy="339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pazio (m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1623960" y="2516400"/>
                    <a:ext cx="1231920" cy="339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5" name=""/>
              <p:cNvGrpSpPr/>
              <p:nvPr/>
            </p:nvGrpSpPr>
            <p:grpSpPr>
              <a:xfrm>
                <a:off x="461880" y="2855520"/>
                <a:ext cx="1162080" cy="266400"/>
                <a:chOff x="461880" y="2855520"/>
                <a:chExt cx="1162080" cy="26640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461880" y="285552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7" name=""/>
                <p:cNvGrpSpPr/>
                <p:nvPr/>
              </p:nvGrpSpPr>
              <p:grpSpPr>
                <a:xfrm>
                  <a:off x="461880" y="2855520"/>
                  <a:ext cx="1162080" cy="266400"/>
                  <a:chOff x="461880" y="2855520"/>
                  <a:chExt cx="1162080" cy="26640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>
                    <a:off x="506160" y="285552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61880" y="285552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0" name=""/>
              <p:cNvGrpSpPr/>
              <p:nvPr/>
            </p:nvGrpSpPr>
            <p:grpSpPr>
              <a:xfrm>
                <a:off x="1623960" y="2855520"/>
                <a:ext cx="1231920" cy="266400"/>
                <a:chOff x="1623960" y="2855520"/>
                <a:chExt cx="1231920" cy="2664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1623960" y="285552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2" name=""/>
                <p:cNvGrpSpPr/>
                <p:nvPr/>
              </p:nvGrpSpPr>
              <p:grpSpPr>
                <a:xfrm>
                  <a:off x="1623960" y="2855520"/>
                  <a:ext cx="1231920" cy="266400"/>
                  <a:chOff x="1623960" y="2855520"/>
                  <a:chExt cx="1231920" cy="26640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1668240" y="285552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1623960" y="285552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5" name=""/>
              <p:cNvGrpSpPr/>
              <p:nvPr/>
            </p:nvGrpSpPr>
            <p:grpSpPr>
              <a:xfrm>
                <a:off x="461880" y="3122280"/>
                <a:ext cx="1162080" cy="266400"/>
                <a:chOff x="461880" y="3122280"/>
                <a:chExt cx="1162080" cy="26640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461880" y="312228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7" name=""/>
                <p:cNvGrpSpPr/>
                <p:nvPr/>
              </p:nvGrpSpPr>
              <p:grpSpPr>
                <a:xfrm>
                  <a:off x="461880" y="3122280"/>
                  <a:ext cx="1162080" cy="266400"/>
                  <a:chOff x="461880" y="3122280"/>
                  <a:chExt cx="1162080" cy="2664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506160" y="312228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461880" y="312228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0" name=""/>
              <p:cNvGrpSpPr/>
              <p:nvPr/>
            </p:nvGrpSpPr>
            <p:grpSpPr>
              <a:xfrm>
                <a:off x="1623960" y="3122280"/>
                <a:ext cx="1231920" cy="266400"/>
                <a:chOff x="1623960" y="3122280"/>
                <a:chExt cx="1231920" cy="26640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1623960" y="312228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2" name=""/>
                <p:cNvGrpSpPr/>
                <p:nvPr/>
              </p:nvGrpSpPr>
              <p:grpSpPr>
                <a:xfrm>
                  <a:off x="1623960" y="3122280"/>
                  <a:ext cx="1231920" cy="266400"/>
                  <a:chOff x="1623960" y="3122280"/>
                  <a:chExt cx="1231920" cy="26640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>
                    <a:off x="1668240" y="312228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1623960" y="312228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5" name=""/>
              <p:cNvGrpSpPr/>
              <p:nvPr/>
            </p:nvGrpSpPr>
            <p:grpSpPr>
              <a:xfrm>
                <a:off x="461880" y="3389040"/>
                <a:ext cx="1162080" cy="266400"/>
                <a:chOff x="461880" y="3389040"/>
                <a:chExt cx="1162080" cy="26640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461880" y="338904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7" name=""/>
                <p:cNvGrpSpPr/>
                <p:nvPr/>
              </p:nvGrpSpPr>
              <p:grpSpPr>
                <a:xfrm>
                  <a:off x="461880" y="3389040"/>
                  <a:ext cx="1162080" cy="266400"/>
                  <a:chOff x="461880" y="3389040"/>
                  <a:chExt cx="1162080" cy="26640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506160" y="338904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461880" y="338904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0" name=""/>
              <p:cNvGrpSpPr/>
              <p:nvPr/>
            </p:nvGrpSpPr>
            <p:grpSpPr>
              <a:xfrm>
                <a:off x="1623960" y="3389040"/>
                <a:ext cx="1231920" cy="266400"/>
                <a:chOff x="1623960" y="3389040"/>
                <a:chExt cx="1231920" cy="26640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623960" y="338904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2" name=""/>
                <p:cNvGrpSpPr/>
                <p:nvPr/>
              </p:nvGrpSpPr>
              <p:grpSpPr>
                <a:xfrm>
                  <a:off x="1623960" y="3389040"/>
                  <a:ext cx="1231920" cy="266400"/>
                  <a:chOff x="1623960" y="3389040"/>
                  <a:chExt cx="1231920" cy="26640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1668240" y="338904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1623960" y="338904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5" name=""/>
              <p:cNvGrpSpPr/>
              <p:nvPr/>
            </p:nvGrpSpPr>
            <p:grpSpPr>
              <a:xfrm>
                <a:off x="461880" y="3655440"/>
                <a:ext cx="1162080" cy="266400"/>
                <a:chOff x="461880" y="3655440"/>
                <a:chExt cx="1162080" cy="26640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461880" y="365544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7" name=""/>
                <p:cNvGrpSpPr/>
                <p:nvPr/>
              </p:nvGrpSpPr>
              <p:grpSpPr>
                <a:xfrm>
                  <a:off x="461880" y="3655440"/>
                  <a:ext cx="1162080" cy="266400"/>
                  <a:chOff x="461880" y="3655440"/>
                  <a:chExt cx="1162080" cy="26640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506160" y="365544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61880" y="365544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0" name=""/>
              <p:cNvGrpSpPr/>
              <p:nvPr/>
            </p:nvGrpSpPr>
            <p:grpSpPr>
              <a:xfrm>
                <a:off x="1623960" y="3655440"/>
                <a:ext cx="1231920" cy="266400"/>
                <a:chOff x="1623960" y="3655440"/>
                <a:chExt cx="1231920" cy="26640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1623960" y="365544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2" name=""/>
                <p:cNvGrpSpPr/>
                <p:nvPr/>
              </p:nvGrpSpPr>
              <p:grpSpPr>
                <a:xfrm>
                  <a:off x="1623960" y="3655440"/>
                  <a:ext cx="1231920" cy="266400"/>
                  <a:chOff x="1623960" y="3655440"/>
                  <a:chExt cx="1231920" cy="26640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1668240" y="365544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623960" y="365544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5" name=""/>
              <p:cNvGrpSpPr/>
              <p:nvPr/>
            </p:nvGrpSpPr>
            <p:grpSpPr>
              <a:xfrm>
                <a:off x="461880" y="3922200"/>
                <a:ext cx="1162080" cy="266400"/>
                <a:chOff x="461880" y="3922200"/>
                <a:chExt cx="1162080" cy="2664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461880" y="392220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7" name=""/>
                <p:cNvGrpSpPr/>
                <p:nvPr/>
              </p:nvGrpSpPr>
              <p:grpSpPr>
                <a:xfrm>
                  <a:off x="461880" y="3922200"/>
                  <a:ext cx="1162080" cy="266400"/>
                  <a:chOff x="461880" y="3922200"/>
                  <a:chExt cx="1162080" cy="26640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>
                    <a:off x="506160" y="392220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461880" y="392220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0" name=""/>
              <p:cNvGrpSpPr/>
              <p:nvPr/>
            </p:nvGrpSpPr>
            <p:grpSpPr>
              <a:xfrm>
                <a:off x="1623960" y="3922200"/>
                <a:ext cx="1231920" cy="266400"/>
                <a:chOff x="1623960" y="3922200"/>
                <a:chExt cx="1231920" cy="26640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1623960" y="392220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2" name=""/>
                <p:cNvGrpSpPr/>
                <p:nvPr/>
              </p:nvGrpSpPr>
              <p:grpSpPr>
                <a:xfrm>
                  <a:off x="1623960" y="3922200"/>
                  <a:ext cx="1231920" cy="266400"/>
                  <a:chOff x="1623960" y="3922200"/>
                  <a:chExt cx="1231920" cy="2664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1668240" y="392220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623960" y="392220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5" name=""/>
              <p:cNvGrpSpPr/>
              <p:nvPr/>
            </p:nvGrpSpPr>
            <p:grpSpPr>
              <a:xfrm>
                <a:off x="461880" y="4188960"/>
                <a:ext cx="1162080" cy="266400"/>
                <a:chOff x="461880" y="4188960"/>
                <a:chExt cx="1162080" cy="2664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61880" y="418896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7" name=""/>
                <p:cNvGrpSpPr/>
                <p:nvPr/>
              </p:nvGrpSpPr>
              <p:grpSpPr>
                <a:xfrm>
                  <a:off x="461880" y="4188960"/>
                  <a:ext cx="1162080" cy="266400"/>
                  <a:chOff x="461880" y="4188960"/>
                  <a:chExt cx="1162080" cy="26640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>
                    <a:off x="506160" y="418896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…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61880" y="418896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0" name=""/>
              <p:cNvGrpSpPr/>
              <p:nvPr/>
            </p:nvGrpSpPr>
            <p:grpSpPr>
              <a:xfrm>
                <a:off x="1623960" y="4188960"/>
                <a:ext cx="1231920" cy="266400"/>
                <a:chOff x="1623960" y="4188960"/>
                <a:chExt cx="1231920" cy="26640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1623960" y="418896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2" name=""/>
                <p:cNvGrpSpPr/>
                <p:nvPr/>
              </p:nvGrpSpPr>
              <p:grpSpPr>
                <a:xfrm>
                  <a:off x="1623960" y="4188960"/>
                  <a:ext cx="1231920" cy="266400"/>
                  <a:chOff x="1623960" y="4188960"/>
                  <a:chExt cx="1231920" cy="26640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>
                    <a:off x="1668240" y="418896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…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623960" y="418896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5" name=""/>
              <p:cNvGrpSpPr/>
              <p:nvPr/>
            </p:nvGrpSpPr>
            <p:grpSpPr>
              <a:xfrm>
                <a:off x="461880" y="4455360"/>
                <a:ext cx="1162080" cy="266400"/>
                <a:chOff x="461880" y="4455360"/>
                <a:chExt cx="1162080" cy="2664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461880" y="445536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7" name=""/>
                <p:cNvGrpSpPr/>
                <p:nvPr/>
              </p:nvGrpSpPr>
              <p:grpSpPr>
                <a:xfrm>
                  <a:off x="461880" y="4455360"/>
                  <a:ext cx="1162080" cy="266400"/>
                  <a:chOff x="461880" y="4455360"/>
                  <a:chExt cx="1162080" cy="26640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506160" y="445536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61880" y="445536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0" name=""/>
              <p:cNvGrpSpPr/>
              <p:nvPr/>
            </p:nvGrpSpPr>
            <p:grpSpPr>
              <a:xfrm>
                <a:off x="1623960" y="4455360"/>
                <a:ext cx="1231920" cy="266400"/>
                <a:chOff x="1623960" y="4455360"/>
                <a:chExt cx="1231920" cy="26640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623960" y="445536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2" name=""/>
                <p:cNvGrpSpPr/>
                <p:nvPr/>
              </p:nvGrpSpPr>
              <p:grpSpPr>
                <a:xfrm>
                  <a:off x="1623960" y="4455360"/>
                  <a:ext cx="1231920" cy="266400"/>
                  <a:chOff x="1623960" y="4455360"/>
                  <a:chExt cx="1231920" cy="26640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1668240" y="445536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623960" y="445536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55" name=""/>
            <p:cNvSpPr/>
            <p:nvPr/>
          </p:nvSpPr>
          <p:spPr>
            <a:xfrm>
              <a:off x="457200" y="2514600"/>
              <a:ext cx="2403360" cy="2209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4724280" y="1143000"/>
            <a:ext cx="3657600" cy="109836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osservate i valori in tabella potete facilmente scoprire che moltiplicando per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ni valore di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tem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i ottiene il corrispondente valore di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pa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2895480" y="2438280"/>
                <a:ext cx="1078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4038480" y="2438280"/>
            <a:ext cx="4953240" cy="337320"/>
          </a:xfrm>
          <a:prstGeom prst="rect">
            <a:avLst/>
          </a:prstGeom>
          <a:solidFill>
            <a:srgbClr val="e5e587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a equazione è l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ge orar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 moto di N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4400" y="342900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312408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38080" y="365760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  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396252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62120" y="4495680"/>
            <a:ext cx="1447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57600" y="3886200"/>
            <a:ext cx="3124080" cy="33732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sa rappresenta il valore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?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3657600" y="4343400"/>
            <a:ext cx="4495680" cy="914400"/>
            <a:chOff x="3657600" y="4343400"/>
            <a:chExt cx="4495680" cy="914400"/>
          </a:xfrm>
        </p:grpSpPr>
        <p:sp>
          <p:nvSpPr>
            <p:cNvPr id="766" name=""/>
            <p:cNvSpPr/>
            <p:nvPr/>
          </p:nvSpPr>
          <p:spPr>
            <a:xfrm>
              <a:off x="3657600" y="4343400"/>
              <a:ext cx="4495680" cy="824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Questo valore è la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velocità costante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 tenuta da Nala durante il mot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7" name=""/>
                <p:cNvSpPr txBox="1"/>
                <p:nvPr/>
              </p:nvSpPr>
              <p:spPr>
                <a:xfrm>
                  <a:off x="5760360" y="4648320"/>
                  <a:ext cx="434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8" name=""/>
          <p:cNvSpPr/>
          <p:nvPr/>
        </p:nvSpPr>
        <p:spPr>
          <a:xfrm>
            <a:off x="3657600" y="2971800"/>
            <a:ext cx="52578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gge orar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 moto di Nala ci permette di sapere quanto spazio avrà percorso Nala, dopo un qualsiasi temp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403440" y="3048120"/>
            <a:ext cx="482760" cy="2819160"/>
          </a:xfrm>
          <a:custGeom>
            <a:avLst/>
            <a:gdLst/>
            <a:ahLst/>
            <a:rect l="l" t="t" r="r" b="b"/>
            <a:pathLst>
              <a:path w="304" h="1776">
                <a:moveTo>
                  <a:pt x="304" y="1776"/>
                </a:moveTo>
                <a:cubicBezTo>
                  <a:pt x="256" y="1748"/>
                  <a:pt x="208" y="1720"/>
                  <a:pt x="160" y="1632"/>
                </a:cubicBezTo>
                <a:cubicBezTo>
                  <a:pt x="112" y="1544"/>
                  <a:pt x="32" y="1520"/>
                  <a:pt x="16" y="1248"/>
                </a:cubicBezTo>
                <a:cubicBezTo>
                  <a:pt x="0" y="976"/>
                  <a:pt x="32" y="488"/>
                  <a:pt x="64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89548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609480" y="2743200"/>
            <a:ext cx="3733920" cy="3657600"/>
            <a:chOff x="609480" y="2743200"/>
            <a:chExt cx="3733920" cy="3657600"/>
          </a:xfrm>
        </p:grpSpPr>
        <p:grpSp>
          <p:nvGrpSpPr>
            <p:cNvPr id="772" name=""/>
            <p:cNvGrpSpPr/>
            <p:nvPr/>
          </p:nvGrpSpPr>
          <p:grpSpPr>
            <a:xfrm>
              <a:off x="609480" y="2743200"/>
              <a:ext cx="3581640" cy="3657600"/>
              <a:chOff x="609480" y="2743200"/>
              <a:chExt cx="3581640" cy="3657600"/>
            </a:xfrm>
          </p:grpSpPr>
          <p:graphicFrame>
            <p:nvGraphicFramePr>
              <p:cNvPr id="773" name=""/>
              <p:cNvGraphicFramePr/>
              <p:nvPr/>
            </p:nvGraphicFramePr>
            <p:xfrm>
              <a:off x="609480" y="2743200"/>
              <a:ext cx="3581640" cy="3657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9480" y="2743200"/>
                        <a:ext cx="3581640" cy="3657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775" name=""/>
              <p:cNvGrpSpPr/>
              <p:nvPr/>
            </p:nvGrpSpPr>
            <p:grpSpPr>
              <a:xfrm>
                <a:off x="609480" y="2819520"/>
                <a:ext cx="2590920" cy="3552840"/>
                <a:chOff x="609480" y="2819520"/>
                <a:chExt cx="2590920" cy="355284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914400" y="281952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14300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52388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82880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20968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2590920" y="609588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89548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685800" y="54864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85800" y="510552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85800" y="47242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09480" y="4419720"/>
                  <a:ext cx="38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09480" y="4038480"/>
                  <a:ext cx="38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85800" y="601992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9" name=""/>
            <p:cNvSpPr/>
            <p:nvPr/>
          </p:nvSpPr>
          <p:spPr>
            <a:xfrm>
              <a:off x="3657600" y="60958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 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br>
              <a:rPr sz="27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rappresentazione gra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1066680"/>
            <a:ext cx="4419720" cy="580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ortiamo i dati del moto di Nala, contenuti in tabella, sul grafico cartesi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1828800"/>
            <a:ext cx="4953240" cy="824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teniamo una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mirett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 esce dall’origine degli assi: le grandezze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no direttamente proporzio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76920" y="2971800"/>
            <a:ext cx="3429000" cy="580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ssati due punti A e B sulla retta, calcoliamo la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enden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la ret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609480" y="1066680"/>
            <a:ext cx="2276280" cy="1384200"/>
            <a:chOff x="609480" y="1066680"/>
            <a:chExt cx="2276280" cy="1384200"/>
          </a:xfrm>
        </p:grpSpPr>
        <p:grpSp>
          <p:nvGrpSpPr>
            <p:cNvPr id="795" name=""/>
            <p:cNvGrpSpPr/>
            <p:nvPr/>
          </p:nvGrpSpPr>
          <p:grpSpPr>
            <a:xfrm>
              <a:off x="609480" y="1066680"/>
              <a:ext cx="1104840" cy="281160"/>
              <a:chOff x="609480" y="1066680"/>
              <a:chExt cx="1104840" cy="281160"/>
            </a:xfrm>
          </p:grpSpPr>
          <p:sp>
            <p:nvSpPr>
              <p:cNvPr id="796" name=""/>
              <p:cNvSpPr/>
              <p:nvPr/>
            </p:nvSpPr>
            <p:spPr>
              <a:xfrm>
                <a:off x="609480" y="1066680"/>
                <a:ext cx="1104840" cy="281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609480" y="1066680"/>
                <a:ext cx="1104840" cy="281160"/>
                <a:chOff x="609480" y="1066680"/>
                <a:chExt cx="1104840" cy="28116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651240" y="1066680"/>
                  <a:ext cx="1020240" cy="281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mpo (s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09480" y="1066680"/>
                  <a:ext cx="1104840" cy="28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0" name=""/>
            <p:cNvGrpSpPr/>
            <p:nvPr/>
          </p:nvGrpSpPr>
          <p:grpSpPr>
            <a:xfrm>
              <a:off x="1714320" y="1066680"/>
              <a:ext cx="1171440" cy="281160"/>
              <a:chOff x="1714320" y="1066680"/>
              <a:chExt cx="1171440" cy="281160"/>
            </a:xfrm>
          </p:grpSpPr>
          <p:sp>
            <p:nvSpPr>
              <p:cNvPr id="801" name=""/>
              <p:cNvSpPr/>
              <p:nvPr/>
            </p:nvSpPr>
            <p:spPr>
              <a:xfrm>
                <a:off x="1714320" y="1066680"/>
                <a:ext cx="1171440" cy="281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1714320" y="1066680"/>
                <a:ext cx="1171440" cy="281160"/>
                <a:chOff x="1714320" y="1066680"/>
                <a:chExt cx="1171440" cy="28116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1756080" y="1066680"/>
                  <a:ext cx="1086840" cy="281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azio (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714320" y="1066680"/>
                  <a:ext cx="1171440" cy="28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5" name=""/>
            <p:cNvGrpSpPr/>
            <p:nvPr/>
          </p:nvGrpSpPr>
          <p:grpSpPr>
            <a:xfrm>
              <a:off x="609480" y="1347840"/>
              <a:ext cx="1104840" cy="220680"/>
              <a:chOff x="609480" y="1347840"/>
              <a:chExt cx="1104840" cy="220680"/>
            </a:xfrm>
          </p:grpSpPr>
          <p:sp>
            <p:nvSpPr>
              <p:cNvPr id="806" name=""/>
              <p:cNvSpPr/>
              <p:nvPr/>
            </p:nvSpPr>
            <p:spPr>
              <a:xfrm>
                <a:off x="609480" y="1347840"/>
                <a:ext cx="11048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609480" y="1347840"/>
                <a:ext cx="1104840" cy="220680"/>
                <a:chOff x="609480" y="1347840"/>
                <a:chExt cx="1104840" cy="22068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651240" y="1347840"/>
                  <a:ext cx="10202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9480" y="1347840"/>
                  <a:ext cx="11048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0" name=""/>
            <p:cNvGrpSpPr/>
            <p:nvPr/>
          </p:nvGrpSpPr>
          <p:grpSpPr>
            <a:xfrm>
              <a:off x="1714320" y="1347840"/>
              <a:ext cx="1171440" cy="220680"/>
              <a:chOff x="1714320" y="1347840"/>
              <a:chExt cx="1171440" cy="220680"/>
            </a:xfrm>
          </p:grpSpPr>
          <p:sp>
            <p:nvSpPr>
              <p:cNvPr id="811" name=""/>
              <p:cNvSpPr/>
              <p:nvPr/>
            </p:nvSpPr>
            <p:spPr>
              <a:xfrm>
                <a:off x="1714320" y="1347840"/>
                <a:ext cx="11714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1714320" y="1347840"/>
                <a:ext cx="1171440" cy="220680"/>
                <a:chOff x="1714320" y="1347840"/>
                <a:chExt cx="1171440" cy="22068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1756080" y="1347840"/>
                  <a:ext cx="10868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714320" y="1347840"/>
                  <a:ext cx="11714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5" name=""/>
            <p:cNvGrpSpPr/>
            <p:nvPr/>
          </p:nvGrpSpPr>
          <p:grpSpPr>
            <a:xfrm>
              <a:off x="609480" y="1568520"/>
              <a:ext cx="1104840" cy="220680"/>
              <a:chOff x="609480" y="1568520"/>
              <a:chExt cx="1104840" cy="220680"/>
            </a:xfrm>
          </p:grpSpPr>
          <p:sp>
            <p:nvSpPr>
              <p:cNvPr id="816" name=""/>
              <p:cNvSpPr/>
              <p:nvPr/>
            </p:nvSpPr>
            <p:spPr>
              <a:xfrm>
                <a:off x="609480" y="1568520"/>
                <a:ext cx="11048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609480" y="1568520"/>
                <a:ext cx="1104840" cy="220680"/>
                <a:chOff x="609480" y="1568520"/>
                <a:chExt cx="1104840" cy="22068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651240" y="1568520"/>
                  <a:ext cx="10202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09480" y="1568520"/>
                  <a:ext cx="11048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0" name=""/>
            <p:cNvGrpSpPr/>
            <p:nvPr/>
          </p:nvGrpSpPr>
          <p:grpSpPr>
            <a:xfrm>
              <a:off x="1714320" y="1568520"/>
              <a:ext cx="1171440" cy="220680"/>
              <a:chOff x="1714320" y="1568520"/>
              <a:chExt cx="1171440" cy="220680"/>
            </a:xfrm>
          </p:grpSpPr>
          <p:sp>
            <p:nvSpPr>
              <p:cNvPr id="821" name=""/>
              <p:cNvSpPr/>
              <p:nvPr/>
            </p:nvSpPr>
            <p:spPr>
              <a:xfrm>
                <a:off x="1714320" y="1568520"/>
                <a:ext cx="11714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2" name=""/>
              <p:cNvGrpSpPr/>
              <p:nvPr/>
            </p:nvGrpSpPr>
            <p:grpSpPr>
              <a:xfrm>
                <a:off x="1714320" y="1568520"/>
                <a:ext cx="1171440" cy="220680"/>
                <a:chOff x="1714320" y="1568520"/>
                <a:chExt cx="1171440" cy="22068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1756080" y="1568520"/>
                  <a:ext cx="10868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714320" y="1568520"/>
                  <a:ext cx="11714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5" name=""/>
            <p:cNvGrpSpPr/>
            <p:nvPr/>
          </p:nvGrpSpPr>
          <p:grpSpPr>
            <a:xfrm>
              <a:off x="609480" y="1789200"/>
              <a:ext cx="1104840" cy="220320"/>
              <a:chOff x="609480" y="1789200"/>
              <a:chExt cx="1104840" cy="220320"/>
            </a:xfrm>
          </p:grpSpPr>
          <p:sp>
            <p:nvSpPr>
              <p:cNvPr id="826" name=""/>
              <p:cNvSpPr/>
              <p:nvPr/>
            </p:nvSpPr>
            <p:spPr>
              <a:xfrm>
                <a:off x="609480" y="1789200"/>
                <a:ext cx="1104840" cy="22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609480" y="1789200"/>
                <a:ext cx="1104840" cy="220320"/>
                <a:chOff x="609480" y="1789200"/>
                <a:chExt cx="1104840" cy="22032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651240" y="1789200"/>
                  <a:ext cx="1020240" cy="220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09480" y="1789200"/>
                  <a:ext cx="1104840" cy="22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0" name=""/>
            <p:cNvGrpSpPr/>
            <p:nvPr/>
          </p:nvGrpSpPr>
          <p:grpSpPr>
            <a:xfrm>
              <a:off x="1714320" y="1789200"/>
              <a:ext cx="1171440" cy="220320"/>
              <a:chOff x="1714320" y="1789200"/>
              <a:chExt cx="1171440" cy="22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1714320" y="1789200"/>
                <a:ext cx="1171440" cy="22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" name=""/>
              <p:cNvGrpSpPr/>
              <p:nvPr/>
            </p:nvGrpSpPr>
            <p:grpSpPr>
              <a:xfrm>
                <a:off x="1714320" y="1789200"/>
                <a:ext cx="1171440" cy="220320"/>
                <a:chOff x="1714320" y="1789200"/>
                <a:chExt cx="1171440" cy="2203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1756080" y="1789200"/>
                  <a:ext cx="1086840" cy="220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714320" y="1789200"/>
                  <a:ext cx="1171440" cy="22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5" name=""/>
            <p:cNvGrpSpPr/>
            <p:nvPr/>
          </p:nvGrpSpPr>
          <p:grpSpPr>
            <a:xfrm>
              <a:off x="609480" y="2009520"/>
              <a:ext cx="1104840" cy="220680"/>
              <a:chOff x="609480" y="2009520"/>
              <a:chExt cx="1104840" cy="220680"/>
            </a:xfrm>
          </p:grpSpPr>
          <p:sp>
            <p:nvSpPr>
              <p:cNvPr id="836" name=""/>
              <p:cNvSpPr/>
              <p:nvPr/>
            </p:nvSpPr>
            <p:spPr>
              <a:xfrm>
                <a:off x="609480" y="2009520"/>
                <a:ext cx="11048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7" name=""/>
              <p:cNvGrpSpPr/>
              <p:nvPr/>
            </p:nvGrpSpPr>
            <p:grpSpPr>
              <a:xfrm>
                <a:off x="609480" y="2009520"/>
                <a:ext cx="1104840" cy="220680"/>
                <a:chOff x="609480" y="2009520"/>
                <a:chExt cx="1104840" cy="22068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651240" y="2009520"/>
                  <a:ext cx="10202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09480" y="2009520"/>
                  <a:ext cx="11048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0" name=""/>
            <p:cNvGrpSpPr/>
            <p:nvPr/>
          </p:nvGrpSpPr>
          <p:grpSpPr>
            <a:xfrm>
              <a:off x="1714320" y="2009520"/>
              <a:ext cx="1171440" cy="220680"/>
              <a:chOff x="1714320" y="2009520"/>
              <a:chExt cx="1171440" cy="220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714320" y="2009520"/>
                <a:ext cx="11714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1714320" y="2009520"/>
                <a:ext cx="1171440" cy="220680"/>
                <a:chOff x="1714320" y="2009520"/>
                <a:chExt cx="1171440" cy="22068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1756080" y="2009520"/>
                  <a:ext cx="10868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714320" y="2009520"/>
                  <a:ext cx="11714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5" name=""/>
            <p:cNvGrpSpPr/>
            <p:nvPr/>
          </p:nvGrpSpPr>
          <p:grpSpPr>
            <a:xfrm>
              <a:off x="609480" y="2230200"/>
              <a:ext cx="1104840" cy="220680"/>
              <a:chOff x="609480" y="2230200"/>
              <a:chExt cx="1104840" cy="220680"/>
            </a:xfrm>
          </p:grpSpPr>
          <p:sp>
            <p:nvSpPr>
              <p:cNvPr id="846" name=""/>
              <p:cNvSpPr/>
              <p:nvPr/>
            </p:nvSpPr>
            <p:spPr>
              <a:xfrm>
                <a:off x="609480" y="2230200"/>
                <a:ext cx="11048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7" name=""/>
              <p:cNvGrpSpPr/>
              <p:nvPr/>
            </p:nvGrpSpPr>
            <p:grpSpPr>
              <a:xfrm>
                <a:off x="609480" y="2230200"/>
                <a:ext cx="1104840" cy="220680"/>
                <a:chOff x="609480" y="2230200"/>
                <a:chExt cx="1104840" cy="22068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651240" y="2230200"/>
                  <a:ext cx="10202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09480" y="2230200"/>
                  <a:ext cx="11048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0" name=""/>
            <p:cNvGrpSpPr/>
            <p:nvPr/>
          </p:nvGrpSpPr>
          <p:grpSpPr>
            <a:xfrm>
              <a:off x="1714320" y="2230200"/>
              <a:ext cx="1171440" cy="220680"/>
              <a:chOff x="1714320" y="2230200"/>
              <a:chExt cx="1171440" cy="220680"/>
            </a:xfrm>
          </p:grpSpPr>
          <p:sp>
            <p:nvSpPr>
              <p:cNvPr id="851" name=""/>
              <p:cNvSpPr/>
              <p:nvPr/>
            </p:nvSpPr>
            <p:spPr>
              <a:xfrm>
                <a:off x="1714320" y="2230200"/>
                <a:ext cx="11714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714320" y="2230200"/>
                <a:ext cx="1171440" cy="220680"/>
                <a:chOff x="1714320" y="2230200"/>
                <a:chExt cx="1171440" cy="22068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1756080" y="2230200"/>
                  <a:ext cx="10868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714320" y="2230200"/>
                  <a:ext cx="11714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55" name=""/>
          <p:cNvSpPr/>
          <p:nvPr/>
        </p:nvSpPr>
        <p:spPr>
          <a:xfrm flipV="1">
            <a:off x="990720" y="4114800"/>
            <a:ext cx="190476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5638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8108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676520" y="5257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3623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6520" y="5334120"/>
            <a:ext cx="7617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438280" y="4572000"/>
            <a:ext cx="0" cy="762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38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4876920" y="3886200"/>
                <a:ext cx="3429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5" name=""/>
          <p:cNvSpPr/>
          <p:nvPr/>
        </p:nvSpPr>
        <p:spPr>
          <a:xfrm>
            <a:off x="4419720" y="5105520"/>
            <a:ext cx="3962160" cy="642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pendenza della retta coincide con l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i Na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14400" y="6019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6232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28800" y="5257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Δ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066320" y="1447920"/>
            <a:ext cx="2210040" cy="4572000"/>
            <a:chOff x="1066320" y="1447920"/>
            <a:chExt cx="2210040" cy="4572000"/>
          </a:xfrm>
        </p:grpSpPr>
        <p:sp>
          <p:nvSpPr>
            <p:cNvPr id="870" name=""/>
            <p:cNvSpPr/>
            <p:nvPr/>
          </p:nvSpPr>
          <p:spPr>
            <a:xfrm flipH="1">
              <a:off x="2895120" y="14479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066320" y="60199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447920" y="1676520"/>
            <a:ext cx="1828440" cy="4038480"/>
            <a:chOff x="1447920" y="1676520"/>
            <a:chExt cx="1828440" cy="4038480"/>
          </a:xfrm>
        </p:grpSpPr>
        <p:sp>
          <p:nvSpPr>
            <p:cNvPr id="873" name=""/>
            <p:cNvSpPr/>
            <p:nvPr/>
          </p:nvSpPr>
          <p:spPr>
            <a:xfrm flipH="1">
              <a:off x="2895120" y="16765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447920" y="57150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1828800" y="1905120"/>
            <a:ext cx="1447560" cy="3352680"/>
            <a:chOff x="1828800" y="1905120"/>
            <a:chExt cx="1447560" cy="3352680"/>
          </a:xfrm>
        </p:grpSpPr>
        <p:sp>
          <p:nvSpPr>
            <p:cNvPr id="876" name=""/>
            <p:cNvSpPr/>
            <p:nvPr/>
          </p:nvSpPr>
          <p:spPr>
            <a:xfrm flipH="1">
              <a:off x="2895120" y="19051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828800" y="52578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133720" y="2133720"/>
            <a:ext cx="1142640" cy="2819160"/>
            <a:chOff x="2133720" y="2133720"/>
            <a:chExt cx="1142640" cy="2819160"/>
          </a:xfrm>
        </p:grpSpPr>
        <p:sp>
          <p:nvSpPr>
            <p:cNvPr id="879" name=""/>
            <p:cNvSpPr/>
            <p:nvPr/>
          </p:nvSpPr>
          <p:spPr>
            <a:xfrm flipH="1">
              <a:off x="2895120" y="21337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133720" y="495288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2514600" y="2362320"/>
            <a:ext cx="761760" cy="2209680"/>
            <a:chOff x="2514600" y="2362320"/>
            <a:chExt cx="761760" cy="2209680"/>
          </a:xfrm>
        </p:grpSpPr>
        <p:sp>
          <p:nvSpPr>
            <p:cNvPr id="882" name=""/>
            <p:cNvSpPr/>
            <p:nvPr/>
          </p:nvSpPr>
          <p:spPr>
            <a:xfrm flipH="1">
              <a:off x="2895120" y="23623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514600" y="45720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br>
              <a:rPr sz="27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va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90720" y="106668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a 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380880" y="2743200"/>
            <a:ext cx="3886200" cy="3657600"/>
            <a:chOff x="380880" y="2743200"/>
            <a:chExt cx="3886200" cy="3657600"/>
          </a:xfrm>
        </p:grpSpPr>
        <p:graphicFrame>
          <p:nvGraphicFramePr>
            <p:cNvPr id="887" name=""/>
            <p:cNvGraphicFramePr/>
            <p:nvPr/>
          </p:nvGraphicFramePr>
          <p:xfrm>
            <a:off x="533520" y="2743200"/>
            <a:ext cx="358128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743200"/>
                      <a:ext cx="358128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9" name=""/>
            <p:cNvSpPr/>
            <p:nvPr/>
          </p:nvSpPr>
          <p:spPr>
            <a:xfrm>
              <a:off x="838080" y="28195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(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66680" y="60958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47920" y="60958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52480" y="60958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33720" y="60958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514600" y="60958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19520" y="60958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7200" y="54864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33520" y="510552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7200" y="47242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3520" y="441972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0880" y="4038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9480" y="60199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581280" y="60958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 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914400" y="4114800"/>
              <a:ext cx="1905120" cy="1905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380880" y="1676520"/>
            <a:ext cx="7086600" cy="353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Calcola la sua velocità costante, determinando la pendenza della ret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419720" y="2209680"/>
            <a:ext cx="3657600" cy="3373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ssa sulla retta due punti qualsi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249800" y="2819520"/>
                <a:ext cx="40719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7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2666880" y="4191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05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95680" y="3657600"/>
            <a:ext cx="3581640" cy="368280"/>
          </a:xfrm>
          <a:prstGeom prst="rect">
            <a:avLst/>
          </a:prstGeom>
          <a:solidFill>
            <a:srgbClr val="e5e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velocità di Remo è 2,5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95680" y="4191120"/>
            <a:ext cx="3810240" cy="580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noscendo la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egge oraria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, quanto spazio percorre in 20 second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5181480" y="4876920"/>
                <a:ext cx="14479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724280" y="5638680"/>
                <a:ext cx="26020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,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3" name=""/>
          <p:cNvGrpSpPr/>
          <p:nvPr/>
        </p:nvGrpSpPr>
        <p:grpSpPr>
          <a:xfrm>
            <a:off x="5790960" y="5943600"/>
            <a:ext cx="1447560" cy="533520"/>
            <a:chOff x="5790960" y="5943600"/>
            <a:chExt cx="1447560" cy="533520"/>
          </a:xfrm>
        </p:grpSpPr>
        <p:sp>
          <p:nvSpPr>
            <p:cNvPr id="914" name=""/>
            <p:cNvSpPr/>
            <p:nvPr/>
          </p:nvSpPr>
          <p:spPr>
            <a:xfrm flipH="1">
              <a:off x="5790960" y="6248520"/>
              <a:ext cx="53316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705360" y="5943600"/>
              <a:ext cx="53316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7315200" y="5638680"/>
            <a:ext cx="932040" cy="838440"/>
            <a:chOff x="7315200" y="5638680"/>
            <a:chExt cx="932040" cy="838440"/>
          </a:xfrm>
        </p:grpSpPr>
        <mc:AlternateContent>
          <mc:Choice xmlns:a14="http://schemas.microsoft.com/office/drawing/2010/main" Requires="a14">
            <p:sp>
              <p:nvSpPr>
                <p:cNvPr id="917" name=""/>
                <p:cNvSpPr txBox="1"/>
                <p:nvPr/>
              </p:nvSpPr>
              <p:spPr>
                <a:xfrm>
                  <a:off x="7315200" y="5638680"/>
                  <a:ext cx="93204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m</m:t>
                      </m:r>
                      <m:f>
                        <m:num/>
                        <m:den/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18" name=""/>
            <p:cNvSpPr/>
            <p:nvPr/>
          </p:nvSpPr>
          <p:spPr>
            <a:xfrm>
              <a:off x="7998120" y="5867280"/>
              <a:ext cx="228600" cy="457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3276720" y="457200"/>
            <a:ext cx="4767120" cy="1054080"/>
            <a:chOff x="3276720" y="457200"/>
            <a:chExt cx="4767120" cy="1054080"/>
          </a:xfrm>
        </p:grpSpPr>
        <p:sp>
          <p:nvSpPr>
            <p:cNvPr id="920" name=""/>
            <p:cNvSpPr/>
            <p:nvPr/>
          </p:nvSpPr>
          <p:spPr>
            <a:xfrm>
              <a:off x="3276720" y="1143000"/>
              <a:ext cx="3581280" cy="3682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Questa volta a correre è Re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1" name="BD13656_" descr=""/>
            <p:cNvPicPr/>
            <p:nvPr/>
          </p:nvPicPr>
          <p:blipFill>
            <a:blip r:embed="rId3"/>
            <a:stretch/>
          </p:blipFill>
          <p:spPr>
            <a:xfrm>
              <a:off x="7086600" y="457200"/>
              <a:ext cx="957240" cy="10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2" name=""/>
          <p:cNvSpPr/>
          <p:nvPr/>
        </p:nvSpPr>
        <p:spPr>
          <a:xfrm>
            <a:off x="1981080" y="2209680"/>
            <a:ext cx="2133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14400"/>
            <a:ext cx="807732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movimento dei cor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La traiet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La po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Lo spostamento e lo spazio perco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definizione di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definizione di accele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elocità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elocità istanta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unità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 spazio e il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legge or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rappresentazione gra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ova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886200" y="1752480"/>
            <a:ext cx="4876920" cy="2590920"/>
            <a:chOff x="3886200" y="1752480"/>
            <a:chExt cx="4876920" cy="2590920"/>
          </a:xfrm>
        </p:grpSpPr>
        <p:sp>
          <p:nvSpPr>
            <p:cNvPr id="49" name=""/>
            <p:cNvSpPr/>
            <p:nvPr/>
          </p:nvSpPr>
          <p:spPr>
            <a:xfrm>
              <a:off x="3886200" y="1752480"/>
              <a:ext cx="4876920" cy="2590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AG00222_" descr=""/>
            <p:cNvPicPr/>
            <p:nvPr/>
          </p:nvPicPr>
          <p:blipFill>
            <a:blip r:embed="rId1"/>
            <a:stretch/>
          </p:blipFill>
          <p:spPr>
            <a:xfrm>
              <a:off x="4114800" y="3200400"/>
              <a:ext cx="83808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1430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iet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6400" y="1830240"/>
          <a:ext cx="274032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" y="1830240"/>
                    <a:ext cx="2740320" cy="2357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57200" y="5334120"/>
            <a:ext cx="83818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aiettoria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di un “punto mobile” è la linea descritta dal punto durante il suo mo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419720"/>
            <a:ext cx="2971800" cy="52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La traiettoria della terra intorno al sole è una curva detta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el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4495680"/>
            <a:ext cx="4876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La traiettoria che compie il signor Rossi  è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curvili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380880"/>
          <a:ext cx="52884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80880"/>
                    <a:ext cx="528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AG00222_" descr=""/>
          <p:cNvPicPr/>
          <p:nvPr/>
        </p:nvPicPr>
        <p:blipFill>
          <a:blip r:embed="rId6"/>
          <a:stretch/>
        </p:blipFill>
        <p:spPr>
          <a:xfrm>
            <a:off x="4952880" y="3200400"/>
            <a:ext cx="838440" cy="790560"/>
          </a:xfrm>
          <a:prstGeom prst="rect">
            <a:avLst/>
          </a:prstGeom>
          <a:ln w="0">
            <a:noFill/>
          </a:ln>
        </p:spPr>
      </p:pic>
      <p:pic>
        <p:nvPicPr>
          <p:cNvPr id="61" name="AG00222_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62" name="AG00222_" descr=""/>
          <p:cNvPicPr/>
          <p:nvPr/>
        </p:nvPicPr>
        <p:blipFill>
          <a:blip r:embed="rId8"/>
          <a:stretch/>
        </p:blipFill>
        <p:spPr>
          <a:xfrm>
            <a:off x="6400800" y="236232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63" name="AG00222_" descr=""/>
          <p:cNvPicPr/>
          <p:nvPr/>
        </p:nvPicPr>
        <p:blipFill>
          <a:blip r:embed="rId9"/>
          <a:stretch/>
        </p:blipFill>
        <p:spPr>
          <a:xfrm>
            <a:off x="7238880" y="1905120"/>
            <a:ext cx="83844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8320" y="2666880"/>
            <a:ext cx="3352680" cy="1371600"/>
          </a:xfrm>
          <a:custGeom>
            <a:avLst/>
            <a:gdLst/>
            <a:ahLst/>
            <a:rect l="l" t="t" r="r" b="b"/>
            <a:pathLst>
              <a:path w="2688" h="1200">
                <a:moveTo>
                  <a:pt x="0" y="1104"/>
                </a:moveTo>
                <a:cubicBezTo>
                  <a:pt x="40" y="1124"/>
                  <a:pt x="80" y="1144"/>
                  <a:pt x="192" y="1152"/>
                </a:cubicBezTo>
                <a:cubicBezTo>
                  <a:pt x="304" y="1160"/>
                  <a:pt x="552" y="1200"/>
                  <a:pt x="672" y="1152"/>
                </a:cubicBezTo>
                <a:cubicBezTo>
                  <a:pt x="792" y="1104"/>
                  <a:pt x="880" y="960"/>
                  <a:pt x="912" y="864"/>
                </a:cubicBezTo>
                <a:cubicBezTo>
                  <a:pt x="944" y="768"/>
                  <a:pt x="824" y="648"/>
                  <a:pt x="864" y="576"/>
                </a:cubicBezTo>
                <a:cubicBezTo>
                  <a:pt x="904" y="504"/>
                  <a:pt x="1016" y="456"/>
                  <a:pt x="1152" y="432"/>
                </a:cubicBezTo>
                <a:cubicBezTo>
                  <a:pt x="1288" y="408"/>
                  <a:pt x="1536" y="464"/>
                  <a:pt x="1680" y="432"/>
                </a:cubicBezTo>
                <a:cubicBezTo>
                  <a:pt x="1824" y="400"/>
                  <a:pt x="1984" y="304"/>
                  <a:pt x="2016" y="240"/>
                </a:cubicBezTo>
                <a:cubicBezTo>
                  <a:pt x="2048" y="176"/>
                  <a:pt x="1760" y="88"/>
                  <a:pt x="1872" y="48"/>
                </a:cubicBezTo>
                <a:cubicBezTo>
                  <a:pt x="1984" y="8"/>
                  <a:pt x="2552" y="8"/>
                  <a:pt x="26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1142640"/>
            <a:ext cx="9144000" cy="3505680"/>
            <a:chOff x="0" y="1142640"/>
            <a:chExt cx="9144000" cy="3505680"/>
          </a:xfrm>
        </p:grpSpPr>
        <p:grpSp>
          <p:nvGrpSpPr>
            <p:cNvPr id="66" name=""/>
            <p:cNvGrpSpPr/>
            <p:nvPr/>
          </p:nvGrpSpPr>
          <p:grpSpPr>
            <a:xfrm>
              <a:off x="0" y="1142640"/>
              <a:ext cx="9144000" cy="3505680"/>
              <a:chOff x="0" y="1142640"/>
              <a:chExt cx="9144000" cy="350568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0" y="1142640"/>
                <a:ext cx="9144000" cy="3505680"/>
                <a:chOff x="0" y="1142640"/>
                <a:chExt cx="9144000" cy="35056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0" y="3276720"/>
                  <a:ext cx="9144000" cy="1371600"/>
                </a:xfrm>
                <a:prstGeom prst="parallelogram">
                  <a:avLst>
                    <a:gd name="adj" fmla="val -104194"/>
                  </a:avLst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2057400" y="1142640"/>
                  <a:ext cx="0" cy="21337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70" name=""/>
              <p:cNvGraphicFramePr/>
              <p:nvPr/>
            </p:nvGraphicFramePr>
            <p:xfrm>
              <a:off x="7086600" y="3048120"/>
              <a:ext cx="1068480" cy="1147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086600" y="3048120"/>
                        <a:ext cx="1068480" cy="11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72" name="HH00877_" descr=""/>
            <p:cNvPicPr/>
            <p:nvPr/>
          </p:nvPicPr>
          <p:blipFill>
            <a:blip r:embed="rId3"/>
            <a:stretch/>
          </p:blipFill>
          <p:spPr>
            <a:xfrm>
              <a:off x="1371600" y="3276720"/>
              <a:ext cx="547560" cy="761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3" name=""/>
          <p:cNvGraphicFramePr/>
          <p:nvPr/>
        </p:nvGraphicFramePr>
        <p:xfrm>
          <a:off x="3048120" y="2971800"/>
          <a:ext cx="91728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971800"/>
                    <a:ext cx="917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172200" y="2971800"/>
          <a:ext cx="917640" cy="10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971800"/>
                    <a:ext cx="9176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905120" y="3962520"/>
            <a:ext cx="441936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1219320"/>
            <a:ext cx="3505320" cy="9169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nor Rossi si è alzato dalla poltrona per raggiungere la televis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" y="4038480"/>
            <a:ext cx="1295280" cy="1450080"/>
            <a:chOff x="228600" y="4038480"/>
            <a:chExt cx="1295280" cy="1450080"/>
          </a:xfrm>
        </p:grpSpPr>
        <p:grpSp>
          <p:nvGrpSpPr>
            <p:cNvPr id="80" name=""/>
            <p:cNvGrpSpPr/>
            <p:nvPr/>
          </p:nvGrpSpPr>
          <p:grpSpPr>
            <a:xfrm>
              <a:off x="609480" y="4038480"/>
              <a:ext cx="914400" cy="838440"/>
              <a:chOff x="609480" y="4038480"/>
              <a:chExt cx="914400" cy="838440"/>
            </a:xfrm>
          </p:grpSpPr>
          <p:sp>
            <p:nvSpPr>
              <p:cNvPr id="81" name=""/>
              <p:cNvSpPr/>
              <p:nvPr/>
            </p:nvSpPr>
            <p:spPr>
              <a:xfrm flipH="1">
                <a:off x="609480" y="4038480"/>
                <a:ext cx="91440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9480" y="4648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57200" y="4876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51814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0" y="1600200"/>
            <a:ext cx="2514600" cy="3717360"/>
            <a:chOff x="2286000" y="1600200"/>
            <a:chExt cx="2514600" cy="3717360"/>
          </a:xfrm>
        </p:grpSpPr>
        <p:sp>
          <p:nvSpPr>
            <p:cNvPr id="86" name=""/>
            <p:cNvSpPr/>
            <p:nvPr/>
          </p:nvSpPr>
          <p:spPr>
            <a:xfrm>
              <a:off x="2286000" y="48769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514600" y="1600200"/>
              <a:ext cx="2286000" cy="3276720"/>
              <a:chOff x="2514600" y="1600200"/>
              <a:chExt cx="2286000" cy="32767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2514600" y="2590560"/>
                <a:ext cx="1981080" cy="2286360"/>
                <a:chOff x="2514600" y="2590560"/>
                <a:chExt cx="1981080" cy="228636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2514600" y="4038480"/>
                  <a:ext cx="914400" cy="6098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514600" y="46483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3886200" y="3276720"/>
                  <a:ext cx="609480" cy="4572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4495680" y="259056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3" name="BS00587_" descr=""/>
              <p:cNvPicPr/>
              <p:nvPr/>
            </p:nvPicPr>
            <p:blipFill>
              <a:blip r:embed="rId8"/>
              <a:stretch/>
            </p:blipFill>
            <p:spPr>
              <a:xfrm>
                <a:off x="4267080" y="1600200"/>
                <a:ext cx="4860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4343400" y="220968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5638680" y="1676520"/>
            <a:ext cx="2743200" cy="3641040"/>
            <a:chOff x="5638680" y="1676520"/>
            <a:chExt cx="2743200" cy="3641040"/>
          </a:xfrm>
        </p:grpSpPr>
        <p:sp>
          <p:nvSpPr>
            <p:cNvPr id="96" name=""/>
            <p:cNvSpPr/>
            <p:nvPr/>
          </p:nvSpPr>
          <p:spPr>
            <a:xfrm>
              <a:off x="5638680" y="48769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866920" y="1676520"/>
              <a:ext cx="2514960" cy="3200400"/>
              <a:chOff x="5866920" y="1676520"/>
              <a:chExt cx="2514960" cy="3200400"/>
            </a:xfrm>
          </p:grpSpPr>
          <p:sp>
            <p:nvSpPr>
              <p:cNvPr id="98" name=""/>
              <p:cNvSpPr/>
              <p:nvPr/>
            </p:nvSpPr>
            <p:spPr>
              <a:xfrm>
                <a:off x="5867280" y="4648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924680" y="3276360"/>
                <a:ext cx="152640" cy="75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866920" y="3809880"/>
                <a:ext cx="1219320" cy="838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077320" y="2819520"/>
                <a:ext cx="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2" name="BS00587_" descr=""/>
              <p:cNvPicPr/>
              <p:nvPr/>
            </p:nvPicPr>
            <p:blipFill>
              <a:blip r:embed="rId9"/>
              <a:stretch/>
            </p:blipFill>
            <p:spPr>
              <a:xfrm>
                <a:off x="7848720" y="1676520"/>
                <a:ext cx="4856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924680" y="228600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609480" y="4800600"/>
            <a:ext cx="7543800" cy="1854360"/>
            <a:chOff x="609480" y="4800600"/>
            <a:chExt cx="7543800" cy="1854360"/>
          </a:xfrm>
        </p:grpSpPr>
        <p:sp>
          <p:nvSpPr>
            <p:cNvPr id="105" name=""/>
            <p:cNvSpPr/>
            <p:nvPr/>
          </p:nvSpPr>
          <p:spPr>
            <a:xfrm>
              <a:off x="4724280" y="5562720"/>
              <a:ext cx="3429000" cy="10922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e, successivamente, all’istant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lla  posizion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rispetto all’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80" y="4800600"/>
              <a:ext cx="52578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09480" y="4876920"/>
            <a:ext cx="3581640" cy="1736280"/>
            <a:chOff x="609480" y="4876920"/>
            <a:chExt cx="3581640" cy="1736280"/>
          </a:xfrm>
        </p:grpSpPr>
        <p:sp>
          <p:nvSpPr>
            <p:cNvPr id="108" name=""/>
            <p:cNvSpPr/>
            <p:nvPr/>
          </p:nvSpPr>
          <p:spPr>
            <a:xfrm>
              <a:off x="609480" y="4876920"/>
              <a:ext cx="190512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120" y="5562720"/>
              <a:ext cx="3429000" cy="10504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l sig. Rossi si trova, al l’istant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lla posizion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spetto all’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1905120"/>
            <a:ext cx="3047760" cy="1143000"/>
            <a:chOff x="533520" y="1905120"/>
            <a:chExt cx="3047760" cy="1143000"/>
          </a:xfrm>
        </p:grpSpPr>
        <p:sp>
          <p:nvSpPr>
            <p:cNvPr id="111" name=""/>
            <p:cNvSpPr/>
            <p:nvPr/>
          </p:nvSpPr>
          <p:spPr>
            <a:xfrm>
              <a:off x="533520" y="1905120"/>
              <a:ext cx="30477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 poltrona è l’origine “O” di rifer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6520" y="2514600"/>
              <a:ext cx="0" cy="53352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5800" y="11430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562720"/>
            <a:ext cx="754380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zion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ccupata da un corpo, in un certo istante, è la sua distanza dall’ori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0200" y="380880"/>
          <a:ext cx="528480" cy="584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00200" y="380880"/>
                    <a:ext cx="528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143000"/>
            <a:ext cx="594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postamento e lo spazio per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5068800"/>
            <a:ext cx="3499200" cy="2106720"/>
            <a:chOff x="304920" y="5068800"/>
            <a:chExt cx="3499200" cy="2106720"/>
          </a:xfrm>
        </p:grpSpPr>
        <p:sp>
          <p:nvSpPr>
            <p:cNvPr id="121" name=""/>
            <p:cNvSpPr/>
            <p:nvPr/>
          </p:nvSpPr>
          <p:spPr>
            <a:xfrm flipH="1">
              <a:off x="613800" y="5321160"/>
              <a:ext cx="3190320" cy="18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0" y="6461"/>
                  </a:moveTo>
                  <a:arcTo wR="10800" hR="10800" stAng="-9378579" swAng="7820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910" y="6461"/>
                  </a:moveTo>
                  <a:arcTo wR="10800" hR="10800" stAng="-9378579" swAng="782069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304920" y="5068800"/>
            <a:ext cx="8524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5068800"/>
                      <a:ext cx="8524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4" name=""/>
          <p:cNvGraphicFramePr/>
          <p:nvPr/>
        </p:nvGraphicFramePr>
        <p:xfrm>
          <a:off x="1714680" y="4691160"/>
          <a:ext cx="7236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4691160"/>
                    <a:ext cx="723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139920" y="5153040"/>
          <a:ext cx="82260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5153040"/>
                    <a:ext cx="822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5800" y="35812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657600"/>
            <a:ext cx="4114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1828800"/>
            <a:ext cx="838080" cy="2422080"/>
            <a:chOff x="4343400" y="1828800"/>
            <a:chExt cx="838080" cy="2422080"/>
          </a:xfrm>
        </p:grpSpPr>
        <p:grpSp>
          <p:nvGrpSpPr>
            <p:cNvPr id="131" name=""/>
            <p:cNvGrpSpPr/>
            <p:nvPr/>
          </p:nvGrpSpPr>
          <p:grpSpPr>
            <a:xfrm>
              <a:off x="4572000" y="1828800"/>
              <a:ext cx="609480" cy="2422080"/>
              <a:chOff x="4572000" y="1828800"/>
              <a:chExt cx="609480" cy="2422080"/>
            </a:xfrm>
          </p:grpSpPr>
          <p:sp>
            <p:nvSpPr>
              <p:cNvPr id="132" name=""/>
              <p:cNvSpPr/>
              <p:nvPr/>
            </p:nvSpPr>
            <p:spPr>
              <a:xfrm>
                <a:off x="4800600" y="25909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572000" y="1828800"/>
                <a:ext cx="533160" cy="821880"/>
                <a:chOff x="4572000" y="1828800"/>
                <a:chExt cx="533160" cy="8218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647960" y="2210040"/>
                  <a:ext cx="4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5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572000" y="1828800"/>
                  <a:ext cx="32364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6" name=""/>
              <p:cNvSpPr/>
              <p:nvPr/>
            </p:nvSpPr>
            <p:spPr>
              <a:xfrm>
                <a:off x="4647960" y="381024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7" name=""/>
            <p:cNvGraphicFramePr/>
            <p:nvPr/>
          </p:nvGraphicFramePr>
          <p:xfrm>
            <a:off x="4343400" y="2743200"/>
            <a:ext cx="801720" cy="797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43400" y="2743200"/>
                      <a:ext cx="801720" cy="7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9" name=""/>
          <p:cNvGrpSpPr/>
          <p:nvPr/>
        </p:nvGrpSpPr>
        <p:grpSpPr>
          <a:xfrm>
            <a:off x="533520" y="1905120"/>
            <a:ext cx="4800600" cy="2421720"/>
            <a:chOff x="533520" y="1905120"/>
            <a:chExt cx="4800600" cy="2421720"/>
          </a:xfrm>
        </p:grpSpPr>
        <p:sp>
          <p:nvSpPr>
            <p:cNvPr id="140" name=""/>
            <p:cNvSpPr/>
            <p:nvPr/>
          </p:nvSpPr>
          <p:spPr>
            <a:xfrm>
              <a:off x="685800" y="35053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33520" y="2590920"/>
              <a:ext cx="380880" cy="1618200"/>
              <a:chOff x="533520" y="2590920"/>
              <a:chExt cx="380880" cy="1618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85800" y="25909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3520" y="38102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828800" y="1905120"/>
              <a:ext cx="533520" cy="2421720"/>
              <a:chOff x="1828800" y="1905120"/>
              <a:chExt cx="533520" cy="2421720"/>
            </a:xfrm>
          </p:grpSpPr>
          <p:sp>
            <p:nvSpPr>
              <p:cNvPr id="145" name=""/>
              <p:cNvSpPr/>
              <p:nvPr/>
            </p:nvSpPr>
            <p:spPr>
              <a:xfrm>
                <a:off x="1981080" y="26668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828800" y="1905120"/>
                <a:ext cx="457200" cy="821520"/>
                <a:chOff x="1828800" y="1905120"/>
                <a:chExt cx="457200" cy="821520"/>
              </a:xfrm>
            </p:grpSpPr>
            <p:pic>
              <p:nvPicPr>
                <p:cNvPr id="147" name="BS00587_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828800" y="1905120"/>
                  <a:ext cx="324000" cy="45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1828800" y="2286000"/>
                  <a:ext cx="4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1828800" y="388620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0" name=""/>
            <p:cNvGraphicFramePr/>
            <p:nvPr/>
          </p:nvGraphicFramePr>
          <p:xfrm>
            <a:off x="1523880" y="2743200"/>
            <a:ext cx="801720" cy="79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523880" y="2743200"/>
                      <a:ext cx="801720" cy="7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"/>
          <p:cNvSpPr/>
          <p:nvPr/>
        </p:nvSpPr>
        <p:spPr>
          <a:xfrm>
            <a:off x="5410080" y="1905120"/>
            <a:ext cx="3505320" cy="25063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. Rossi si muove lungo una retta, tra la posizion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la posizion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lo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è la differenza tra le due posizione rispetto all’orig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 questo caso (moto lungo una retta),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postament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coincido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81080" y="3657600"/>
            <a:ext cx="2819520" cy="337320"/>
            <a:chOff x="1981080" y="3657600"/>
            <a:chExt cx="2819520" cy="337320"/>
          </a:xfrm>
        </p:grpSpPr>
        <p:sp>
          <p:nvSpPr>
            <p:cNvPr id="154" name=""/>
            <p:cNvSpPr/>
            <p:nvPr/>
          </p:nvSpPr>
          <p:spPr>
            <a:xfrm>
              <a:off x="1981080" y="3733920"/>
              <a:ext cx="2819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36576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343400" y="4648320"/>
            <a:ext cx="4572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. Rossi si muove lungo una curva: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ostament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sono dive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867280"/>
            <a:ext cx="2895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819520" y="5029200"/>
            <a:ext cx="3962160" cy="1130400"/>
            <a:chOff x="2819520" y="5029200"/>
            <a:chExt cx="3962160" cy="1130400"/>
          </a:xfrm>
        </p:grpSpPr>
        <p:sp>
          <p:nvSpPr>
            <p:cNvPr id="159" name=""/>
            <p:cNvSpPr/>
            <p:nvPr/>
          </p:nvSpPr>
          <p:spPr>
            <a:xfrm>
              <a:off x="2819520" y="5029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50292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4800" y="594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5791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05120" y="5866920"/>
            <a:ext cx="1904760" cy="597240"/>
            <a:chOff x="1905120" y="5866920"/>
            <a:chExt cx="1904760" cy="597240"/>
          </a:xfrm>
        </p:grpSpPr>
        <p:sp>
          <p:nvSpPr>
            <p:cNvPr id="165" name=""/>
            <p:cNvSpPr/>
            <p:nvPr/>
          </p:nvSpPr>
          <p:spPr>
            <a:xfrm flipV="1">
              <a:off x="1905120" y="5866920"/>
              <a:ext cx="0" cy="381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5120" y="6248520"/>
              <a:ext cx="380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86000" y="6095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81080" y="3886200"/>
            <a:ext cx="2819520" cy="337320"/>
            <a:chOff x="1981080" y="3886200"/>
            <a:chExt cx="2819520" cy="337320"/>
          </a:xfrm>
        </p:grpSpPr>
        <p:sp>
          <p:nvSpPr>
            <p:cNvPr id="169" name=""/>
            <p:cNvSpPr/>
            <p:nvPr/>
          </p:nvSpPr>
          <p:spPr>
            <a:xfrm>
              <a:off x="1981080" y="3962520"/>
              <a:ext cx="28195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6400" y="3886200"/>
              <a:ext cx="137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1" name=""/>
          <p:cNvGraphicFramePr/>
          <p:nvPr/>
        </p:nvGraphicFramePr>
        <p:xfrm>
          <a:off x="1523880" y="380880"/>
          <a:ext cx="528840" cy="58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380880"/>
                    <a:ext cx="528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981080" y="10666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zione di 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1600200"/>
            <a:ext cx="8534520" cy="2927160"/>
            <a:chOff x="228600" y="1600200"/>
            <a:chExt cx="8534520" cy="2927160"/>
          </a:xfrm>
        </p:grpSpPr>
        <p:sp>
          <p:nvSpPr>
            <p:cNvPr id="178" name=""/>
            <p:cNvSpPr/>
            <p:nvPr/>
          </p:nvSpPr>
          <p:spPr>
            <a:xfrm flipV="1">
              <a:off x="335268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10552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67652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8600" y="3124080"/>
              <a:ext cx="8534520" cy="838440"/>
            </a:xfrm>
            <a:prstGeom prst="parallelogram">
              <a:avLst>
                <a:gd name="adj" fmla="val -4639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89548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1932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64832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548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523880" y="1600200"/>
              <a:ext cx="381240" cy="634680"/>
              <a:chOff x="1523880" y="1600200"/>
              <a:chExt cx="381240" cy="634680"/>
            </a:xfrm>
          </p:grpSpPr>
          <p:pic>
            <p:nvPicPr>
              <p:cNvPr id="189" name="BS00587_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3880" y="1600200"/>
                <a:ext cx="2700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1523880" y="1898640"/>
                <a:ext cx="381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200400" y="1600200"/>
              <a:ext cx="380880" cy="634680"/>
              <a:chOff x="3200400" y="1600200"/>
              <a:chExt cx="380880" cy="634680"/>
            </a:xfrm>
          </p:grpSpPr>
          <p:pic>
            <p:nvPicPr>
              <p:cNvPr id="192" name="BS00587_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0400" y="1600200"/>
                <a:ext cx="26964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200400" y="189864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952880" y="1600200"/>
              <a:ext cx="381240" cy="634680"/>
              <a:chOff x="4952880" y="1600200"/>
              <a:chExt cx="381240" cy="634680"/>
            </a:xfrm>
          </p:grpSpPr>
          <p:pic>
            <p:nvPicPr>
              <p:cNvPr id="195" name="BS00587_" descr=""/>
              <p:cNvPicPr/>
              <p:nvPr/>
            </p:nvPicPr>
            <p:blipFill>
              <a:blip r:embed="rId5"/>
              <a:stretch/>
            </p:blipFill>
            <p:spPr>
              <a:xfrm>
                <a:off x="4952880" y="1600200"/>
                <a:ext cx="2700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952880" y="1898640"/>
                <a:ext cx="381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066680" y="419112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3200" y="41911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5680" y="419112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85800" y="2362320"/>
            <a:ext cx="1152360" cy="1600200"/>
            <a:chOff x="685800" y="2362320"/>
            <a:chExt cx="1152360" cy="1600200"/>
          </a:xfrm>
        </p:grpSpPr>
        <p:graphicFrame>
          <p:nvGraphicFramePr>
            <p:cNvPr id="201" name=""/>
            <p:cNvGraphicFramePr/>
            <p:nvPr/>
          </p:nvGraphicFramePr>
          <p:xfrm>
            <a:off x="685800" y="3124080"/>
            <a:ext cx="668160" cy="838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58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"/>
            <p:cNvGraphicFramePr/>
            <p:nvPr/>
          </p:nvGraphicFramePr>
          <p:xfrm>
            <a:off x="1066680" y="2362320"/>
            <a:ext cx="771480" cy="838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6668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5" name=""/>
          <p:cNvGrpSpPr/>
          <p:nvPr/>
        </p:nvGrpSpPr>
        <p:grpSpPr>
          <a:xfrm>
            <a:off x="2743200" y="2362320"/>
            <a:ext cx="1353960" cy="1600200"/>
            <a:chOff x="2743200" y="2362320"/>
            <a:chExt cx="1353960" cy="1600200"/>
          </a:xfrm>
        </p:grpSpPr>
        <p:graphicFrame>
          <p:nvGraphicFramePr>
            <p:cNvPr id="206" name=""/>
            <p:cNvGraphicFramePr/>
            <p:nvPr/>
          </p:nvGraphicFramePr>
          <p:xfrm>
            <a:off x="2743200" y="2362320"/>
            <a:ext cx="771480" cy="838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74320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3429000" y="3124080"/>
            <a:ext cx="668160" cy="838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4290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0" name=""/>
          <p:cNvGrpSpPr/>
          <p:nvPr/>
        </p:nvGrpSpPr>
        <p:grpSpPr>
          <a:xfrm>
            <a:off x="4495680" y="2362320"/>
            <a:ext cx="1887480" cy="1600200"/>
            <a:chOff x="4495680" y="2362320"/>
            <a:chExt cx="1887480" cy="1600200"/>
          </a:xfrm>
        </p:grpSpPr>
        <p:graphicFrame>
          <p:nvGraphicFramePr>
            <p:cNvPr id="211" name=""/>
            <p:cNvGraphicFramePr/>
            <p:nvPr/>
          </p:nvGraphicFramePr>
          <p:xfrm>
            <a:off x="4495680" y="2362320"/>
            <a:ext cx="771480" cy="8380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49568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5715000" y="3124080"/>
            <a:ext cx="668160" cy="8384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7150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5" name=""/>
          <p:cNvGrpSpPr/>
          <p:nvPr/>
        </p:nvGrpSpPr>
        <p:grpSpPr>
          <a:xfrm>
            <a:off x="685800" y="2362320"/>
            <a:ext cx="5697360" cy="1600200"/>
            <a:chOff x="685800" y="2362320"/>
            <a:chExt cx="5697360" cy="1600200"/>
          </a:xfrm>
        </p:grpSpPr>
        <p:grpSp>
          <p:nvGrpSpPr>
            <p:cNvPr id="216" name=""/>
            <p:cNvGrpSpPr/>
            <p:nvPr/>
          </p:nvGrpSpPr>
          <p:grpSpPr>
            <a:xfrm>
              <a:off x="685800" y="2362320"/>
              <a:ext cx="1152360" cy="1600200"/>
              <a:chOff x="685800" y="2362320"/>
              <a:chExt cx="1152360" cy="1600200"/>
            </a:xfrm>
          </p:grpSpPr>
          <p:graphicFrame>
            <p:nvGraphicFramePr>
              <p:cNvPr id="217" name=""/>
              <p:cNvGraphicFramePr/>
              <p:nvPr/>
            </p:nvGraphicFramePr>
            <p:xfrm>
              <a:off x="685800" y="3124080"/>
              <a:ext cx="668160" cy="83844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218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6858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9" name=""/>
              <p:cNvGraphicFramePr/>
              <p:nvPr/>
            </p:nvGraphicFramePr>
            <p:xfrm>
              <a:off x="1066680" y="2362320"/>
              <a:ext cx="771480" cy="83808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220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106668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1" name=""/>
            <p:cNvGrpSpPr/>
            <p:nvPr/>
          </p:nvGrpSpPr>
          <p:grpSpPr>
            <a:xfrm>
              <a:off x="2743200" y="2362320"/>
              <a:ext cx="1353960" cy="1600200"/>
              <a:chOff x="2743200" y="2362320"/>
              <a:chExt cx="1353960" cy="1600200"/>
            </a:xfrm>
          </p:grpSpPr>
          <p:graphicFrame>
            <p:nvGraphicFramePr>
              <p:cNvPr id="222" name=""/>
              <p:cNvGraphicFramePr/>
              <p:nvPr/>
            </p:nvGraphicFramePr>
            <p:xfrm>
              <a:off x="2743200" y="2362320"/>
              <a:ext cx="771480" cy="83808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274320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4" name=""/>
              <p:cNvGraphicFramePr/>
              <p:nvPr/>
            </p:nvGraphicFramePr>
            <p:xfrm>
              <a:off x="3429000" y="3124080"/>
              <a:ext cx="668160" cy="83844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34290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6" name=""/>
            <p:cNvGrpSpPr/>
            <p:nvPr/>
          </p:nvGrpSpPr>
          <p:grpSpPr>
            <a:xfrm>
              <a:off x="4495680" y="2362320"/>
              <a:ext cx="1887480" cy="1600200"/>
              <a:chOff x="4495680" y="2362320"/>
              <a:chExt cx="1887480" cy="1600200"/>
            </a:xfrm>
          </p:grpSpPr>
          <p:graphicFrame>
            <p:nvGraphicFramePr>
              <p:cNvPr id="227" name=""/>
              <p:cNvGraphicFramePr/>
              <p:nvPr/>
            </p:nvGraphicFramePr>
            <p:xfrm>
              <a:off x="4495680" y="2362320"/>
              <a:ext cx="771480" cy="83808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228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449568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9" name=""/>
              <p:cNvGraphicFramePr/>
              <p:nvPr/>
            </p:nvGraphicFramePr>
            <p:xfrm>
              <a:off x="5715000" y="3124080"/>
              <a:ext cx="668160" cy="838440"/>
            </p:xfrm>
            <a:graphic>
              <a:graphicData uri="http://schemas.openxmlformats.org/presentationml/2006/ole">
                <p:oleObj r:id="rId28" spid="">
                  <p:embed/>
                  <p:pic>
                    <p:nvPicPr>
                      <p:cNvPr id="230" name="" descr=""/>
                      <p:cNvPicPr/>
                      <p:nvPr/>
                    </p:nvPicPr>
                    <p:blipFill>
                      <a:blip r:embed="rId29"/>
                      <a:stretch/>
                    </p:blipFill>
                    <p:spPr>
                      <a:xfrm>
                        <a:off x="57150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31" name=""/>
          <p:cNvSpPr/>
          <p:nvPr/>
        </p:nvSpPr>
        <p:spPr>
          <a:xfrm>
            <a:off x="6019920" y="1371600"/>
            <a:ext cx="2361960" cy="6426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mo e Nala fanno una gara di co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2286000"/>
            <a:ext cx="2057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i è stato più velo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495680"/>
            <a:ext cx="6019560" cy="37080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 e Nala partono, nello stesso 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 dal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5029200"/>
            <a:ext cx="6019920" cy="89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re Remo raggiunge, all’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Nala ha già superato tale posizione. Quando Remo raggiunge 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’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ala è già ben oltre tale posizione.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6172200"/>
            <a:ext cx="8610480" cy="39888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loc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la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rapid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 cui cambia,nel tempo,la posizione di un co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752480" y="1066680"/>
            <a:ext cx="556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zione di accel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52680"/>
            <a:ext cx="9144000" cy="457200"/>
          </a:xfrm>
          <a:prstGeom prst="parallelogram">
            <a:avLst>
              <a:gd name="adj" fmla="val -34546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905120"/>
            <a:ext cx="7010280" cy="6426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a tigre cambia  la propria velocità più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rapidamente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di una tartar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52480" y="2819520"/>
            <a:ext cx="1809720" cy="976320"/>
            <a:chOff x="1752480" y="2819520"/>
            <a:chExt cx="1809720" cy="976320"/>
          </a:xfrm>
        </p:grpSpPr>
        <p:pic>
          <p:nvPicPr>
            <p:cNvPr id="243" name="AN02168_" descr=""/>
            <p:cNvPicPr/>
            <p:nvPr/>
          </p:nvPicPr>
          <p:blipFill>
            <a:blip r:embed="rId3"/>
            <a:stretch/>
          </p:blipFill>
          <p:spPr>
            <a:xfrm>
              <a:off x="2057400" y="2819520"/>
              <a:ext cx="150480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AN02165_" descr=""/>
            <p:cNvPicPr/>
            <p:nvPr/>
          </p:nvPicPr>
          <p:blipFill>
            <a:blip r:embed="rId4"/>
            <a:stretch/>
          </p:blipFill>
          <p:spPr>
            <a:xfrm>
              <a:off x="1752480" y="3505320"/>
              <a:ext cx="609840" cy="2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2438280" y="2819520"/>
            <a:ext cx="3029040" cy="976320"/>
            <a:chOff x="2438280" y="2819520"/>
            <a:chExt cx="3029040" cy="976320"/>
          </a:xfrm>
        </p:grpSpPr>
        <p:pic>
          <p:nvPicPr>
            <p:cNvPr id="246" name="AN02168_" descr=""/>
            <p:cNvPicPr/>
            <p:nvPr/>
          </p:nvPicPr>
          <p:blipFill>
            <a:blip r:embed="rId5"/>
            <a:stretch/>
          </p:blipFill>
          <p:spPr>
            <a:xfrm>
              <a:off x="3962520" y="2819520"/>
              <a:ext cx="150480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AN02165_" descr=""/>
            <p:cNvPicPr/>
            <p:nvPr/>
          </p:nvPicPr>
          <p:blipFill>
            <a:blip r:embed="rId6"/>
            <a:stretch/>
          </p:blipFill>
          <p:spPr>
            <a:xfrm>
              <a:off x="2438280" y="3505320"/>
              <a:ext cx="609840" cy="2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3124080" y="2819520"/>
            <a:ext cx="5467320" cy="976320"/>
            <a:chOff x="3124080" y="2819520"/>
            <a:chExt cx="5467320" cy="976320"/>
          </a:xfrm>
        </p:grpSpPr>
        <p:pic>
          <p:nvPicPr>
            <p:cNvPr id="249" name="AN02168_" descr=""/>
            <p:cNvPicPr/>
            <p:nvPr/>
          </p:nvPicPr>
          <p:blipFill>
            <a:blip r:embed="rId7"/>
            <a:stretch/>
          </p:blipFill>
          <p:spPr>
            <a:xfrm>
              <a:off x="7086600" y="2819520"/>
              <a:ext cx="150480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AN02165_" descr=""/>
            <p:cNvPicPr/>
            <p:nvPr/>
          </p:nvPicPr>
          <p:blipFill>
            <a:blip r:embed="rId8"/>
            <a:stretch/>
          </p:blipFill>
          <p:spPr>
            <a:xfrm>
              <a:off x="3124080" y="3505320"/>
              <a:ext cx="60984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380880" y="3962520"/>
            <a:ext cx="44960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apidit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con cui un corpo varia la propria velocità è chiamata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ccelerazione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181480"/>
            <a:ext cx="34290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a destra hai un esempio di una vettura che varia la propria velocità, acceler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5411880" y="4037040"/>
          <a:ext cx="3187440" cy="244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1880" y="4037040"/>
                    <a:ext cx="318744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"/>
          <p:cNvGrpSpPr/>
          <p:nvPr/>
        </p:nvGrpSpPr>
        <p:grpSpPr>
          <a:xfrm>
            <a:off x="3809880" y="5319720"/>
            <a:ext cx="1524240" cy="978480"/>
            <a:chOff x="3809880" y="5319720"/>
            <a:chExt cx="1524240" cy="978480"/>
          </a:xfrm>
        </p:grpSpPr>
        <p:graphicFrame>
          <p:nvGraphicFramePr>
            <p:cNvPr id="256" name=""/>
            <p:cNvGraphicFramePr/>
            <p:nvPr/>
          </p:nvGraphicFramePr>
          <p:xfrm>
            <a:off x="3809880" y="5319720"/>
            <a:ext cx="152424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09880" y="5319720"/>
                      <a:ext cx="152424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8" name=""/>
            <p:cNvSpPr/>
            <p:nvPr/>
          </p:nvSpPr>
          <p:spPr>
            <a:xfrm>
              <a:off x="4088160" y="5656680"/>
              <a:ext cx="831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 clic con il m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1295280"/>
            <a:ext cx="2971800" cy="1828800"/>
            <a:chOff x="609480" y="1295280"/>
            <a:chExt cx="2971800" cy="1828800"/>
          </a:xfrm>
        </p:grpSpPr>
        <p:sp>
          <p:nvSpPr>
            <p:cNvPr id="261" name=""/>
            <p:cNvSpPr/>
            <p:nvPr/>
          </p:nvSpPr>
          <p:spPr>
            <a:xfrm>
              <a:off x="1447920" y="2514600"/>
              <a:ext cx="0" cy="152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1800" y="2514600"/>
              <a:ext cx="0" cy="152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09480" y="1295280"/>
              <a:ext cx="457200" cy="751680"/>
              <a:chOff x="609480" y="1295280"/>
              <a:chExt cx="457200" cy="751680"/>
            </a:xfrm>
          </p:grpSpPr>
          <p:pic>
            <p:nvPicPr>
              <p:cNvPr id="264" name="BS00587_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1295280"/>
                <a:ext cx="3240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609480" y="1676160"/>
                <a:ext cx="457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09480" y="25909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2120" y="2057400"/>
              <a:ext cx="0" cy="6094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2120" y="2514600"/>
              <a:ext cx="281916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2120" y="2895480"/>
              <a:ext cx="0" cy="2286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62120" y="1295280"/>
            <a:ext cx="7696080" cy="1828800"/>
            <a:chOff x="762120" y="1295280"/>
            <a:chExt cx="7696080" cy="1828800"/>
          </a:xfrm>
        </p:grpSpPr>
        <p:sp>
          <p:nvSpPr>
            <p:cNvPr id="271" name=""/>
            <p:cNvSpPr/>
            <p:nvPr/>
          </p:nvSpPr>
          <p:spPr>
            <a:xfrm>
              <a:off x="762120" y="3048120"/>
              <a:ext cx="6858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143000" y="1295280"/>
              <a:ext cx="7315200" cy="1828800"/>
              <a:chOff x="1143000" y="1295280"/>
              <a:chExt cx="7315200" cy="182880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1143000" y="1295280"/>
                <a:ext cx="685800" cy="1828800"/>
                <a:chOff x="1143000" y="1295280"/>
                <a:chExt cx="685800" cy="18288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1143000" y="1905120"/>
                <a:ext cx="685800" cy="6127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143000" y="1905120"/>
                          <a:ext cx="685800" cy="612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76" name=""/>
                <p:cNvGrpSpPr/>
                <p:nvPr/>
              </p:nvGrpSpPr>
              <p:grpSpPr>
                <a:xfrm>
                  <a:off x="1295280" y="1295280"/>
                  <a:ext cx="457200" cy="751680"/>
                  <a:chOff x="1295280" y="1295280"/>
                  <a:chExt cx="457200" cy="751680"/>
                </a:xfrm>
              </p:grpSpPr>
              <p:pic>
                <p:nvPicPr>
                  <p:cNvPr id="277" name="BS00587_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295280"/>
                    <a:ext cx="324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" name=""/>
                  <p:cNvSpPr/>
                  <p:nvPr/>
                </p:nvSpPr>
                <p:spPr>
                  <a:xfrm>
                    <a:off x="1295280" y="1676160"/>
                    <a:ext cx="45720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" name=""/>
                <p:cNvSpPr/>
                <p:nvPr/>
              </p:nvSpPr>
              <p:spPr>
                <a:xfrm>
                  <a:off x="1295280" y="2590920"/>
                  <a:ext cx="533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447920" y="2895480"/>
                  <a:ext cx="0" cy="22860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3733920" y="1295280"/>
                <a:ext cx="4724280" cy="4057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l ciclista si trova all’istante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nel punto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762120" y="1295280"/>
            <a:ext cx="7696080" cy="1828800"/>
            <a:chOff x="762120" y="1295280"/>
            <a:chExt cx="7696080" cy="1828800"/>
          </a:xfrm>
        </p:grpSpPr>
        <p:grpSp>
          <p:nvGrpSpPr>
            <p:cNvPr id="283" name=""/>
            <p:cNvGrpSpPr/>
            <p:nvPr/>
          </p:nvGrpSpPr>
          <p:grpSpPr>
            <a:xfrm>
              <a:off x="762120" y="1295280"/>
              <a:ext cx="2590560" cy="1828800"/>
              <a:chOff x="762120" y="1295280"/>
              <a:chExt cx="2590560" cy="1828800"/>
            </a:xfrm>
          </p:grpSpPr>
          <p:graphicFrame>
            <p:nvGraphicFramePr>
              <p:cNvPr id="284" name=""/>
              <p:cNvGraphicFramePr/>
              <p:nvPr/>
            </p:nvGraphicFramePr>
            <p:xfrm>
              <a:off x="2666880" y="1905120"/>
              <a:ext cx="685800" cy="612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8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666880" y="1905120"/>
                        <a:ext cx="685800" cy="61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6" name=""/>
              <p:cNvSpPr/>
              <p:nvPr/>
            </p:nvSpPr>
            <p:spPr>
              <a:xfrm>
                <a:off x="2819520" y="2590920"/>
                <a:ext cx="533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2743200" y="1295280"/>
                <a:ext cx="533520" cy="751680"/>
                <a:chOff x="2743200" y="1295280"/>
                <a:chExt cx="533520" cy="7516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819520" y="1676160"/>
                  <a:ext cx="457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9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743200" y="1295280"/>
                  <a:ext cx="32400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0" name=""/>
              <p:cNvSpPr/>
              <p:nvPr/>
            </p:nvSpPr>
            <p:spPr>
              <a:xfrm>
                <a:off x="2971800" y="2895480"/>
                <a:ext cx="0" cy="2286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2120" y="2971800"/>
                <a:ext cx="22096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3733920" y="1905120"/>
              <a:ext cx="4724280" cy="4057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nell’istant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el punto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733920" y="2438280"/>
            <a:ext cx="47242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l punto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è scelto come riferimento per la misura delle distan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3276720"/>
            <a:ext cx="7696080" cy="71748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l’intervallo di temp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e chiamerem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Δ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l ciclista ha percorso lo spazi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he chiamere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Δ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4038480"/>
            <a:ext cx="7696080" cy="642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 un corp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ll’unità di tempo (per esempio in 1 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è una grandezza fisica chiamat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4876920"/>
            <a:ext cx="6553440" cy="673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velocità me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è il rapporto tra lo spazio percorso da un corpo e l’intervallo di tempo impiegato a percorrer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38080" y="5638680"/>
                <a:ext cx="2362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" name=""/>
          <p:cNvGrpSpPr/>
          <p:nvPr/>
        </p:nvGrpSpPr>
        <p:grpSpPr>
          <a:xfrm>
            <a:off x="3276720" y="5943600"/>
            <a:ext cx="2819160" cy="337320"/>
            <a:chOff x="3276720" y="5943600"/>
            <a:chExt cx="2819160" cy="337320"/>
          </a:xfrm>
        </p:grpSpPr>
        <p:sp>
          <p:nvSpPr>
            <p:cNvPr id="299" name=""/>
            <p:cNvSpPr/>
            <p:nvPr/>
          </p:nvSpPr>
          <p:spPr>
            <a:xfrm>
              <a:off x="4724280" y="60962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05320" y="59436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divi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7080" y="609624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276720" y="6096240"/>
              <a:ext cx="304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133720" y="5638680"/>
            <a:ext cx="4114800" cy="533520"/>
            <a:chOff x="2133720" y="5638680"/>
            <a:chExt cx="4114800" cy="533520"/>
          </a:xfrm>
        </p:grpSpPr>
        <p:sp>
          <p:nvSpPr>
            <p:cNvPr id="304" name=""/>
            <p:cNvSpPr/>
            <p:nvPr/>
          </p:nvSpPr>
          <p:spPr>
            <a:xfrm>
              <a:off x="2133720" y="5638680"/>
              <a:ext cx="106668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8320" y="5790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Spazio percor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00400" y="5638680"/>
              <a:ext cx="1523880" cy="177840"/>
            </a:xfrm>
            <a:custGeom>
              <a:avLst/>
              <a:gdLst/>
              <a:ahLst/>
              <a:rect l="l" t="t" r="r" b="b"/>
              <a:pathLst>
                <a:path w="960" h="112">
                  <a:moveTo>
                    <a:pt x="0" y="112"/>
                  </a:moveTo>
                  <a:cubicBezTo>
                    <a:pt x="24" y="72"/>
                    <a:pt x="48" y="32"/>
                    <a:pt x="144" y="16"/>
                  </a:cubicBezTo>
                  <a:cubicBezTo>
                    <a:pt x="240" y="0"/>
                    <a:pt x="472" y="16"/>
                    <a:pt x="576" y="16"/>
                  </a:cubicBezTo>
                  <a:cubicBezTo>
                    <a:pt x="680" y="16"/>
                    <a:pt x="704" y="0"/>
                    <a:pt x="768" y="16"/>
                  </a:cubicBezTo>
                  <a:cubicBezTo>
                    <a:pt x="832" y="32"/>
                    <a:pt x="896" y="72"/>
                    <a:pt x="960" y="1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6095880"/>
            <a:ext cx="4167360" cy="533520"/>
            <a:chOff x="2057400" y="6095880"/>
            <a:chExt cx="4167360" cy="533520"/>
          </a:xfrm>
        </p:grpSpPr>
        <p:sp>
          <p:nvSpPr>
            <p:cNvPr id="308" name=""/>
            <p:cNvSpPr/>
            <p:nvPr/>
          </p:nvSpPr>
          <p:spPr>
            <a:xfrm>
              <a:off x="2057400" y="6095880"/>
              <a:ext cx="106668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70200" y="6095880"/>
              <a:ext cx="16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Tempo impieg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124080" y="6400800"/>
              <a:ext cx="1524240" cy="177840"/>
            </a:xfrm>
            <a:custGeom>
              <a:avLst/>
              <a:gdLst/>
              <a:ahLst/>
              <a:rect l="l" t="t" r="r" b="b"/>
              <a:pathLst>
                <a:path w="960" h="112">
                  <a:moveTo>
                    <a:pt x="0" y="112"/>
                  </a:moveTo>
                  <a:cubicBezTo>
                    <a:pt x="24" y="72"/>
                    <a:pt x="48" y="32"/>
                    <a:pt x="144" y="16"/>
                  </a:cubicBezTo>
                  <a:cubicBezTo>
                    <a:pt x="240" y="0"/>
                    <a:pt x="472" y="16"/>
                    <a:pt x="576" y="16"/>
                  </a:cubicBezTo>
                  <a:cubicBezTo>
                    <a:pt x="680" y="16"/>
                    <a:pt x="704" y="0"/>
                    <a:pt x="768" y="16"/>
                  </a:cubicBezTo>
                  <a:cubicBezTo>
                    <a:pt x="832" y="32"/>
                    <a:pt x="896" y="72"/>
                    <a:pt x="960" y="1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istanta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400800" y="1523880"/>
          <a:ext cx="6858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523880"/>
                    <a:ext cx="685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238880" y="1600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09480" y="1143000"/>
            <a:ext cx="8077320" cy="1219320"/>
            <a:chOff x="609480" y="1143000"/>
            <a:chExt cx="8077320" cy="1219320"/>
          </a:xfrm>
        </p:grpSpPr>
        <p:sp>
          <p:nvSpPr>
            <p:cNvPr id="321" name=""/>
            <p:cNvSpPr/>
            <p:nvPr/>
          </p:nvSpPr>
          <p:spPr>
            <a:xfrm>
              <a:off x="609480" y="1143000"/>
              <a:ext cx="80773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77d5d"/>
                  </a:solidFill>
                  <a:latin typeface="Arial"/>
                </a:rPr>
                <a:t>Per ragioni di “comodità” considereremo il nostro ciclista “un punto materiale”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72400" y="17524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5880" y="1447920"/>
              <a:ext cx="2057400" cy="9144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77320" y="1447920"/>
              <a:ext cx="317520" cy="2286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48" y="0"/>
                  </a:moveTo>
                  <a:cubicBezTo>
                    <a:pt x="124" y="12"/>
                    <a:pt x="200" y="24"/>
                    <a:pt x="192" y="48"/>
                  </a:cubicBezTo>
                  <a:cubicBezTo>
                    <a:pt x="184" y="72"/>
                    <a:pt x="92" y="108"/>
                    <a:pt x="0" y="14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62120" y="1752480"/>
            <a:ext cx="4190400" cy="2123640"/>
            <a:chOff x="762120" y="1752480"/>
            <a:chExt cx="4190400" cy="2123640"/>
          </a:xfrm>
        </p:grpSpPr>
        <p:sp>
          <p:nvSpPr>
            <p:cNvPr id="326" name=""/>
            <p:cNvSpPr/>
            <p:nvPr/>
          </p:nvSpPr>
          <p:spPr>
            <a:xfrm>
              <a:off x="4267080" y="3505320"/>
              <a:ext cx="45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762120" y="1752480"/>
              <a:ext cx="4190400" cy="1752480"/>
              <a:chOff x="762120" y="1752480"/>
              <a:chExt cx="4190400" cy="1752480"/>
            </a:xfrm>
          </p:grpSpPr>
          <p:sp>
            <p:nvSpPr>
              <p:cNvPr id="328" name=""/>
              <p:cNvSpPr/>
              <p:nvPr/>
            </p:nvSpPr>
            <p:spPr>
              <a:xfrm>
                <a:off x="4419360" y="320040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2120" y="3504960"/>
                <a:ext cx="36828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43040" y="28954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4114440" y="1752480"/>
                <a:ext cx="838080" cy="904320"/>
                <a:chOff x="4114440" y="1752480"/>
                <a:chExt cx="838080" cy="904320"/>
              </a:xfrm>
            </p:grpSpPr>
            <p:pic>
              <p:nvPicPr>
                <p:cNvPr id="332" name="BS00587_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1444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>
                  <a:off x="4190760" y="228600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4" name=""/>
          <p:cNvGrpSpPr/>
          <p:nvPr/>
        </p:nvGrpSpPr>
        <p:grpSpPr>
          <a:xfrm>
            <a:off x="762120" y="1752480"/>
            <a:ext cx="2895480" cy="2123640"/>
            <a:chOff x="762120" y="1752480"/>
            <a:chExt cx="2895480" cy="2123640"/>
          </a:xfrm>
        </p:grpSpPr>
        <p:grpSp>
          <p:nvGrpSpPr>
            <p:cNvPr id="335" name=""/>
            <p:cNvGrpSpPr/>
            <p:nvPr/>
          </p:nvGrpSpPr>
          <p:grpSpPr>
            <a:xfrm>
              <a:off x="762120" y="1752480"/>
              <a:ext cx="2895480" cy="1752480"/>
              <a:chOff x="762120" y="1752480"/>
              <a:chExt cx="2895480" cy="1752480"/>
            </a:xfrm>
          </p:grpSpPr>
          <p:sp>
            <p:nvSpPr>
              <p:cNvPr id="336" name=""/>
              <p:cNvSpPr/>
              <p:nvPr/>
            </p:nvSpPr>
            <p:spPr>
              <a:xfrm>
                <a:off x="3048120" y="29718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24080" y="320040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819520" y="1752480"/>
                <a:ext cx="838080" cy="904320"/>
                <a:chOff x="2819520" y="1752480"/>
                <a:chExt cx="838080" cy="904320"/>
              </a:xfrm>
            </p:grpSpPr>
            <p:pic>
              <p:nvPicPr>
                <p:cNvPr id="339" name="BS00587_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1952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>
                  <a:off x="2895840" y="228600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762120" y="3504960"/>
                <a:ext cx="23619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289548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33520" y="1752480"/>
            <a:ext cx="4952880" cy="2098080"/>
            <a:chOff x="533520" y="1752480"/>
            <a:chExt cx="4952880" cy="2098080"/>
          </a:xfrm>
        </p:grpSpPr>
        <p:sp>
          <p:nvSpPr>
            <p:cNvPr id="344" name=""/>
            <p:cNvSpPr/>
            <p:nvPr/>
          </p:nvSpPr>
          <p:spPr>
            <a:xfrm>
              <a:off x="533520" y="347976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00200" y="3479760"/>
              <a:ext cx="888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533520" y="1752480"/>
              <a:ext cx="4952880" cy="1802880"/>
              <a:chOff x="533520" y="1752480"/>
              <a:chExt cx="4952880" cy="1802880"/>
            </a:xfrm>
          </p:grpSpPr>
          <p:sp>
            <p:nvSpPr>
              <p:cNvPr id="347" name=""/>
              <p:cNvSpPr/>
              <p:nvPr/>
            </p:nvSpPr>
            <p:spPr>
              <a:xfrm>
                <a:off x="1828800" y="320004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33520" y="1752480"/>
                <a:ext cx="4952880" cy="1802880"/>
                <a:chOff x="533520" y="1752480"/>
                <a:chExt cx="4952880" cy="18028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762120" y="3428640"/>
                  <a:ext cx="106668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0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3352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609480" y="2285640"/>
                  <a:ext cx="7621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62120" y="2742840"/>
                  <a:ext cx="0" cy="81252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87320" y="3377880"/>
                  <a:ext cx="4699080" cy="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4" name="BS00587_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0020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5" name=""/>
                <p:cNvSpPr/>
                <p:nvPr/>
              </p:nvSpPr>
              <p:spPr>
                <a:xfrm>
                  <a:off x="1676520" y="228564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752480" y="2971440"/>
                  <a:ext cx="152640" cy="151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7" name=""/>
          <p:cNvGrpSpPr/>
          <p:nvPr/>
        </p:nvGrpSpPr>
        <p:grpSpPr>
          <a:xfrm>
            <a:off x="762120" y="1752480"/>
            <a:ext cx="1879560" cy="2123640"/>
            <a:chOff x="762120" y="1752480"/>
            <a:chExt cx="1879560" cy="2123640"/>
          </a:xfrm>
        </p:grpSpPr>
        <p:grpSp>
          <p:nvGrpSpPr>
            <p:cNvPr id="358" name=""/>
            <p:cNvGrpSpPr/>
            <p:nvPr/>
          </p:nvGrpSpPr>
          <p:grpSpPr>
            <a:xfrm>
              <a:off x="1752480" y="1752480"/>
              <a:ext cx="889200" cy="2123640"/>
              <a:chOff x="1752480" y="1752480"/>
              <a:chExt cx="889200" cy="2123640"/>
            </a:xfrm>
          </p:grpSpPr>
          <p:sp>
            <p:nvSpPr>
              <p:cNvPr id="359" name=""/>
              <p:cNvSpPr/>
              <p:nvPr/>
            </p:nvSpPr>
            <p:spPr>
              <a:xfrm>
                <a:off x="1752480" y="3505320"/>
                <a:ext cx="889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1752480" y="1752480"/>
                <a:ext cx="838080" cy="1752840"/>
                <a:chOff x="1752480" y="1752480"/>
                <a:chExt cx="838080" cy="1752840"/>
              </a:xfrm>
            </p:grpSpPr>
            <p:grpSp>
              <p:nvGrpSpPr>
                <p:cNvPr id="361" name=""/>
                <p:cNvGrpSpPr/>
                <p:nvPr/>
              </p:nvGrpSpPr>
              <p:grpSpPr>
                <a:xfrm>
                  <a:off x="1752480" y="1752480"/>
                  <a:ext cx="838080" cy="904320"/>
                  <a:chOff x="1752480" y="1752480"/>
                  <a:chExt cx="838080" cy="904320"/>
                </a:xfrm>
              </p:grpSpPr>
              <p:pic>
                <p:nvPicPr>
                  <p:cNvPr id="362" name="BS00587_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752480"/>
                    <a:ext cx="539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3" name=""/>
                  <p:cNvSpPr/>
                  <p:nvPr/>
                </p:nvSpPr>
                <p:spPr>
                  <a:xfrm>
                    <a:off x="1828800" y="2286000"/>
                    <a:ext cx="7617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" name=""/>
                <p:cNvSpPr/>
                <p:nvPr/>
              </p:nvSpPr>
              <p:spPr>
                <a:xfrm>
                  <a:off x="1905120" y="3200400"/>
                  <a:ext cx="0" cy="30492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2971800"/>
                  <a:ext cx="152280" cy="1522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762120" y="3505320"/>
              <a:ext cx="1143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7" name=""/>
          <p:cNvGraphicFramePr/>
          <p:nvPr/>
        </p:nvGraphicFramePr>
        <p:xfrm>
          <a:off x="6477120" y="1600200"/>
          <a:ext cx="53316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1600200"/>
                    <a:ext cx="5331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6629400" y="1676520"/>
          <a:ext cx="304920" cy="27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29400" y="1676520"/>
                    <a:ext cx="30492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6705720" y="1752480"/>
          <a:ext cx="228600" cy="204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05720" y="1752480"/>
                    <a:ext cx="228600" cy="2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5638680" y="2590920"/>
            <a:ext cx="3124440" cy="9421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mmaginiamo che la posizione 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del nostr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“punto ciclista” sia molto vicina alla posizione 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3962520"/>
            <a:ext cx="53337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emo individuato, così, uno spazi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lto picco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ercorso in un  temp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lto piccolo e che comprende l’istan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600200" y="2971800"/>
            <a:ext cx="1752120" cy="2038320"/>
            <a:chOff x="1600200" y="2971800"/>
            <a:chExt cx="1752120" cy="2038320"/>
          </a:xfrm>
        </p:grpSpPr>
        <p:grpSp>
          <p:nvGrpSpPr>
            <p:cNvPr id="376" name=""/>
            <p:cNvGrpSpPr/>
            <p:nvPr/>
          </p:nvGrpSpPr>
          <p:grpSpPr>
            <a:xfrm>
              <a:off x="1600200" y="2971800"/>
              <a:ext cx="1752120" cy="2038320"/>
              <a:chOff x="1600200" y="2971800"/>
              <a:chExt cx="1752120" cy="2038320"/>
            </a:xfrm>
          </p:grpSpPr>
          <p:sp>
            <p:nvSpPr>
              <p:cNvPr id="377" name=""/>
              <p:cNvSpPr/>
              <p:nvPr/>
            </p:nvSpPr>
            <p:spPr>
              <a:xfrm>
                <a:off x="1600200" y="2971800"/>
                <a:ext cx="609480" cy="6094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33360" y="3048120"/>
                <a:ext cx="609120" cy="914400"/>
              </a:xfrm>
              <a:custGeom>
                <a:avLst/>
                <a:gdLst/>
                <a:ahLst/>
                <a:rect l="l" t="t" r="r" b="b"/>
                <a:pathLst>
                  <a:path w="392" h="528">
                    <a:moveTo>
                      <a:pt x="0" y="48"/>
                    </a:moveTo>
                    <a:cubicBezTo>
                      <a:pt x="44" y="24"/>
                      <a:pt x="88" y="0"/>
                      <a:pt x="144" y="0"/>
                    </a:cubicBezTo>
                    <a:cubicBezTo>
                      <a:pt x="200" y="0"/>
                      <a:pt x="296" y="0"/>
                      <a:pt x="336" y="48"/>
                    </a:cubicBezTo>
                    <a:cubicBezTo>
                      <a:pt x="376" y="96"/>
                      <a:pt x="376" y="208"/>
                      <a:pt x="384" y="288"/>
                    </a:cubicBezTo>
                    <a:cubicBezTo>
                      <a:pt x="392" y="368"/>
                      <a:pt x="384" y="488"/>
                      <a:pt x="384" y="528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79" name=""/>
              <p:cNvGraphicFramePr/>
              <p:nvPr/>
            </p:nvGraphicFramePr>
            <p:xfrm>
              <a:off x="2133360" y="3886200"/>
              <a:ext cx="1218960" cy="11239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380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2133360" y="3886200"/>
                        <a:ext cx="121896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1" name=""/>
            <p:cNvSpPr/>
            <p:nvPr/>
          </p:nvSpPr>
          <p:spPr>
            <a:xfrm>
              <a:off x="2209680" y="4038480"/>
              <a:ext cx="457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19520" y="4038480"/>
              <a:ext cx="457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0880" y="5486400"/>
            <a:ext cx="6096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ossiamo dire c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la velocità all’istante 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è la velocità media calcolata in un intervallo di tempo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molto piccol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, che comprende 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6781680" y="5410080"/>
          <a:ext cx="2057400" cy="995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81680" y="5410080"/>
                    <a:ext cx="20574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MARILENA VOLPATI EFEDERICO BARBAROSSA</dc:creator>
  <dc:description/>
  <dc:language>en-US</dc:language>
  <cp:lastModifiedBy>federico.barbarossa</cp:lastModifiedBy>
  <dcterms:modified xsi:type="dcterms:W3CDTF">2015-01-26T07:27:30Z</dcterms:modified>
  <cp:revision>109</cp:revision>
  <dc:subject/>
  <dc:title>Moti rettilinei uniformi lezione</dc:title>
</cp:coreProperties>
</file>