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A3D-8483-4F62-BA45-5FFE3499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E60-3460-4B92-8E20-FBB913B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CD6-EB25-4374-B6BE-8D0D2B9C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585-4421-4B39-B4F4-AE508020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3D2-953A-4126-91E8-1A9EDB45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B82-C2B7-4C8A-8C60-A84D03DF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2C3-0E79-4295-8DEC-BD1AD927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A83-0669-4F94-9CC6-4C7764C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2AF-8FC9-4DFE-AD8D-57AE3C1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500-FC9E-443B-AB20-15D842E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ABC-FC25-4685-B120-1FC1C742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B0C-DF92-466C-AECA-F9A52A5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8347-30BB-46E6-B5E3-F20CDB7C4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moto del proiett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163520" y="1371600"/>
          <a:ext cx="681840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371600"/>
                    <a:ext cx="68184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o del proiett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838080" y="4572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gliamo verificare la legge Fisica che leg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ltezza) 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gittata) nel moto del proiet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13000" y="2133720"/>
            <a:ext cx="2286000" cy="1447560"/>
            <a:chOff x="3213000" y="2133720"/>
            <a:chExt cx="2286000" cy="1447560"/>
          </a:xfrm>
        </p:grpSpPr>
        <p:sp>
          <p:nvSpPr>
            <p:cNvPr id="47" name=""/>
            <p:cNvSpPr/>
            <p:nvPr/>
          </p:nvSpPr>
          <p:spPr>
            <a:xfrm>
              <a:off x="3213000" y="2133720"/>
              <a:ext cx="2286000" cy="1447560"/>
            </a:xfrm>
            <a:prstGeom prst="rect">
              <a:avLst/>
            </a:prstGeom>
            <a:solidFill>
              <a:srgbClr val="f1f616"/>
            </a:solidFill>
            <a:ln w="9360">
              <a:solidFill>
                <a:srgbClr val="f1f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3416400" y="2260440"/>
            <a:ext cx="1857240" cy="115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6400" y="2260440"/>
                      <a:ext cx="1857240" cy="11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 traiettoria del proiet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95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proiettile viene sparato orizzontalmente da un altezza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 velocità orizzontal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479760"/>
            <a:ext cx="8229600" cy="1005480"/>
            <a:chOff x="380880" y="3479760"/>
            <a:chExt cx="8229600" cy="1005480"/>
          </a:xfrm>
        </p:grpSpPr>
        <p:sp>
          <p:nvSpPr>
            <p:cNvPr id="53" name="CasellaDiTesto 10"/>
            <p:cNvSpPr/>
            <p:nvPr/>
          </p:nvSpPr>
          <p:spPr>
            <a:xfrm>
              <a:off x="380880" y="3479760"/>
              <a:ext cx="822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ungo l’ass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il moto è rettilineo uniforme e possiamo scrivere la legge oraria come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800600" y="3975120"/>
              <a:ext cx="1904760" cy="510120"/>
              <a:chOff x="4800600" y="3975120"/>
              <a:chExt cx="1904760" cy="510120"/>
            </a:xfrm>
          </p:grpSpPr>
          <p:sp>
            <p:nvSpPr>
              <p:cNvPr id="55" name="Freccia a destra 7"/>
              <p:cNvSpPr/>
              <p:nvPr/>
            </p:nvSpPr>
            <p:spPr>
              <a:xfrm>
                <a:off x="4800600" y="4177440"/>
                <a:ext cx="304560" cy="202320"/>
              </a:xfrm>
              <a:prstGeom prst="rightArrow">
                <a:avLst>
                  <a:gd name="adj1" fmla="val 50000"/>
                  <a:gd name="adj2" fmla="val 37633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CasellaDiTesto 8"/>
              <p:cNvSpPr/>
              <p:nvPr/>
            </p:nvSpPr>
            <p:spPr>
              <a:xfrm>
                <a:off x="5257800" y="3975120"/>
                <a:ext cx="1447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x =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alibri"/>
                  </a:rPr>
                  <a:t>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380880" y="4597560"/>
            <a:ext cx="8382240" cy="1500840"/>
            <a:chOff x="380880" y="4597560"/>
            <a:chExt cx="8382240" cy="1500840"/>
          </a:xfrm>
        </p:grpSpPr>
        <p:grpSp>
          <p:nvGrpSpPr>
            <p:cNvPr id="58" name=""/>
            <p:cNvGrpSpPr/>
            <p:nvPr/>
          </p:nvGrpSpPr>
          <p:grpSpPr>
            <a:xfrm>
              <a:off x="685800" y="5638680"/>
              <a:ext cx="1828440" cy="459720"/>
              <a:chOff x="685800" y="5638680"/>
              <a:chExt cx="1828440" cy="459720"/>
            </a:xfrm>
          </p:grpSpPr>
          <p:sp>
            <p:nvSpPr>
              <p:cNvPr id="59" name="Freccia a destra 9"/>
              <p:cNvSpPr/>
              <p:nvPr/>
            </p:nvSpPr>
            <p:spPr>
              <a:xfrm>
                <a:off x="685800" y="5879880"/>
                <a:ext cx="304560" cy="190080"/>
              </a:xfrm>
              <a:prstGeom prst="rightArrow">
                <a:avLst>
                  <a:gd name="adj1" fmla="val 50000"/>
                  <a:gd name="adj2" fmla="val 4005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CasellaDiTesto 11"/>
              <p:cNvSpPr/>
              <p:nvPr/>
            </p:nvSpPr>
            <p:spPr>
              <a:xfrm>
                <a:off x="1067040" y="563868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y = ½ g t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80880" y="459756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ungo l’ass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il moto è uniformemente accelerato con accelerazione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g.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ossiamo scrivere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l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 legge oraria co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752480" y="1727280"/>
          <a:ext cx="478008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27280"/>
                    <a:ext cx="47800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Calibri"/>
              </a:rPr>
              <a:t>La traiettoria del proietti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efinitiva avremo un sistema di due equazio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38080" y="1333440"/>
            <a:ext cx="1357560" cy="967320"/>
            <a:chOff x="838080" y="1333440"/>
            <a:chExt cx="1357560" cy="967320"/>
          </a:xfrm>
        </p:grpSpPr>
        <p:sp>
          <p:nvSpPr>
            <p:cNvPr id="67" name="CasellaDiTesto 11"/>
            <p:cNvSpPr/>
            <p:nvPr/>
          </p:nvSpPr>
          <p:spPr>
            <a:xfrm>
              <a:off x="838080" y="133344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y = ½ g 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asellaDiTesto 12"/>
            <p:cNvSpPr/>
            <p:nvPr/>
          </p:nvSpPr>
          <p:spPr>
            <a:xfrm>
              <a:off x="838080" y="1790640"/>
              <a:ext cx="135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x =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3520" y="2387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aviam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3086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otizzando che t è ugua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28880" y="4991040"/>
            <a:ext cx="5981400" cy="1447920"/>
            <a:chOff x="1028880" y="4991040"/>
            <a:chExt cx="5981400" cy="1447920"/>
          </a:xfrm>
        </p:grpSpPr>
        <p:grpSp>
          <p:nvGrpSpPr>
            <p:cNvPr id="72" name=""/>
            <p:cNvGrpSpPr/>
            <p:nvPr/>
          </p:nvGrpSpPr>
          <p:grpSpPr>
            <a:xfrm>
              <a:off x="4724280" y="4991040"/>
              <a:ext cx="2286000" cy="1447920"/>
              <a:chOff x="4724280" y="4991040"/>
              <a:chExt cx="2286000" cy="144792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4991040"/>
                <a:ext cx="2286000" cy="1447920"/>
              </a:xfrm>
              <a:prstGeom prst="rect">
                <a:avLst/>
              </a:prstGeom>
              <a:solidFill>
                <a:srgbClr val="f1f616"/>
              </a:solidFill>
              <a:ln w="9360">
                <a:solidFill>
                  <a:srgbClr val="f1f6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4" name=""/>
              <p:cNvGraphicFramePr/>
              <p:nvPr/>
            </p:nvGraphicFramePr>
            <p:xfrm>
              <a:off x="4927680" y="5118120"/>
              <a:ext cx="1857240" cy="1150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27680" y="5118120"/>
                        <a:ext cx="1857240" cy="115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6" name=""/>
            <p:cNvGraphicFramePr/>
            <p:nvPr/>
          </p:nvGraphicFramePr>
          <p:xfrm>
            <a:off x="1028880" y="5397480"/>
            <a:ext cx="3200400" cy="60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8880" y="5397480"/>
                      <a:ext cx="32004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" name=""/>
          <p:cNvGraphicFramePr/>
          <p:nvPr/>
        </p:nvGraphicFramePr>
        <p:xfrm>
          <a:off x="609480" y="2895480"/>
          <a:ext cx="33530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895480"/>
                    <a:ext cx="3353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90720" y="3886200"/>
          <a:ext cx="6922800" cy="89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886200"/>
                    <a:ext cx="69228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657600" y="1219320"/>
          <a:ext cx="4551480" cy="17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219320"/>
                    <a:ext cx="45514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838080" y="990720"/>
            <a:ext cx="4368960" cy="4647960"/>
            <a:chOff x="838080" y="990720"/>
            <a:chExt cx="4368960" cy="4647960"/>
          </a:xfrm>
        </p:grpSpPr>
        <p:graphicFrame>
          <p:nvGraphicFramePr>
            <p:cNvPr id="85" name=""/>
            <p:cNvGraphicFramePr/>
            <p:nvPr/>
          </p:nvGraphicFramePr>
          <p:xfrm>
            <a:off x="838080" y="990720"/>
            <a:ext cx="4368960" cy="45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990720"/>
                      <a:ext cx="4368960" cy="45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3276720" y="3962520"/>
              <a:ext cx="19047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44760" y="2209680"/>
          <a:ext cx="26575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4760" y="2209680"/>
                    <a:ext cx="26575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368960" y="4343400"/>
            <a:ext cx="2314440" cy="1076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5257800" y="1676520"/>
            <a:ext cx="3200400" cy="2743200"/>
            <a:chOff x="5257800" y="1676520"/>
            <a:chExt cx="3200400" cy="2743200"/>
          </a:xfrm>
        </p:grpSpPr>
        <p:sp>
          <p:nvSpPr>
            <p:cNvPr id="93" name=""/>
            <p:cNvSpPr/>
            <p:nvPr/>
          </p:nvSpPr>
          <p:spPr>
            <a:xfrm flipH="1">
              <a:off x="6171840" y="2895480"/>
              <a:ext cx="3049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167652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l banco un foglio di carta bianca ricoperto da carta carbon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76920" y="279360"/>
            <a:ext cx="3352680" cy="260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9907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zionate lo scivolo alla massima alt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zionate la sfera ferma in cima allo scivolo e fatela cadere senza spinge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65760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petete per 5 volte ed individuate la circonferenza che racchiude tutti i punti: il centro è il punto medio e il raggio l’errore as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648320"/>
            <a:ext cx="7772400" cy="825480"/>
          </a:xfrm>
          <a:prstGeom prst="rect">
            <a:avLst/>
          </a:prstGeom>
          <a:solidFill>
            <a:srgbClr val="f1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etete la procedura variando l’altezza dello scivolo 5 volte e compilando la ta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1219320"/>
            <a:ext cx="8077320" cy="2303640"/>
            <a:chOff x="609480" y="1219320"/>
            <a:chExt cx="8077320" cy="2303640"/>
          </a:xfrm>
        </p:grpSpPr>
        <p:sp>
          <p:nvSpPr>
            <p:cNvPr id="102" name=""/>
            <p:cNvSpPr/>
            <p:nvPr/>
          </p:nvSpPr>
          <p:spPr>
            <a:xfrm>
              <a:off x="609480" y="31240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surate la distanza x dalla verticale di “fine scivolo” al punto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219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70880" y="219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540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003320"/>
          <a:ext cx="807696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03320"/>
                    <a:ext cx="807696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9480" y="3137040"/>
          <a:ext cx="7010640" cy="62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37040"/>
                    <a:ext cx="701064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09480" y="3809880"/>
          <a:ext cx="8229600" cy="2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9880"/>
                    <a:ext cx="822960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4419720"/>
          <a:ext cx="807696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419720"/>
                    <a:ext cx="8076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9:34Z</dcterms:created>
  <dc:creator>Xp Home Edition</dc:creator>
  <dc:description/>
  <dc:language>en-US</dc:language>
  <cp:lastModifiedBy>fede</cp:lastModifiedBy>
  <dcterms:modified xsi:type="dcterms:W3CDTF">2018-03-24T13:36:33Z</dcterms:modified>
  <cp:revision>32</cp:revision>
  <dc:subject/>
  <dc:title>Il moto del proiettile</dc:title>
</cp:coreProperties>
</file>