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352-E994-478B-BC38-4557428E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587-7B43-47FA-9EF5-A521C20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9AE-55EA-4BDF-BED0-9067A4F1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17E-B24D-4BF6-8122-B2D9504C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B95-A421-44E9-BE88-9978452D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1EF-DA2B-401F-A8C9-F98ADDA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773-8833-4913-B877-39DF91AD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227-AACF-4D5E-B57B-8606EC6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4D3-63F2-4E05-91B9-2EF1F7C9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F9C-8F65-438A-917E-51C167F8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C87-8499-47DC-BDEB-D05E48E9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402-1979-47A8-B8FE-E9F8A96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A8F1-25D3-4A91-AEDB-CBA0EB8D7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419200"/>
            <a:ext cx="71629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vari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G00222_" descr=""/>
          <p:cNvPicPr/>
          <p:nvPr/>
        </p:nvPicPr>
        <p:blipFill>
          <a:blip r:embed="rId1"/>
          <a:stretch/>
        </p:blipFill>
        <p:spPr>
          <a:xfrm>
            <a:off x="1600200" y="391464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4648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ederico Barbaro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8288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Analizziamo il suo moto tramite la velocità media in ogni tratto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066680"/>
            <a:ext cx="1981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uesta volta a correre è Re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BD13656_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80880" y="22860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e determiniamo poi la velocità media dell’intero percor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062000"/>
            <a:ext cx="457200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l suo moto, lungo una retta, è rappresentato dal grafico spazio/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8600" y="2714760"/>
            <a:ext cx="4038480" cy="3657600"/>
            <a:chOff x="228600" y="2714760"/>
            <a:chExt cx="4038480" cy="3657600"/>
          </a:xfrm>
        </p:grpSpPr>
        <p:grpSp>
          <p:nvGrpSpPr>
            <p:cNvPr id="403" name=""/>
            <p:cNvGrpSpPr/>
            <p:nvPr/>
          </p:nvGrpSpPr>
          <p:grpSpPr>
            <a:xfrm>
              <a:off x="380880" y="2714760"/>
              <a:ext cx="3886200" cy="3657600"/>
              <a:chOff x="380880" y="2714760"/>
              <a:chExt cx="3886200" cy="36576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80880" y="2714760"/>
                <a:ext cx="3886200" cy="3657600"/>
                <a:chOff x="380880" y="2714760"/>
                <a:chExt cx="3886200" cy="3657600"/>
              </a:xfrm>
            </p:grpSpPr>
            <p:graphicFrame>
              <p:nvGraphicFramePr>
                <p:cNvPr id="405" name=""/>
                <p:cNvGraphicFramePr/>
                <p:nvPr/>
              </p:nvGraphicFramePr>
              <p:xfrm>
                <a:off x="533520" y="271476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0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33520" y="271476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07" name=""/>
                <p:cNvSpPr/>
                <p:nvPr/>
              </p:nvSpPr>
              <p:spPr>
                <a:xfrm>
                  <a:off x="838080" y="279108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666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4479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7524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1337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460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95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200" y="545796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33520" y="50770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57200" y="469584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3520" y="43912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0880" y="40100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09480" y="59914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581280" y="60674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 flipV="1">
                <a:off x="928800" y="492444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600200" y="461988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362320" y="385740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66880" y="385776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8600" y="58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000" y="4776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200" y="4391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080" y="3705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400" y="5453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419720" y="2819520"/>
            <a:ext cx="7617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460840" y="2728800"/>
                <a:ext cx="3138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438800" y="34862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425920" y="3395520"/>
                <a:ext cx="32083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4448160" y="4095720"/>
            <a:ext cx="7621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-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559480" y="4038480"/>
                <a:ext cx="28382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419720" y="47624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02080" y="4724280"/>
                <a:ext cx="35769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91120" y="5334120"/>
            <a:ext cx="4572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ltima velocità risulta “negativa” perché Remo, nel tratto D – E percorre la strada in senso opposto rispetto a pr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BD13656_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11430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42920" y="1523880"/>
            <a:ext cx="4038480" cy="3657600"/>
            <a:chOff x="142920" y="1523880"/>
            <a:chExt cx="4038480" cy="3657600"/>
          </a:xfrm>
        </p:grpSpPr>
        <p:grpSp>
          <p:nvGrpSpPr>
            <p:cNvPr id="442" name=""/>
            <p:cNvGrpSpPr/>
            <p:nvPr/>
          </p:nvGrpSpPr>
          <p:grpSpPr>
            <a:xfrm>
              <a:off x="295200" y="1523880"/>
              <a:ext cx="3886200" cy="3657600"/>
              <a:chOff x="295200" y="1523880"/>
              <a:chExt cx="3886200" cy="36576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295200" y="1523880"/>
                <a:ext cx="3886200" cy="3657600"/>
                <a:chOff x="295200" y="1523880"/>
                <a:chExt cx="3886200" cy="3657600"/>
              </a:xfrm>
            </p:grpSpPr>
            <p:graphicFrame>
              <p:nvGraphicFramePr>
                <p:cNvPr id="444" name=""/>
                <p:cNvGraphicFramePr/>
                <p:nvPr/>
              </p:nvGraphicFramePr>
              <p:xfrm>
                <a:off x="447840" y="152388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4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47840" y="152388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46" name=""/>
                <p:cNvSpPr/>
                <p:nvPr/>
              </p:nvSpPr>
              <p:spPr>
                <a:xfrm>
                  <a:off x="752400" y="160020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9810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622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668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480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42892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7338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71520" y="426708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7840" y="38862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71520" y="350496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7840" y="32004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95200" y="28191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23800" y="48006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95600" y="48765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V="1">
                <a:off x="843120" y="373356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1514520" y="342900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276640" y="266652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81200" y="266688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42920" y="4647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320" y="3585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520" y="320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40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720" y="4262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114800" y="1676520"/>
            <a:ext cx="457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lcoliamo ora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ell’intero percorso, ricordando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495680"/>
            <a:ext cx="137160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to A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097160" y="5006880"/>
                <a:ext cx="4532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4114800" y="243828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il rapporto tra lo spazio percorso ed il tempo impiegato a percorrerlo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42900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che l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azio percors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la differenza tra la posizione finale e quella ini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5791320"/>
            <a:ext cx="8229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 può risultare molto diversa dalle velocità parziali di un moto v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2728800"/>
            <a:ext cx="4052880" cy="532080"/>
            <a:chOff x="4419720" y="2728800"/>
            <a:chExt cx="4052880" cy="532080"/>
          </a:xfrm>
        </p:grpSpPr>
        <p:sp>
          <p:nvSpPr>
            <p:cNvPr id="477" name=""/>
            <p:cNvSpPr/>
            <p:nvPr/>
          </p:nvSpPr>
          <p:spPr>
            <a:xfrm>
              <a:off x="4419720" y="2819520"/>
              <a:ext cx="76176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587920" y="2728800"/>
                  <a:ext cx="28846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9" name=""/>
          <p:cNvGrpSpPr/>
          <p:nvPr/>
        </p:nvGrpSpPr>
        <p:grpSpPr>
          <a:xfrm>
            <a:off x="4438800" y="3395520"/>
            <a:ext cx="3917880" cy="532080"/>
            <a:chOff x="4438800" y="3395520"/>
            <a:chExt cx="3917880" cy="532080"/>
          </a:xfrm>
        </p:grpSpPr>
        <p:sp>
          <p:nvSpPr>
            <p:cNvPr id="480" name=""/>
            <p:cNvSpPr/>
            <p:nvPr/>
          </p:nvSpPr>
          <p:spPr>
            <a:xfrm>
              <a:off x="4438800" y="34862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 -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702400" y="3395520"/>
                  <a:ext cx="26542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2" name=""/>
          <p:cNvGrpSpPr/>
          <p:nvPr/>
        </p:nvGrpSpPr>
        <p:grpSpPr>
          <a:xfrm>
            <a:off x="4448160" y="4038480"/>
            <a:ext cx="4076640" cy="532080"/>
            <a:chOff x="4448160" y="4038480"/>
            <a:chExt cx="4076640" cy="532080"/>
          </a:xfrm>
        </p:grpSpPr>
        <p:sp>
          <p:nvSpPr>
            <p:cNvPr id="483" name=""/>
            <p:cNvSpPr/>
            <p:nvPr/>
          </p:nvSpPr>
          <p:spPr>
            <a:xfrm>
              <a:off x="4448160" y="4095720"/>
              <a:ext cx="76212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-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5432400" y="40384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"/>
          <p:cNvGrpSpPr/>
          <p:nvPr/>
        </p:nvGrpSpPr>
        <p:grpSpPr>
          <a:xfrm>
            <a:off x="4419720" y="4724280"/>
            <a:ext cx="4205160" cy="532080"/>
            <a:chOff x="4419720" y="4724280"/>
            <a:chExt cx="4205160" cy="532080"/>
          </a:xfrm>
        </p:grpSpPr>
        <p:sp>
          <p:nvSpPr>
            <p:cNvPr id="486" name=""/>
            <p:cNvSpPr/>
            <p:nvPr/>
          </p:nvSpPr>
          <p:spPr>
            <a:xfrm>
              <a:off x="4419720" y="47624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5556240" y="4724280"/>
                  <a:ext cx="306864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"/>
          <p:cNvGrpSpPr/>
          <p:nvPr/>
        </p:nvGrpSpPr>
        <p:grpSpPr>
          <a:xfrm>
            <a:off x="642960" y="1447920"/>
            <a:ext cx="3886200" cy="3994200"/>
            <a:chOff x="642960" y="1447920"/>
            <a:chExt cx="3886200" cy="3994200"/>
          </a:xfrm>
        </p:grpSpPr>
        <p:grpSp>
          <p:nvGrpSpPr>
            <p:cNvPr id="489" name=""/>
            <p:cNvGrpSpPr/>
            <p:nvPr/>
          </p:nvGrpSpPr>
          <p:grpSpPr>
            <a:xfrm>
              <a:off x="642960" y="1447920"/>
              <a:ext cx="3886200" cy="3994200"/>
              <a:chOff x="642960" y="1447920"/>
              <a:chExt cx="3886200" cy="3994200"/>
            </a:xfrm>
          </p:grpSpPr>
          <p:graphicFrame>
            <p:nvGraphicFramePr>
              <p:cNvPr id="490" name=""/>
              <p:cNvGraphicFramePr/>
              <p:nvPr/>
            </p:nvGraphicFramePr>
            <p:xfrm>
              <a:off x="795600" y="1447920"/>
              <a:ext cx="358128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9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5600" y="1447920"/>
                        <a:ext cx="358128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2" name=""/>
              <p:cNvSpPr/>
              <p:nvPr/>
            </p:nvSpPr>
            <p:spPr>
              <a:xfrm>
                <a:off x="1100160" y="152424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 (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287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100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5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958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76680" y="4800600"/>
                <a:ext cx="304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81600" y="4800600"/>
                <a:ext cx="304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 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9280" y="41911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5600" y="38102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9280" y="342900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5600" y="31244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960" y="27432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1560" y="472464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3360" y="48006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 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176480" y="4376520"/>
              <a:ext cx="1447920" cy="318600"/>
              <a:chOff x="1176480" y="4376520"/>
              <a:chExt cx="1447920" cy="31860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1176480" y="4390560"/>
                <a:ext cx="10666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43160" y="4376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2619360" y="3352320"/>
              <a:ext cx="690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10200" y="2971440"/>
              <a:ext cx="76176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90680" y="41911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440" y="457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5360" y="3157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4440" y="27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49880" y="422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419720" y="5410080"/>
            <a:ext cx="4235400" cy="532080"/>
            <a:chOff x="4419720" y="5410080"/>
            <a:chExt cx="4235400" cy="532080"/>
          </a:xfrm>
        </p:grpSpPr>
        <p:sp>
          <p:nvSpPr>
            <p:cNvPr id="517" name=""/>
            <p:cNvSpPr/>
            <p:nvPr/>
          </p:nvSpPr>
          <p:spPr>
            <a:xfrm>
              <a:off x="4419720" y="5486400"/>
              <a:ext cx="76176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562720" y="54100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56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38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41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48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51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5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53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54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60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61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3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6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7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si è spostato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ostame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ttuato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temp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876920"/>
            <a:ext cx="73472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ostamento effettuato da un corpo e l’intervallo di tempo impiegato a compi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76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281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285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8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298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03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05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09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12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16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21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7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39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0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53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6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57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58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66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" name=""/>
            <p:cNvCxnSpPr>
              <a:stCxn id="367" idx="6"/>
              <a:endCxn id="366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70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73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378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8" idx="7"/>
              <a:endCxn id="379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383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387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</cp:lastModifiedBy>
  <dcterms:modified xsi:type="dcterms:W3CDTF">2018-06-04T18:11:43Z</dcterms:modified>
  <cp:revision>115</cp:revision>
  <dc:subject/>
  <dc:title>Moti rettilinei uniformi lezione</dc:title>
</cp:coreProperties>
</file>