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B7B-4EE5-4BED-BB11-5C1BF62D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7CC-B4CD-4A80-8882-E8B8AA4B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5E83-7C5C-460A-A81E-0A4CB09D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9217-BE75-4F06-BCD6-B4444EC4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F0F-EBE9-4F77-953A-31C674D8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505-E575-4A6D-8C3E-6EA27A04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2D6-F728-46D0-8C8B-41506E14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57B-569A-4919-9D03-9D0B4B63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2B2-D221-4E81-B06E-881CC8E5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DC5-79B6-4975-A4DA-AC0FE430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81EE-28D8-476F-ADB7-106A6D0A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58C-D009-422B-8B76-C903EF28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8D42-02D6-4B5E-BD90-BC8DCF2F9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.png"/><Relationship Id="rId3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7920" y="2666880"/>
            <a:ext cx="6019560" cy="1904760"/>
            <a:chOff x="1447920" y="2666880"/>
            <a:chExt cx="6019560" cy="1904760"/>
          </a:xfrm>
        </p:grpSpPr>
        <p:sp>
          <p:nvSpPr>
            <p:cNvPr id="42" name=""/>
            <p:cNvSpPr/>
            <p:nvPr/>
          </p:nvSpPr>
          <p:spPr>
            <a:xfrm>
              <a:off x="1447920" y="2666880"/>
              <a:ext cx="6019560" cy="19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09680" y="3115080"/>
              <a:ext cx="4343400" cy="10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Istruzioni per l’u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2819520" y="914400"/>
            <a:ext cx="3124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ederico Barbaros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3276360"/>
            <a:ext cx="4496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AFICI CARTESI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 :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eggiamo un gra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52280" y="914400"/>
          <a:ext cx="53341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53341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724280" y="46483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-152280" y="12193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pazio percorso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447560" y="1523880"/>
            <a:ext cx="2895480" cy="297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86400" y="1295280"/>
            <a:ext cx="335268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l pedone si sposta con passo regolar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4572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86400" y="2209680"/>
            <a:ext cx="30481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Lo spazio che percorre è rappresentato sull’asse degli spaz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86400" y="3200400"/>
            <a:ext cx="312408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l tempo che passa è rappresentato sull’asse dei te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3962520"/>
            <a:ext cx="3353040" cy="1159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I“punti”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blu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compongono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retta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. La retta nel suo insieme rappresenta il “tipo” di movimento tenuto dal pedone è ci informa sulla sua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locità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(pendenz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J0095757" descr=""/>
          <p:cNvPicPr/>
          <p:nvPr/>
        </p:nvPicPr>
        <p:blipFill>
          <a:blip r:embed="rId3"/>
          <a:stretch/>
        </p:blipFill>
        <p:spPr>
          <a:xfrm>
            <a:off x="1600200" y="3505320"/>
            <a:ext cx="492120" cy="64764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1600200" y="2819520"/>
            <a:ext cx="914400" cy="2133000"/>
            <a:chOff x="1600200" y="2819520"/>
            <a:chExt cx="914400" cy="2133000"/>
          </a:xfrm>
        </p:grpSpPr>
        <p:pic>
          <p:nvPicPr>
            <p:cNvPr id="322" name="J0095757" descr=""/>
            <p:cNvPicPr/>
            <p:nvPr/>
          </p:nvPicPr>
          <p:blipFill>
            <a:blip r:embed="rId4"/>
            <a:stretch/>
          </p:blipFill>
          <p:spPr>
            <a:xfrm>
              <a:off x="1600200" y="2819520"/>
              <a:ext cx="4921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362320" y="4782240"/>
              <a:ext cx="152280" cy="1702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62320" y="3416760"/>
              <a:ext cx="152280" cy="170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600200" y="2336760"/>
            <a:ext cx="1447920" cy="2590200"/>
            <a:chOff x="1600200" y="2336760"/>
            <a:chExt cx="1447920" cy="2590200"/>
          </a:xfrm>
        </p:grpSpPr>
        <p:pic>
          <p:nvPicPr>
            <p:cNvPr id="326" name="J0095757" descr=""/>
            <p:cNvPicPr/>
            <p:nvPr/>
          </p:nvPicPr>
          <p:blipFill>
            <a:blip r:embed="rId5"/>
            <a:stretch/>
          </p:blipFill>
          <p:spPr>
            <a:xfrm>
              <a:off x="1600200" y="2336760"/>
              <a:ext cx="492120" cy="71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895480" y="4760280"/>
              <a:ext cx="152640" cy="1666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95480" y="2837880"/>
              <a:ext cx="152640" cy="167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600200" y="1790640"/>
            <a:ext cx="1981080" cy="3124080"/>
            <a:chOff x="1600200" y="1790640"/>
            <a:chExt cx="1981080" cy="3124080"/>
          </a:xfrm>
        </p:grpSpPr>
        <p:pic>
          <p:nvPicPr>
            <p:cNvPr id="330" name="J0095757" descr=""/>
            <p:cNvPicPr/>
            <p:nvPr/>
          </p:nvPicPr>
          <p:blipFill>
            <a:blip r:embed="rId6"/>
            <a:stretch/>
          </p:blipFill>
          <p:spPr>
            <a:xfrm>
              <a:off x="1600200" y="1790640"/>
              <a:ext cx="49212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3429000" y="4754880"/>
              <a:ext cx="152280" cy="1598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9000" y="2271240"/>
              <a:ext cx="152280" cy="1598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600200" y="1193760"/>
            <a:ext cx="2590920" cy="3733560"/>
            <a:chOff x="1600200" y="1193760"/>
            <a:chExt cx="2590920" cy="3733560"/>
          </a:xfrm>
        </p:grpSpPr>
        <p:pic>
          <p:nvPicPr>
            <p:cNvPr id="334" name="J0095757" descr=""/>
            <p:cNvPicPr/>
            <p:nvPr/>
          </p:nvPicPr>
          <p:blipFill>
            <a:blip r:embed="rId7"/>
            <a:stretch/>
          </p:blipFill>
          <p:spPr>
            <a:xfrm>
              <a:off x="1600200" y="1193760"/>
              <a:ext cx="492120" cy="6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4038480" y="4768560"/>
              <a:ext cx="152640" cy="1587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38480" y="1670400"/>
              <a:ext cx="152640" cy="158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5410080" y="5334120"/>
            <a:ext cx="3353040" cy="9511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giamo ora le informazioni che ci fornisce il gra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828800" y="3962520"/>
            <a:ext cx="152280" cy="989640"/>
            <a:chOff x="1828800" y="3962520"/>
            <a:chExt cx="152280" cy="989640"/>
          </a:xfrm>
        </p:grpSpPr>
        <p:sp>
          <p:nvSpPr>
            <p:cNvPr id="339" name=""/>
            <p:cNvSpPr/>
            <p:nvPr/>
          </p:nvSpPr>
          <p:spPr>
            <a:xfrm>
              <a:off x="1828800" y="3962520"/>
              <a:ext cx="152280" cy="17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28800" y="4772520"/>
              <a:ext cx="152280" cy="1796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1" name="J0095757" descr=""/>
          <p:cNvPicPr/>
          <p:nvPr/>
        </p:nvPicPr>
        <p:blipFill>
          <a:blip r:embed="rId8"/>
          <a:stretch/>
        </p:blipFill>
        <p:spPr>
          <a:xfrm>
            <a:off x="1600200" y="3505320"/>
            <a:ext cx="4921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 :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eggiamo un gra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52280" y="914400"/>
          <a:ext cx="53341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53341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4724280" y="46483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-152280" y="12193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pazio percorso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1447560" y="1523880"/>
            <a:ext cx="2895480" cy="297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990720"/>
            <a:ext cx="33530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all’ora 0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                                         Il pedone si trova nel punto 10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00200" y="4572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1676520"/>
            <a:ext cx="2743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dopo 10 h                          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ha percorso in tutto 20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10080" y="2362320"/>
            <a:ext cx="29718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dopo 20h dall’inizio del moto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ha percorso 30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10080" y="3048120"/>
            <a:ext cx="2971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dopo 30h dall’inizio del moto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ha percorso 40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600200" y="2819520"/>
            <a:ext cx="914400" cy="2133000"/>
            <a:chOff x="1600200" y="2819520"/>
            <a:chExt cx="914400" cy="2133000"/>
          </a:xfrm>
        </p:grpSpPr>
        <p:pic>
          <p:nvPicPr>
            <p:cNvPr id="354" name="J0095757" descr=""/>
            <p:cNvPicPr/>
            <p:nvPr/>
          </p:nvPicPr>
          <p:blipFill>
            <a:blip r:embed="rId3"/>
            <a:stretch/>
          </p:blipFill>
          <p:spPr>
            <a:xfrm>
              <a:off x="1600200" y="2819520"/>
              <a:ext cx="4921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2362320" y="4782240"/>
              <a:ext cx="152280" cy="1702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62320" y="3416760"/>
              <a:ext cx="152280" cy="170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600200" y="2362320"/>
            <a:ext cx="1447920" cy="2590200"/>
            <a:chOff x="1600200" y="2362320"/>
            <a:chExt cx="1447920" cy="2590200"/>
          </a:xfrm>
        </p:grpSpPr>
        <p:pic>
          <p:nvPicPr>
            <p:cNvPr id="358" name="J0095757" descr=""/>
            <p:cNvPicPr/>
            <p:nvPr/>
          </p:nvPicPr>
          <p:blipFill>
            <a:blip r:embed="rId4"/>
            <a:stretch/>
          </p:blipFill>
          <p:spPr>
            <a:xfrm>
              <a:off x="1600200" y="2362320"/>
              <a:ext cx="492120" cy="7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895480" y="4785840"/>
              <a:ext cx="152640" cy="1666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2863440"/>
              <a:ext cx="152640" cy="167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00200" y="1828800"/>
            <a:ext cx="1981080" cy="3123720"/>
            <a:chOff x="1600200" y="1828800"/>
            <a:chExt cx="1981080" cy="3123720"/>
          </a:xfrm>
        </p:grpSpPr>
        <p:pic>
          <p:nvPicPr>
            <p:cNvPr id="362" name="J0095757" descr=""/>
            <p:cNvPicPr/>
            <p:nvPr/>
          </p:nvPicPr>
          <p:blipFill>
            <a:blip r:embed="rId5"/>
            <a:stretch/>
          </p:blipFill>
          <p:spPr>
            <a:xfrm>
              <a:off x="1600200" y="1828800"/>
              <a:ext cx="49212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3429000" y="4792680"/>
              <a:ext cx="152280" cy="1598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29000" y="2309400"/>
              <a:ext cx="152280" cy="1598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600200" y="1219320"/>
            <a:ext cx="2590920" cy="3732840"/>
            <a:chOff x="1600200" y="1219320"/>
            <a:chExt cx="2590920" cy="3732840"/>
          </a:xfrm>
        </p:grpSpPr>
        <p:pic>
          <p:nvPicPr>
            <p:cNvPr id="366" name="J0095757" descr=""/>
            <p:cNvPicPr/>
            <p:nvPr/>
          </p:nvPicPr>
          <p:blipFill>
            <a:blip r:embed="rId6"/>
            <a:stretch/>
          </p:blipFill>
          <p:spPr>
            <a:xfrm>
              <a:off x="1600200" y="1219320"/>
              <a:ext cx="492120" cy="6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038480" y="4793760"/>
              <a:ext cx="152640" cy="1584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38480" y="1695600"/>
              <a:ext cx="152640" cy="158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5410080" y="3733920"/>
            <a:ext cx="30481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d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opo 40h dall’inizio del moto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ha percorso 50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4120" y="4724280"/>
            <a:ext cx="3657600" cy="1078200"/>
          </a:xfrm>
          <a:prstGeom prst="rect">
            <a:avLst/>
          </a:prstGeom>
          <a:solidFill>
            <a:srgbClr val="66ff33"/>
          </a:solidFill>
          <a:ln w="936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endenz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lla retta è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5486400" y="5105520"/>
                <a:ext cx="34290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5486400" y="5943600"/>
            <a:ext cx="33526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Questo valore è la velocità del pe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28800" y="3962520"/>
            <a:ext cx="119160" cy="169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429000"/>
            <a:ext cx="380880" cy="1523520"/>
            <a:chOff x="1676520" y="3429000"/>
            <a:chExt cx="380880" cy="1523520"/>
          </a:xfrm>
        </p:grpSpPr>
        <p:sp>
          <p:nvSpPr>
            <p:cNvPr id="375" name=""/>
            <p:cNvSpPr/>
            <p:nvPr/>
          </p:nvSpPr>
          <p:spPr>
            <a:xfrm>
              <a:off x="1828800" y="4776120"/>
              <a:ext cx="119160" cy="1764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6" name="J0095757" descr=""/>
            <p:cNvPicPr/>
            <p:nvPr/>
          </p:nvPicPr>
          <p:blipFill>
            <a:blip r:embed="rId7"/>
            <a:stretch/>
          </p:blipFill>
          <p:spPr>
            <a:xfrm>
              <a:off x="1676520" y="3429000"/>
              <a:ext cx="380880" cy="75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 :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ovaci tu……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52280" y="914400"/>
          <a:ext cx="53341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53341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4724280" y="46483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152280" y="12193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pazio percorso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4572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57800" y="5257800"/>
            <a:ext cx="3886200" cy="1078200"/>
          </a:xfrm>
          <a:prstGeom prst="rect">
            <a:avLst/>
          </a:prstGeom>
          <a:solidFill>
            <a:srgbClr val="66ff33"/>
          </a:solidFill>
          <a:ln w="936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endenz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lla retta è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267160" y="5638680"/>
                <a:ext cx="387684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 flipV="1">
            <a:off x="685800" y="2361960"/>
            <a:ext cx="39625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10080" y="1143000"/>
            <a:ext cx="350532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escrivi il movimento del pedone nelle prime 40 ore (da 0 ogni 10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828800" y="2590920"/>
            <a:ext cx="6858000" cy="2410200"/>
            <a:chOff x="1828800" y="2590920"/>
            <a:chExt cx="6858000" cy="2410200"/>
          </a:xfrm>
        </p:grpSpPr>
        <p:sp>
          <p:nvSpPr>
            <p:cNvPr id="388" name=""/>
            <p:cNvSpPr/>
            <p:nvPr/>
          </p:nvSpPr>
          <p:spPr>
            <a:xfrm>
              <a:off x="5638680" y="4419720"/>
              <a:ext cx="3048120" cy="581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5.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dopo 40h dall’inizio del moto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ha percorso 36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14440" y="2590920"/>
              <a:ext cx="304920" cy="3808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14800" y="2590920"/>
              <a:ext cx="0" cy="198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828800" y="2590920"/>
              <a:ext cx="2286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1828800" y="1905120"/>
            <a:ext cx="6858000" cy="2743200"/>
            <a:chOff x="1828800" y="1905120"/>
            <a:chExt cx="6858000" cy="2743200"/>
          </a:xfrm>
        </p:grpSpPr>
        <p:sp>
          <p:nvSpPr>
            <p:cNvPr id="393" name=""/>
            <p:cNvSpPr/>
            <p:nvPr/>
          </p:nvSpPr>
          <p:spPr>
            <a:xfrm>
              <a:off x="1828800" y="3505320"/>
              <a:ext cx="0" cy="1143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1905120" y="1905120"/>
              <a:ext cx="6781680" cy="1981080"/>
              <a:chOff x="1905120" y="1905120"/>
              <a:chExt cx="6781680" cy="1981080"/>
            </a:xfrm>
          </p:grpSpPr>
          <p:sp>
            <p:nvSpPr>
              <p:cNvPr id="395" name=""/>
              <p:cNvSpPr/>
              <p:nvPr/>
            </p:nvSpPr>
            <p:spPr>
              <a:xfrm flipH="1" flipV="1">
                <a:off x="1905120" y="3505320"/>
                <a:ext cx="304560" cy="380880"/>
              </a:xfrm>
              <a:prstGeom prst="line">
                <a:avLst/>
              </a:prstGeom>
              <a:ln w="57240">
                <a:solidFill>
                  <a:srgbClr val="008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638680" y="1905120"/>
                <a:ext cx="3048120" cy="7945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Arial"/>
                  </a:rPr>
                  <a:t>1.</a:t>
                </a: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Arial"/>
                  </a:rPr>
                  <a:t>all’ora 0</a:t>
                </a: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                                              Il pedone si trova nel punto 20K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7" name=""/>
          <p:cNvGrpSpPr/>
          <p:nvPr/>
        </p:nvGrpSpPr>
        <p:grpSpPr>
          <a:xfrm>
            <a:off x="1828440" y="2590920"/>
            <a:ext cx="6858360" cy="2057400"/>
            <a:chOff x="1828440" y="2590920"/>
            <a:chExt cx="6858360" cy="2057400"/>
          </a:xfrm>
        </p:grpSpPr>
        <p:sp>
          <p:nvSpPr>
            <p:cNvPr id="398" name=""/>
            <p:cNvSpPr/>
            <p:nvPr/>
          </p:nvSpPr>
          <p:spPr>
            <a:xfrm flipH="1" flipV="1">
              <a:off x="2437920" y="3276720"/>
              <a:ext cx="304920" cy="3808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38280" y="3276720"/>
              <a:ext cx="0" cy="1371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1828440" y="3276720"/>
              <a:ext cx="6094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38680" y="2590920"/>
              <a:ext cx="3048120" cy="581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2.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 dopo 10 h                                        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ha percorso in tutto 24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828440" y="3048120"/>
            <a:ext cx="6858360" cy="1600200"/>
            <a:chOff x="1828440" y="3048120"/>
            <a:chExt cx="6858360" cy="1600200"/>
          </a:xfrm>
        </p:grpSpPr>
        <p:sp>
          <p:nvSpPr>
            <p:cNvPr id="403" name=""/>
            <p:cNvSpPr/>
            <p:nvPr/>
          </p:nvSpPr>
          <p:spPr>
            <a:xfrm flipH="1" flipV="1">
              <a:off x="2971440" y="3048120"/>
              <a:ext cx="304920" cy="3808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71800" y="3124080"/>
              <a:ext cx="0" cy="15242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828440" y="3048120"/>
              <a:ext cx="1143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638680" y="3200400"/>
              <a:ext cx="3048120" cy="581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3.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dopo 20h dall’inizio del moto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ha percorso 28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904760" y="2819520"/>
            <a:ext cx="6782040" cy="1828800"/>
            <a:chOff x="1904760" y="2819520"/>
            <a:chExt cx="6782040" cy="1828800"/>
          </a:xfrm>
        </p:grpSpPr>
        <p:sp>
          <p:nvSpPr>
            <p:cNvPr id="408" name=""/>
            <p:cNvSpPr/>
            <p:nvPr/>
          </p:nvSpPr>
          <p:spPr>
            <a:xfrm flipH="1" flipV="1">
              <a:off x="3505320" y="2819520"/>
              <a:ext cx="304560" cy="3808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05320" y="2819520"/>
              <a:ext cx="0" cy="18288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1904760" y="2819520"/>
              <a:ext cx="16002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38680" y="3809880"/>
              <a:ext cx="3048120" cy="581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4.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dopo 30h dall’inizio del moto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ha percorso 32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6172200" y="6400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1447920" y="1523880"/>
            <a:ext cx="7009920" cy="2590560"/>
            <a:chOff x="1447920" y="1523880"/>
            <a:chExt cx="7009920" cy="2590560"/>
          </a:xfrm>
        </p:grpSpPr>
        <p:sp>
          <p:nvSpPr>
            <p:cNvPr id="414" name=""/>
            <p:cNvSpPr/>
            <p:nvPr/>
          </p:nvSpPr>
          <p:spPr>
            <a:xfrm>
              <a:off x="1447920" y="1523880"/>
              <a:ext cx="7009920" cy="2590560"/>
            </a:xfrm>
            <a:prstGeom prst="ellipse">
              <a:avLst/>
            </a:prstGeom>
            <a:solidFill>
              <a:srgbClr val="ffa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334960" y="2133360"/>
              <a:ext cx="5058000" cy="641160"/>
            </a:xfrm>
            <a:prstGeom prst="rect">
              <a:avLst/>
            </a:prstGeom>
            <a:solidFill>
              <a:srgbClr val="ff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0" y="2437920"/>
            <a:ext cx="4952880" cy="685800"/>
          </a:xfrm>
          <a:prstGeom prst="rect">
            <a:avLst/>
          </a:prstGeom>
          <a:solidFill>
            <a:srgbClr val="ffa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ROPORZIONALITA’ DIRET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 :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oporzionalità diret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52280" y="762120"/>
          <a:ext cx="533412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533412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3657600" y="4800600"/>
            <a:ext cx="16002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n° di pesi applicati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Arial Blac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4920" y="1066680"/>
            <a:ext cx="1447560" cy="48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Allungamento della molla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in cm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Arial Black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00200" y="44197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1828800" y="3124080"/>
            <a:ext cx="3352680" cy="1371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10080" y="930240"/>
            <a:ext cx="350532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relazione tra le grandezze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ed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è descritta dalla 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286000" y="1752480"/>
            <a:ext cx="6629400" cy="2514600"/>
            <a:chOff x="2286000" y="1752480"/>
            <a:chExt cx="6629400" cy="2514600"/>
          </a:xfrm>
        </p:grpSpPr>
        <p:sp>
          <p:nvSpPr>
            <p:cNvPr id="426" name=""/>
            <p:cNvSpPr/>
            <p:nvPr/>
          </p:nvSpPr>
          <p:spPr>
            <a:xfrm>
              <a:off x="5410080" y="1752480"/>
              <a:ext cx="3505320" cy="5202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Utilizzando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10 pesetti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la molla si allunga di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4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86000" y="4191120"/>
              <a:ext cx="228600" cy="759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95480" y="2362320"/>
            <a:ext cx="6019920" cy="1676160"/>
            <a:chOff x="2895480" y="2362320"/>
            <a:chExt cx="6019920" cy="1676160"/>
          </a:xfrm>
        </p:grpSpPr>
        <p:sp>
          <p:nvSpPr>
            <p:cNvPr id="429" name=""/>
            <p:cNvSpPr/>
            <p:nvPr/>
          </p:nvSpPr>
          <p:spPr>
            <a:xfrm>
              <a:off x="2895480" y="3962520"/>
              <a:ext cx="228600" cy="759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0080" y="2362320"/>
              <a:ext cx="3505320" cy="5202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Utilizzando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20 pesetti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la molla si allunga di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8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572000" y="3063960"/>
            <a:ext cx="4343400" cy="520200"/>
            <a:chOff x="4572000" y="3063960"/>
            <a:chExt cx="4343400" cy="520200"/>
          </a:xfrm>
        </p:grpSpPr>
        <p:sp>
          <p:nvSpPr>
            <p:cNvPr id="432" name=""/>
            <p:cNvSpPr/>
            <p:nvPr/>
          </p:nvSpPr>
          <p:spPr>
            <a:xfrm>
              <a:off x="4572000" y="3292560"/>
              <a:ext cx="228600" cy="759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0080" y="3063960"/>
              <a:ext cx="3505320" cy="5202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Utilizzando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50 pesetti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la molla si allunga di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20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410080" y="3733920"/>
            <a:ext cx="3505320" cy="15951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Se per ogni coppia di valori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Y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ed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X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verifichiamo il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rapporto,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scopriamo che tale rapporto è un valore sempre uguale (costant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7086600" y="4495680"/>
                <a:ext cx="990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6" name=""/>
          <p:cNvGrpSpPr/>
          <p:nvPr/>
        </p:nvGrpSpPr>
        <p:grpSpPr>
          <a:xfrm>
            <a:off x="5562720" y="5562720"/>
            <a:ext cx="3124080" cy="1110240"/>
            <a:chOff x="5562720" y="5562720"/>
            <a:chExt cx="3124080" cy="1110240"/>
          </a:xfrm>
        </p:grpSpPr>
        <p:sp>
          <p:nvSpPr>
            <p:cNvPr id="437" name=""/>
            <p:cNvSpPr/>
            <p:nvPr/>
          </p:nvSpPr>
          <p:spPr>
            <a:xfrm>
              <a:off x="5562720" y="5562720"/>
              <a:ext cx="3124080" cy="11102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cc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5715000" y="5562720"/>
                  <a:ext cx="96516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p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4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num>
                        <m:den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7543800" y="5562720"/>
                <a:ext cx="952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0" name=""/>
          <p:cNvGrpSpPr/>
          <p:nvPr/>
        </p:nvGrpSpPr>
        <p:grpSpPr>
          <a:xfrm>
            <a:off x="6134040" y="5600880"/>
            <a:ext cx="2133720" cy="1028520"/>
            <a:chOff x="6134040" y="5600880"/>
            <a:chExt cx="2133720" cy="1028520"/>
          </a:xfrm>
        </p:grpSpPr>
        <mc:AlternateContent>
          <mc:Choice xmlns:a14="http://schemas.microsoft.com/office/drawing/2010/main" Requires="a14">
            <p:sp>
              <p:nvSpPr>
                <p:cNvPr id="441" name=""/>
                <p:cNvSpPr txBox="1"/>
                <p:nvPr/>
              </p:nvSpPr>
              <p:spPr>
                <a:xfrm>
                  <a:off x="6553080" y="6197760"/>
                  <a:ext cx="10414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  <m:r>
                            <m:t xml:space="preserve">p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4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num>
                        <m:den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442" name=""/>
            <p:cNvGrpSpPr/>
            <p:nvPr/>
          </p:nvGrpSpPr>
          <p:grpSpPr>
            <a:xfrm>
              <a:off x="6134040" y="5600880"/>
              <a:ext cx="2133720" cy="952200"/>
              <a:chOff x="6134040" y="5600880"/>
              <a:chExt cx="2133720" cy="952200"/>
            </a:xfrm>
          </p:grpSpPr>
          <p:sp>
            <p:nvSpPr>
              <p:cNvPr id="443" name=""/>
              <p:cNvSpPr/>
              <p:nvPr/>
            </p:nvSpPr>
            <p:spPr>
              <a:xfrm>
                <a:off x="6134040" y="5613480"/>
                <a:ext cx="304920" cy="3045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962840" y="5600880"/>
                <a:ext cx="304920" cy="3045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048440" y="6248520"/>
                <a:ext cx="304920" cy="3045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rafici cartesiani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 proporzionalità diretta: DEFINI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44197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228600" y="2514600"/>
            <a:ext cx="3652920" cy="3809880"/>
            <a:chOff x="228600" y="2514600"/>
            <a:chExt cx="3652920" cy="3809880"/>
          </a:xfrm>
        </p:grpSpPr>
        <p:graphicFrame>
          <p:nvGraphicFramePr>
            <p:cNvPr id="449" name=""/>
            <p:cNvGraphicFramePr/>
            <p:nvPr/>
          </p:nvGraphicFramePr>
          <p:xfrm>
            <a:off x="228600" y="2514600"/>
            <a:ext cx="3652920" cy="380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514600"/>
                      <a:ext cx="3652920" cy="380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1" name=""/>
            <p:cNvSpPr/>
            <p:nvPr/>
          </p:nvSpPr>
          <p:spPr>
            <a:xfrm>
              <a:off x="2210040" y="5257800"/>
              <a:ext cx="152388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0066"/>
                  </a:solidFill>
                  <a:latin typeface="Arial"/>
                </a:rPr>
                <a:t>n° di pesi applicati</a:t>
              </a:r>
              <a:r>
                <a:rPr b="1" lang="en-US" sz="9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 Black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8600" y="2666880"/>
              <a:ext cx="1295640" cy="474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0066"/>
                  </a:solidFill>
                  <a:latin typeface="Arial"/>
                </a:rPr>
                <a:t>Allungamento della molla</a:t>
              </a:r>
              <a:r>
                <a:rPr b="1" lang="en-US" sz="9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0066"/>
                  </a:solidFill>
                  <a:latin typeface="Arial"/>
                </a:rPr>
                <a:t>in cm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 Black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1371600" y="4114800"/>
              <a:ext cx="236232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380880" y="838080"/>
            <a:ext cx="853452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Due grandezze sono tra loro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DIRETTAMENTE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PROPORZIONALI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quando il loro rapporto è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co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3429000"/>
                <a:ext cx="1752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380880" y="1600200"/>
            <a:ext cx="853452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Due grandezze sono tra loro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DIRETTAMENTE PROPORZIONALI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quando al crescere di una l’altra cresce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in propor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612800" y="3352680"/>
            <a:ext cx="4572000" cy="1524240"/>
            <a:chOff x="1612800" y="3352680"/>
            <a:chExt cx="4572000" cy="1524240"/>
          </a:xfrm>
        </p:grpSpPr>
        <p:sp>
          <p:nvSpPr>
            <p:cNvPr id="458" name=""/>
            <p:cNvSpPr/>
            <p:nvPr/>
          </p:nvSpPr>
          <p:spPr>
            <a:xfrm>
              <a:off x="4038480" y="3352680"/>
              <a:ext cx="2146320" cy="91440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612800" y="3352680"/>
              <a:ext cx="2578320" cy="1524240"/>
            </a:xfrm>
            <a:custGeom>
              <a:avLst/>
              <a:gdLst/>
              <a:ahLst/>
              <a:rect l="l" t="t" r="r" b="b"/>
              <a:pathLst>
                <a:path w="1672" h="1048">
                  <a:moveTo>
                    <a:pt x="1672" y="184"/>
                  </a:moveTo>
                  <a:cubicBezTo>
                    <a:pt x="1592" y="124"/>
                    <a:pt x="1512" y="64"/>
                    <a:pt x="1384" y="40"/>
                  </a:cubicBezTo>
                  <a:cubicBezTo>
                    <a:pt x="1256" y="16"/>
                    <a:pt x="1072" y="0"/>
                    <a:pt x="904" y="40"/>
                  </a:cubicBezTo>
                  <a:cubicBezTo>
                    <a:pt x="736" y="80"/>
                    <a:pt x="520" y="152"/>
                    <a:pt x="376" y="280"/>
                  </a:cubicBezTo>
                  <a:cubicBezTo>
                    <a:pt x="232" y="408"/>
                    <a:pt x="80" y="680"/>
                    <a:pt x="40" y="808"/>
                  </a:cubicBezTo>
                  <a:cubicBezTo>
                    <a:pt x="0" y="936"/>
                    <a:pt x="68" y="992"/>
                    <a:pt x="136" y="104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781680" y="3429000"/>
                <a:ext cx="1828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1" name=""/>
          <p:cNvGrpSpPr/>
          <p:nvPr/>
        </p:nvGrpSpPr>
        <p:grpSpPr>
          <a:xfrm>
            <a:off x="3276720" y="3276720"/>
            <a:ext cx="5333400" cy="1600200"/>
            <a:chOff x="3276720" y="3276720"/>
            <a:chExt cx="5333400" cy="1600200"/>
          </a:xfrm>
        </p:grpSpPr>
        <p:sp>
          <p:nvSpPr>
            <p:cNvPr id="462" name=""/>
            <p:cNvSpPr/>
            <p:nvPr/>
          </p:nvSpPr>
          <p:spPr>
            <a:xfrm>
              <a:off x="6553080" y="3276720"/>
              <a:ext cx="2057040" cy="9903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76720" y="3809880"/>
              <a:ext cx="3276360" cy="1067040"/>
            </a:xfrm>
            <a:custGeom>
              <a:avLst/>
              <a:gdLst/>
              <a:ahLst/>
              <a:rect l="l" t="t" r="r" b="b"/>
              <a:pathLst>
                <a:path w="2064" h="672">
                  <a:moveTo>
                    <a:pt x="2064" y="0"/>
                  </a:moveTo>
                  <a:cubicBezTo>
                    <a:pt x="2048" y="96"/>
                    <a:pt x="2032" y="192"/>
                    <a:pt x="1920" y="288"/>
                  </a:cubicBezTo>
                  <a:cubicBezTo>
                    <a:pt x="1808" y="384"/>
                    <a:pt x="1616" y="520"/>
                    <a:pt x="1392" y="576"/>
                  </a:cubicBezTo>
                  <a:cubicBezTo>
                    <a:pt x="1168" y="632"/>
                    <a:pt x="808" y="672"/>
                    <a:pt x="576" y="624"/>
                  </a:cubicBezTo>
                  <a:cubicBezTo>
                    <a:pt x="344" y="576"/>
                    <a:pt x="172" y="432"/>
                    <a:pt x="0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267080" y="2438280"/>
            <a:ext cx="3276720" cy="2821680"/>
            <a:chOff x="4267080" y="2438280"/>
            <a:chExt cx="3276720" cy="2821680"/>
          </a:xfrm>
        </p:grpSpPr>
        <p:sp>
          <p:nvSpPr>
            <p:cNvPr id="465" name=""/>
            <p:cNvSpPr/>
            <p:nvPr/>
          </p:nvSpPr>
          <p:spPr>
            <a:xfrm>
              <a:off x="4267080" y="3809880"/>
              <a:ext cx="685800" cy="4572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81680" y="3809880"/>
              <a:ext cx="685800" cy="4572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7" name=""/>
            <p:cNvCxnSpPr/>
            <p:nvPr/>
          </p:nvCxnSpPr>
          <p:spPr>
            <a:xfrm flipH="1" rot="16200000">
              <a:off x="5903640" y="3010320"/>
              <a:ext cx="2520" cy="2515320"/>
            </a:xfrm>
            <a:prstGeom prst="curvedConnector5">
              <a:avLst>
                <a:gd name="adj1" fmla="val 42983333"/>
                <a:gd name="adj2" fmla="val 50000"/>
                <a:gd name="adj3" fmla="val 42983333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grpSp>
          <p:nvGrpSpPr>
            <p:cNvPr id="468" name=""/>
            <p:cNvGrpSpPr/>
            <p:nvPr/>
          </p:nvGrpSpPr>
          <p:grpSpPr>
            <a:xfrm>
              <a:off x="4343400" y="2438280"/>
              <a:ext cx="3200400" cy="1371600"/>
              <a:chOff x="4343400" y="2438280"/>
              <a:chExt cx="3200400" cy="1371600"/>
            </a:xfrm>
          </p:grpSpPr>
          <p:sp>
            <p:nvSpPr>
              <p:cNvPr id="469" name=""/>
              <p:cNvSpPr/>
              <p:nvPr/>
            </p:nvSpPr>
            <p:spPr>
              <a:xfrm>
                <a:off x="4343400" y="3352680"/>
                <a:ext cx="685800" cy="45720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705720" y="3352680"/>
                <a:ext cx="838080" cy="45720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71" name=""/>
              <p:cNvCxnSpPr/>
              <p:nvPr/>
            </p:nvCxnSpPr>
            <p:spPr>
              <a:xfrm flipH="1" rot="16200000">
                <a:off x="5979600" y="2095920"/>
                <a:ext cx="2520" cy="2515320"/>
              </a:xfrm>
              <a:prstGeom prst="curvedConnector5">
                <a:avLst>
                  <a:gd name="adj1" fmla="val -41900000"/>
                  <a:gd name="adj2" fmla="val 50000"/>
                  <a:gd name="adj3" fmla="val -41900000"/>
                </a:avLst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472" name=""/>
              <p:cNvSpPr/>
              <p:nvPr/>
            </p:nvSpPr>
            <p:spPr>
              <a:xfrm>
                <a:off x="5105520" y="2438280"/>
                <a:ext cx="182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Arial"/>
                  </a:rPr>
                  <a:t>5 volte più gran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5105520" y="49528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5 volte più gran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038480" y="1219320"/>
            <a:ext cx="1067040" cy="2764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opp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038480" y="2793960"/>
            <a:ext cx="4889520" cy="3258360"/>
            <a:chOff x="4038480" y="2793960"/>
            <a:chExt cx="4889520" cy="3258360"/>
          </a:xfrm>
        </p:grpSpPr>
        <p:grpSp>
          <p:nvGrpSpPr>
            <p:cNvPr id="476" name=""/>
            <p:cNvGrpSpPr/>
            <p:nvPr/>
          </p:nvGrpSpPr>
          <p:grpSpPr>
            <a:xfrm>
              <a:off x="5486400" y="3962520"/>
              <a:ext cx="2286000" cy="2089800"/>
              <a:chOff x="5486400" y="3962520"/>
              <a:chExt cx="2286000" cy="2089800"/>
            </a:xfrm>
          </p:grpSpPr>
          <p:sp>
            <p:nvSpPr>
              <p:cNvPr id="477" name=""/>
              <p:cNvSpPr/>
              <p:nvPr/>
            </p:nvSpPr>
            <p:spPr>
              <a:xfrm>
                <a:off x="5486400" y="3962520"/>
                <a:ext cx="838080" cy="1752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6858000" y="3962520"/>
                <a:ext cx="914400" cy="1752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943600" y="5715000"/>
                <a:ext cx="1371600" cy="3373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costan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4038480" y="2793960"/>
              <a:ext cx="4889520" cy="1015920"/>
              <a:chOff x="4038480" y="2793960"/>
              <a:chExt cx="4889520" cy="1015920"/>
            </a:xfrm>
          </p:grpSpPr>
          <p:sp>
            <p:nvSpPr>
              <p:cNvPr id="481" name=""/>
              <p:cNvSpPr/>
              <p:nvPr/>
            </p:nvSpPr>
            <p:spPr>
              <a:xfrm>
                <a:off x="5791320" y="2819520"/>
                <a:ext cx="129528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Arial"/>
                  </a:rPr>
                  <a:t>rapport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038480" y="2908440"/>
                <a:ext cx="1676520" cy="901440"/>
              </a:xfrm>
              <a:custGeom>
                <a:avLst/>
                <a:gdLst/>
                <a:ahLst/>
                <a:rect l="l" t="t" r="r" b="b"/>
                <a:pathLst>
                  <a:path w="1104" h="520">
                    <a:moveTo>
                      <a:pt x="1104" y="40"/>
                    </a:moveTo>
                    <a:cubicBezTo>
                      <a:pt x="764" y="20"/>
                      <a:pt x="424" y="0"/>
                      <a:pt x="240" y="40"/>
                    </a:cubicBezTo>
                    <a:cubicBezTo>
                      <a:pt x="56" y="80"/>
                      <a:pt x="0" y="200"/>
                      <a:pt x="0" y="280"/>
                    </a:cubicBezTo>
                    <a:cubicBezTo>
                      <a:pt x="0" y="360"/>
                      <a:pt x="120" y="440"/>
                      <a:pt x="240" y="52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162920" y="2793960"/>
                <a:ext cx="1765080" cy="1015920"/>
              </a:xfrm>
              <a:custGeom>
                <a:avLst/>
                <a:gdLst/>
                <a:ahLst/>
                <a:rect l="l" t="t" r="r" b="b"/>
                <a:pathLst>
                  <a:path w="1112" h="640">
                    <a:moveTo>
                      <a:pt x="0" y="64"/>
                    </a:moveTo>
                    <a:cubicBezTo>
                      <a:pt x="316" y="32"/>
                      <a:pt x="632" y="0"/>
                      <a:pt x="816" y="64"/>
                    </a:cubicBezTo>
                    <a:cubicBezTo>
                      <a:pt x="1000" y="128"/>
                      <a:pt x="1096" y="352"/>
                      <a:pt x="1104" y="448"/>
                    </a:cubicBezTo>
                    <a:cubicBezTo>
                      <a:pt x="1112" y="544"/>
                      <a:pt x="988" y="592"/>
                      <a:pt x="864" y="64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porzionalità diretta e linguaggio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0880" y="1752480"/>
            <a:ext cx="3810240" cy="1798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 Due grandezze sono tra loro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DIRETTAMENTE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PROPORZIONALI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quando il loro rapporto è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co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880" y="4572000"/>
            <a:ext cx="3810240" cy="16869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2  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 Due grandezze sono tra loro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DIRETTAMENTE PROPORZIONALI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quando al crescere di una l’altra cresce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in propor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ff0066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990720"/>
            <a:ext cx="8076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ivediamo le definizioni ed esprimiamole con il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linguaggio matematic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600200" y="2666880"/>
                <a:ext cx="16002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1676520" y="579132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3886200"/>
            <a:ext cx="1066680" cy="2764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opp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257800" y="1752480"/>
            <a:ext cx="2895480" cy="337320"/>
          </a:xfrm>
          <a:prstGeom prst="rect">
            <a:avLst/>
          </a:prstGeom>
          <a:solidFill>
            <a:srgbClr val="ffa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Le due definizioni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2209680"/>
            <a:ext cx="2514600" cy="580680"/>
          </a:xfrm>
          <a:prstGeom prst="rect">
            <a:avLst/>
          </a:prstGeom>
          <a:solidFill>
            <a:srgbClr val="ffa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.e le due relazioni matemat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3124080" y="2666880"/>
            <a:ext cx="4038840" cy="3276720"/>
            <a:chOff x="3124080" y="2666880"/>
            <a:chExt cx="4038840" cy="3276720"/>
          </a:xfrm>
        </p:grpSpPr>
        <p:sp>
          <p:nvSpPr>
            <p:cNvPr id="494" name=""/>
            <p:cNvSpPr/>
            <p:nvPr/>
          </p:nvSpPr>
          <p:spPr>
            <a:xfrm>
              <a:off x="3124080" y="2666880"/>
              <a:ext cx="4038840" cy="762120"/>
            </a:xfrm>
            <a:custGeom>
              <a:avLst/>
              <a:gdLst/>
              <a:ahLst/>
              <a:rect l="l" t="t" r="r" b="b"/>
              <a:pathLst>
                <a:path w="2584" h="480">
                  <a:moveTo>
                    <a:pt x="2256" y="0"/>
                  </a:moveTo>
                  <a:cubicBezTo>
                    <a:pt x="2420" y="192"/>
                    <a:pt x="2584" y="384"/>
                    <a:pt x="2208" y="432"/>
                  </a:cubicBezTo>
                  <a:cubicBezTo>
                    <a:pt x="1832" y="480"/>
                    <a:pt x="916" y="384"/>
                    <a:pt x="0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52680" y="2666880"/>
              <a:ext cx="3784680" cy="3276720"/>
            </a:xfrm>
            <a:custGeom>
              <a:avLst/>
              <a:gdLst/>
              <a:ahLst/>
              <a:rect l="l" t="t" r="r" b="b"/>
              <a:pathLst>
                <a:path w="2384" h="2064">
                  <a:moveTo>
                    <a:pt x="2064" y="0"/>
                  </a:moveTo>
                  <a:cubicBezTo>
                    <a:pt x="2160" y="40"/>
                    <a:pt x="2256" y="80"/>
                    <a:pt x="2304" y="144"/>
                  </a:cubicBezTo>
                  <a:cubicBezTo>
                    <a:pt x="2352" y="208"/>
                    <a:pt x="2384" y="312"/>
                    <a:pt x="2352" y="384"/>
                  </a:cubicBezTo>
                  <a:cubicBezTo>
                    <a:pt x="2320" y="456"/>
                    <a:pt x="2256" y="536"/>
                    <a:pt x="2112" y="576"/>
                  </a:cubicBezTo>
                  <a:cubicBezTo>
                    <a:pt x="1968" y="616"/>
                    <a:pt x="1672" y="592"/>
                    <a:pt x="1488" y="624"/>
                  </a:cubicBezTo>
                  <a:cubicBezTo>
                    <a:pt x="1304" y="656"/>
                    <a:pt x="1128" y="664"/>
                    <a:pt x="1008" y="768"/>
                  </a:cubicBezTo>
                  <a:cubicBezTo>
                    <a:pt x="888" y="872"/>
                    <a:pt x="808" y="1064"/>
                    <a:pt x="768" y="1248"/>
                  </a:cubicBezTo>
                  <a:cubicBezTo>
                    <a:pt x="728" y="1432"/>
                    <a:pt x="896" y="1736"/>
                    <a:pt x="768" y="1872"/>
                  </a:cubicBezTo>
                  <a:cubicBezTo>
                    <a:pt x="640" y="2008"/>
                    <a:pt x="320" y="2036"/>
                    <a:pt x="0" y="206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5638680" y="3886200"/>
            <a:ext cx="2438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ono equival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5638680" y="4876920"/>
            <a:ext cx="1535400" cy="809640"/>
            <a:chOff x="5638680" y="4876920"/>
            <a:chExt cx="1535400" cy="809640"/>
          </a:xfrm>
        </p:grpSpPr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5638680" y="4876920"/>
                  <a:ext cx="65088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6172200" y="5181480"/>
                  <a:ext cx="100188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0" name=""/>
          <p:cNvGrpSpPr/>
          <p:nvPr/>
        </p:nvGrpSpPr>
        <p:grpSpPr>
          <a:xfrm>
            <a:off x="5638680" y="4876920"/>
            <a:ext cx="990720" cy="809640"/>
            <a:chOff x="5638680" y="4876920"/>
            <a:chExt cx="990720" cy="809640"/>
          </a:xfrm>
        </p:grpSpPr>
        <p:sp>
          <p:nvSpPr>
            <p:cNvPr id="501" name=""/>
            <p:cNvSpPr/>
            <p:nvPr/>
          </p:nvSpPr>
          <p:spPr>
            <a:xfrm>
              <a:off x="6172200" y="5105520"/>
              <a:ext cx="457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2" name=""/>
                <p:cNvSpPr txBox="1"/>
                <p:nvPr/>
              </p:nvSpPr>
              <p:spPr>
                <a:xfrm>
                  <a:off x="5638680" y="4876920"/>
                  <a:ext cx="65088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3" name=""/>
          <p:cNvGrpSpPr/>
          <p:nvPr/>
        </p:nvGrpSpPr>
        <p:grpSpPr>
          <a:xfrm>
            <a:off x="6629400" y="5105520"/>
            <a:ext cx="1219320" cy="368280"/>
            <a:chOff x="6629400" y="5105520"/>
            <a:chExt cx="1219320" cy="368280"/>
          </a:xfrm>
        </p:grpSpPr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6629400" y="5105520"/>
                  <a:ext cx="100188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5" name=""/>
            <p:cNvSpPr/>
            <p:nvPr/>
          </p:nvSpPr>
          <p:spPr>
            <a:xfrm>
              <a:off x="7391520" y="5105520"/>
              <a:ext cx="457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715000" y="5181120"/>
            <a:ext cx="914400" cy="457200"/>
            <a:chOff x="5715000" y="5181120"/>
            <a:chExt cx="914400" cy="457200"/>
          </a:xfrm>
        </p:grpSpPr>
        <p:sp>
          <p:nvSpPr>
            <p:cNvPr id="507" name=""/>
            <p:cNvSpPr/>
            <p:nvPr/>
          </p:nvSpPr>
          <p:spPr>
            <a:xfrm flipV="1">
              <a:off x="5715000" y="5409720"/>
              <a:ext cx="38088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248520" y="5181120"/>
              <a:ext cx="38088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2895480" y="3352680"/>
            <a:ext cx="2667240" cy="1524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733920" y="5486400"/>
            <a:ext cx="182880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74720" y="1981080"/>
            <a:ext cx="1663560" cy="914400"/>
            <a:chOff x="774720" y="1981080"/>
            <a:chExt cx="1663560" cy="914400"/>
          </a:xfrm>
        </p:grpSpPr>
        <p:sp>
          <p:nvSpPr>
            <p:cNvPr id="512" name=""/>
            <p:cNvSpPr/>
            <p:nvPr/>
          </p:nvSpPr>
          <p:spPr>
            <a:xfrm>
              <a:off x="838080" y="198108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Grandezza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74720" y="2362320"/>
              <a:ext cx="977760" cy="533160"/>
            </a:xfrm>
            <a:custGeom>
              <a:avLst/>
              <a:gdLst/>
              <a:ahLst/>
              <a:rect l="l" t="t" r="r" b="b"/>
              <a:pathLst>
                <a:path w="616" h="336">
                  <a:moveTo>
                    <a:pt x="88" y="0"/>
                  </a:moveTo>
                  <a:cubicBezTo>
                    <a:pt x="44" y="92"/>
                    <a:pt x="0" y="184"/>
                    <a:pt x="88" y="240"/>
                  </a:cubicBezTo>
                  <a:cubicBezTo>
                    <a:pt x="176" y="296"/>
                    <a:pt x="396" y="316"/>
                    <a:pt x="616" y="336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04920" y="3137040"/>
            <a:ext cx="1600200" cy="888840"/>
            <a:chOff x="304920" y="3137040"/>
            <a:chExt cx="1600200" cy="888840"/>
          </a:xfrm>
        </p:grpSpPr>
        <p:sp>
          <p:nvSpPr>
            <p:cNvPr id="515" name=""/>
            <p:cNvSpPr/>
            <p:nvPr/>
          </p:nvSpPr>
          <p:spPr>
            <a:xfrm>
              <a:off x="304920" y="365760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Grandezza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3080" y="3137040"/>
              <a:ext cx="1333440" cy="520560"/>
            </a:xfrm>
            <a:custGeom>
              <a:avLst/>
              <a:gdLst/>
              <a:ahLst/>
              <a:rect l="l" t="t" r="r" b="b"/>
              <a:pathLst>
                <a:path w="840" h="328">
                  <a:moveTo>
                    <a:pt x="120" y="328"/>
                  </a:moveTo>
                  <a:cubicBezTo>
                    <a:pt x="60" y="204"/>
                    <a:pt x="0" y="80"/>
                    <a:pt x="120" y="40"/>
                  </a:cubicBezTo>
                  <a:cubicBezTo>
                    <a:pt x="240" y="0"/>
                    <a:pt x="720" y="72"/>
                    <a:pt x="840" y="88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2971800" y="2666880"/>
            <a:ext cx="2438280" cy="368280"/>
            <a:chOff x="2971800" y="2666880"/>
            <a:chExt cx="2438280" cy="368280"/>
          </a:xfrm>
        </p:grpSpPr>
        <p:sp>
          <p:nvSpPr>
            <p:cNvPr id="518" name=""/>
            <p:cNvSpPr/>
            <p:nvPr/>
          </p:nvSpPr>
          <p:spPr>
            <a:xfrm>
              <a:off x="3809880" y="266688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Cost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71800" y="2705040"/>
              <a:ext cx="838080" cy="266760"/>
            </a:xfrm>
            <a:custGeom>
              <a:avLst/>
              <a:gdLst/>
              <a:ahLst/>
              <a:rect l="l" t="t" r="r" b="b"/>
              <a:pathLst>
                <a:path w="528" h="168">
                  <a:moveTo>
                    <a:pt x="528" y="24"/>
                  </a:moveTo>
                  <a:cubicBezTo>
                    <a:pt x="452" y="12"/>
                    <a:pt x="376" y="0"/>
                    <a:pt x="288" y="24"/>
                  </a:cubicBezTo>
                  <a:cubicBezTo>
                    <a:pt x="200" y="48"/>
                    <a:pt x="100" y="108"/>
                    <a:pt x="0" y="168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057400" y="3124080"/>
            <a:ext cx="2209680" cy="749520"/>
            <a:chOff x="2057400" y="3124080"/>
            <a:chExt cx="2209680" cy="749520"/>
          </a:xfrm>
        </p:grpSpPr>
        <p:sp>
          <p:nvSpPr>
            <p:cNvPr id="521" name=""/>
            <p:cNvSpPr/>
            <p:nvPr/>
          </p:nvSpPr>
          <p:spPr>
            <a:xfrm>
              <a:off x="2666880" y="350532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rappor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057400" y="3124080"/>
              <a:ext cx="762120" cy="38124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cubicBezTo>
                    <a:pt x="328" y="212"/>
                    <a:pt x="176" y="184"/>
                    <a:pt x="96" y="144"/>
                  </a:cubicBezTo>
                  <a:cubicBezTo>
                    <a:pt x="16" y="104"/>
                    <a:pt x="8" y="52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"/>
          <p:cNvGraphicFramePr/>
          <p:nvPr/>
        </p:nvGraphicFramePr>
        <p:xfrm>
          <a:off x="228600" y="2743200"/>
          <a:ext cx="365292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743200"/>
                    <a:ext cx="36529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5" name=""/>
          <p:cNvGrpSpPr/>
          <p:nvPr/>
        </p:nvGrpSpPr>
        <p:grpSpPr>
          <a:xfrm>
            <a:off x="1066680" y="3200400"/>
            <a:ext cx="457200" cy="1800360"/>
            <a:chOff x="1066680" y="3200400"/>
            <a:chExt cx="457200" cy="1800360"/>
          </a:xfrm>
        </p:grpSpPr>
        <p:sp>
          <p:nvSpPr>
            <p:cNvPr id="526" name=""/>
            <p:cNvSpPr/>
            <p:nvPr/>
          </p:nvSpPr>
          <p:spPr>
            <a:xfrm>
              <a:off x="1066680" y="39625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1066680" y="3200400"/>
              <a:ext cx="457200" cy="1800360"/>
              <a:chOff x="1066680" y="3200400"/>
              <a:chExt cx="457200" cy="1800360"/>
            </a:xfrm>
          </p:grpSpPr>
          <p:sp>
            <p:nvSpPr>
              <p:cNvPr id="528" name=""/>
              <p:cNvSpPr/>
              <p:nvPr/>
            </p:nvSpPr>
            <p:spPr>
              <a:xfrm>
                <a:off x="1066680" y="472428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,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066680" y="434340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,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066680" y="358128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066680" y="320040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,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porzionalità diretta e linguaggio matematico: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vaci tu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867280"/>
            <a:ext cx="380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 Blac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14400" y="2743200"/>
            <a:ext cx="380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 Black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0880" y="1371600"/>
            <a:ext cx="25146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tudia i dati in tabella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380880" y="1905120"/>
          <a:ext cx="3581280" cy="660240"/>
        </p:xfrm>
        <a:graphic>
          <a:graphicData uri="http://schemas.openxmlformats.org/drawingml/2006/table">
            <a:tbl>
              <a:tblPr/>
              <a:tblGrid>
                <a:gridCol w="596880"/>
                <a:gridCol w="596880"/>
                <a:gridCol w="596880"/>
                <a:gridCol w="596880"/>
                <a:gridCol w="596880"/>
                <a:gridCol w="596880"/>
              </a:tblGrid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537" name=""/>
          <p:cNvSpPr/>
          <p:nvPr/>
        </p:nvSpPr>
        <p:spPr>
          <a:xfrm>
            <a:off x="4952880" y="1143000"/>
            <a:ext cx="3810240" cy="9511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man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Le grandezze Y ed X sono tra loro direttamente proporzional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52880" y="2286000"/>
            <a:ext cx="3886200" cy="733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e le due grandezze sono direttamente proporzionali, il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rapporto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tra ogni coppia (Y;X) di valori sarà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cost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952880" y="3200400"/>
            <a:ext cx="3886200" cy="341064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volgiamo qualche calcol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05720" y="4191120"/>
            <a:ext cx="38088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705720" y="3581280"/>
            <a:ext cx="38088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24680" y="3581280"/>
            <a:ext cx="38124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86400" y="4191120"/>
            <a:ext cx="38088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562720" y="3581280"/>
            <a:ext cx="38088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219320" y="5257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600200" y="5334120"/>
            <a:ext cx="2362320" cy="306360"/>
            <a:chOff x="1600200" y="5334120"/>
            <a:chExt cx="2362320" cy="306360"/>
          </a:xfrm>
        </p:grpSpPr>
        <p:sp>
          <p:nvSpPr>
            <p:cNvPr id="547" name=""/>
            <p:cNvSpPr/>
            <p:nvPr/>
          </p:nvSpPr>
          <p:spPr>
            <a:xfrm>
              <a:off x="160020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,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8108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362320" y="5364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,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43200" y="5364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,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2408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0532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,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1600200" y="3581280"/>
            <a:ext cx="4305240" cy="1600200"/>
            <a:chOff x="1600200" y="3581280"/>
            <a:chExt cx="4305240" cy="1600200"/>
          </a:xfrm>
        </p:grpSpPr>
        <mc:AlternateContent>
          <mc:Choice xmlns:a14="http://schemas.microsoft.com/office/drawing/2010/main" Requires="a14">
            <p:sp>
              <p:nvSpPr>
                <p:cNvPr id="554" name=""/>
                <p:cNvSpPr txBox="1"/>
                <p:nvPr/>
              </p:nvSpPr>
              <p:spPr>
                <a:xfrm>
                  <a:off x="5181480" y="3581280"/>
                  <a:ext cx="7239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t xml:space="preserve">0,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5" name=""/>
            <p:cNvSpPr/>
            <p:nvPr/>
          </p:nvSpPr>
          <p:spPr>
            <a:xfrm>
              <a:off x="1600200" y="5105520"/>
              <a:ext cx="7632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2514600" y="3581280"/>
            <a:ext cx="4533840" cy="838440"/>
            <a:chOff x="2514600" y="3581280"/>
            <a:chExt cx="4533840" cy="838440"/>
          </a:xfrm>
        </p:grpSpPr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6324480" y="3581280"/>
                  <a:ext cx="7239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num>
                        <m:den>
                          <m:r>
                            <m:t xml:space="preserve">1,8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8" name=""/>
            <p:cNvSpPr/>
            <p:nvPr/>
          </p:nvSpPr>
          <p:spPr>
            <a:xfrm>
              <a:off x="2514600" y="434340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2666880" y="3581280"/>
            <a:ext cx="5588280" cy="685800"/>
            <a:chOff x="2666880" y="3581280"/>
            <a:chExt cx="5588280" cy="685800"/>
          </a:xfrm>
        </p:grpSpPr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7556400" y="3581280"/>
                  <a:ext cx="698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5</m:t>
                          </m:r>
                        </m:num>
                        <m:den>
                          <m:r>
                            <m:t xml:space="preserve">2,1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1" name=""/>
            <p:cNvSpPr/>
            <p:nvPr/>
          </p:nvSpPr>
          <p:spPr>
            <a:xfrm>
              <a:off x="2666880" y="4191120"/>
              <a:ext cx="7632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276720" y="3733920"/>
            <a:ext cx="2514600" cy="863640"/>
            <a:chOff x="3276720" y="3733920"/>
            <a:chExt cx="2514600" cy="863640"/>
          </a:xfrm>
        </p:grpSpPr>
        <mc:AlternateContent>
          <mc:Choice xmlns:a14="http://schemas.microsoft.com/office/drawing/2010/main" Requires="a14">
            <p:sp>
              <p:nvSpPr>
                <p:cNvPr id="563" name=""/>
                <p:cNvSpPr txBox="1"/>
                <p:nvPr/>
              </p:nvSpPr>
              <p:spPr>
                <a:xfrm>
                  <a:off x="5181480" y="4191120"/>
                  <a:ext cx="6098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,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4" name=""/>
            <p:cNvSpPr/>
            <p:nvPr/>
          </p:nvSpPr>
          <p:spPr>
            <a:xfrm>
              <a:off x="3276720" y="3733920"/>
              <a:ext cx="7596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3657600" y="3352680"/>
            <a:ext cx="3378240" cy="1270080"/>
            <a:chOff x="3657600" y="3352680"/>
            <a:chExt cx="3378240" cy="1270080"/>
          </a:xfrm>
        </p:grpSpPr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6400800" y="4191120"/>
                  <a:ext cx="6350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,8</m:t>
                          </m:r>
                        </m:num>
                        <m:den>
                          <m:r>
                            <m:t xml:space="preserve">3,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7" name=""/>
            <p:cNvSpPr/>
            <p:nvPr/>
          </p:nvSpPr>
          <p:spPr>
            <a:xfrm>
              <a:off x="3657600" y="33526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 flipV="1">
            <a:off x="1447920" y="3276360"/>
            <a:ext cx="2438280" cy="1981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05520" y="4648320"/>
            <a:ext cx="3581280" cy="169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spos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le due grandezze sono direttamente proporzi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86400" y="5562720"/>
            <a:ext cx="28954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Il loro rapporto è 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Arial"/>
              </a:rPr>
              <a:t>co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5943600"/>
            <a:ext cx="28954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Il grafico è una 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Arial"/>
              </a:rPr>
              <a:t>r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5791320" y="3886200"/>
            <a:ext cx="2768400" cy="2120760"/>
            <a:chOff x="5791320" y="3886200"/>
            <a:chExt cx="2768400" cy="2120760"/>
          </a:xfrm>
        </p:grpSpPr>
        <p:sp>
          <p:nvSpPr>
            <p:cNvPr id="573" name=""/>
            <p:cNvSpPr/>
            <p:nvPr/>
          </p:nvSpPr>
          <p:spPr>
            <a:xfrm>
              <a:off x="8077320" y="4038480"/>
              <a:ext cx="482400" cy="1968480"/>
            </a:xfrm>
            <a:custGeom>
              <a:avLst/>
              <a:gdLst/>
              <a:ahLst/>
              <a:rect l="l" t="t" r="r" b="b"/>
              <a:pathLst>
                <a:path w="304" h="1240">
                  <a:moveTo>
                    <a:pt x="0" y="1104"/>
                  </a:moveTo>
                  <a:cubicBezTo>
                    <a:pt x="136" y="1172"/>
                    <a:pt x="272" y="1240"/>
                    <a:pt x="288" y="1056"/>
                  </a:cubicBezTo>
                  <a:cubicBezTo>
                    <a:pt x="304" y="872"/>
                    <a:pt x="200" y="436"/>
                    <a:pt x="96" y="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086240" y="3962520"/>
              <a:ext cx="121932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 flipV="1">
              <a:off x="5943600" y="3886200"/>
              <a:ext cx="2362320" cy="533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086240" y="4419720"/>
              <a:ext cx="121932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91320" y="4000680"/>
              <a:ext cx="2514600" cy="419040"/>
            </a:xfrm>
            <a:custGeom>
              <a:avLst/>
              <a:gdLst/>
              <a:ahLst/>
              <a:rect l="l" t="t" r="r" b="b"/>
              <a:pathLst>
                <a:path w="1584" h="264">
                  <a:moveTo>
                    <a:pt x="1584" y="264"/>
                  </a:moveTo>
                  <a:cubicBezTo>
                    <a:pt x="1068" y="156"/>
                    <a:pt x="552" y="48"/>
                    <a:pt x="288" y="24"/>
                  </a:cubicBezTo>
                  <a:cubicBezTo>
                    <a:pt x="24" y="0"/>
                    <a:pt x="12" y="60"/>
                    <a:pt x="0" y="12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H="1" flipV="1">
            <a:off x="3200400" y="4190760"/>
            <a:ext cx="2286000" cy="1981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33920" y="6477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"/>
          <p:cNvGrpSpPr/>
          <p:nvPr/>
        </p:nvGrpSpPr>
        <p:grpSpPr>
          <a:xfrm>
            <a:off x="1447920" y="1523880"/>
            <a:ext cx="7009920" cy="2590560"/>
            <a:chOff x="1447920" y="1523880"/>
            <a:chExt cx="7009920" cy="2590560"/>
          </a:xfrm>
        </p:grpSpPr>
        <p:sp>
          <p:nvSpPr>
            <p:cNvPr id="581" name=""/>
            <p:cNvSpPr/>
            <p:nvPr/>
          </p:nvSpPr>
          <p:spPr>
            <a:xfrm>
              <a:off x="1447920" y="1523880"/>
              <a:ext cx="7009920" cy="2590560"/>
            </a:xfrm>
            <a:prstGeom prst="ellipse">
              <a:avLst/>
            </a:prstGeom>
            <a:solidFill>
              <a:srgbClr val="ffa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334960" y="2133360"/>
              <a:ext cx="5058000" cy="641160"/>
            </a:xfrm>
            <a:prstGeom prst="rect">
              <a:avLst/>
            </a:prstGeom>
            <a:solidFill>
              <a:srgbClr val="ff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057040" y="2437920"/>
            <a:ext cx="5715000" cy="685800"/>
          </a:xfrm>
          <a:prstGeom prst="rect">
            <a:avLst/>
          </a:prstGeom>
          <a:solidFill>
            <a:srgbClr val="ffa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LA SCALA </a:t>
            </a:r>
            <a:br>
              <a:rPr sz="36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  RAPPRESENTAZIONE DEI D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 scala di rappres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14720" y="17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33520" y="304920"/>
            <a:ext cx="4495680" cy="6329520"/>
            <a:chOff x="533520" y="304920"/>
            <a:chExt cx="4495680" cy="6329520"/>
          </a:xfrm>
        </p:grpSpPr>
        <p:grpSp>
          <p:nvGrpSpPr>
            <p:cNvPr id="587" name=""/>
            <p:cNvGrpSpPr/>
            <p:nvPr/>
          </p:nvGrpSpPr>
          <p:grpSpPr>
            <a:xfrm>
              <a:off x="533520" y="304920"/>
              <a:ext cx="4495320" cy="6329520"/>
              <a:chOff x="533520" y="304920"/>
              <a:chExt cx="4495320" cy="632952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533520" y="304920"/>
                <a:ext cx="4495320" cy="6248880"/>
                <a:chOff x="533520" y="304920"/>
                <a:chExt cx="4495320" cy="6248880"/>
              </a:xfrm>
            </p:grpSpPr>
            <p:graphicFrame>
              <p:nvGraphicFramePr>
                <p:cNvPr id="589" name=""/>
                <p:cNvGraphicFramePr/>
                <p:nvPr/>
              </p:nvGraphicFramePr>
              <p:xfrm>
                <a:off x="838080" y="756360"/>
                <a:ext cx="3895200" cy="55994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590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838080" y="756360"/>
                          <a:ext cx="3895200" cy="559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91" name=""/>
                <p:cNvSpPr/>
                <p:nvPr/>
              </p:nvSpPr>
              <p:spPr>
                <a:xfrm>
                  <a:off x="685800" y="6328080"/>
                  <a:ext cx="4343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838080" y="530640"/>
                  <a:ext cx="0" cy="602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33520" y="304920"/>
                  <a:ext cx="380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Arial Black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4" name=""/>
              <p:cNvSpPr/>
              <p:nvPr/>
            </p:nvSpPr>
            <p:spPr>
              <a:xfrm>
                <a:off x="609480" y="635796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4572000" y="6027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 Black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5181480" y="838080"/>
            <a:ext cx="3200400" cy="3373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nsideriamo una serie di 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5181480" y="1295280"/>
          <a:ext cx="3276720" cy="730440"/>
        </p:xfrm>
        <a:graphic>
          <a:graphicData uri="http://schemas.openxmlformats.org/drawingml/2006/table">
            <a:tbl>
              <a:tblPr/>
              <a:tblGrid>
                <a:gridCol w="652680"/>
                <a:gridCol w="657000"/>
                <a:gridCol w="657360"/>
                <a:gridCol w="657360"/>
                <a:gridCol w="652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,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</a:tr>
            </a:tbl>
          </a:graphicData>
        </a:graphic>
      </p:graphicFrame>
      <p:sp>
        <p:nvSpPr>
          <p:cNvPr id="598" name=""/>
          <p:cNvSpPr/>
          <p:nvPr/>
        </p:nvSpPr>
        <p:spPr>
          <a:xfrm>
            <a:off x="5181480" y="2149560"/>
            <a:ext cx="358164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53b"/>
                </a:solidFill>
                <a:latin typeface="Arial"/>
              </a:rPr>
              <a:t>Quale criterio utilizziamo per decidere la scala di rappresentazion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76920" y="4191120"/>
            <a:ext cx="3962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 cm sull’asse Y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non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sono suffici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724280" y="3521160"/>
            <a:ext cx="426744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e pongo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0,18 = 1cm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scopro che ci vogliono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9 cm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per rappresentare tutti i dati (1,62 : 0,18 = 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800600" y="2819520"/>
            <a:ext cx="4114800" cy="5504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ASSE Y: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Il valore più piccolo (escluso zero) è  0,18 ed il più grande è 1,6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0" y="5486400"/>
            <a:ext cx="762120" cy="276480"/>
            <a:chOff x="0" y="5486400"/>
            <a:chExt cx="762120" cy="276480"/>
          </a:xfrm>
        </p:grpSpPr>
        <p:sp>
          <p:nvSpPr>
            <p:cNvPr id="603" name=""/>
            <p:cNvSpPr/>
            <p:nvPr/>
          </p:nvSpPr>
          <p:spPr>
            <a:xfrm>
              <a:off x="0" y="54864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Arial"/>
                </a:rPr>
                <a:t>0,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7200" y="5638680"/>
              <a:ext cx="3049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14120" y="4267080"/>
            <a:ext cx="9105840" cy="1676520"/>
            <a:chOff x="114120" y="4267080"/>
            <a:chExt cx="9105840" cy="1676520"/>
          </a:xfrm>
        </p:grpSpPr>
        <p:sp>
          <p:nvSpPr>
            <p:cNvPr id="606" name=""/>
            <p:cNvSpPr/>
            <p:nvPr/>
          </p:nvSpPr>
          <p:spPr>
            <a:xfrm>
              <a:off x="342720" y="4267080"/>
              <a:ext cx="8877240" cy="1143000"/>
            </a:xfrm>
            <a:custGeom>
              <a:avLst/>
              <a:gdLst/>
              <a:ahLst/>
              <a:rect l="l" t="t" r="r" b="b"/>
              <a:pathLst>
                <a:path w="5592" h="720">
                  <a:moveTo>
                    <a:pt x="4896" y="0"/>
                  </a:moveTo>
                  <a:cubicBezTo>
                    <a:pt x="5244" y="36"/>
                    <a:pt x="5592" y="72"/>
                    <a:pt x="4944" y="96"/>
                  </a:cubicBezTo>
                  <a:cubicBezTo>
                    <a:pt x="4296" y="120"/>
                    <a:pt x="1832" y="40"/>
                    <a:pt x="1008" y="144"/>
                  </a:cubicBezTo>
                  <a:cubicBezTo>
                    <a:pt x="184" y="248"/>
                    <a:pt x="92" y="484"/>
                    <a:pt x="0" y="720"/>
                  </a:cubicBezTo>
                </a:path>
              </a:pathLst>
            </a:custGeom>
            <a:noFill/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14480" y="5257800"/>
              <a:ext cx="456840" cy="685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114120" y="5334120"/>
              <a:ext cx="456840" cy="609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0" y="5257800"/>
            <a:ext cx="762120" cy="832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914400" y="4724280"/>
          <a:ext cx="66672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72428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914400" y="3984480"/>
          <a:ext cx="66672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98448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914400" y="3429000"/>
          <a:ext cx="6667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342900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914400" y="1927080"/>
          <a:ext cx="666720" cy="511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192708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914400" y="609480"/>
          <a:ext cx="666720" cy="511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60948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933480" y="1241280"/>
          <a:ext cx="666720" cy="511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33480" y="124128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914400" y="2689200"/>
          <a:ext cx="666720" cy="51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14400" y="268920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"/>
          <p:cNvSpPr/>
          <p:nvPr/>
        </p:nvSpPr>
        <p:spPr>
          <a:xfrm>
            <a:off x="4876920" y="4648320"/>
            <a:ext cx="4038480" cy="520200"/>
          </a:xfrm>
          <a:prstGeom prst="rect">
            <a:avLst/>
          </a:prstGeom>
          <a:solidFill>
            <a:srgbClr val="ffa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i orientiamo per un’altra scala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er esempio: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1 cm = 0,36    (cioè 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½cm = 0,1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0" y="5821200"/>
            <a:ext cx="762120" cy="276480"/>
            <a:chOff x="0" y="5821200"/>
            <a:chExt cx="762120" cy="276480"/>
          </a:xfrm>
        </p:grpSpPr>
        <p:sp>
          <p:nvSpPr>
            <p:cNvPr id="626" name=""/>
            <p:cNvSpPr/>
            <p:nvPr/>
          </p:nvSpPr>
          <p:spPr>
            <a:xfrm>
              <a:off x="0" y="5821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Arial"/>
                </a:rPr>
                <a:t>0,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7200" y="5973480"/>
              <a:ext cx="3049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990720" y="4952880"/>
            <a:ext cx="7988040" cy="990720"/>
          </a:xfrm>
          <a:custGeom>
            <a:avLst/>
            <a:gdLst/>
            <a:ahLst/>
            <a:rect l="l" t="t" r="r" b="b"/>
            <a:pathLst>
              <a:path w="5032" h="624">
                <a:moveTo>
                  <a:pt x="4848" y="0"/>
                </a:moveTo>
                <a:cubicBezTo>
                  <a:pt x="4940" y="92"/>
                  <a:pt x="5032" y="184"/>
                  <a:pt x="4224" y="288"/>
                </a:cubicBezTo>
                <a:cubicBezTo>
                  <a:pt x="3416" y="392"/>
                  <a:pt x="1708" y="508"/>
                  <a:pt x="0" y="62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914400" y="5105520"/>
          <a:ext cx="666720" cy="511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14400" y="510552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933480" y="5486400"/>
          <a:ext cx="666720" cy="511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33480" y="548640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914400" y="4724280"/>
          <a:ext cx="666720" cy="511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14400" y="472428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"/>
          <p:cNvGraphicFramePr/>
          <p:nvPr/>
        </p:nvGraphicFramePr>
        <p:xfrm>
          <a:off x="914400" y="4365720"/>
          <a:ext cx="666720" cy="511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14400" y="436572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914400" y="3429000"/>
          <a:ext cx="666720" cy="511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914400" y="342900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"/>
          <p:cNvGraphicFramePr/>
          <p:nvPr/>
        </p:nvGraphicFramePr>
        <p:xfrm>
          <a:off x="914400" y="3048120"/>
          <a:ext cx="666720" cy="511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914400" y="304812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"/>
          <p:cNvGraphicFramePr/>
          <p:nvPr/>
        </p:nvGraphicFramePr>
        <p:xfrm>
          <a:off x="914400" y="3733920"/>
          <a:ext cx="666720" cy="5112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914400" y="373392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914400" y="3984480"/>
          <a:ext cx="666720" cy="511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914400" y="398448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5257800" y="5334120"/>
            <a:ext cx="3581280" cy="12294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Quest’ultima scala si dimostra adeguata, SCEGLIEREMO QUIN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172200" y="601992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0,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657600" y="487692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0,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209680" y="243828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0,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8080" y="15228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0,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0" y="3048120"/>
            <a:ext cx="762120" cy="1952640"/>
            <a:chOff x="0" y="3048120"/>
            <a:chExt cx="762120" cy="1952640"/>
          </a:xfrm>
        </p:grpSpPr>
        <p:grpSp>
          <p:nvGrpSpPr>
            <p:cNvPr id="651" name=""/>
            <p:cNvGrpSpPr/>
            <p:nvPr/>
          </p:nvGrpSpPr>
          <p:grpSpPr>
            <a:xfrm>
              <a:off x="0" y="4724280"/>
              <a:ext cx="762120" cy="276480"/>
              <a:chOff x="0" y="4724280"/>
              <a:chExt cx="762120" cy="276480"/>
            </a:xfrm>
          </p:grpSpPr>
          <p:sp>
            <p:nvSpPr>
              <p:cNvPr id="652" name=""/>
              <p:cNvSpPr/>
              <p:nvPr/>
            </p:nvSpPr>
            <p:spPr>
              <a:xfrm>
                <a:off x="0" y="472428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0,7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57200" y="487656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0" y="3048120"/>
              <a:ext cx="762120" cy="276480"/>
              <a:chOff x="0" y="3048120"/>
              <a:chExt cx="762120" cy="27648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304812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1,6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7200" y="320040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257800" y="990720"/>
            <a:ext cx="3581280" cy="73332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costruire un grafico relativo ad una serie di dati (ordinati in una tabella) è necessario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1981080"/>
            <a:ext cx="3886200" cy="70308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isegnare due rette perpendicolari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ra lo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4648320"/>
            <a:ext cx="4267080" cy="70308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ssegnare ad ogni asse la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randezza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che si vuole rappresentare….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312720" y="2895480"/>
            <a:ext cx="2935800" cy="363600"/>
            <a:chOff x="3312720" y="2895480"/>
            <a:chExt cx="2935800" cy="363600"/>
          </a:xfrm>
        </p:grpSpPr>
        <p:sp>
          <p:nvSpPr>
            <p:cNvPr id="51" name=""/>
            <p:cNvSpPr/>
            <p:nvPr/>
          </p:nvSpPr>
          <p:spPr>
            <a:xfrm>
              <a:off x="3809880" y="2895480"/>
              <a:ext cx="243864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Asse delle ascisse (asse delle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x</a:t>
              </a: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12720" y="2990520"/>
              <a:ext cx="460440" cy="268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342880" y="1143000"/>
            <a:ext cx="2762640" cy="698760"/>
            <a:chOff x="2342880" y="1143000"/>
            <a:chExt cx="2762640" cy="698760"/>
          </a:xfrm>
        </p:grpSpPr>
        <p:sp>
          <p:nvSpPr>
            <p:cNvPr id="54" name=""/>
            <p:cNvSpPr/>
            <p:nvPr/>
          </p:nvSpPr>
          <p:spPr>
            <a:xfrm>
              <a:off x="2666880" y="1143000"/>
              <a:ext cx="2438640" cy="459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Asse delle ordinate (asse delle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y</a:t>
              </a: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342880" y="1434960"/>
              <a:ext cx="344880" cy="406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419720" y="3352680"/>
            <a:ext cx="4419000" cy="581400"/>
            <a:chOff x="4419720" y="3352680"/>
            <a:chExt cx="4419000" cy="581400"/>
          </a:xfrm>
        </p:grpSpPr>
        <p:sp>
          <p:nvSpPr>
            <p:cNvPr id="57" name=""/>
            <p:cNvSpPr/>
            <p:nvPr/>
          </p:nvSpPr>
          <p:spPr>
            <a:xfrm>
              <a:off x="4419720" y="3352680"/>
              <a:ext cx="30456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3581280"/>
              <a:ext cx="83772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62360" y="3657600"/>
              <a:ext cx="3276360" cy="27648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Le “frecce” indicano che la retta è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orient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8600" y="3276720"/>
            <a:ext cx="2133720" cy="657360"/>
            <a:chOff x="228600" y="3276720"/>
            <a:chExt cx="2133720" cy="657360"/>
          </a:xfrm>
        </p:grpSpPr>
        <p:sp>
          <p:nvSpPr>
            <p:cNvPr id="61" name=""/>
            <p:cNvSpPr/>
            <p:nvPr/>
          </p:nvSpPr>
          <p:spPr>
            <a:xfrm>
              <a:off x="228600" y="3657600"/>
              <a:ext cx="1447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Origine degli as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32767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752480" y="3428640"/>
              <a:ext cx="304920" cy="3049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438280" y="3276720"/>
            <a:ext cx="2361600" cy="806040"/>
            <a:chOff x="2438280" y="3276720"/>
            <a:chExt cx="2361600" cy="806040"/>
          </a:xfrm>
        </p:grpSpPr>
        <p:grpSp>
          <p:nvGrpSpPr>
            <p:cNvPr id="65" name=""/>
            <p:cNvGrpSpPr/>
            <p:nvPr/>
          </p:nvGrpSpPr>
          <p:grpSpPr>
            <a:xfrm>
              <a:off x="2438280" y="3607560"/>
              <a:ext cx="1653120" cy="475200"/>
              <a:chOff x="2438280" y="3607560"/>
              <a:chExt cx="1653120" cy="475200"/>
            </a:xfrm>
          </p:grpSpPr>
          <p:sp>
            <p:nvSpPr>
              <p:cNvPr id="66" name=""/>
              <p:cNvSpPr/>
              <p:nvPr/>
            </p:nvSpPr>
            <p:spPr>
              <a:xfrm>
                <a:off x="2438280" y="3806280"/>
                <a:ext cx="1308960" cy="2764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Per esempio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3816000" y="3607560"/>
                <a:ext cx="275400" cy="26460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3619080" y="3276720"/>
              <a:ext cx="118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   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temp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28600" y="1143000"/>
            <a:ext cx="1981080" cy="885960"/>
            <a:chOff x="228600" y="1143000"/>
            <a:chExt cx="1981080" cy="885960"/>
          </a:xfrm>
        </p:grpSpPr>
        <p:grpSp>
          <p:nvGrpSpPr>
            <p:cNvPr id="70" name=""/>
            <p:cNvGrpSpPr/>
            <p:nvPr/>
          </p:nvGrpSpPr>
          <p:grpSpPr>
            <a:xfrm>
              <a:off x="228600" y="1523520"/>
              <a:ext cx="1523520" cy="505440"/>
              <a:chOff x="228600" y="1523520"/>
              <a:chExt cx="1523520" cy="505440"/>
            </a:xfrm>
          </p:grpSpPr>
          <p:sp>
            <p:nvSpPr>
              <p:cNvPr id="71" name=""/>
              <p:cNvSpPr/>
              <p:nvPr/>
            </p:nvSpPr>
            <p:spPr>
              <a:xfrm>
                <a:off x="228600" y="1752480"/>
                <a:ext cx="1206360" cy="2764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Per esempio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1498320" y="1523520"/>
                <a:ext cx="253800" cy="30492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28600" y="1143000"/>
              <a:ext cx="19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            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spazio percor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952880" y="3657600"/>
            <a:ext cx="3505320" cy="58068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bbiamo così costruito un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iano cartesi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52280" y="1295280"/>
            <a:ext cx="4191120" cy="4313520"/>
            <a:chOff x="152280" y="1295280"/>
            <a:chExt cx="4191120" cy="4313520"/>
          </a:xfrm>
        </p:grpSpPr>
        <p:grpSp>
          <p:nvGrpSpPr>
            <p:cNvPr id="76" name=""/>
            <p:cNvGrpSpPr/>
            <p:nvPr/>
          </p:nvGrpSpPr>
          <p:grpSpPr>
            <a:xfrm>
              <a:off x="228600" y="1295280"/>
              <a:ext cx="4114800" cy="4313520"/>
              <a:chOff x="228600" y="1295280"/>
              <a:chExt cx="4114800" cy="431352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228600" y="1295280"/>
                <a:ext cx="4114800" cy="4191120"/>
                <a:chOff x="228600" y="1295280"/>
                <a:chExt cx="4114800" cy="41911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209680" y="1295280"/>
                  <a:ext cx="0" cy="419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28600" y="3276720"/>
                  <a:ext cx="4114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2117880" y="5334120"/>
                <a:ext cx="183960" cy="274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152280" y="3200400"/>
              <a:ext cx="304920" cy="274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572000" y="5562720"/>
            <a:ext cx="4038480" cy="33732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……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.e la sua unità di misura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295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429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 scala di rappres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14720" y="17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533520" y="304920"/>
            <a:ext cx="4495680" cy="6329520"/>
            <a:chOff x="533520" y="304920"/>
            <a:chExt cx="4495680" cy="6329520"/>
          </a:xfrm>
        </p:grpSpPr>
        <p:grpSp>
          <p:nvGrpSpPr>
            <p:cNvPr id="660" name=""/>
            <p:cNvGrpSpPr/>
            <p:nvPr/>
          </p:nvGrpSpPr>
          <p:grpSpPr>
            <a:xfrm>
              <a:off x="533520" y="304920"/>
              <a:ext cx="4495320" cy="6329520"/>
              <a:chOff x="533520" y="304920"/>
              <a:chExt cx="4495320" cy="6329520"/>
            </a:xfrm>
          </p:grpSpPr>
          <p:grpSp>
            <p:nvGrpSpPr>
              <p:cNvPr id="661" name=""/>
              <p:cNvGrpSpPr/>
              <p:nvPr/>
            </p:nvGrpSpPr>
            <p:grpSpPr>
              <a:xfrm>
                <a:off x="533520" y="304920"/>
                <a:ext cx="4495320" cy="6248880"/>
                <a:chOff x="533520" y="304920"/>
                <a:chExt cx="4495320" cy="6248880"/>
              </a:xfrm>
            </p:grpSpPr>
            <p:graphicFrame>
              <p:nvGraphicFramePr>
                <p:cNvPr id="662" name=""/>
                <p:cNvGraphicFramePr/>
                <p:nvPr/>
              </p:nvGraphicFramePr>
              <p:xfrm>
                <a:off x="838080" y="756360"/>
                <a:ext cx="3895200" cy="55994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663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838080" y="756360"/>
                          <a:ext cx="3895200" cy="559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64" name=""/>
                <p:cNvSpPr/>
                <p:nvPr/>
              </p:nvSpPr>
              <p:spPr>
                <a:xfrm>
                  <a:off x="685800" y="6328080"/>
                  <a:ext cx="4343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38080" y="530640"/>
                  <a:ext cx="0" cy="602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33520" y="304920"/>
                  <a:ext cx="380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Arial Black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7" name=""/>
              <p:cNvSpPr/>
              <p:nvPr/>
            </p:nvSpPr>
            <p:spPr>
              <a:xfrm>
                <a:off x="609480" y="635796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4572000" y="6027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 Black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69" name=""/>
          <p:cNvGraphicFramePr/>
          <p:nvPr/>
        </p:nvGraphicFramePr>
        <p:xfrm>
          <a:off x="5181480" y="762120"/>
          <a:ext cx="3276720" cy="730080"/>
        </p:xfrm>
        <a:graphic>
          <a:graphicData uri="http://schemas.openxmlformats.org/drawingml/2006/table">
            <a:tbl>
              <a:tblPr/>
              <a:tblGrid>
                <a:gridCol w="652680"/>
                <a:gridCol w="657000"/>
                <a:gridCol w="657360"/>
                <a:gridCol w="657360"/>
                <a:gridCol w="652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,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</a:tr>
            </a:tbl>
          </a:graphicData>
        </a:graphic>
      </p:graphicFrame>
      <p:sp>
        <p:nvSpPr>
          <p:cNvPr id="670" name=""/>
          <p:cNvSpPr/>
          <p:nvPr/>
        </p:nvSpPr>
        <p:spPr>
          <a:xfrm>
            <a:off x="4876920" y="3505320"/>
            <a:ext cx="3962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 cm sull’asse Y sono suffici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724280" y="2606760"/>
            <a:ext cx="426744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e pongo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1,20 = 1cm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scopro che ci vogliono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3 cm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per rappresentare tutti i dati (3,60 : 1,20 = 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76920" y="1752480"/>
            <a:ext cx="4114800" cy="550440"/>
          </a:xfrm>
          <a:prstGeom prst="rect">
            <a:avLst/>
          </a:prstGeom>
          <a:solidFill>
            <a:srgbClr val="ffb8a5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ASSE X: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Il valore più piccolo (escluso zero) è  1,20 ed il più grande è 3,6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81480" y="4267080"/>
            <a:ext cx="3581640" cy="12294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Questa scala si dimostra adeguata, SCEGLIEREMO QUIN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172200" y="496728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1,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67280" y="579132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1,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495680" y="640080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1,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752480" y="2895480"/>
            <a:ext cx="7429680" cy="3276720"/>
          </a:xfrm>
          <a:custGeom>
            <a:avLst/>
            <a:gdLst/>
            <a:ahLst/>
            <a:rect l="l" t="t" r="r" b="b"/>
            <a:pathLst>
              <a:path w="4680" h="2064">
                <a:moveTo>
                  <a:pt x="4464" y="0"/>
                </a:moveTo>
                <a:cubicBezTo>
                  <a:pt x="4572" y="20"/>
                  <a:pt x="4680" y="40"/>
                  <a:pt x="3936" y="384"/>
                </a:cubicBezTo>
                <a:cubicBezTo>
                  <a:pt x="3192" y="728"/>
                  <a:pt x="1596" y="1396"/>
                  <a:pt x="0" y="206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2305080" y="6172200"/>
          <a:ext cx="66672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5080" y="617220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3048120" y="6194520"/>
          <a:ext cx="66672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619452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914400" y="22860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0,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029200" y="3581280"/>
            <a:ext cx="3886200" cy="25459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el decidere la scala di rappresentazione è opportuno utilizzare al massimo lo spazio (carta millimetrata) che abbiamo a disposi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Ora tracciamo il gra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0" y="3048120"/>
            <a:ext cx="762120" cy="3049560"/>
            <a:chOff x="0" y="3048120"/>
            <a:chExt cx="762120" cy="3049560"/>
          </a:xfrm>
        </p:grpSpPr>
        <p:grpSp>
          <p:nvGrpSpPr>
            <p:cNvPr id="685" name=""/>
            <p:cNvGrpSpPr/>
            <p:nvPr/>
          </p:nvGrpSpPr>
          <p:grpSpPr>
            <a:xfrm>
              <a:off x="0" y="3048120"/>
              <a:ext cx="762120" cy="1952640"/>
              <a:chOff x="0" y="3048120"/>
              <a:chExt cx="762120" cy="1952640"/>
            </a:xfrm>
          </p:grpSpPr>
          <p:grpSp>
            <p:nvGrpSpPr>
              <p:cNvPr id="686" name=""/>
              <p:cNvGrpSpPr/>
              <p:nvPr/>
            </p:nvGrpSpPr>
            <p:grpSpPr>
              <a:xfrm>
                <a:off x="0" y="4724280"/>
                <a:ext cx="762120" cy="276480"/>
                <a:chOff x="0" y="4724280"/>
                <a:chExt cx="762120" cy="27648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0" y="4724280"/>
                  <a:ext cx="609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Arial"/>
                    </a:rPr>
                    <a:t>0,7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57200" y="4876560"/>
                  <a:ext cx="3049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0" y="3048120"/>
                <a:ext cx="762120" cy="276480"/>
                <a:chOff x="0" y="3048120"/>
                <a:chExt cx="762120" cy="27648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0" y="3048120"/>
                  <a:ext cx="609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Arial"/>
                    </a:rPr>
                    <a:t>1,6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57200" y="3200400"/>
                  <a:ext cx="3049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2" name=""/>
            <p:cNvGrpSpPr/>
            <p:nvPr/>
          </p:nvGrpSpPr>
          <p:grpSpPr>
            <a:xfrm>
              <a:off x="0" y="5821200"/>
              <a:ext cx="762120" cy="276480"/>
              <a:chOff x="0" y="5821200"/>
              <a:chExt cx="762120" cy="276480"/>
            </a:xfrm>
          </p:grpSpPr>
          <p:sp>
            <p:nvSpPr>
              <p:cNvPr id="693" name=""/>
              <p:cNvSpPr/>
              <p:nvPr/>
            </p:nvSpPr>
            <p:spPr>
              <a:xfrm>
                <a:off x="0" y="582120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0,1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57200" y="597348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5" name=""/>
          <p:cNvGrpSpPr/>
          <p:nvPr/>
        </p:nvGrpSpPr>
        <p:grpSpPr>
          <a:xfrm>
            <a:off x="2019240" y="6337080"/>
            <a:ext cx="1359000" cy="446400"/>
            <a:chOff x="2019240" y="6337080"/>
            <a:chExt cx="1359000" cy="446400"/>
          </a:xfrm>
        </p:grpSpPr>
        <p:grpSp>
          <p:nvGrpSpPr>
            <p:cNvPr id="696" name=""/>
            <p:cNvGrpSpPr/>
            <p:nvPr/>
          </p:nvGrpSpPr>
          <p:grpSpPr>
            <a:xfrm>
              <a:off x="2019240" y="6337080"/>
              <a:ext cx="609840" cy="429120"/>
              <a:chOff x="2019240" y="6337080"/>
              <a:chExt cx="609840" cy="429120"/>
            </a:xfrm>
          </p:grpSpPr>
          <p:sp>
            <p:nvSpPr>
              <p:cNvPr id="697" name=""/>
              <p:cNvSpPr/>
              <p:nvPr/>
            </p:nvSpPr>
            <p:spPr>
              <a:xfrm>
                <a:off x="2019240" y="6489720"/>
                <a:ext cx="60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2,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2324160" y="6337080"/>
                <a:ext cx="0" cy="1522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2768760" y="6354360"/>
              <a:ext cx="609480" cy="429120"/>
              <a:chOff x="2768760" y="6354360"/>
              <a:chExt cx="609480" cy="429120"/>
            </a:xfrm>
          </p:grpSpPr>
          <p:sp>
            <p:nvSpPr>
              <p:cNvPr id="700" name=""/>
              <p:cNvSpPr/>
              <p:nvPr/>
            </p:nvSpPr>
            <p:spPr>
              <a:xfrm>
                <a:off x="2768760" y="650700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3,6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073320" y="6354360"/>
                <a:ext cx="0" cy="1522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2" name=""/>
          <p:cNvGrpSpPr/>
          <p:nvPr/>
        </p:nvGrpSpPr>
        <p:grpSpPr>
          <a:xfrm>
            <a:off x="1270080" y="6354360"/>
            <a:ext cx="609480" cy="429120"/>
            <a:chOff x="1270080" y="6354360"/>
            <a:chExt cx="609480" cy="429120"/>
          </a:xfrm>
        </p:grpSpPr>
        <p:sp>
          <p:nvSpPr>
            <p:cNvPr id="703" name=""/>
            <p:cNvSpPr/>
            <p:nvPr/>
          </p:nvSpPr>
          <p:spPr>
            <a:xfrm>
              <a:off x="1270080" y="65070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Arial"/>
                </a:rPr>
                <a:t>1,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1574640" y="6354360"/>
              <a:ext cx="0" cy="152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800280" y="3137040"/>
            <a:ext cx="2323800" cy="3200400"/>
            <a:chOff x="800280" y="3137040"/>
            <a:chExt cx="2323800" cy="3200400"/>
          </a:xfrm>
        </p:grpSpPr>
        <p:sp>
          <p:nvSpPr>
            <p:cNvPr id="706" name=""/>
            <p:cNvSpPr/>
            <p:nvPr/>
          </p:nvSpPr>
          <p:spPr>
            <a:xfrm>
              <a:off x="1549440" y="594360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98600" y="486396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48120" y="3137040"/>
              <a:ext cx="7596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0280" y="6261120"/>
              <a:ext cx="7596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825480" y="2832120"/>
            <a:ext cx="2400480" cy="3467160"/>
          </a:xfrm>
          <a:custGeom>
            <a:avLst/>
            <a:gdLst/>
            <a:ahLst/>
            <a:rect l="l" t="t" r="r" b="b"/>
            <a:pathLst>
              <a:path w="1528" h="2184">
                <a:moveTo>
                  <a:pt x="0" y="2184"/>
                </a:moveTo>
                <a:cubicBezTo>
                  <a:pt x="160" y="2160"/>
                  <a:pt x="320" y="2136"/>
                  <a:pt x="480" y="1992"/>
                </a:cubicBezTo>
                <a:cubicBezTo>
                  <a:pt x="640" y="1848"/>
                  <a:pt x="800" y="1616"/>
                  <a:pt x="960" y="1320"/>
                </a:cubicBezTo>
                <a:cubicBezTo>
                  <a:pt x="1120" y="1024"/>
                  <a:pt x="1352" y="432"/>
                  <a:pt x="1440" y="216"/>
                </a:cubicBezTo>
                <a:cubicBezTo>
                  <a:pt x="1528" y="0"/>
                  <a:pt x="1508" y="12"/>
                  <a:pt x="1488" y="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533520" y="304920"/>
            <a:ext cx="4495680" cy="6329520"/>
            <a:chOff x="533520" y="304920"/>
            <a:chExt cx="4495680" cy="6329520"/>
          </a:xfrm>
        </p:grpSpPr>
        <p:grpSp>
          <p:nvGrpSpPr>
            <p:cNvPr id="712" name=""/>
            <p:cNvGrpSpPr/>
            <p:nvPr/>
          </p:nvGrpSpPr>
          <p:grpSpPr>
            <a:xfrm>
              <a:off x="533520" y="304920"/>
              <a:ext cx="4495320" cy="6329520"/>
              <a:chOff x="533520" y="304920"/>
              <a:chExt cx="4495320" cy="6329520"/>
            </a:xfrm>
          </p:grpSpPr>
          <p:grpSp>
            <p:nvGrpSpPr>
              <p:cNvPr id="713" name=""/>
              <p:cNvGrpSpPr/>
              <p:nvPr/>
            </p:nvGrpSpPr>
            <p:grpSpPr>
              <a:xfrm>
                <a:off x="533520" y="304920"/>
                <a:ext cx="4495320" cy="6248880"/>
                <a:chOff x="533520" y="304920"/>
                <a:chExt cx="4495320" cy="6248880"/>
              </a:xfrm>
            </p:grpSpPr>
            <p:graphicFrame>
              <p:nvGraphicFramePr>
                <p:cNvPr id="714" name=""/>
                <p:cNvGraphicFramePr/>
                <p:nvPr/>
              </p:nvGraphicFramePr>
              <p:xfrm>
                <a:off x="838080" y="756360"/>
                <a:ext cx="3895200" cy="55994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71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838080" y="756360"/>
                          <a:ext cx="3895200" cy="559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716" name=""/>
                <p:cNvSpPr/>
                <p:nvPr/>
              </p:nvSpPr>
              <p:spPr>
                <a:xfrm>
                  <a:off x="685800" y="6328080"/>
                  <a:ext cx="4343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838080" y="530640"/>
                  <a:ext cx="0" cy="602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33520" y="304920"/>
                  <a:ext cx="380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Arial Black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" name=""/>
              <p:cNvSpPr/>
              <p:nvPr/>
            </p:nvSpPr>
            <p:spPr>
              <a:xfrm>
                <a:off x="609480" y="635796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4572000" y="6027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 Black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1536840" y="736560"/>
            <a:ext cx="2336760" cy="4203720"/>
            <a:chOff x="1536840" y="736560"/>
            <a:chExt cx="2336760" cy="4203720"/>
          </a:xfrm>
        </p:grpSpPr>
        <p:sp>
          <p:nvSpPr>
            <p:cNvPr id="722" name=""/>
            <p:cNvSpPr/>
            <p:nvPr/>
          </p:nvSpPr>
          <p:spPr>
            <a:xfrm>
              <a:off x="1536840" y="736560"/>
              <a:ext cx="7596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86000" y="353052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48120" y="4495680"/>
              <a:ext cx="7596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797280" y="486396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 scala di rappresentazione: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rova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14720" y="17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76920" y="3641760"/>
            <a:ext cx="3886200" cy="5504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ASSE X: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Il valore più piccolo (escluso zero) è  1,50 ed il più grande è 6,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640080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1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914400" y="22860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0,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0" y="609480"/>
            <a:ext cx="762120" cy="4391280"/>
            <a:chOff x="0" y="609480"/>
            <a:chExt cx="762120" cy="4391280"/>
          </a:xfrm>
        </p:grpSpPr>
        <p:grpSp>
          <p:nvGrpSpPr>
            <p:cNvPr id="732" name=""/>
            <p:cNvGrpSpPr/>
            <p:nvPr/>
          </p:nvGrpSpPr>
          <p:grpSpPr>
            <a:xfrm>
              <a:off x="0" y="609480"/>
              <a:ext cx="762120" cy="276480"/>
              <a:chOff x="0" y="609480"/>
              <a:chExt cx="762120" cy="276480"/>
            </a:xfrm>
          </p:grpSpPr>
          <p:sp>
            <p:nvSpPr>
              <p:cNvPr id="733" name=""/>
              <p:cNvSpPr/>
              <p:nvPr/>
            </p:nvSpPr>
            <p:spPr>
              <a:xfrm>
                <a:off x="0" y="60948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1,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57200" y="76176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0" y="3429000"/>
              <a:ext cx="762120" cy="276480"/>
              <a:chOff x="0" y="3429000"/>
              <a:chExt cx="762120" cy="276480"/>
            </a:xfrm>
          </p:grpSpPr>
          <p:sp>
            <p:nvSpPr>
              <p:cNvPr id="736" name=""/>
              <p:cNvSpPr/>
              <p:nvPr/>
            </p:nvSpPr>
            <p:spPr>
              <a:xfrm>
                <a:off x="0" y="342900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0,6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57200" y="358128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0" y="4267080"/>
              <a:ext cx="762120" cy="276480"/>
              <a:chOff x="0" y="4267080"/>
              <a:chExt cx="762120" cy="276480"/>
            </a:xfrm>
          </p:grpSpPr>
          <p:sp>
            <p:nvSpPr>
              <p:cNvPr id="739" name=""/>
              <p:cNvSpPr/>
              <p:nvPr/>
            </p:nvSpPr>
            <p:spPr>
              <a:xfrm>
                <a:off x="0" y="426708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0,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57200" y="441936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0" y="4724280"/>
              <a:ext cx="762120" cy="276480"/>
              <a:chOff x="0" y="4724280"/>
              <a:chExt cx="762120" cy="276480"/>
            </a:xfrm>
          </p:grpSpPr>
          <p:sp>
            <p:nvSpPr>
              <p:cNvPr id="742" name=""/>
              <p:cNvSpPr/>
              <p:nvPr/>
            </p:nvSpPr>
            <p:spPr>
              <a:xfrm>
                <a:off x="0" y="472428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0,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57200" y="487656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4" name=""/>
          <p:cNvGrpSpPr/>
          <p:nvPr/>
        </p:nvGrpSpPr>
        <p:grpSpPr>
          <a:xfrm>
            <a:off x="1270080" y="6362280"/>
            <a:ext cx="2819160" cy="442080"/>
            <a:chOff x="1270080" y="6362280"/>
            <a:chExt cx="2819160" cy="442080"/>
          </a:xfrm>
        </p:grpSpPr>
        <p:grpSp>
          <p:nvGrpSpPr>
            <p:cNvPr id="745" name=""/>
            <p:cNvGrpSpPr/>
            <p:nvPr/>
          </p:nvGrpSpPr>
          <p:grpSpPr>
            <a:xfrm>
              <a:off x="1270080" y="6367320"/>
              <a:ext cx="609480" cy="429120"/>
              <a:chOff x="1270080" y="6367320"/>
              <a:chExt cx="609480" cy="429120"/>
            </a:xfrm>
          </p:grpSpPr>
          <p:sp>
            <p:nvSpPr>
              <p:cNvPr id="746" name=""/>
              <p:cNvSpPr/>
              <p:nvPr/>
            </p:nvSpPr>
            <p:spPr>
              <a:xfrm>
                <a:off x="1270080" y="651996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1,5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1574640" y="6367320"/>
                <a:ext cx="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2070000" y="6362280"/>
              <a:ext cx="533520" cy="429120"/>
              <a:chOff x="2070000" y="6362280"/>
              <a:chExt cx="533520" cy="429120"/>
            </a:xfrm>
          </p:grpSpPr>
          <p:sp>
            <p:nvSpPr>
              <p:cNvPr id="749" name=""/>
              <p:cNvSpPr/>
              <p:nvPr/>
            </p:nvSpPr>
            <p:spPr>
              <a:xfrm>
                <a:off x="2070000" y="6514920"/>
                <a:ext cx="53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3,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2336760" y="6362280"/>
                <a:ext cx="0" cy="1522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2806560" y="6367320"/>
              <a:ext cx="533520" cy="429120"/>
              <a:chOff x="2806560" y="6367320"/>
              <a:chExt cx="533520" cy="429120"/>
            </a:xfrm>
          </p:grpSpPr>
          <p:sp>
            <p:nvSpPr>
              <p:cNvPr id="752" name=""/>
              <p:cNvSpPr/>
              <p:nvPr/>
            </p:nvSpPr>
            <p:spPr>
              <a:xfrm>
                <a:off x="2806560" y="6519960"/>
                <a:ext cx="53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4,5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3073320" y="6367320"/>
                <a:ext cx="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3556080" y="6375240"/>
              <a:ext cx="533160" cy="429120"/>
              <a:chOff x="3556080" y="6375240"/>
              <a:chExt cx="533160" cy="429120"/>
            </a:xfrm>
          </p:grpSpPr>
          <p:sp>
            <p:nvSpPr>
              <p:cNvPr id="755" name=""/>
              <p:cNvSpPr/>
              <p:nvPr/>
            </p:nvSpPr>
            <p:spPr>
              <a:xfrm>
                <a:off x="3556080" y="6527880"/>
                <a:ext cx="533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6,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3822480" y="6375240"/>
                <a:ext cx="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57" name=""/>
          <p:cNvGraphicFramePr/>
          <p:nvPr/>
        </p:nvGraphicFramePr>
        <p:xfrm>
          <a:off x="4952880" y="762120"/>
          <a:ext cx="3657600" cy="736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</a:tr>
            </a:tbl>
          </a:graphicData>
        </a:graphic>
      </p:graphicFrame>
      <p:sp>
        <p:nvSpPr>
          <p:cNvPr id="758" name=""/>
          <p:cNvSpPr/>
          <p:nvPr/>
        </p:nvSpPr>
        <p:spPr>
          <a:xfrm>
            <a:off x="4876920" y="1676520"/>
            <a:ext cx="3886200" cy="5504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ASSE Y: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Il valore più piccolo (escluso zero) è  0,30 ed il più grande è 1,2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876920" y="2286000"/>
            <a:ext cx="3886200" cy="520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Se pongo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0,30 = 1cm,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utilizzo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solo 4cm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pur avendone 8 a disposi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715000" y="3048120"/>
            <a:ext cx="3048120" cy="307080"/>
          </a:xfrm>
          <a:prstGeom prst="rect">
            <a:avLst/>
          </a:prstGeom>
          <a:solidFill>
            <a:srgbClr val="ffb8a5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Quindi scelgo :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cm = 0,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876920" y="4359240"/>
            <a:ext cx="3886200" cy="520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Se pongo :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,50 = 1cm utilizzo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4cm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u 5 disponibi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715000" y="5181480"/>
            <a:ext cx="2971800" cy="307080"/>
          </a:xfrm>
          <a:prstGeom prst="rect">
            <a:avLst/>
          </a:prstGeom>
          <a:solidFill>
            <a:srgbClr val="ffb8a5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Quindi scelgo :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cm = 1,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38280" y="609480"/>
            <a:ext cx="3124440" cy="2870280"/>
          </a:xfrm>
          <a:custGeom>
            <a:avLst/>
            <a:gdLst/>
            <a:ahLst/>
            <a:rect l="l" t="t" r="r" b="b"/>
            <a:pathLst>
              <a:path w="1968" h="1808">
                <a:moveTo>
                  <a:pt x="1968" y="1632"/>
                </a:moveTo>
                <a:cubicBezTo>
                  <a:pt x="1628" y="1720"/>
                  <a:pt x="1288" y="1808"/>
                  <a:pt x="960" y="1536"/>
                </a:cubicBezTo>
                <a:cubicBezTo>
                  <a:pt x="632" y="1264"/>
                  <a:pt x="316" y="632"/>
                  <a:pt x="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283360" y="5168880"/>
            <a:ext cx="355320" cy="1155600"/>
          </a:xfrm>
          <a:custGeom>
            <a:avLst/>
            <a:gdLst/>
            <a:ahLst/>
            <a:rect l="l" t="t" r="r" b="b"/>
            <a:pathLst>
              <a:path w="224" h="728">
                <a:moveTo>
                  <a:pt x="224" y="104"/>
                </a:moveTo>
                <a:cubicBezTo>
                  <a:pt x="144" y="52"/>
                  <a:pt x="64" y="0"/>
                  <a:pt x="32" y="104"/>
                </a:cubicBezTo>
                <a:cubicBezTo>
                  <a:pt x="0" y="208"/>
                  <a:pt x="16" y="468"/>
                  <a:pt x="32" y="72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38360" y="774720"/>
            <a:ext cx="3276720" cy="4267080"/>
          </a:xfrm>
          <a:custGeom>
            <a:avLst/>
            <a:gdLst/>
            <a:ahLst/>
            <a:rect l="l" t="t" r="r" b="b"/>
            <a:pathLst>
              <a:path w="2064" h="2688">
                <a:moveTo>
                  <a:pt x="0" y="0"/>
                </a:moveTo>
                <a:cubicBezTo>
                  <a:pt x="140" y="688"/>
                  <a:pt x="280" y="1376"/>
                  <a:pt x="432" y="1776"/>
                </a:cubicBezTo>
                <a:cubicBezTo>
                  <a:pt x="584" y="2176"/>
                  <a:pt x="752" y="2264"/>
                  <a:pt x="912" y="2400"/>
                </a:cubicBezTo>
                <a:cubicBezTo>
                  <a:pt x="1072" y="2536"/>
                  <a:pt x="1200" y="2544"/>
                  <a:pt x="1392" y="2592"/>
                </a:cubicBezTo>
                <a:cubicBezTo>
                  <a:pt x="1584" y="2640"/>
                  <a:pt x="1952" y="2672"/>
                  <a:pt x="2064" y="26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81680" y="5791320"/>
            <a:ext cx="114300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Arial"/>
              </a:rPr>
              <a:t>c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scala e le coordi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1739880"/>
          <a:ext cx="3471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39880"/>
                    <a:ext cx="3471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" name=""/>
          <p:cNvGrpSpPr/>
          <p:nvPr/>
        </p:nvGrpSpPr>
        <p:grpSpPr>
          <a:xfrm>
            <a:off x="228600" y="1295280"/>
            <a:ext cx="4114800" cy="4191120"/>
            <a:chOff x="228600" y="1295280"/>
            <a:chExt cx="4114800" cy="4191120"/>
          </a:xfrm>
        </p:grpSpPr>
        <p:sp>
          <p:nvSpPr>
            <p:cNvPr id="89" name=""/>
            <p:cNvSpPr/>
            <p:nvPr/>
          </p:nvSpPr>
          <p:spPr>
            <a:xfrm>
              <a:off x="220968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600" y="327672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038480" y="3352680"/>
            <a:ext cx="76212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19320"/>
            <a:ext cx="213372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                 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spazio percor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3276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2767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        2       3      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905120"/>
            <a:ext cx="4572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1905120"/>
            <a:ext cx="3886200" cy="67284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cegliere opportunamente le scale di misura per rappresentare le grandez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2743200"/>
            <a:ext cx="4190760" cy="45900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Se possibile, utilizzare una griglia (carta millimetrata) che faciliti l’assegnazione dei valori agli assi cartesian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3352680"/>
            <a:ext cx="3886200" cy="67284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serire i valori (dalla tabella) sull’asse di appartenenza, secondo la scala stabil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4191120"/>
            <a:ext cx="3200400" cy="88596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er ogni coppia di valori (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coordinate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), individuare un punto sul pia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5410080"/>
            <a:ext cx="6172200" cy="67284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unire i punti e tracciare la “curva” ( </a:t>
            </a:r>
            <a:r>
              <a:rPr b="1" lang="en-US" sz="1400" spc="-1" strike="noStrike">
                <a:solidFill>
                  <a:srgbClr val="d23116"/>
                </a:solidFill>
                <a:latin typeface="Arial"/>
              </a:rPr>
              <a:t>la linea che risulta sul grafico cartesiano si definisce “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URVA</a:t>
            </a:r>
            <a:r>
              <a:rPr b="1" lang="en-US" sz="1400" spc="-1" strike="noStrike">
                <a:solidFill>
                  <a:srgbClr val="d23116"/>
                </a:solidFill>
                <a:latin typeface="Arial"/>
              </a:rPr>
              <a:t>”, indipendentemente dalla sua forma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19320" y="1676520"/>
            <a:ext cx="4292640" cy="3124080"/>
            <a:chOff x="1219320" y="1676520"/>
            <a:chExt cx="4292640" cy="3124080"/>
          </a:xfrm>
        </p:grpSpPr>
        <p:grpSp>
          <p:nvGrpSpPr>
            <p:cNvPr id="102" name=""/>
            <p:cNvGrpSpPr/>
            <p:nvPr/>
          </p:nvGrpSpPr>
          <p:grpSpPr>
            <a:xfrm>
              <a:off x="1600200" y="1676520"/>
              <a:ext cx="685800" cy="1566000"/>
              <a:chOff x="1600200" y="1676520"/>
              <a:chExt cx="685800" cy="1566000"/>
            </a:xfrm>
          </p:grpSpPr>
          <p:sp>
            <p:nvSpPr>
              <p:cNvPr id="103" name=""/>
              <p:cNvSpPr/>
              <p:nvPr/>
            </p:nvSpPr>
            <p:spPr>
              <a:xfrm>
                <a:off x="1600200" y="1676520"/>
                <a:ext cx="685800" cy="156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18,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12,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     </a:t>
                </a: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6,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133720" y="2819520"/>
                <a:ext cx="1522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33720" y="2362320"/>
                <a:ext cx="1522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133720" y="1905120"/>
                <a:ext cx="1522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219320" y="2286000"/>
              <a:ext cx="4292640" cy="2514600"/>
            </a:xfrm>
            <a:custGeom>
              <a:avLst/>
              <a:gdLst/>
              <a:ahLst/>
              <a:rect l="l" t="t" r="r" b="b"/>
              <a:pathLst>
                <a:path w="2704" h="1584">
                  <a:moveTo>
                    <a:pt x="2616" y="1232"/>
                  </a:moveTo>
                  <a:cubicBezTo>
                    <a:pt x="2660" y="1340"/>
                    <a:pt x="2704" y="1448"/>
                    <a:pt x="2328" y="1472"/>
                  </a:cubicBezTo>
                  <a:cubicBezTo>
                    <a:pt x="1952" y="1496"/>
                    <a:pt x="720" y="1584"/>
                    <a:pt x="360" y="1376"/>
                  </a:cubicBezTo>
                  <a:cubicBezTo>
                    <a:pt x="0" y="1168"/>
                    <a:pt x="176" y="448"/>
                    <a:pt x="168" y="224"/>
                  </a:cubicBezTo>
                  <a:cubicBezTo>
                    <a:pt x="160" y="0"/>
                    <a:pt x="236" y="16"/>
                    <a:pt x="312" y="3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438280" y="3200400"/>
            <a:ext cx="2718000" cy="1257480"/>
            <a:chOff x="2438280" y="3200400"/>
            <a:chExt cx="2718000" cy="1257480"/>
          </a:xfrm>
        </p:grpSpPr>
        <p:grpSp>
          <p:nvGrpSpPr>
            <p:cNvPr id="109" name=""/>
            <p:cNvGrpSpPr/>
            <p:nvPr/>
          </p:nvGrpSpPr>
          <p:grpSpPr>
            <a:xfrm>
              <a:off x="2438280" y="3200400"/>
              <a:ext cx="1752840" cy="611280"/>
              <a:chOff x="2438280" y="3200400"/>
              <a:chExt cx="1752840" cy="611280"/>
            </a:xfrm>
          </p:grpSpPr>
          <p:sp>
            <p:nvSpPr>
              <p:cNvPr id="110" name=""/>
              <p:cNvSpPr/>
              <p:nvPr/>
            </p:nvSpPr>
            <p:spPr>
              <a:xfrm>
                <a:off x="2438280" y="3352680"/>
                <a:ext cx="1752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1,4      2,8           4,2</a:t>
                </a: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43200" y="320040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276720" y="320040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809880" y="320040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616120" y="3733920"/>
              <a:ext cx="2540160" cy="723960"/>
            </a:xfrm>
            <a:custGeom>
              <a:avLst/>
              <a:gdLst/>
              <a:ahLst/>
              <a:rect l="l" t="t" r="r" b="b"/>
              <a:pathLst>
                <a:path w="1600" h="456">
                  <a:moveTo>
                    <a:pt x="1568" y="288"/>
                  </a:moveTo>
                  <a:cubicBezTo>
                    <a:pt x="1584" y="352"/>
                    <a:pt x="1600" y="416"/>
                    <a:pt x="1376" y="432"/>
                  </a:cubicBezTo>
                  <a:cubicBezTo>
                    <a:pt x="1152" y="448"/>
                    <a:pt x="448" y="456"/>
                    <a:pt x="224" y="384"/>
                  </a:cubicBezTo>
                  <a:cubicBezTo>
                    <a:pt x="0" y="312"/>
                    <a:pt x="16" y="156"/>
                    <a:pt x="32" y="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666880" y="1828800"/>
            <a:ext cx="1143000" cy="1066680"/>
            <a:chOff x="2666880" y="1828800"/>
            <a:chExt cx="1143000" cy="1066680"/>
          </a:xfrm>
        </p:grpSpPr>
        <p:sp>
          <p:nvSpPr>
            <p:cNvPr id="116" name=""/>
            <p:cNvSpPr/>
            <p:nvPr/>
          </p:nvSpPr>
          <p:spPr>
            <a:xfrm>
              <a:off x="2666880" y="281952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00400" y="228600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33920" y="182880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 flipV="1">
            <a:off x="1981080" y="1752120"/>
            <a:ext cx="190512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438280" y="762120"/>
            <a:ext cx="3733560" cy="838080"/>
            <a:chOff x="2438280" y="762120"/>
            <a:chExt cx="3733560" cy="838080"/>
          </a:xfrm>
        </p:grpSpPr>
        <p:grpSp>
          <p:nvGrpSpPr>
            <p:cNvPr id="121" name=""/>
            <p:cNvGrpSpPr/>
            <p:nvPr/>
          </p:nvGrpSpPr>
          <p:grpSpPr>
            <a:xfrm>
              <a:off x="2438280" y="990720"/>
              <a:ext cx="3733560" cy="609480"/>
              <a:chOff x="2438280" y="990720"/>
              <a:chExt cx="3733560" cy="60948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2446200" y="992520"/>
                <a:ext cx="3715920" cy="605520"/>
                <a:chOff x="2446200" y="992520"/>
                <a:chExt cx="3715920" cy="605520"/>
              </a:xfrm>
            </p:grpSpPr>
            <p:grpSp>
              <p:nvGrpSpPr>
                <p:cNvPr id="123" name=""/>
                <p:cNvGrpSpPr/>
                <p:nvPr/>
              </p:nvGrpSpPr>
              <p:grpSpPr>
                <a:xfrm>
                  <a:off x="2446200" y="992520"/>
                  <a:ext cx="1238400" cy="264960"/>
                  <a:chOff x="2446200" y="992520"/>
                  <a:chExt cx="1238400" cy="26496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2446200" y="992520"/>
                    <a:ext cx="1238400" cy="26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5" name=""/>
                  <p:cNvGrpSpPr/>
                  <p:nvPr/>
                </p:nvGrpSpPr>
                <p:grpSpPr>
                  <a:xfrm>
                    <a:off x="2446200" y="992520"/>
                    <a:ext cx="1238040" cy="264960"/>
                    <a:chOff x="2446200" y="992520"/>
                    <a:chExt cx="1238040" cy="264960"/>
                  </a:xfrm>
                </p:grpSpPr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2523960" y="992520"/>
                      <a:ext cx="1081800" cy="2649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e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2446200" y="992520"/>
                      <a:ext cx="1238040" cy="264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3684960" y="992520"/>
                  <a:ext cx="825120" cy="264960"/>
                  <a:chOff x="3684960" y="992520"/>
                  <a:chExt cx="825120" cy="26496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3684960" y="992520"/>
                    <a:ext cx="825120" cy="26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3684960" y="992520"/>
                    <a:ext cx="824760" cy="264960"/>
                    <a:chOff x="3684960" y="992520"/>
                    <a:chExt cx="824760" cy="264960"/>
                  </a:xfrm>
                </p:grpSpPr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3762360" y="992520"/>
                      <a:ext cx="669240" cy="2649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3684960" y="992520"/>
                      <a:ext cx="824760" cy="264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510800" y="992520"/>
                  <a:ext cx="825120" cy="264960"/>
                  <a:chOff x="4510800" y="992520"/>
                  <a:chExt cx="825120" cy="26496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4510800" y="992520"/>
                    <a:ext cx="825120" cy="26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4510800" y="992520"/>
                    <a:ext cx="824760" cy="264960"/>
                    <a:chOff x="4510800" y="992520"/>
                    <a:chExt cx="824760" cy="26496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4588920" y="992520"/>
                      <a:ext cx="668520" cy="2649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4510800" y="992520"/>
                      <a:ext cx="824760" cy="264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5336280" y="992520"/>
                  <a:ext cx="825840" cy="264960"/>
                  <a:chOff x="5336280" y="992520"/>
                  <a:chExt cx="825840" cy="26496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5336280" y="992520"/>
                    <a:ext cx="825840" cy="26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5336280" y="992520"/>
                    <a:ext cx="825480" cy="264960"/>
                    <a:chOff x="5336280" y="992520"/>
                    <a:chExt cx="825480" cy="26496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5414400" y="992520"/>
                      <a:ext cx="668520" cy="2649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5336280" y="992520"/>
                      <a:ext cx="825480" cy="264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2446200" y="1257480"/>
                  <a:ext cx="1238400" cy="340560"/>
                  <a:chOff x="2446200" y="1257480"/>
                  <a:chExt cx="1238400" cy="34056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2446200" y="1257480"/>
                    <a:ext cx="1238400" cy="3405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2446200" y="1257480"/>
                    <a:ext cx="1238040" cy="340560"/>
                    <a:chOff x="2446200" y="1257480"/>
                    <a:chExt cx="1238040" cy="34056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523960" y="1257480"/>
                      <a:ext cx="1081800" cy="3405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paz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2446200" y="1257480"/>
                      <a:ext cx="1238040" cy="3405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3684960" y="1257480"/>
                  <a:ext cx="825120" cy="340560"/>
                  <a:chOff x="3684960" y="1257480"/>
                  <a:chExt cx="825120" cy="3405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3684960" y="1257480"/>
                    <a:ext cx="825120" cy="3405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3684960" y="1257480"/>
                    <a:ext cx="824760" cy="340560"/>
                    <a:chOff x="3684960" y="1257480"/>
                    <a:chExt cx="824760" cy="34056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3762360" y="1257480"/>
                      <a:ext cx="669240" cy="3405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3684960" y="1257480"/>
                      <a:ext cx="824760" cy="3405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4510800" y="1257480"/>
                  <a:ext cx="825120" cy="340560"/>
                  <a:chOff x="4510800" y="1257480"/>
                  <a:chExt cx="825120" cy="3405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4510800" y="1257480"/>
                    <a:ext cx="825120" cy="3405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4510800" y="1257480"/>
                    <a:ext cx="824760" cy="340560"/>
                    <a:chOff x="4510800" y="1257480"/>
                    <a:chExt cx="824760" cy="34056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4588920" y="1257480"/>
                      <a:ext cx="668520" cy="3405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4510800" y="1257480"/>
                      <a:ext cx="824760" cy="3405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5336280" y="1257480"/>
                  <a:ext cx="825840" cy="340560"/>
                  <a:chOff x="5336280" y="1257480"/>
                  <a:chExt cx="825840" cy="34056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5336280" y="1257480"/>
                    <a:ext cx="825840" cy="3405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5336280" y="1257480"/>
                    <a:ext cx="825480" cy="340560"/>
                    <a:chOff x="5336280" y="1257480"/>
                    <a:chExt cx="825480" cy="3405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5414400" y="1257480"/>
                      <a:ext cx="668520" cy="3405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5336280" y="1257480"/>
                      <a:ext cx="825480" cy="3405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63" name=""/>
              <p:cNvSpPr/>
              <p:nvPr/>
            </p:nvSpPr>
            <p:spPr>
              <a:xfrm>
                <a:off x="2438280" y="990720"/>
                <a:ext cx="3733560" cy="6094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2438280" y="76212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bel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905120" y="5334120"/>
            <a:ext cx="380880" cy="274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124080"/>
            <a:ext cx="380880" cy="274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533520" y="1143000"/>
            <a:ext cx="3657600" cy="3943440"/>
            <a:chOff x="533520" y="1143000"/>
            <a:chExt cx="3657600" cy="3943440"/>
          </a:xfrm>
        </p:grpSpPr>
        <p:graphicFrame>
          <p:nvGraphicFramePr>
            <p:cNvPr id="168" name=""/>
            <p:cNvGraphicFramePr/>
            <p:nvPr/>
          </p:nvGraphicFramePr>
          <p:xfrm>
            <a:off x="533520" y="1295280"/>
            <a:ext cx="3508200" cy="3791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295280"/>
                      <a:ext cx="3508200" cy="379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3886200" y="3962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1143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133720" y="838080"/>
            <a:ext cx="4495680" cy="36828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Una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“curva”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particolare: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 ret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: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re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1523880"/>
            <a:ext cx="4191120" cy="1067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Quando i punti rappresentati sul piano cartesiano sono tutti allineati fra loro, la curva che si ottiene prende il nome di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590920"/>
            <a:ext cx="10666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2666880"/>
            <a:ext cx="0" cy="12193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838080" y="1904760"/>
            <a:ext cx="2590920" cy="2895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3276720"/>
            <a:ext cx="45720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3352680"/>
            <a:ext cx="0" cy="5335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066680" y="4648320"/>
            <a:ext cx="5335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990720" y="3885840"/>
            <a:ext cx="0" cy="6094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038120" y="3124080"/>
            <a:ext cx="3734280" cy="307080"/>
            <a:chOff x="4038120" y="3124080"/>
            <a:chExt cx="3734280" cy="307080"/>
          </a:xfrm>
        </p:grpSpPr>
        <p:sp>
          <p:nvSpPr>
            <p:cNvPr id="183" name=""/>
            <p:cNvSpPr/>
            <p:nvPr/>
          </p:nvSpPr>
          <p:spPr>
            <a:xfrm>
              <a:off x="4876560" y="3124080"/>
              <a:ext cx="289584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Osservate il piano cartesiano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038120" y="327636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648320" y="4114800"/>
            <a:ext cx="3962160" cy="52020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er ottenere la retta sono state utilizzate tre coppie di valori , ma…………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5029200"/>
            <a:ext cx="4572000" cy="52020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..alla retta, una volta tracciata, appartengono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tutti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 punti del piano che la compongono…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5943600"/>
            <a:ext cx="5029200" cy="520200"/>
          </a:xfrm>
          <a:prstGeom prst="rect">
            <a:avLst/>
          </a:prstGeom>
          <a:solidFill>
            <a:srgbClr val="66ff33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.ed ognuno di questi punti è generato da una coppia di valori (x e y), “leggibili” sugli assi cartesi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143000" y="1905120"/>
            <a:ext cx="2133360" cy="337320"/>
            <a:chOff x="1143000" y="1905120"/>
            <a:chExt cx="2133360" cy="337320"/>
          </a:xfrm>
        </p:grpSpPr>
        <p:sp>
          <p:nvSpPr>
            <p:cNvPr id="189" name=""/>
            <p:cNvSpPr/>
            <p:nvPr/>
          </p:nvSpPr>
          <p:spPr>
            <a:xfrm flipH="1">
              <a:off x="1676160" y="2057400"/>
              <a:ext cx="1600200" cy="0"/>
            </a:xfrm>
            <a:prstGeom prst="line">
              <a:avLst/>
            </a:prstGeom>
            <a:ln w="28440">
              <a:solidFill>
                <a:srgbClr val="377d5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43000" y="1905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77d5d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377d5d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971800" y="2057400"/>
            <a:ext cx="457200" cy="2089800"/>
            <a:chOff x="2971800" y="2057400"/>
            <a:chExt cx="457200" cy="2089800"/>
          </a:xfrm>
        </p:grpSpPr>
        <p:sp>
          <p:nvSpPr>
            <p:cNvPr id="192" name=""/>
            <p:cNvSpPr/>
            <p:nvPr/>
          </p:nvSpPr>
          <p:spPr>
            <a:xfrm>
              <a:off x="3276720" y="2057400"/>
              <a:ext cx="0" cy="1752480"/>
            </a:xfrm>
            <a:prstGeom prst="line">
              <a:avLst/>
            </a:prstGeom>
            <a:ln w="28440">
              <a:solidFill>
                <a:srgbClr val="377d5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8098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77d5d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377d5d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3360" y="1650960"/>
            <a:ext cx="1384560" cy="4902120"/>
          </a:xfrm>
          <a:custGeom>
            <a:avLst/>
            <a:gdLst/>
            <a:ahLst/>
            <a:rect l="l" t="t" r="r" b="b"/>
            <a:pathLst>
              <a:path w="872" h="3088">
                <a:moveTo>
                  <a:pt x="872" y="2992"/>
                </a:moveTo>
                <a:cubicBezTo>
                  <a:pt x="624" y="3020"/>
                  <a:pt x="376" y="3048"/>
                  <a:pt x="248" y="2992"/>
                </a:cubicBezTo>
                <a:cubicBezTo>
                  <a:pt x="120" y="2936"/>
                  <a:pt x="128" y="3088"/>
                  <a:pt x="104" y="2656"/>
                </a:cubicBezTo>
                <a:cubicBezTo>
                  <a:pt x="80" y="2224"/>
                  <a:pt x="0" y="800"/>
                  <a:pt x="104" y="400"/>
                </a:cubicBezTo>
                <a:cubicBezTo>
                  <a:pt x="208" y="0"/>
                  <a:pt x="468" y="128"/>
                  <a:pt x="728" y="256"/>
                </a:cubicBezTo>
              </a:path>
            </a:pathLst>
          </a:custGeom>
          <a:noFill/>
          <a:ln w="28440">
            <a:solidFill>
              <a:srgbClr val="377d5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8400" y="4191120"/>
            <a:ext cx="2502000" cy="2197080"/>
          </a:xfrm>
          <a:custGeom>
            <a:avLst/>
            <a:gdLst/>
            <a:ahLst/>
            <a:rect l="l" t="t" r="r" b="b"/>
            <a:pathLst>
              <a:path w="1576" h="1384">
                <a:moveTo>
                  <a:pt x="472" y="1344"/>
                </a:moveTo>
                <a:cubicBezTo>
                  <a:pt x="276" y="1364"/>
                  <a:pt x="80" y="1384"/>
                  <a:pt x="40" y="1296"/>
                </a:cubicBezTo>
                <a:cubicBezTo>
                  <a:pt x="0" y="1208"/>
                  <a:pt x="64" y="904"/>
                  <a:pt x="232" y="816"/>
                </a:cubicBezTo>
                <a:cubicBezTo>
                  <a:pt x="400" y="728"/>
                  <a:pt x="824" y="904"/>
                  <a:pt x="1048" y="768"/>
                </a:cubicBezTo>
                <a:cubicBezTo>
                  <a:pt x="1272" y="632"/>
                  <a:pt x="1424" y="316"/>
                  <a:pt x="1576" y="0"/>
                </a:cubicBezTo>
              </a:path>
            </a:pathLst>
          </a:custGeom>
          <a:noFill/>
          <a:ln w="28440">
            <a:solidFill>
              <a:srgbClr val="377d5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4572000"/>
            <a:ext cx="7596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3276720"/>
            <a:ext cx="7596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2590920"/>
            <a:ext cx="7632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14600" y="274320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24382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65440" y="35812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13000" y="19810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73400" y="304812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55600" y="42670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914400" y="2133720"/>
            <a:ext cx="7391160" cy="2971080"/>
            <a:chOff x="914400" y="2133720"/>
            <a:chExt cx="7391160" cy="2971080"/>
          </a:xfrm>
        </p:grpSpPr>
        <p:sp>
          <p:nvSpPr>
            <p:cNvPr id="206" name=""/>
            <p:cNvSpPr/>
            <p:nvPr/>
          </p:nvSpPr>
          <p:spPr>
            <a:xfrm>
              <a:off x="914400" y="2133720"/>
              <a:ext cx="7391160" cy="2971080"/>
            </a:xfrm>
            <a:prstGeom prst="ellipse">
              <a:avLst/>
            </a:prstGeom>
            <a:solidFill>
              <a:srgbClr val="ffa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49680" y="2832840"/>
              <a:ext cx="5333040" cy="1477080"/>
            </a:xfrm>
            <a:prstGeom prst="rect">
              <a:avLst/>
            </a:prstGeom>
            <a:solidFill>
              <a:srgbClr val="ff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ENDENZA DELLA RE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09680" y="838080"/>
            <a:ext cx="4496040" cy="36828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pendenza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ella la ret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: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pendenza ella re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33520" y="1295280"/>
          <a:ext cx="350820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350820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676520" y="2666880"/>
            <a:ext cx="10666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2666880"/>
            <a:ext cx="0" cy="12193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838080" y="1904760"/>
            <a:ext cx="2590920" cy="2895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3352680"/>
            <a:ext cx="45720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3352680"/>
            <a:ext cx="0" cy="5335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143000" y="4495680"/>
            <a:ext cx="5335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143000" y="3885840"/>
            <a:ext cx="0" cy="6094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98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219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3200400"/>
            <a:ext cx="457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1" lang="en-US" sz="12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2514600"/>
            <a:ext cx="457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1" lang="en-US" sz="1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396252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396252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09680" y="3352680"/>
            <a:ext cx="457200" cy="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2666880"/>
            <a:ext cx="457200" cy="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1447920"/>
            <a:ext cx="487656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retta tracciata ha una certa 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inclinazione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.Tale inclinazione è detta  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PENDENZA DELLA RE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2133720"/>
            <a:ext cx="487656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1" lang="en-US" sz="1400" spc="-1" strike="noStrike">
                <a:solidFill>
                  <a:srgbClr val="d23116"/>
                </a:solidFill>
                <a:latin typeface="Arial"/>
              </a:rPr>
              <a:t>pendenza della retta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, rispetto all’asse orizzontale, è una caratteristica import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2743200"/>
            <a:ext cx="281916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e osservate il punto A (x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; y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30481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2362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3200400"/>
            <a:ext cx="281916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 il punto B (x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; y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3657600"/>
            <a:ext cx="4724640" cy="31896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Si può facilmente vedere che i valori di ascissa, x</a:t>
            </a:r>
            <a:r>
              <a:rPr b="1" lang="en-US" sz="13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 e x</a:t>
            </a:r>
            <a:r>
              <a:rPr b="1" lang="en-US" sz="13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5181480"/>
            <a:ext cx="8305920" cy="132156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ati due punti qualsiasi della retta, </a:t>
            </a: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la pendenza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è il rapporto fra la </a:t>
            </a: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variazione dell’ordinata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 la</a:t>
            </a: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rrispondente</a:t>
            </a: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 variazione dell’ascis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914400" y="5791320"/>
                <a:ext cx="1981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2133720" y="4343400"/>
            <a:ext cx="6094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143000" y="2742840"/>
            <a:ext cx="0" cy="609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48320" y="4114800"/>
            <a:ext cx="2209680" cy="31896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e di ordinata, y</a:t>
            </a:r>
            <a:r>
              <a:rPr b="1" lang="en-US" sz="13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 e y</a:t>
            </a:r>
            <a:r>
              <a:rPr b="1" lang="en-US" sz="13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4572000"/>
            <a:ext cx="3886200" cy="33732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variano, in questo caso aumentan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8120" y="5715000"/>
            <a:ext cx="5486400" cy="7786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a pendenza di una retta è </a:t>
            </a:r>
            <a:r>
              <a:rPr b="1" lang="en-US" sz="1500" spc="-1" strike="noStrike" u="sng">
                <a:solidFill>
                  <a:srgbClr val="d23116"/>
                </a:solidFill>
                <a:uFillTx/>
                <a:latin typeface="Arial"/>
              </a:rPr>
              <a:t>costante</a:t>
            </a:r>
            <a:r>
              <a:rPr b="1" lang="en-US" sz="1500" spc="-1" strike="noStrike">
                <a:solidFill>
                  <a:srgbClr val="d23116"/>
                </a:solidFill>
                <a:latin typeface="Arial"/>
              </a:rPr>
              <a:t>: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qualsiasi siano i punti della retta scelti, </a:t>
            </a:r>
            <a:r>
              <a:rPr b="1" lang="en-US" sz="1500" spc="-1" strike="noStrike">
                <a:solidFill>
                  <a:srgbClr val="d23116"/>
                </a:solidFill>
                <a:latin typeface="Arial"/>
              </a:rPr>
              <a:t>il rapporto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fra la </a:t>
            </a:r>
            <a:r>
              <a:rPr b="1" lang="en-US" sz="1500" spc="-1" strike="noStrike">
                <a:solidFill>
                  <a:srgbClr val="d23116"/>
                </a:solidFill>
                <a:latin typeface="Arial"/>
              </a:rPr>
              <a:t>variazione dell’ordin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4267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650960" y="2666520"/>
            <a:ext cx="0" cy="685800"/>
          </a:xfrm>
          <a:prstGeom prst="line">
            <a:avLst/>
          </a:prstGeom>
          <a:ln w="38160">
            <a:solidFill>
              <a:srgbClr val="ff65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33720" y="3809880"/>
            <a:ext cx="609480" cy="0"/>
          </a:xfrm>
          <a:prstGeom prst="line">
            <a:avLst/>
          </a:prstGeom>
          <a:ln w="38160">
            <a:solidFill>
              <a:srgbClr val="ff65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6172200"/>
            <a:ext cx="297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 la </a:t>
            </a:r>
            <a:r>
              <a:rPr b="1" lang="en-US" sz="1500" spc="-1" strike="noStrike">
                <a:solidFill>
                  <a:srgbClr val="d23116"/>
                </a:solidFill>
                <a:latin typeface="Arial"/>
              </a:rPr>
              <a:t>variazione dell’asciss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61722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 Black"/>
              </a:rPr>
              <a:t>non ca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650960" y="2666880"/>
            <a:ext cx="380880" cy="2012760"/>
            <a:chOff x="1650960" y="2666880"/>
            <a:chExt cx="380880" cy="2012760"/>
          </a:xfrm>
        </p:grpSpPr>
        <p:sp>
          <p:nvSpPr>
            <p:cNvPr id="248" name=""/>
            <p:cNvSpPr/>
            <p:nvPr/>
          </p:nvSpPr>
          <p:spPr>
            <a:xfrm flipV="1">
              <a:off x="1650960" y="2666880"/>
              <a:ext cx="0" cy="1828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50960" y="43434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23116"/>
                  </a:solidFill>
                  <a:latin typeface="Arial"/>
                </a:rPr>
                <a:t>Y</a:t>
              </a:r>
              <a:r>
                <a:rPr b="1" lang="en-US" sz="1400" spc="-1" strike="noStrike" baseline="-25000">
                  <a:solidFill>
                    <a:srgbClr val="d2311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990720" y="3517920"/>
            <a:ext cx="1752480" cy="336240"/>
            <a:chOff x="990720" y="3517920"/>
            <a:chExt cx="1752480" cy="336240"/>
          </a:xfrm>
        </p:grpSpPr>
        <p:sp>
          <p:nvSpPr>
            <p:cNvPr id="251" name=""/>
            <p:cNvSpPr/>
            <p:nvPr/>
          </p:nvSpPr>
          <p:spPr>
            <a:xfrm>
              <a:off x="1143000" y="3822480"/>
              <a:ext cx="1600200" cy="0"/>
            </a:xfrm>
            <a:prstGeom prst="line">
              <a:avLst/>
            </a:prstGeom>
            <a:ln w="38160">
              <a:solidFill>
                <a:srgbClr val="ff6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90720" y="35179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23116"/>
                  </a:solidFill>
                  <a:latin typeface="Arial"/>
                </a:rPr>
                <a:t>x</a:t>
              </a:r>
              <a:r>
                <a:rPr b="1" lang="en-US" sz="1400" spc="-1" strike="noStrike" baseline="-25000">
                  <a:solidFill>
                    <a:srgbClr val="d2311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 :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ovaci tu…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52280" y="914400"/>
          <a:ext cx="53341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53341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4876920" y="4724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 (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9144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pazio (K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09480" y="3505320"/>
            <a:ext cx="457200" cy="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09480" y="2362320"/>
            <a:ext cx="457200" cy="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3200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76720" y="20574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914400"/>
            <a:ext cx="3352680" cy="723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° doman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ola la pendenza della re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066680" y="2133720"/>
            <a:ext cx="2438280" cy="370800"/>
            <a:chOff x="1066680" y="2133720"/>
            <a:chExt cx="2438280" cy="370800"/>
          </a:xfrm>
        </p:grpSpPr>
        <p:sp>
          <p:nvSpPr>
            <p:cNvPr id="264" name=""/>
            <p:cNvSpPr/>
            <p:nvPr/>
          </p:nvSpPr>
          <p:spPr>
            <a:xfrm>
              <a:off x="1066680" y="21337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y</a:t>
              </a:r>
              <a:r>
                <a:rPr b="1" lang="en-US" sz="16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1828440" y="2362320"/>
              <a:ext cx="16765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048120" y="2362320"/>
            <a:ext cx="761760" cy="2732760"/>
            <a:chOff x="3048120" y="2362320"/>
            <a:chExt cx="761760" cy="2732760"/>
          </a:xfrm>
        </p:grpSpPr>
        <p:sp>
          <p:nvSpPr>
            <p:cNvPr id="267" name=""/>
            <p:cNvSpPr/>
            <p:nvPr/>
          </p:nvSpPr>
          <p:spPr>
            <a:xfrm>
              <a:off x="3048120" y="4724280"/>
              <a:ext cx="76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x</a:t>
              </a:r>
              <a:r>
                <a:rPr b="1" lang="en-US" sz="16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05320" y="2362320"/>
              <a:ext cx="0" cy="22860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066680" y="3276720"/>
            <a:ext cx="1295640" cy="370800"/>
            <a:chOff x="1066680" y="3276720"/>
            <a:chExt cx="1295640" cy="370800"/>
          </a:xfrm>
        </p:grpSpPr>
        <p:sp>
          <p:nvSpPr>
            <p:cNvPr id="270" name=""/>
            <p:cNvSpPr/>
            <p:nvPr/>
          </p:nvSpPr>
          <p:spPr>
            <a:xfrm>
              <a:off x="1066680" y="32767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y</a:t>
              </a:r>
              <a:r>
                <a:rPr b="1" lang="en-US" sz="16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1905120" y="3505320"/>
              <a:ext cx="4572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905120" y="3505320"/>
            <a:ext cx="685800" cy="1589760"/>
            <a:chOff x="1905120" y="3505320"/>
            <a:chExt cx="685800" cy="1589760"/>
          </a:xfrm>
        </p:grpSpPr>
        <p:sp>
          <p:nvSpPr>
            <p:cNvPr id="273" name=""/>
            <p:cNvSpPr/>
            <p:nvPr/>
          </p:nvSpPr>
          <p:spPr>
            <a:xfrm>
              <a:off x="1905120" y="472428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      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x</a:t>
              </a:r>
              <a:r>
                <a:rPr b="1" lang="en-US" sz="16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38280" y="3505320"/>
              <a:ext cx="0" cy="106668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5410080" y="1828800"/>
            <a:ext cx="3581640" cy="186372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rocedime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egliamo sul    grafico due punti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447560" y="1523880"/>
            <a:ext cx="2895480" cy="297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2666880"/>
            <a:ext cx="175248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ggi sull’asse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2666880"/>
            <a:ext cx="175248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eggi sull’asse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6095880" y="3809880"/>
                <a:ext cx="1981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5410080" y="4495680"/>
            <a:ext cx="3581640" cy="158508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Risposta: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 sostituisco nella relazione i valori da me scelti, otten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410080" y="5257800"/>
                <a:ext cx="29307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8381880" y="5257800"/>
                <a:ext cx="4543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5486400" y="2971800"/>
            <a:ext cx="160020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20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86400" y="3276720"/>
            <a:ext cx="160020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40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38880" y="2971800"/>
            <a:ext cx="106704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= 10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3276720"/>
            <a:ext cx="106704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= 30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105520"/>
            <a:ext cx="0" cy="45720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62485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990720" y="2362320"/>
            <a:ext cx="7390800" cy="2971080"/>
            <a:chOff x="990720" y="2362320"/>
            <a:chExt cx="7390800" cy="2971080"/>
          </a:xfrm>
        </p:grpSpPr>
        <p:sp>
          <p:nvSpPr>
            <p:cNvPr id="291" name=""/>
            <p:cNvSpPr/>
            <p:nvPr/>
          </p:nvSpPr>
          <p:spPr>
            <a:xfrm>
              <a:off x="990720" y="2362320"/>
              <a:ext cx="7390800" cy="2971080"/>
            </a:xfrm>
            <a:prstGeom prst="ellipse">
              <a:avLst/>
            </a:prstGeom>
            <a:solidFill>
              <a:srgbClr val="ffa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26000" y="3061440"/>
              <a:ext cx="5332680" cy="1477080"/>
            </a:xfrm>
            <a:prstGeom prst="rect">
              <a:avLst/>
            </a:prstGeom>
            <a:solidFill>
              <a:srgbClr val="ff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LEGGIAMO IL GRAF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 :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eggiamo un gra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2280" y="914400"/>
          <a:ext cx="53341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53341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 flipH="1">
            <a:off x="1447560" y="1523880"/>
            <a:ext cx="2895480" cy="297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62720" y="1143000"/>
            <a:ext cx="3352680" cy="138204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l grafico rappresenta il movimento di un pedone che si sposta con passo regol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00200" y="4572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38680" y="2895480"/>
            <a:ext cx="304812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Sugli assi cartesiani sono riportate la variabil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28600" y="1219320"/>
            <a:ext cx="8686800" cy="3004200"/>
            <a:chOff x="228600" y="1219320"/>
            <a:chExt cx="8686800" cy="3004200"/>
          </a:xfrm>
        </p:grpSpPr>
        <p:sp>
          <p:nvSpPr>
            <p:cNvPr id="302" name=""/>
            <p:cNvSpPr/>
            <p:nvPr/>
          </p:nvSpPr>
          <p:spPr>
            <a:xfrm>
              <a:off x="228600" y="1219320"/>
              <a:ext cx="1600200" cy="261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Arial"/>
                </a:rPr>
                <a:t>spazio percorso(Km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62720" y="3886200"/>
              <a:ext cx="335268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spazio percorso dal pedone 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24280" y="4572000"/>
            <a:ext cx="4114800" cy="352800"/>
            <a:chOff x="4724280" y="4572000"/>
            <a:chExt cx="4114800" cy="352800"/>
          </a:xfrm>
        </p:grpSpPr>
        <p:sp>
          <p:nvSpPr>
            <p:cNvPr id="305" name=""/>
            <p:cNvSpPr/>
            <p:nvPr/>
          </p:nvSpPr>
          <p:spPr>
            <a:xfrm>
              <a:off x="4724280" y="4648320"/>
              <a:ext cx="609840" cy="27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3333cc"/>
                  </a:solidFill>
                  <a:latin typeface="Arial"/>
                </a:rPr>
                <a:t>t (h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86400" y="4572000"/>
              <a:ext cx="335268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tempo impiegato  percorrerlo 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5486400" y="5181480"/>
            <a:ext cx="3352680" cy="5806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Riflettiamo sul comportamento del pe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J0095757" descr=""/>
          <p:cNvPicPr/>
          <p:nvPr/>
        </p:nvPicPr>
        <p:blipFill>
          <a:blip r:embed="rId3"/>
          <a:stretch/>
        </p:blipFill>
        <p:spPr>
          <a:xfrm>
            <a:off x="6553080" y="1523880"/>
            <a:ext cx="695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3:56:34Z</dcterms:created>
  <dc:creator>FEDERICO BARBAROSSA</dc:creator>
  <dc:description/>
  <dc:language>en-US</dc:language>
  <cp:lastModifiedBy>fede</cp:lastModifiedBy>
  <dcterms:modified xsi:type="dcterms:W3CDTF">2018-06-04T18:11:11Z</dcterms:modified>
  <cp:revision>77</cp:revision>
  <dc:subject/>
  <dc:title>GRAFICI CARTESIANI</dc:title>
</cp:coreProperties>
</file>