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FA7-0174-431C-B2DF-61639D65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484-2441-45E7-9D36-1E63211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662-666A-40BA-A767-18941615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57F-8150-4540-A3FA-99398597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F4C-BD7C-48E7-9603-8739C0DF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85A-D0A2-4AD4-97C5-3FEC6FB8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F2D-9027-4F35-8128-3B939195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E21-41F2-4D6C-BD35-80421301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00D-A62A-4A0A-B509-446A564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B7B-679B-422C-ADEC-F82A375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3B2-8F22-4A56-B7EC-9E900C73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A37-BB05-4077-A9B3-5253C4D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A34E-EC40-47CC-A9AF-DF64956390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3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inver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6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209680" y="99072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419720" y="4800600"/>
            <a:ext cx="43434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i può notare che all’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aumentar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 valore della massa, il valore del bracci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iminuisc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4038120" y="3200400"/>
            <a:ext cx="3734280" cy="307080"/>
            <a:chOff x="4038120" y="3200400"/>
            <a:chExt cx="3734280" cy="307080"/>
          </a:xfrm>
        </p:grpSpPr>
        <p:sp>
          <p:nvSpPr>
            <p:cNvPr id="48" name="Text Box 17"/>
            <p:cNvSpPr/>
            <p:nvPr/>
          </p:nvSpPr>
          <p:spPr>
            <a:xfrm>
              <a:off x="4876560" y="320040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 flipH="1">
              <a:off x="4038120" y="33526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0" name="Text Box 19"/>
          <p:cNvSpPr/>
          <p:nvPr/>
        </p:nvSpPr>
        <p:spPr>
          <a:xfrm>
            <a:off x="4419720" y="3886200"/>
            <a:ext cx="4343400" cy="6116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Otteniamo una curva che si chiama </a:t>
            </a: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iperbo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838080" y="6019920"/>
            <a:ext cx="7391520" cy="337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o comportamento avviene in modo casuale?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828800"/>
          <a:ext cx="361944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" name="Freeform 77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Line 78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Oval 80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Oval 81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Line 82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Line 83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84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Line 86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Line 87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88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Line 89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90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Arc 97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31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Oval 40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Line 41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Arc 43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4191120" y="2362320"/>
            <a:ext cx="4190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la massa raddoppia, il valore del braccio si dimezza……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191120" y="3352680"/>
            <a:ext cx="31240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e se la massa triplica il braccio diviene un terz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391520" y="3581280"/>
            <a:ext cx="14475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così vi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4572000" y="4419720"/>
            <a:ext cx="4267080" cy="580680"/>
          </a:xfrm>
          <a:prstGeom prst="rect">
            <a:avLst/>
          </a:prstGeom>
          <a:solidFill>
            <a:srgbClr val="ff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ndezze che si comportano così sono tra lor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nversamente proporzionali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04920" y="5562720"/>
            <a:ext cx="8534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Definizione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grandezze sono tra loro inversamente proporzionali quando al crescere di una l’altra diminuisce in proporzione e vicevers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1219320" y="6324480"/>
            <a:ext cx="70102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erchiamo una relazione matematica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53"/>
          <p:cNvSpPr/>
          <p:nvPr/>
        </p:nvSpPr>
        <p:spPr>
          <a:xfrm>
            <a:off x="5715000" y="6477120"/>
            <a:ext cx="1905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24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Oval 33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35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Arc 36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038480" y="2057400"/>
            <a:ext cx="41911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on ci resta che fare qualche calcolo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4038480" y="2743200"/>
            <a:ext cx="41911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Se moltiplichiamo tra loro le coppie di valori, otteniam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6"/>
              <p:cNvSpPr txBox="1"/>
              <p:nvPr/>
            </p:nvSpPr>
            <p:spPr>
              <a:xfrm>
                <a:off x="3984480" y="3427560"/>
                <a:ext cx="2219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7"/>
              <p:cNvSpPr txBox="1"/>
              <p:nvPr/>
            </p:nvSpPr>
            <p:spPr>
              <a:xfrm>
                <a:off x="6537240" y="3421080"/>
                <a:ext cx="2114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8"/>
              <p:cNvSpPr txBox="1"/>
              <p:nvPr/>
            </p:nvSpPr>
            <p:spPr>
              <a:xfrm>
                <a:off x="4076640" y="4030560"/>
                <a:ext cx="2111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0"/>
              <p:cNvSpPr txBox="1"/>
              <p:nvPr/>
            </p:nvSpPr>
            <p:spPr>
              <a:xfrm>
                <a:off x="6461280" y="4025880"/>
                <a:ext cx="2219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Oval 51"/>
          <p:cNvSpPr/>
          <p:nvPr/>
        </p:nvSpPr>
        <p:spPr>
          <a:xfrm>
            <a:off x="5130720" y="337824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Oval 52"/>
          <p:cNvSpPr/>
          <p:nvPr/>
        </p:nvSpPr>
        <p:spPr>
          <a:xfrm>
            <a:off x="5105520" y="396252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7569360" y="3340080"/>
            <a:ext cx="49500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7607160" y="394956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5" name="Group 57"/>
          <p:cNvGrpSpPr/>
          <p:nvPr/>
        </p:nvGrpSpPr>
        <p:grpSpPr>
          <a:xfrm>
            <a:off x="4952880" y="1295280"/>
            <a:ext cx="4191120" cy="2032200"/>
            <a:chOff x="4952880" y="1295280"/>
            <a:chExt cx="4191120" cy="2032200"/>
          </a:xfrm>
        </p:grpSpPr>
        <p:sp>
          <p:nvSpPr>
            <p:cNvPr id="116" name="Freeform 55"/>
            <p:cNvSpPr/>
            <p:nvPr/>
          </p:nvSpPr>
          <p:spPr>
            <a:xfrm>
              <a:off x="4952880" y="1828800"/>
              <a:ext cx="4191120" cy="1498680"/>
            </a:xfrm>
            <a:custGeom>
              <a:avLst/>
              <a:gdLst>
                <a:gd name="textAreaLeft" fmla="*/ 0 w 4191120"/>
                <a:gd name="textAreaRight" fmla="*/ 4191480 w 419112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640" h="944">
                  <a:moveTo>
                    <a:pt x="912" y="864"/>
                  </a:moveTo>
                  <a:cubicBezTo>
                    <a:pt x="1200" y="904"/>
                    <a:pt x="1488" y="944"/>
                    <a:pt x="1728" y="864"/>
                  </a:cubicBezTo>
                  <a:cubicBezTo>
                    <a:pt x="1968" y="784"/>
                    <a:pt x="2640" y="528"/>
                    <a:pt x="2352" y="384"/>
                  </a:cubicBezTo>
                  <a:cubicBezTo>
                    <a:pt x="2064" y="240"/>
                    <a:pt x="1032" y="12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5029200" y="1295280"/>
              <a:ext cx="2819520" cy="91440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776" h="576">
                  <a:moveTo>
                    <a:pt x="1776" y="576"/>
                  </a:moveTo>
                  <a:cubicBezTo>
                    <a:pt x="1036" y="336"/>
                    <a:pt x="296" y="9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18" name="Group 60"/>
          <p:cNvGrpSpPr/>
          <p:nvPr/>
        </p:nvGrpSpPr>
        <p:grpSpPr>
          <a:xfrm>
            <a:off x="5562720" y="1219320"/>
            <a:ext cx="3479760" cy="2133360"/>
            <a:chOff x="5562720" y="1219320"/>
            <a:chExt cx="3479760" cy="2133360"/>
          </a:xfrm>
        </p:grpSpPr>
        <p:sp>
          <p:nvSpPr>
            <p:cNvPr id="119" name="Freeform 58"/>
            <p:cNvSpPr/>
            <p:nvPr/>
          </p:nvSpPr>
          <p:spPr>
            <a:xfrm>
              <a:off x="5638680" y="1676520"/>
              <a:ext cx="3403800" cy="1676160"/>
            </a:xfrm>
            <a:custGeom>
              <a:avLst/>
              <a:gdLst>
                <a:gd name="textAreaLeft" fmla="*/ 0 w 3403800"/>
                <a:gd name="textAreaRight" fmla="*/ 3404160 w 340380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2144" h="1056">
                  <a:moveTo>
                    <a:pt x="480" y="960"/>
                  </a:moveTo>
                  <a:cubicBezTo>
                    <a:pt x="624" y="1008"/>
                    <a:pt x="768" y="1056"/>
                    <a:pt x="1008" y="1008"/>
                  </a:cubicBezTo>
                  <a:cubicBezTo>
                    <a:pt x="1248" y="960"/>
                    <a:pt x="1784" y="768"/>
                    <a:pt x="1920" y="672"/>
                  </a:cubicBezTo>
                  <a:cubicBezTo>
                    <a:pt x="2056" y="576"/>
                    <a:pt x="2144" y="544"/>
                    <a:pt x="1824" y="432"/>
                  </a:cubicBezTo>
                  <a:cubicBezTo>
                    <a:pt x="1504" y="320"/>
                    <a:pt x="752" y="16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5562720" y="1219320"/>
              <a:ext cx="914400" cy="609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76" h="384">
                  <a:moveTo>
                    <a:pt x="576" y="384"/>
                  </a:moveTo>
                  <a:cubicBezTo>
                    <a:pt x="336" y="224"/>
                    <a:pt x="96" y="6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1" name="Group 63"/>
          <p:cNvGrpSpPr/>
          <p:nvPr/>
        </p:nvGrpSpPr>
        <p:grpSpPr>
          <a:xfrm>
            <a:off x="6095880" y="1143000"/>
            <a:ext cx="2476800" cy="2324160"/>
            <a:chOff x="6095880" y="1143000"/>
            <a:chExt cx="2476800" cy="2324160"/>
          </a:xfrm>
        </p:grpSpPr>
        <p:sp>
          <p:nvSpPr>
            <p:cNvPr id="122" name="Freeform 61"/>
            <p:cNvSpPr/>
            <p:nvPr/>
          </p:nvSpPr>
          <p:spPr>
            <a:xfrm>
              <a:off x="6248520" y="1143000"/>
              <a:ext cx="2324160" cy="232416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64" h="1464">
                  <a:moveTo>
                    <a:pt x="144" y="1296"/>
                  </a:moveTo>
                  <a:cubicBezTo>
                    <a:pt x="804" y="1380"/>
                    <a:pt x="1464" y="1464"/>
                    <a:pt x="1440" y="1248"/>
                  </a:cubicBezTo>
                  <a:cubicBezTo>
                    <a:pt x="1416" y="1032"/>
                    <a:pt x="708" y="51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6095880" y="1676520"/>
              <a:ext cx="1143000" cy="228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0" h="144">
                  <a:moveTo>
                    <a:pt x="720" y="144"/>
                  </a:moveTo>
                  <a:cubicBezTo>
                    <a:pt x="420" y="84"/>
                    <a:pt x="120" y="2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4" name="Group 66"/>
          <p:cNvGrpSpPr/>
          <p:nvPr/>
        </p:nvGrpSpPr>
        <p:grpSpPr>
          <a:xfrm>
            <a:off x="6400800" y="1295280"/>
            <a:ext cx="2057400" cy="1905120"/>
            <a:chOff x="6400800" y="1295280"/>
            <a:chExt cx="2057400" cy="1905120"/>
          </a:xfrm>
        </p:grpSpPr>
        <p:sp>
          <p:nvSpPr>
            <p:cNvPr id="125" name="Freeform 64"/>
            <p:cNvSpPr/>
            <p:nvPr/>
          </p:nvSpPr>
          <p:spPr>
            <a:xfrm>
              <a:off x="6400800" y="1295280"/>
              <a:ext cx="2057400" cy="1905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1296" h="1200">
                  <a:moveTo>
                    <a:pt x="0" y="1200"/>
                  </a:moveTo>
                  <a:cubicBezTo>
                    <a:pt x="248" y="1192"/>
                    <a:pt x="496" y="1184"/>
                    <a:pt x="672" y="1152"/>
                  </a:cubicBezTo>
                  <a:cubicBezTo>
                    <a:pt x="848" y="1120"/>
                    <a:pt x="976" y="1152"/>
                    <a:pt x="1056" y="1008"/>
                  </a:cubicBezTo>
                  <a:cubicBezTo>
                    <a:pt x="1136" y="864"/>
                    <a:pt x="1296" y="456"/>
                    <a:pt x="1152" y="288"/>
                  </a:cubicBezTo>
                  <a:cubicBezTo>
                    <a:pt x="1008" y="120"/>
                    <a:pt x="600" y="60"/>
                    <a:pt x="192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6629400" y="1600200"/>
              <a:ext cx="1523880" cy="763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60" h="48">
                  <a:moveTo>
                    <a:pt x="960" y="48"/>
                  </a:moveTo>
                  <a:cubicBezTo>
                    <a:pt x="560" y="28"/>
                    <a:pt x="160" y="8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7" name="Text Box 67"/>
          <p:cNvSpPr/>
          <p:nvPr/>
        </p:nvSpPr>
        <p:spPr>
          <a:xfrm>
            <a:off x="4495680" y="4572000"/>
            <a:ext cx="2971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ossiamo osservare che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4495680" y="5029200"/>
            <a:ext cx="36576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otteniamo valori costanti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28600" y="5715000"/>
            <a:ext cx="8610480" cy="86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otremo, quindi, in generale scrivere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0"/>
              <p:cNvSpPr txBox="1"/>
              <p:nvPr/>
            </p:nvSpPr>
            <p:spPr>
              <a:xfrm>
                <a:off x="5715000" y="5867280"/>
                <a:ext cx="1816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6:41Z</dcterms:modified>
  <cp:revision>103</cp:revision>
  <dc:subject/>
  <dc:title>GRAFICI CARTESIANI</dc:title>
</cp:coreProperties>
</file>