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619-41BA-4C48-9AB5-A7C71CD2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1E1-8DBC-4E7A-B7EE-299D3F0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C8E-7599-4C1A-81D9-C151F731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32C-67FF-4537-B072-AE4590B3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7399-44ED-4D6B-885B-DC2E78BB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A830-5832-4A1E-BCAA-9353C6AE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1BB-4927-4634-AC59-32A9D3CF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C9D3-3D0A-4EE3-B169-5499870B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E6DA-AF7F-4473-926E-3CA7FBB2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A3DC-C0C1-4D01-BE3B-049758F2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CC66-7B67-4CED-8441-D791476D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F55-1B8A-4E7D-941A-0465C25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A648-B85C-400D-A7C4-0B3AA9CD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1C1C-2122-4D3E-8F6C-232E5F0D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B0BA-0E28-4A1E-8F02-01FB960C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6311-7EBF-4E97-BBAC-4AAC9606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C55E-2EF6-40A9-B442-D556A9A0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1F5-CA9F-471C-8DB6-10DC3C02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2F2-D206-4E4B-B76A-D7C1D35D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641-5B74-48B4-9F2C-1535B4EF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FE2-D374-438E-9A84-FC496D1E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30C-4F95-422B-980F-D036260A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62D-7CFF-4C9F-A56D-3A968541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A68-21C9-4213-82E4-901A6E51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F860-1BD4-483D-BE9C-470BF09E92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3C91-998E-4E4B-8F14-1C782612B5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OME VESTIR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’abito giusto può fare la differenz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 prima impressione è davvero quella  che con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tirsi a proprio agio con quello che si indossa fa sentire più sicuri di sé, e questa è una sensazione che viene automaticamente comunicata anche a chi è seduto di fronte a noi.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Gli aspetti paraverb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me della voce (né troppo alto, né troppo basso) così da non risultare sgradevolmente assordante, né tanto meno costringere l’altro a sforzarsi di capire quanto si sta argomentand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Quali Emozioni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 ”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Ogni emozione ci predispone all’azione in modo caratteristico, e ciascuna di esse ci orienta in una direzione già rivelatasi proficua per superare le sfide ricorrenti della vita umana”.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aniel Goleman nella sua opera più conosciuta “intelligenza emotiva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IGIE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unque cosa si decida di indossare, è importante che sia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li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ira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e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vo di difett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una macchia, un bottone che pende o peggio ancora uno strappo sono assolutamente vietati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Ad ogni azienda il suo abito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ligere un abbigliamento formale,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nza esagera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 le professioni 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re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è possibile aggiungere elementi moda al proprio look, ma è in genere meglio orientarsi su uno stille classico e sobrio, che trasmetta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quilibri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FFI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bbigliamento ideale per un lavoro d’uff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 le donne il 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ailleu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è sempre un’idea vincente, a patto di non sceglierne uno 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ccessivamente classic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Meglio orientarsi su tagli e tessuti freschi e giovanili, che si adattino alle proprie forme.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292560"/>
            <a:ext cx="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LAVORO CREA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arola d’ordine è: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t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Presentandosi ad un colloquio di lavoro per una posizione che implichi creatività occorre dimostrare di avere uno stile preciso e riconoscibile, che trasmetta sicurezza nel padroneggiare i dettagli e un gusto impeccabile nell’accostare forme e colori. Ben vengano i colori e gli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cessor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tando attenti a non eccedere o a non sembrare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oppo stravagant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GOLE GENER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curarsi che l’abbigliamento si adatti alla propria persona e al proprio fisic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curarsi che i vestiti siano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li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e ben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ira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’abito deve essere in linea con la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g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itare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um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e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pobarb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troppo persisten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 le donne,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vita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di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porre troppa pelle scope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itare accessori troppo vistos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itare i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l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troppo sgargianti o inappropria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vitare un trucco troppo pesan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are di avere le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i cur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omunicazione non verb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 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comunicazione non verbale del candida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 si rivela un segnale percepito e utilizzato dal valutatore del colloquio per la formazione dei giudizi; pertanto, è importante porre attenzione a questo canale comunicativ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Tahoma"/>
              </a:rPr>
              <a:t>Imprint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Date una stretta di mano sicura al recruit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quando vi presentate, e accompagnatela con un sorriso: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Non sedetevi prima di essere invitati a farlo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 e aspettate che il selezionatore si sieda per primo; se siete già seduti, in attesa, alzatevi quando arriva il selezionatore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lementi importa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tto vis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’espressione sorrident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postura attenta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 orientamento del corpo diretto verso il proprio interlocutore, 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’uso di gesti appropriati, soprattutto illustratori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una buona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inanza fisic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risposta effic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4T07:55:11Z</dcterms:created>
  <dc:creator>Docenti1</dc:creator>
  <dc:description/>
  <dc:language>en-US</dc:language>
  <cp:lastModifiedBy>Docenti3</cp:lastModifiedBy>
  <dcterms:modified xsi:type="dcterms:W3CDTF">2017-11-27T11:09:31Z</dcterms:modified>
  <cp:revision>20</cp:revision>
  <dc:subject/>
  <dc:title>Diapositiva 1</dc:title>
</cp:coreProperties>
</file>